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C3FE-8992-4189-84E8-608FCC0D71C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57E-60B4-42E1-AFE9-2078C7FFD87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C1C5-0D2E-4BC4-B198-CBBD89DE3E3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71EA-980F-4B04-861D-DCB30B326EA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6A5E-946A-4870-8027-A4BD95F5FDC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082C-E1AA-46EE-BD04-66437956378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2D7B-0076-4AB1-8D60-CB7D29275C5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C779-1979-405B-B1A2-78A782461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4000-D65A-4F24-A221-5E18B1E3C42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B893-7035-44B9-B6CE-1AB75B858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DE83-538A-4D43-8FFA-743B60EA088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C1C2-5C26-4389-8AC9-39409BAE27D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E2E7-C8C7-4288-93B8-A246207CF5F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FF9B-5C7E-4972-8B22-0F10C9097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9CC9-859B-4A7B-A4DD-2EEAF008DF2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AC14-645A-4086-A0A3-FC680ED6172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1555-99C0-4F2C-81A1-93F7E09B38A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將正義分類的目的在於方便處理不同的正義問題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BF23-9784-45D8-9150-85025991B83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D765-2ECD-4CA1-9035-35DECF3C318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FAA0-EBAF-4917-A634-24BBEE937A7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7053-B9E9-4083-8820-91A256A31E5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022-E481-4018-8819-3F340AB0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659-C0BF-4A16-B831-B5A8F918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620-A6E6-4FBC-938D-3E25540F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F4B-71D6-4A4D-A9DE-E1C5B0CB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C31A-F08F-4C66-8CC5-7A8D04E2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A41D-B05D-4265-9AA8-DA132D12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F62B-1989-4513-9603-83AC0F23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2C0B-4AF1-4C44-AF97-E109907C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130C-59DB-4283-BBE0-2EBDF04F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3FD1-DDCE-4648-B7A9-5A91454D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D508-C0C2-45D6-BDA2-136AF473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238-F1AA-4018-8F0A-5307D76C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836D-7444-400C-A4FA-C364AC4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1A2B-8686-44F1-B0F3-1441863C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E98D-1F73-41E9-9E89-80967536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DC46-E3EE-456A-83A8-30AA6963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1A47-C56F-4C32-9A01-4EDA200A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1660A-E202-4C9C-833E-505F66BA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213DE-216B-4F30-AA35-1BFB54E7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B975-1EBD-4527-A71F-A98AE0D1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FBA0-40CE-44EA-8CA1-0F538639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BC4E-06AA-4278-B494-49DEC98D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6D0-9D36-49F6-B676-4128CD4B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AB70-6907-4CB9-BD85-643B3A1C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278D-2611-4D10-9BD8-A20AD56D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33A8-F7CC-409A-9AA9-99094739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BD53-D528-48A0-B2DE-A5C45A6E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CB17-CE2B-41A3-A1C7-0910BA4B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6C92-86B8-476A-A118-944B83F3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ED2D-C5A7-4C57-87A8-99C9348E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9D46-336F-4487-BB69-457AA44C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1AD4D-2220-411D-9784-1C522FE1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43484-25F7-4638-A1D6-6102B342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8C4-93B4-41C2-8922-D329D6BB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F3F8-7BDD-4454-9BC0-00069469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1EA36-839E-41D5-BCE1-874EB078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C3D2A-F657-4623-A46C-1F0918BA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ECAD-F7DD-44AB-BC97-E64B5DFB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F4C58-5827-4576-819A-D9A1A282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76A3-65BE-4C93-ACCC-BC62D399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0605-AB65-445B-BD00-5A099FB9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DFDD9-360B-4090-A7CF-D137231D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48F4-54CD-414F-9D7F-7A0DC4FB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714B6-52E0-4707-B9ED-96B0FD84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E23-4692-4E39-B59C-E283CBEC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2397E-3BEC-4722-AC38-52FA928B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1A997-A73A-4D13-A76B-034A2B09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11A66-15EC-48E5-B0CE-3EA11E31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99DFE-9F22-438C-AABE-39B68589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3DB54-6C7F-44E4-A837-6132B9CE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DBFC-A7E1-419B-BB72-ECF287F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2F2E8-6E34-41D3-9FB7-DDED9B6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C71AD-679E-4AFA-BCED-C3137C9A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D99E8-D710-4381-AD07-9DE1E6FA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FC801-15E0-405E-8686-E84E4204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61A-843E-4F67-885B-FE12F9A5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9EDCF-762F-471C-9F6B-540E568A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24CA3-9EAB-4BFB-92E3-9B797F73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62DC9-C404-4BF5-97B7-DD8F31F4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2832B-CB33-4F3B-88EC-FBD66CE6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8C9C0-4DE1-4011-A516-F3F08818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07B6-BDD2-48CA-9E6F-523E823B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8EAF7-30EB-476D-80F6-BEB0A0AA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654F8-887A-4E64-83E3-9B189897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8DFE-5C28-4561-809A-E7289B55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019C3-B6E0-4E96-87CF-05AE5ADD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ECD-F796-4491-9C1B-82031492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954B-5B2E-4013-897F-ADDD46E3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47637-4D9A-489C-B881-64B9BA25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4C674-15DF-4B35-97A0-5243E63B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D0BF3-5B4D-411B-ABB4-E405EF6D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0567C-BB5E-457D-89DF-67C74B84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21C58-57E2-49FB-B2DF-BFB7331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264B5-4BB2-4E11-AFE7-18287FC5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223CF-78EA-45D4-84D8-2343F95F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50713-1449-413D-A097-04140890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19EC5-A1CA-4B53-A7ED-F123D35E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C27-427D-4524-91DE-0693704B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4F309-CF2B-4BF3-ACD9-8AB01F91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38133-7DAB-41E4-BAB8-F70A5EF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3B60A-EC08-4534-9B58-B21CBCF3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102EC-D10B-4C83-BFB0-2BBDD4FD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9A567-80F3-4902-BA57-36587A4F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992-26B5-47E9-9D3B-A708A5C6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圓形圖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橢圓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甜甜圈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甜甜圈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30FA-467C-44D3-8F4A-390BEC657C8A}" type="slidenum"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圓形圖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橢圓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甜甜圈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甜甜圈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橢圓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橢圓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橢圓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C7CA-4257-4F41-8A7B-341637FAB911}" type="slidenum"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橢圓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橢圓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橢圓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7A32-1C6D-419F-A5A8-DF8EB3F65FF3}" type="slidenum"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A0DD-9CA9-4245-B7E4-677B46EEC837}" type="slidenum"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8CD8-22B2-4BC8-B11A-B93386E5C094}" type="slidenum"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53A8-E1DE-4BF2-95FA-8DE7B849F632}" type="slidenum"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流程圖: 程序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流程圖: 程序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9CC4-3B1C-4F72-BB5A-F98D8D473194}" type="slidenum">
              <a:rPr b="0" lang="zh-TW" sz="1200" spc="-1" strike="noStrike">
                <a:solidFill>
                  <a:srgbClr val="b5a788"/>
                </a:solidFill>
                <a:latin typeface="Gill Sans MT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57280" y="2714400"/>
            <a:ext cx="6786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572314"/>
                </a:solidFill>
                <a:latin typeface="標楷體"/>
                <a:ea typeface="標楷體"/>
              </a:rPr>
              <a:t>培養理性思辨的未來公民</a:t>
            </a:r>
            <a:r>
              <a:rPr b="1" lang="en-US" sz="4500" spc="-1" strike="noStrike">
                <a:solidFill>
                  <a:srgbClr val="572314"/>
                </a:solidFill>
                <a:latin typeface="標楷體"/>
                <a:ea typeface="標楷體"/>
              </a:rPr>
              <a:t>-</a:t>
            </a:r>
            <a:br>
              <a:rPr sz="4500"/>
            </a:br>
            <a:r>
              <a:rPr b="1" lang="zh-TW" sz="4500" spc="-1" strike="noStrike">
                <a:solidFill>
                  <a:srgbClr val="572314"/>
                </a:solidFill>
                <a:latin typeface="標楷體"/>
                <a:ea typeface="標楷體"/>
              </a:rPr>
              <a:t>從正義學起</a:t>
            </a:r>
            <a:endParaRPr b="0" lang="en-US" sz="4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790640" y="785880"/>
            <a:ext cx="7353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713204"/>
                </a:solidFill>
                <a:latin typeface="標楷體"/>
                <a:ea typeface="標楷體"/>
              </a:rPr>
              <a:t>教育部人權教育課程與教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713204"/>
                </a:solidFill>
                <a:latin typeface="標楷體"/>
                <a:ea typeface="標楷體"/>
              </a:rPr>
              <a:t>輔導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2928960" y="4929120"/>
            <a:ext cx="5837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教育部課程與教學輔導團諮詢教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桃園縣國教輔導團綜合領域國中組輔導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桃園縣建國國中  鍾美華老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0" y="4786200"/>
            <a:ext cx="2521080" cy="1304640"/>
            <a:chOff x="0" y="4786200"/>
            <a:chExt cx="2521080" cy="1304640"/>
          </a:xfrm>
        </p:grpSpPr>
        <p:pic>
          <p:nvPicPr>
            <p:cNvPr id="329" name="Picture 8" descr="HR樹(粗體字)"/>
            <p:cNvPicPr/>
            <p:nvPr/>
          </p:nvPicPr>
          <p:blipFill>
            <a:blip r:embed="rId1"/>
            <a:stretch/>
          </p:blipFill>
          <p:spPr>
            <a:xfrm>
              <a:off x="720720" y="4786200"/>
              <a:ext cx="11890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9"/>
            <p:cNvSpPr/>
            <p:nvPr/>
          </p:nvSpPr>
          <p:spPr>
            <a:xfrm>
              <a:off x="0" y="5722560"/>
              <a:ext cx="25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3300"/>
                  </a:solidFill>
                  <a:latin typeface="Arial"/>
                  <a:ea typeface="標楷體"/>
                </a:rPr>
                <a:t>人性尊嚴</a:t>
              </a:r>
              <a:r>
                <a:rPr b="0" lang="en-US" sz="1800" spc="-1" strike="noStrike">
                  <a:solidFill>
                    <a:srgbClr val="003300"/>
                  </a:solidFill>
                  <a:latin typeface="標楷體"/>
                  <a:ea typeface="標楷體"/>
                </a:rPr>
                <a:t>‧</a:t>
              </a:r>
              <a:r>
                <a:rPr b="0" lang="zh-TW" sz="1800" spc="-1" strike="noStrike">
                  <a:solidFill>
                    <a:srgbClr val="003300"/>
                  </a:solidFill>
                  <a:latin typeface="Arial"/>
                  <a:ea typeface="標楷體"/>
                </a:rPr>
                <a:t>尊重</a:t>
              </a:r>
              <a:r>
                <a:rPr b="0" lang="en-US" sz="1800" spc="-1" strike="noStrike">
                  <a:solidFill>
                    <a:srgbClr val="003300"/>
                  </a:solidFill>
                  <a:latin typeface="標楷體"/>
                  <a:ea typeface="標楷體"/>
                </a:rPr>
                <a:t>‧</a:t>
              </a:r>
              <a:r>
                <a:rPr b="0" lang="zh-TW" sz="1800" spc="-1" strike="noStrike">
                  <a:solidFill>
                    <a:srgbClr val="003300"/>
                  </a:solidFill>
                  <a:latin typeface="Arial"/>
                  <a:ea typeface="標楷體"/>
                </a:rPr>
                <a:t>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143000" y="785880"/>
            <a:ext cx="7786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00"/>
                </a:solidFill>
                <a:latin typeface="標楷體"/>
                <a:ea typeface="標楷體"/>
              </a:rPr>
              <a:t>（三）匡正正義的</a:t>
            </a:r>
            <a:r>
              <a:rPr b="1" lang="zh-TW" sz="4000" spc="-1" strike="noStrike" u="sng">
                <a:solidFill>
                  <a:srgbClr val="003300"/>
                </a:solidFill>
                <a:uFillTx/>
                <a:latin typeface="標楷體"/>
                <a:ea typeface="標楷體"/>
              </a:rPr>
              <a:t>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00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ff0066"/>
                </a:solidFill>
                <a:uFillTx/>
                <a:latin typeface="標楷體"/>
                <a:ea typeface="標楷體"/>
              </a:rPr>
              <a:t>讓事情恢復到</a:t>
            </a:r>
            <a:r>
              <a:rPr b="1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錯誤或傷害發生前</a:t>
            </a:r>
            <a:r>
              <a:rPr b="1" lang="zh-TW" sz="3600" spc="-1" strike="noStrike" u="sng">
                <a:solidFill>
                  <a:srgbClr val="ff0066"/>
                </a:solidFill>
                <a:uFillTx/>
                <a:latin typeface="標楷體"/>
                <a:ea typeface="標楷體"/>
              </a:rPr>
              <a:t>原有的狀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00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ff0066"/>
                </a:solidFill>
                <a:uFillTx/>
                <a:latin typeface="標楷體"/>
                <a:ea typeface="標楷體"/>
              </a:rPr>
              <a:t>防止</a:t>
            </a:r>
            <a:r>
              <a:rPr b="1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犯錯的人未來</a:t>
            </a:r>
            <a:r>
              <a:rPr b="1" lang="zh-TW" sz="3600" spc="-1" strike="noStrike" u="sng">
                <a:solidFill>
                  <a:srgbClr val="ff0066"/>
                </a:solidFill>
                <a:uFillTx/>
                <a:latin typeface="標楷體"/>
                <a:ea typeface="標楷體"/>
              </a:rPr>
              <a:t>再犯同樣的錯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00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ff0066"/>
                </a:solidFill>
                <a:uFillTx/>
                <a:latin typeface="標楷體"/>
                <a:ea typeface="標楷體"/>
              </a:rPr>
              <a:t>嚇阻其他的人</a:t>
            </a:r>
            <a:r>
              <a:rPr b="1" lang="zh-TW" sz="3600" spc="-1" strike="noStrike">
                <a:solidFill>
                  <a:srgbClr val="003300"/>
                </a:solidFill>
                <a:latin typeface="標楷體"/>
                <a:ea typeface="標楷體"/>
              </a:rPr>
              <a:t>，犯相同的錯誤而造成傷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1214280" y="571680"/>
            <a:ext cx="7786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00"/>
                </a:solidFill>
                <a:latin typeface="標楷體"/>
                <a:ea typeface="標楷體"/>
              </a:rPr>
              <a:t>（四）公平回應錯誤及傷害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00"/>
                </a:solidFill>
                <a:latin typeface="標楷體"/>
                <a:ea typeface="標楷體"/>
              </a:rPr>
              <a:t>            </a:t>
            </a:r>
            <a:r>
              <a:rPr b="1" lang="zh-TW" sz="4000" spc="-1" strike="noStrike" u="sng">
                <a:solidFill>
                  <a:srgbClr val="003300"/>
                </a:solidFill>
                <a:uFillTx/>
                <a:latin typeface="標楷體"/>
                <a:ea typeface="標楷體"/>
              </a:rPr>
              <a:t>思考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這些錯誤和傷害（損害）的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嚴重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行為人造成錯誤或傷害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是故意或是不小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行為人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以前有沒有相同的行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行為人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有沒有歉意</a:t>
            </a:r>
            <a:r>
              <a:rPr b="1" lang="en-US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悔悟之心</a:t>
            </a:r>
            <a:r>
              <a:rPr b="1" lang="en-US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受到錯誤和傷害影響的人，本身有沒有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責任</a:t>
            </a:r>
            <a:r>
              <a:rPr b="1" lang="en-US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標題 1"/>
          <p:cNvSpPr/>
          <p:nvPr/>
        </p:nvSpPr>
        <p:spPr>
          <a:xfrm>
            <a:off x="1428840" y="21420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00"/>
                </a:solidFill>
                <a:latin typeface="標楷體"/>
                <a:ea typeface="標楷體"/>
              </a:rPr>
              <a:t>程序正義的重要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143000" y="1214280"/>
            <a:ext cx="80010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00"/>
                </a:solidFill>
                <a:latin typeface="標楷體"/>
                <a:ea typeface="標楷體"/>
              </a:rPr>
              <a:t>（一）程序正義的定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公平合理地</a:t>
            </a:r>
            <a:r>
              <a:rPr b="1" lang="en-US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方法</a:t>
            </a:r>
            <a:r>
              <a:rPr b="1" lang="en-US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調查或搜集</a:t>
            </a:r>
            <a:r>
              <a:rPr b="1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公平合理地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使用</a:t>
            </a:r>
            <a:r>
              <a:rPr b="1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資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公平合理地方法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做出決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143000" y="4357800"/>
            <a:ext cx="77868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00"/>
                </a:solidFill>
                <a:latin typeface="標楷體"/>
                <a:ea typeface="標楷體"/>
              </a:rPr>
              <a:t>（二）程序正義的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4f271c"/>
                </a:solidFill>
                <a:latin typeface="標楷體"/>
                <a:ea typeface="標楷體"/>
              </a:rPr>
              <a:t> </a:t>
            </a:r>
            <a:r>
              <a:rPr b="0" lang="zh-TW" sz="3600" spc="-1" strike="noStrike">
                <a:solidFill>
                  <a:srgbClr val="4f271c"/>
                </a:solidFill>
                <a:latin typeface="標楷體"/>
                <a:ea typeface="標楷體"/>
              </a:rPr>
              <a:t>公平合理蒐集資訊，以發現事實真相，而能做出公平而有智慧的決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1143000" y="428760"/>
            <a:ext cx="77868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00"/>
                </a:solidFill>
                <a:latin typeface="標楷體"/>
                <a:ea typeface="標楷體"/>
              </a:rPr>
              <a:t>（三）確定需要和蒐集什麼資訊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必須蒐集哪些資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為什麼需要這些資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必須做出什麼決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3000240"/>
            <a:ext cx="77868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00"/>
                </a:solidFill>
                <a:latin typeface="標楷體"/>
                <a:ea typeface="標楷體"/>
              </a:rPr>
              <a:t>（四）蒐集資訊和做出決定時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00"/>
                </a:solidFill>
                <a:latin typeface="標楷體"/>
                <a:ea typeface="標楷體"/>
              </a:rPr>
              <a:t>      </a:t>
            </a:r>
            <a:r>
              <a:rPr b="1" lang="zh-TW" sz="4000" spc="-1" strike="noStrike">
                <a:solidFill>
                  <a:srgbClr val="003300"/>
                </a:solidFill>
                <a:latin typeface="標楷體"/>
                <a:ea typeface="標楷體"/>
              </a:rPr>
              <a:t>考慮的因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f271c"/>
                </a:solidFill>
                <a:latin typeface="標楷體"/>
                <a:ea typeface="標楷體"/>
              </a:rPr>
              <a:t>合法而充份蒐集資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f271c"/>
                </a:solidFill>
                <a:latin typeface="標楷體"/>
                <a:ea typeface="標楷體"/>
              </a:rPr>
              <a:t>保護隱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f271c"/>
                </a:solidFill>
                <a:latin typeface="標楷體"/>
                <a:ea typeface="標楷體"/>
              </a:rPr>
              <a:t>維護尊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f271c"/>
                </a:solidFill>
                <a:latin typeface="標楷體"/>
                <a:ea typeface="標楷體"/>
              </a:rPr>
              <a:t>給予說明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572314"/>
                </a:solidFill>
                <a:latin typeface="微軟正黑體"/>
              </a:rPr>
              <a:t>五、各類型正義的操作與實練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Gill Sans MT"/>
              </a:rPr>
              <a:t>正義概念在國中班級活動的操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Gill Sans MT"/>
              </a:rPr>
              <a:t>正義概念在國小課程的操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Picture 2" descr="http://pic1.nipic.com/2009-02-05/200925215324713_2.jpg"/>
          <p:cNvPicPr/>
          <p:nvPr/>
        </p:nvPicPr>
        <p:blipFill>
          <a:blip r:embed="rId1"/>
          <a:stretch/>
        </p:blipFill>
        <p:spPr>
          <a:xfrm>
            <a:off x="5643720" y="3500280"/>
            <a:ext cx="3168360" cy="31435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http://pic.nipic.com/2007-09-21/2007921114434154_2.jpg"/>
          <p:cNvPicPr/>
          <p:nvPr/>
        </p:nvPicPr>
        <p:blipFill>
          <a:blip r:embed="rId2"/>
          <a:stretch/>
        </p:blipFill>
        <p:spPr>
          <a:xfrm>
            <a:off x="1285920" y="257184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8840" y="765000"/>
            <a:ext cx="750888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003300"/>
                </a:solidFill>
                <a:latin typeface="Gill Sans MT"/>
                <a:ea typeface="標楷體"/>
              </a:rPr>
              <a:t>有關三種正義課程的教師引導</a:t>
            </a:r>
            <a:br>
              <a:rPr sz="3900"/>
            </a:br>
            <a:r>
              <a:rPr b="0" lang="zh-TW" sz="3900" spc="-1" strike="noStrike">
                <a:solidFill>
                  <a:srgbClr val="003300"/>
                </a:solidFill>
                <a:latin typeface="Gill Sans MT"/>
                <a:ea typeface="標楷體"/>
              </a:rPr>
              <a:t>   提問與思考模式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1" name="Picture 18" descr="lre-5"/>
          <p:cNvPicPr/>
          <p:nvPr/>
        </p:nvPicPr>
        <p:blipFill>
          <a:blip r:embed="rId1"/>
          <a:stretch/>
        </p:blipFill>
        <p:spPr>
          <a:xfrm>
            <a:off x="3286080" y="2643120"/>
            <a:ext cx="3816360" cy="26607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9"/>
          <p:cNvSpPr/>
          <p:nvPr/>
        </p:nvSpPr>
        <p:spPr>
          <a:xfrm>
            <a:off x="1830600" y="5157720"/>
            <a:ext cx="62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2.bp.blogspot.com/_CTMZhda0I38/SaOWrGOwc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0"/>
          <p:cNvSpPr/>
          <p:nvPr/>
        </p:nvSpPr>
        <p:spPr>
          <a:xfrm>
            <a:off x="2857680" y="2213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資料引自法治教育向下紮根中心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1371600" y="500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六、結論</a:t>
            </a:r>
            <a:r>
              <a:rPr b="0" lang="en-US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-</a:t>
            </a:r>
            <a:r>
              <a:rPr b="0" lang="zh-TW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校園中處處有正義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"/>
          <p:cNvSpPr/>
          <p:nvPr/>
        </p:nvSpPr>
        <p:spPr>
          <a:xfrm>
            <a:off x="1285920" y="1071720"/>
            <a:ext cx="727236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5723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572314"/>
                </a:solidFill>
                <a:latin typeface="標楷體"/>
                <a:ea typeface="標楷體"/>
              </a:rPr>
              <a:t>公平正義與輔導管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9144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老師每天都在運用「分配正義」，如何才適當？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ex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參加比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「匡正正義」也隨時在運用，教導學生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解錯誤與傷害的嚴重性，有助學生學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相互尊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「程序正義」運用得當能讓師生之間關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和諧。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ex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師在究責過程中，學生是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常在意被「錯怪」或「冤枉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6" dur="2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5723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與其他人權概念相互配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處理分配正義、匡正正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處理匡正正義、程序正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建立「權威」（合理的規則與適宜的領導人）的基本概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572314"/>
                </a:solidFill>
                <a:latin typeface="標楷體"/>
                <a:ea typeface="標楷體"/>
              </a:rPr>
              <a:t>建議研讀書目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法治向下紮根民主基礎系列叢書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權威、隱私、責任、正義兒童與少年版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0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財團法人民間司法改革基金會出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法治向下紮根民主基礎系列少年版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正義教學用光碟  財團法人民間司法改革基金會出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好與壞，是什麼呢？ 奧斯卡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‧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柏尼菲文；克雷蒙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‧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德渥圖；吳榆萱翻譯；台北市：米奇巴克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07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品格體驗．生活發現：這樣一點都不公平！；黃相奎文；金榮修圖；曹玉絢翻譯；台北市：台灣麥克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09,0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572314"/>
                </a:solidFill>
                <a:latin typeface="標楷體"/>
                <a:ea typeface="標楷體"/>
              </a:rPr>
              <a:t>建議參閱網站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8dc765"/>
                </a:solidFill>
                <a:latin typeface="標楷體"/>
                <a:ea typeface="標楷體"/>
              </a:rPr>
              <a:t>法治教育資訊網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  <a:ea typeface="標楷體"/>
              </a:rPr>
              <a:t>www.lre.org.tw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8dc765"/>
                </a:solidFill>
                <a:latin typeface="Gill Sans MT"/>
                <a:ea typeface="標楷體"/>
              </a:rPr>
              <a:t>法治教育網上論壇</a:t>
            </a:r>
            <a:r>
              <a:rPr b="1" lang="zh-TW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http://groups.google.com.tw/group/linking-lre?hl=zh-T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大綱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一、前言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二、</a:t>
            </a:r>
            <a:r>
              <a:rPr b="0" lang="zh-TW" sz="4000" spc="-1" strike="noStrike">
                <a:solidFill>
                  <a:srgbClr val="572314"/>
                </a:solidFill>
                <a:latin typeface="標楷體"/>
                <a:ea typeface="標楷體"/>
              </a:rPr>
              <a:t>正義是什麼？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三、正義問題的種類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四、各類型正義的重要概念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五、各類型正義的操作與實練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六、結論與建議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250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572314"/>
                </a:solidFill>
                <a:latin typeface="Academy Engraved LET"/>
                <a:ea typeface="標楷體"/>
              </a:rPr>
              <a:t>總結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4" name="Picture 3" descr="8"/>
          <p:cNvPicPr/>
          <p:nvPr/>
        </p:nvPicPr>
        <p:blipFill>
          <a:blip r:embed="rId1"/>
          <a:stretch/>
        </p:blipFill>
        <p:spPr>
          <a:xfrm>
            <a:off x="7812000" y="3573360"/>
            <a:ext cx="936720" cy="21607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4"/>
          <p:cNvSpPr/>
          <p:nvPr/>
        </p:nvSpPr>
        <p:spPr>
          <a:xfrm>
            <a:off x="285840" y="2214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000000"/>
                </a:solidFill>
                <a:latin typeface="Verdana"/>
                <a:ea typeface="標楷體"/>
              </a:rPr>
              <a:t>有心就會有願，</a:t>
            </a:r>
            <a:br>
              <a:rPr sz="3300"/>
            </a:br>
            <a:r>
              <a:rPr b="1" lang="zh-TW" sz="3300" spc="-1" strike="noStrike">
                <a:solidFill>
                  <a:srgbClr val="000000"/>
                </a:solidFill>
                <a:latin typeface="Verdana"/>
                <a:ea typeface="標楷體"/>
              </a:rPr>
              <a:t>有願就會有力。</a:t>
            </a:r>
            <a:br>
              <a:rPr sz="3300"/>
            </a:br>
            <a:r>
              <a:rPr b="1" lang="zh-TW" sz="3300" spc="-1" strike="noStrike">
                <a:solidFill>
                  <a:srgbClr val="000000"/>
                </a:solidFill>
                <a:latin typeface="Verdana"/>
                <a:ea typeface="標楷體"/>
              </a:rPr>
              <a:t>人權教育期待大家熱情的投入與支持，</a:t>
            </a:r>
            <a:br>
              <a:rPr sz="3300"/>
            </a:br>
            <a:r>
              <a:rPr b="1" lang="zh-TW" sz="3300" spc="-1" strike="noStrike">
                <a:solidFill>
                  <a:srgbClr val="000000"/>
                </a:solidFill>
                <a:latin typeface="Verdana"/>
                <a:ea typeface="標楷體"/>
              </a:rPr>
              <a:t>讓正義的種子能在校園中</a:t>
            </a:r>
            <a:br>
              <a:rPr sz="3300"/>
            </a:br>
            <a:r>
              <a:rPr b="1" lang="zh-TW" sz="3300" spc="-1" strike="noStrike">
                <a:solidFill>
                  <a:srgbClr val="000000"/>
                </a:solidFill>
                <a:latin typeface="Verdana"/>
                <a:ea typeface="標楷體"/>
              </a:rPr>
              <a:t>萌芽開花</a:t>
            </a:r>
            <a:r>
              <a:rPr b="1" lang="zh-TW" sz="3300" spc="-1" strike="noStrike">
                <a:solidFill>
                  <a:srgbClr val="000000"/>
                </a:solidFill>
                <a:latin typeface="Verdana"/>
              </a:rPr>
              <a:t>！</a:t>
            </a:r>
            <a:br>
              <a:rPr sz="3300"/>
            </a:br>
            <a:r>
              <a:rPr b="1" lang="zh-TW" sz="3300" spc="-1" strike="noStrike">
                <a:solidFill>
                  <a:srgbClr val="000000"/>
                </a:solidFill>
                <a:latin typeface="Verdana"/>
                <a:ea typeface="標楷體"/>
              </a:rPr>
              <a:t>願與大家共勉之</a:t>
            </a:r>
            <a:r>
              <a:rPr b="1" lang="zh-TW" sz="3300" spc="-1" strike="noStrike">
                <a:solidFill>
                  <a:srgbClr val="000000"/>
                </a:solidFill>
                <a:latin typeface="Verdana"/>
              </a:rPr>
              <a:t>～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5"/>
          <p:cNvSpPr txBox="1"/>
          <p:nvPr/>
        </p:nvSpPr>
        <p:spPr>
          <a:xfrm>
            <a:off x="1071720" y="5857920"/>
            <a:ext cx="779616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標楷體"/>
              </a:rPr>
              <a:t>感謝聆聽  敬請指教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377" name="Picture 7" descr="j0417956"/>
          <p:cNvPicPr/>
          <p:nvPr/>
        </p:nvPicPr>
        <p:blipFill>
          <a:blip r:embed="rId2"/>
          <a:stretch/>
        </p:blipFill>
        <p:spPr>
          <a:xfrm>
            <a:off x="1071720" y="3929040"/>
            <a:ext cx="3168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一、前言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從一張圖片、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一則四格漫畫和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一篇故事說起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………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4280" y="9284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上面的例子和正義有什麼相干？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標題 3"/>
          <p:cNvSpPr/>
          <p:nvPr/>
        </p:nvSpPr>
        <p:spPr>
          <a:xfrm>
            <a:off x="1285920" y="414324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一位現場教師要教什麼正義概念給學生呢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標題 1"/>
          <p:cNvSpPr/>
          <p:nvPr/>
        </p:nvSpPr>
        <p:spPr>
          <a:xfrm>
            <a:off x="1214280" y="242892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人權和正義有什麼關係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28840" y="1714320"/>
            <a:ext cx="7407360" cy="1857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20e04"/>
                </a:solidFill>
                <a:latin typeface="標楷體"/>
                <a:ea typeface="標楷體"/>
              </a:rPr>
              <a:t>正義≒公不公平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20e04"/>
                </a:solidFill>
                <a:latin typeface="標楷體"/>
                <a:ea typeface="標楷體"/>
              </a:rPr>
              <a:t>正義和公平是同一回事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20e04"/>
                </a:solidFill>
                <a:latin typeface="標楷體"/>
                <a:ea typeface="標楷體"/>
              </a:rPr>
              <a:t>生活中無所不在的</a:t>
            </a:r>
            <a:r>
              <a:rPr b="0" lang="en-US" sz="4000" spc="-1" strike="noStrike">
                <a:solidFill>
                  <a:srgbClr val="320e04"/>
                </a:solidFill>
                <a:latin typeface="標楷體"/>
                <a:ea typeface="標楷體"/>
              </a:rPr>
              <a:t>”</a:t>
            </a:r>
            <a:r>
              <a:rPr b="0" lang="zh-TW" sz="4000" spc="-1" strike="noStrike">
                <a:solidFill>
                  <a:srgbClr val="320e04"/>
                </a:solidFill>
                <a:latin typeface="標楷體"/>
                <a:ea typeface="標楷體"/>
              </a:rPr>
              <a:t>正義</a:t>
            </a:r>
            <a:r>
              <a:rPr b="0" lang="en-US" sz="4000" spc="-1" strike="noStrike">
                <a:solidFill>
                  <a:srgbClr val="320e04"/>
                </a:solidFill>
                <a:latin typeface="標楷體"/>
                <a:ea typeface="標楷體"/>
              </a:rPr>
              <a:t>”</a:t>
            </a:r>
            <a:r>
              <a:rPr b="0" lang="zh-TW" sz="4000" spc="-1" strike="noStrike">
                <a:solidFill>
                  <a:srgbClr val="320e04"/>
                </a:solidFill>
                <a:latin typeface="標楷體"/>
                <a:ea typeface="標楷體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20e04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320e04"/>
                </a:solidFill>
                <a:latin typeface="標楷體"/>
                <a:ea typeface="標楷體"/>
              </a:rPr>
              <a:t>例如什麼？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標題 3"/>
          <p:cNvSpPr/>
          <p:nvPr/>
        </p:nvSpPr>
        <p:spPr>
          <a:xfrm>
            <a:off x="1428840" y="1428840"/>
            <a:ext cx="7499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二、正義是什麼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8840" y="142560"/>
            <a:ext cx="7407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三、正義問題的種類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副標題 3"/>
          <p:cNvSpPr/>
          <p:nvPr/>
        </p:nvSpPr>
        <p:spPr>
          <a:xfrm>
            <a:off x="1357200" y="1285920"/>
            <a:ext cx="74073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743040" indent="-743040">
              <a:lnSpc>
                <a:spcPct val="95000"/>
              </a:lnSpc>
              <a:buClr>
                <a:srgbClr val="ff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分配的正義</a:t>
            </a:r>
            <a:r>
              <a:rPr b="0" lang="zh-TW" sz="4000" spc="-1" strike="noStrike">
                <a:solidFill>
                  <a:srgbClr val="000066"/>
                </a:solidFill>
                <a:latin typeface="標楷體"/>
                <a:ea typeface="標楷體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      </a:t>
            </a: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在人群或團體中公平的分配分享事物</a:t>
            </a:r>
            <a:r>
              <a:rPr b="0" lang="en-US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包括分享利益 ；分配工作</a:t>
            </a:r>
            <a:r>
              <a:rPr b="0" lang="en-US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5000"/>
              </a:lnSpc>
              <a:buClr>
                <a:srgbClr val="ff0000"/>
              </a:buClr>
              <a:buFont typeface="標楷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匡正的正義</a:t>
            </a:r>
            <a:r>
              <a:rPr b="0" lang="zh-TW" sz="4000" spc="-1" strike="noStrike">
                <a:solidFill>
                  <a:srgbClr val="000066"/>
                </a:solidFill>
                <a:latin typeface="標楷體"/>
                <a:ea typeface="標楷體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      </a:t>
            </a: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公正地對待</a:t>
            </a:r>
            <a:r>
              <a:rPr b="0" lang="en-US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處理</a:t>
            </a:r>
            <a:r>
              <a:rPr b="0" lang="en-US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錯誤的行為、面對所造成的傷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5000"/>
              </a:lnSpc>
              <a:buClr>
                <a:srgbClr val="ff0000"/>
              </a:buClr>
              <a:buFont typeface="標楷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程序的正義</a:t>
            </a:r>
            <a:r>
              <a:rPr b="0" lang="zh-TW" sz="4000" spc="-1" strike="noStrike">
                <a:solidFill>
                  <a:srgbClr val="000066"/>
                </a:solidFill>
                <a:latin typeface="標楷體"/>
                <a:ea typeface="標楷體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      </a:t>
            </a: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公平合理的方式蒐集資訊、運用資訊或做出決定的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300" spc="-1" strike="noStrike">
                <a:solidFill>
                  <a:srgbClr val="572314"/>
                </a:solidFill>
                <a:latin typeface="標楷體"/>
                <a:ea typeface="標楷體"/>
              </a:rPr>
              <a:t>四、各類型正義的重要概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標題 1"/>
          <p:cNvSpPr/>
          <p:nvPr/>
        </p:nvSpPr>
        <p:spPr>
          <a:xfrm>
            <a:off x="1428840" y="114300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00"/>
                </a:solidFill>
                <a:latin typeface="標楷體"/>
                <a:ea typeface="標楷體"/>
              </a:rPr>
              <a:t>分配正義的重要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928800" y="2143080"/>
            <a:ext cx="8351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548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（一）分配的事物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25480" indent="-743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時是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利益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包括在團體或個人認為有用或值得擁有的事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，例如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5480" indent="-743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時是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負擔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3200" spc="-1" strike="noStrike">
                <a:solidFill>
                  <a:srgbClr val="003300"/>
                </a:solidFill>
                <a:latin typeface="標楷體"/>
                <a:ea typeface="標楷體"/>
              </a:rPr>
              <a:t>包括在團體或個人認為不好或不想擁有的事務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，例如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5480" indent="-74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071720" y="5143680"/>
            <a:ext cx="824364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（二）怎樣分配才算公平？</a:t>
            </a:r>
            <a:br>
              <a:rPr sz="5000"/>
            </a:br>
            <a:r>
              <a:rPr b="1" lang="zh-TW" sz="3600" spc="-1" strike="noStrike">
                <a:solidFill>
                  <a:srgbClr val="008000"/>
                </a:solidFill>
                <a:latin typeface="標楷體"/>
                <a:ea typeface="標楷體"/>
              </a:rPr>
              <a:t>   </a:t>
            </a:r>
            <a:r>
              <a:rPr b="0" lang="zh-TW" sz="3600" spc="-1" strike="noStrike">
                <a:solidFill>
                  <a:srgbClr val="008000"/>
                </a:solidFill>
                <a:latin typeface="標楷體"/>
                <a:ea typeface="標楷體"/>
              </a:rPr>
              <a:t>平均分攤＝公平？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600" spc="-1" strike="noStrike">
                <a:solidFill>
                  <a:srgbClr val="ff0000"/>
                </a:solidFill>
                <a:latin typeface="Wingdings 2"/>
                <a:ea typeface="Wingdings 2"/>
              </a:rPr>
              <a:t>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合理的差別待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1071720" y="285840"/>
            <a:ext cx="807228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（三）分配時應考慮的因素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需求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：需要程度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需要≠想要？</a:t>
            </a:r>
            <a:r>
              <a:rPr b="0" lang="en-US" sz="3600" spc="-1" strike="noStrike">
                <a:solidFill>
                  <a:srgbClr val="003399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能力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都希望（需要）的程度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，找能力最好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標楷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應得與否：</a:t>
            </a:r>
            <a:r>
              <a:rPr b="0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想得到你分配的事務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               </a:t>
            </a:r>
            <a:r>
              <a:rPr b="1" lang="zh-TW" sz="3600" spc="-1" strike="noStrike">
                <a:solidFill>
                  <a:srgbClr val="006600"/>
                </a:solidFill>
                <a:latin typeface="標楷體"/>
                <a:ea typeface="標楷體"/>
              </a:rPr>
              <a:t>值不值得或應不應該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標楷體"/>
                <a:ea typeface="標楷體"/>
              </a:rPr>
              <a:t>              </a:t>
            </a:r>
            <a:r>
              <a:rPr b="1" lang="zh-TW" sz="3600" spc="-1" strike="noStrike">
                <a:solidFill>
                  <a:srgbClr val="006600"/>
                </a:solidFill>
                <a:latin typeface="標楷體"/>
                <a:ea typeface="標楷體"/>
              </a:rPr>
              <a:t>到要分配的東西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功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–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賞；過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–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標楷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相似或相異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標楷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在考量所有認為重要的事後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如何分配才算公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標題 1"/>
          <p:cNvSpPr/>
          <p:nvPr/>
        </p:nvSpPr>
        <p:spPr>
          <a:xfrm>
            <a:off x="1428840" y="21420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8000"/>
                </a:solidFill>
                <a:latin typeface="標楷體"/>
                <a:ea typeface="標楷體"/>
              </a:rPr>
              <a:t>匡正正義的重要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1143000" y="1214280"/>
            <a:ext cx="7786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00"/>
                </a:solidFill>
                <a:latin typeface="標楷體"/>
                <a:ea typeface="標楷體"/>
              </a:rPr>
              <a:t>（一）錯誤與傷害的</a:t>
            </a:r>
            <a:r>
              <a:rPr b="1" lang="zh-TW" sz="4000" spc="-1" strike="noStrike" u="sng">
                <a:solidFill>
                  <a:srgbClr val="003300"/>
                </a:solidFill>
                <a:uFillTx/>
                <a:latin typeface="標楷體"/>
                <a:ea typeface="標楷體"/>
              </a:rPr>
              <a:t>定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   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錯誤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違反規定或法律，或有其他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對的行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   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傷害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當一個人的生命、身體、自由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財產或福利等遭受損失或破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00"/>
                </a:solidFill>
                <a:latin typeface="標楷體"/>
                <a:ea typeface="標楷體"/>
              </a:rPr>
              <a:t>（二）錯誤與傷害</a:t>
            </a:r>
            <a:r>
              <a:rPr b="1" lang="zh-TW" sz="4000" spc="-1" strike="noStrike" u="sng">
                <a:solidFill>
                  <a:srgbClr val="ff0066"/>
                </a:solidFill>
                <a:uFillTx/>
                <a:latin typeface="標楷體"/>
                <a:ea typeface="標楷體"/>
              </a:rPr>
              <a:t>不一定會同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      </a:t>
            </a:r>
            <a:r>
              <a:rPr b="1" lang="zh-TW" sz="4000" spc="-1" strike="noStrike" u="sng">
                <a:solidFill>
                  <a:srgbClr val="ff0066"/>
                </a:solidFill>
                <a:uFillTx/>
                <a:latin typeface="標楷體"/>
                <a:ea typeface="標楷體"/>
              </a:rPr>
              <a:t>發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只有錯誤，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只有傷害，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因錯誤而造成傷害，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1:50:12Z</dcterms:created>
  <dc:creator>Valued Acer Customer</dc:creator>
  <dc:description/>
  <dc:language>en-US</dc:language>
  <cp:lastModifiedBy>Valued Acer Customer</cp:lastModifiedBy>
  <dcterms:modified xsi:type="dcterms:W3CDTF">2010-03-23T02:10:16Z</dcterms:modified>
  <cp:revision>65</cp:revision>
  <dc:subject/>
  <dc:title>無所不在的”正義”</dc:title>
</cp:coreProperties>
</file>