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376-3C48-476C-9901-D8054D41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153-9ACF-4A35-B44B-6FD2F884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EA3-968D-42B9-9DE5-C5AD9D82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A36-D3B8-402A-B8CB-758C4DA5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2755-C80A-475E-960E-6598D233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061C-3DA3-4A16-B711-B766DFFE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7AA3-5E54-4697-B3B5-89B40C07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0CF9-E75C-4432-A9B1-2112970B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5DCF-0281-4805-9FD7-C7D9CAAF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936C-CCE8-4DE3-95CC-0D36C150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E53D-B438-4196-BC28-321376B8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C2C-D353-4F81-B77D-23CB9F15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E760-04AA-463D-A7EA-C6E7362D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49C6-9294-4956-9103-EB14E6E3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BC45-D143-412C-B780-5549971E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75CC-6583-4350-A6F6-50810117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BFE6-CF76-46C7-A0DA-09A65754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8A4BD-78FD-4A50-8CB1-3B06C8C4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48DD0-8D56-431A-85D6-97633181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F1725-B589-4550-BC12-6C46B61D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9F994-955B-4AFF-A3BB-1B317A74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4580C-0E14-4DF7-A09E-3B482091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700-61EF-4F59-94FC-EEC468DC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5FC26-C877-4281-9C08-B26D3C0C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24E44-8129-4543-801C-E642DB0E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64A24-B83E-4856-A7F2-40B96E23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4FA32-EA05-48D9-ABA4-02B72A0B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03EF6-1B4A-49D9-99C6-8E8E74F0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AB38F-1021-453E-AC53-77224AE5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8371E-0F3B-4D59-B2AF-83F29449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C3CB5-605B-4D4B-B776-3A208106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FEAD9-7A67-473F-BC21-B368FA04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8C0A9-AD37-4C87-AA22-2FEF3A8A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759-A6DE-48B4-B1C1-9730CE11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71CB3-25C1-4E41-B5AB-5E97AA69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6D193-0AAB-4E79-AEBF-74C97758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93166-E09F-4688-B73B-4D781E3B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98BBF-E397-4C34-897B-39A5C02B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4EA94-3AE1-49B3-BA07-3E7CCD3B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6AF48-F170-4445-96AE-3095852E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8E3F3-9702-44CF-93D6-9DC1E3E2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60D8F-C397-4A2A-B445-E77F2990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B58B0-9CE5-4C49-8D86-678B02EB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80C14-D78E-4112-B58D-1BA906B2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EE4A-9904-41A1-9F47-8347214A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40E92-9B36-4DB0-8ED4-AFEE594A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412EE-57C7-4B9D-8B67-8BCB52DC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F3651-21C9-4C4E-8FCE-5E59A35E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EC072-E276-4E22-BC2D-26717C74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E88E0-F9D3-4000-BC19-87160F36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E1C66-82D3-4D4B-8D0F-AA4B1E06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C6EEF-0452-475A-99B5-F577A287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60493-57C7-4712-BB75-6D97BADD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DE896-91D1-456E-9D9C-5FCDBC3A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E7099-BF64-4FEC-9E37-4AD316E0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6AD-FB6D-46BC-8D3A-6413106B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ECFDD-3A8E-498B-9241-C9B59D1A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AE827-4E06-46EE-ABC9-2E3B9C8A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FBB64-008E-4BCC-9F67-4EA52F18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D5568-B475-4CC2-BC33-59619EBA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3C376-4A57-47B0-A547-05CB78A1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6F96B-9768-49C3-8ACC-E05B6BC8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C98D0-3F4A-4F4A-AF49-4D4D4197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51EB1-F465-43BD-8EB2-B97A536D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E0873-DC1B-4276-937A-1D809DB3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7C729-17C6-47EE-9BE2-E0535640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A3D-059C-48BF-A291-4381980D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41F10-B9D9-40C8-B7D8-BE322932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639BA-D09C-42B9-B0DE-569B7347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B3B49-1F8F-4829-AD46-EB253AD4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4C9-5457-41CA-943C-03ACAC99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5D6-B274-4155-9429-4A230969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奔流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635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2FEB-EA68-4CAF-8B2B-649FF8561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37A3-F354-43BD-9C2F-D70E05874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農村一景"/>
          <p:cNvPicPr/>
          <p:nvPr/>
        </p:nvPicPr>
        <p:blipFill>
          <a:blip r:embed="rId3"/>
          <a:stretch/>
        </p:blipFill>
        <p:spPr>
          <a:xfrm>
            <a:off x="324000" y="404640"/>
            <a:ext cx="4240080" cy="583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DAA4-288C-4A60-A44A-B37DEDE70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64A6-D3A8-45B4-B1EF-D42329E93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廟宇"/>
          <p:cNvPicPr/>
          <p:nvPr/>
        </p:nvPicPr>
        <p:blipFill>
          <a:blip r:embed="rId3"/>
          <a:stretch/>
        </p:blipFill>
        <p:spPr>
          <a:xfrm>
            <a:off x="0" y="2205000"/>
            <a:ext cx="4071960" cy="4653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1E5A-16A3-44E6-A2AC-980934293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35F3-5174-4948-AC46-6721CF0B43DF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00"/>
                </a:solidFill>
                <a:latin typeface="標楷體"/>
              </a:rPr>
              <a:t>兒童畫指導與實作</a:t>
            </a:r>
            <a:r>
              <a:rPr b="1" lang="zh-TW" sz="4000" spc="-1" strike="noStrike">
                <a:solidFill>
                  <a:srgbClr val="000099"/>
                </a:solidFill>
                <a:latin typeface="標楷體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標楷體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54764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講師 李德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82692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99"/>
                </a:solidFill>
                <a:latin typeface="標楷體"/>
                <a:ea typeface="標楷體"/>
              </a:rPr>
              <a:t>嘉義縣義竹鄉南興國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標楷體"/>
                <a:ea typeface="標楷體"/>
              </a:rPr>
              <a:t>99</a:t>
            </a:r>
            <a:r>
              <a:rPr b="1" lang="zh-TW" sz="4000" spc="-1" strike="noStrike">
                <a:solidFill>
                  <a:srgbClr val="000099"/>
                </a:solidFill>
                <a:latin typeface="標楷體"/>
                <a:ea typeface="標楷體"/>
              </a:rPr>
              <a:t>年度精進教師課堂能力計畫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555640" y="404640"/>
            <a:ext cx="47005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66"/>
                </a:solidFill>
                <a:latin typeface="Arial"/>
              </a:rPr>
              <a:t>手眼腦協調展現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此種眼、腦、手的連結互動，自然產生協調作用。在繪畫過程中兒童隨著他的生活體驗所見所聞整個思緒隨之舞動，而一頭栽入他的心靈享宴中，不在意其所呈現的繪畫成果。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00720" y="620280"/>
            <a:ext cx="46432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66"/>
                </a:solidFill>
                <a:latin typeface="Arial"/>
              </a:rPr>
              <a:t>手眼腦協調展現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00360" y="1773000"/>
            <a:ext cx="4392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Arial"/>
                <a:ea typeface="標楷體"/>
              </a:rPr>
              <a:t>兒童的心智發展及手部肌肉，隨著年齡成長而日趨成熟，其所展現的能力、觸角的延伸、感觀的統合亦臻完美。</a:t>
            </a: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74" name="Picture 6" descr="旋轉對象 DSC02026"/>
          <p:cNvPicPr/>
          <p:nvPr/>
        </p:nvPicPr>
        <p:blipFill>
          <a:blip r:embed="rId1"/>
          <a:stretch/>
        </p:blipFill>
        <p:spPr>
          <a:xfrm>
            <a:off x="395280" y="765000"/>
            <a:ext cx="4260960" cy="56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旋轉對象 DSC02630"/>
          <p:cNvPicPr/>
          <p:nvPr/>
        </p:nvPicPr>
        <p:blipFill>
          <a:blip r:embed="rId1"/>
          <a:stretch/>
        </p:blipFill>
        <p:spPr>
          <a:xfrm>
            <a:off x="179280" y="189000"/>
            <a:ext cx="4786560" cy="63817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219640" y="980640"/>
            <a:ext cx="34783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66"/>
                </a:solidFill>
                <a:latin typeface="Arial"/>
              </a:rPr>
              <a:t>童話絮語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858920" y="2492280"/>
            <a:ext cx="39956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自己動手畫，便能擁有屬於自己的世界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66"/>
                </a:solidFill>
                <a:latin typeface="Arial"/>
              </a:rPr>
              <a:t>童話絮語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3527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培養兒童廣泛的興趣，先要去除腦中的「不可能」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80" name="Picture 6" descr="20040626-06-05"/>
          <p:cNvPicPr/>
          <p:nvPr/>
        </p:nvPicPr>
        <p:blipFill>
          <a:blip r:embed="rId1"/>
          <a:stretch/>
        </p:blipFill>
        <p:spPr>
          <a:xfrm>
            <a:off x="4211640" y="1916280"/>
            <a:ext cx="46814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66"/>
                </a:solidFill>
                <a:latin typeface="Arial"/>
              </a:rPr>
              <a:t>童話絮語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40323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兒童的心靈須在幼時培養，等長大後即為時已晚。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83" name="Picture 4" descr="小弟你在看哪裡"/>
          <p:cNvPicPr/>
          <p:nvPr/>
        </p:nvPicPr>
        <p:blipFill>
          <a:blip r:embed="rId1"/>
          <a:stretch/>
        </p:blipFill>
        <p:spPr>
          <a:xfrm>
            <a:off x="5435640" y="1916280"/>
            <a:ext cx="34192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66"/>
                </a:solidFill>
                <a:latin typeface="Arial"/>
              </a:rPr>
              <a:t>童話絮語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2010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不要用成人主觀的眼光來批判兒童認真的畫作。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86" name="Picture 4" descr="DSC02028"/>
          <p:cNvPicPr/>
          <p:nvPr/>
        </p:nvPicPr>
        <p:blipFill>
          <a:blip r:embed="rId1"/>
          <a:stretch/>
        </p:blipFill>
        <p:spPr>
          <a:xfrm>
            <a:off x="2484360" y="3357720"/>
            <a:ext cx="424836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66"/>
                </a:solidFill>
                <a:latin typeface="Arial"/>
              </a:rPr>
              <a:t>童話絮語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32000" y="2349360"/>
            <a:ext cx="66974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有豐富創造力的兒童，能對他人所疏忽的事物，重新賦予價值觀，並從中展現獨特的內涵。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66"/>
                </a:solidFill>
                <a:latin typeface="Arial"/>
              </a:rPr>
              <a:t>童話絮語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6720" y="1989000"/>
            <a:ext cx="40672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該知道的事，成人幾乎都已知道；而，兒童正在逐年瞭解中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91" name="Picture 4" descr="2"/>
          <p:cNvPicPr/>
          <p:nvPr/>
        </p:nvPicPr>
        <p:blipFill>
          <a:blip r:embed="rId1"/>
          <a:stretch/>
        </p:blipFill>
        <p:spPr>
          <a:xfrm>
            <a:off x="468360" y="2133720"/>
            <a:ext cx="482436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66"/>
                </a:solidFill>
                <a:latin typeface="Arial"/>
              </a:rPr>
              <a:t>童話絮語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0920" y="2276640"/>
            <a:ext cx="727380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聽來的知識是抽象的，但如由兒童直接參與的體驗，能帶給他們更具體的感動。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66"/>
                </a:solidFill>
                <a:latin typeface="Arial"/>
              </a:rPr>
              <a:t>童話絮語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4000" y="2708280"/>
            <a:ext cx="71276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兒童對自己生活以外的事物毫不關心，但對身邊的事物卻敏感而好奇。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66"/>
                </a:solidFill>
                <a:latin typeface="標楷體"/>
              </a:rPr>
              <a:t>授 課 綱 要</a:t>
            </a:r>
            <a:r>
              <a:rPr b="1" lang="zh-TW" sz="4400" spc="-1" strike="noStrike">
                <a:solidFill>
                  <a:srgbClr val="000099"/>
                </a:solidFill>
                <a:latin typeface="標楷體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標楷體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32000" y="2349360"/>
            <a:ext cx="66974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標楷體"/>
                <a:ea typeface="標楷體"/>
              </a:rPr>
              <a:t>兒童心智發展緒論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標楷體"/>
                <a:ea typeface="標楷體"/>
              </a:rPr>
              <a:t>單元設計→引起動機及主    題選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標楷體"/>
                <a:ea typeface="標楷體"/>
              </a:rPr>
              <a:t>構圖經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標楷體"/>
                <a:ea typeface="標楷體"/>
              </a:rPr>
              <a:t>色彩概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標楷體"/>
                <a:ea typeface="標楷體"/>
              </a:rPr>
              <a:t>作品欣賞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66"/>
                </a:solidFill>
                <a:latin typeface="Arial"/>
              </a:rPr>
              <a:t>童話絮語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2492280"/>
            <a:ext cx="6480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兒童的目光在那裡，屬於兒童的世界就呈現在那裡。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66"/>
                </a:solidFill>
                <a:latin typeface="Arial"/>
              </a:rPr>
              <a:t>謝謝您的聆聽</a:t>
            </a:r>
            <a:br>
              <a:rPr sz="5400"/>
            </a:br>
            <a:r>
              <a:rPr b="0" lang="zh-TW" sz="5400" spc="-1" strike="noStrike">
                <a:solidFill>
                  <a:srgbClr val="ff0066"/>
                </a:solidFill>
                <a:latin typeface="Arial"/>
              </a:rPr>
              <a:t>敬請指教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66"/>
                </a:solidFill>
                <a:latin typeface="標楷體"/>
              </a:rPr>
              <a:t>兒童初筆顯心境</a:t>
            </a:r>
            <a:r>
              <a:rPr b="1" lang="zh-TW" sz="4400" spc="-1" strike="noStrike">
                <a:solidFill>
                  <a:srgbClr val="000099"/>
                </a:solidFill>
                <a:latin typeface="標楷體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標楷體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32000" y="2349360"/>
            <a:ext cx="66974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兒童的第一筆，是心靈與外界的初次接軌，是無特定意識與目標，但其心緒乃隨線條的旋轉、律動而飛揚。</a:t>
            </a:r>
            <a:r>
              <a:rPr b="0" lang="zh-TW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66"/>
                </a:solidFill>
                <a:latin typeface="標楷體"/>
              </a:rPr>
              <a:t>兒童初筆顯心境</a:t>
            </a:r>
            <a:r>
              <a:rPr b="1" lang="zh-TW" sz="4400" spc="-1" strike="noStrike">
                <a:solidFill>
                  <a:srgbClr val="000099"/>
                </a:solidFill>
                <a:latin typeface="標楷體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標楷體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32000" y="2349360"/>
            <a:ext cx="66974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心隨手轉、手隨心動，此乃第一次的手眼協調的展現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DSC02369"/>
          <p:cNvPicPr/>
          <p:nvPr/>
        </p:nvPicPr>
        <p:blipFill>
          <a:blip r:embed="rId1"/>
          <a:stretch/>
        </p:blipFill>
        <p:spPr>
          <a:xfrm>
            <a:off x="250920" y="765000"/>
            <a:ext cx="3995640" cy="5328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780000" y="404640"/>
            <a:ext cx="513216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660066"/>
                </a:solidFill>
                <a:latin typeface="Arial"/>
              </a:rPr>
              <a:t>觸動心靈的視窗</a:t>
            </a:r>
            <a:r>
              <a:rPr b="0" lang="zh-TW" sz="44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00720" y="1628280"/>
            <a:ext cx="4643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兒童的線條，在有意識或無意識的歷經塗鴉期、初圓期、圖式前期、圖式期過程。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57085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660066"/>
                </a:solidFill>
                <a:latin typeface="Arial"/>
              </a:rPr>
              <a:t>觸動心靈的視窗</a:t>
            </a:r>
            <a:r>
              <a:rPr b="0" lang="zh-TW" sz="44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284360" y="1557000"/>
            <a:ext cx="453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隨著心智的發展及手部肌肉的成熟而日臻穩健，視野也隨之廣闊，而在物形與質感的表現亦趨真實。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1" name="Picture 4" descr="DSC02366"/>
          <p:cNvPicPr/>
          <p:nvPr/>
        </p:nvPicPr>
        <p:blipFill>
          <a:blip r:embed="rId1"/>
          <a:stretch/>
        </p:blipFill>
        <p:spPr>
          <a:xfrm>
            <a:off x="250920" y="249228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79640" y="333000"/>
            <a:ext cx="5400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660066"/>
                </a:solidFill>
                <a:latin typeface="Arial"/>
              </a:rPr>
              <a:t>觸動心靈的視窗</a:t>
            </a:r>
            <a:r>
              <a:rPr b="0" lang="zh-TW" sz="40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0" y="1557360"/>
            <a:ext cx="428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Arial"/>
                <a:ea typeface="標楷體"/>
              </a:rPr>
              <a:t>從隨性塗鴉的心靈感受到形體的實質表現中，兒童會注意描繪物的外在形態與內蘊的質感，從而養成敏銳的觀察力與表達力。</a:t>
            </a: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4" name="Picture 4" descr="DSC02365"/>
          <p:cNvPicPr/>
          <p:nvPr/>
        </p:nvPicPr>
        <p:blipFill>
          <a:blip r:embed="rId1"/>
          <a:stretch/>
        </p:blipFill>
        <p:spPr>
          <a:xfrm>
            <a:off x="250920" y="2205000"/>
            <a:ext cx="44607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11640" y="188640"/>
            <a:ext cx="47023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66"/>
                </a:solidFill>
                <a:latin typeface="Arial"/>
              </a:rPr>
              <a:t>手眼腦協調展現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00720" y="1700280"/>
            <a:ext cx="446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  <a:ea typeface="標楷體"/>
              </a:rPr>
              <a:t>兒童繪畫主要目標並非要訓練成為畫家，也不在其結果有否價值，而在於兒童在繪畫過程中，所表現的思考與認真的態度及養成兒童對事物的敏銳觀察。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68000" y="475920"/>
            <a:ext cx="46436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66"/>
                </a:solidFill>
                <a:latin typeface="Arial"/>
              </a:rPr>
              <a:t>手眼腦協調展現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284720" y="1628640"/>
            <a:ext cx="4643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Arial"/>
                <a:ea typeface="標楷體"/>
              </a:rPr>
              <a:t>藉由眼睛的觀察，透過腦部的組織和整合後，將訊息傳達至手部，由手將眼睛所視，腦部所思展現於畫紙或畫布。</a:t>
            </a: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9" name="Picture 4" descr="DSC02367"/>
          <p:cNvPicPr/>
          <p:nvPr/>
        </p:nvPicPr>
        <p:blipFill>
          <a:blip r:embed="rId1"/>
          <a:stretch/>
        </p:blipFill>
        <p:spPr>
          <a:xfrm>
            <a:off x="324000" y="242100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5:26:13Z</dcterms:created>
  <dc:creator>tyming</dc:creator>
  <dc:description/>
  <dc:language>en-US</dc:language>
  <cp:lastModifiedBy>Valued Acer Customer</cp:lastModifiedBy>
  <dcterms:modified xsi:type="dcterms:W3CDTF">2010-11-18T03:34:58Z</dcterms:modified>
  <cp:revision>13</cp:revision>
  <dc:subject/>
  <dc:title>兒童繪畫 ﹏ 心靈享宴 </dc:title>
</cp:coreProperties>
</file>