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296-2C49-4E4A-827F-80A6EDAA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C29-F662-4C57-93A0-95A508E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4D6-1DEC-47C2-99F5-7CE44CDF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C65-CB2C-4F50-A509-83181D1B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DFCBF-6B6E-42B8-90B2-13298780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0208C-58B3-4573-B5DE-8EE67BE1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EA699-D704-4B0E-9929-53F1A08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2D6CC-7DEA-4FA2-AB2B-B929CCD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EB319-5504-458A-959F-ADE313D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4B3FB-103B-4C61-8F4C-B9663E14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C4845-DB24-4964-A6BD-98665FC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020-F53C-4D9D-A6F6-1FB1CF0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5ACE5-85CF-4BBD-8719-BBF36AE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FE3D3-8754-4A97-A72B-7C87860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2DDEC-0333-41E4-8B3D-9A5C0A54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478A-E6A1-4FC9-9F33-F6E17227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1A862-208C-4CA9-90E8-E8FFEF4B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EEC-50EF-4931-B3AA-97F8592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DBA-42D6-47CD-A68A-F463D06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2FD-8C0A-4D00-8246-1BF7885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A44-AA73-45C2-B7C2-C3C8251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CE6-9B8B-41D2-89F0-38A190A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2DF-64A0-4CCC-A89B-CE03CDE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8D5-B8DD-4DD1-AEA0-DCDC68B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6DE3-463B-4FD5-B7BC-2864529E9C0C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D54E-1BA8-47EA-BEA7-B8D51CF5E204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   </a:t>
            </a:r>
            <a:r>
              <a:rPr b="0" lang="zh-TW" sz="7200" spc="-1" strike="noStrike">
                <a:solidFill>
                  <a:srgbClr val="ff0000"/>
                </a:solidFill>
                <a:latin typeface="Arial"/>
                <a:ea typeface="標楷體"/>
              </a:rPr>
              <a:t>導出單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00"/>
                </a:solidFill>
                <a:latin typeface="標楷體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00ff00"/>
                </a:solidFill>
                <a:latin typeface="標楷體"/>
                <a:ea typeface="標楷體"/>
              </a:rPr>
              <a:t>國立臺南大學應用數學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　　　</a:t>
            </a: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謝　　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</a:t>
            </a:r>
            <a:r>
              <a:rPr b="0" lang="zh-TW" sz="4000" spc="-1" strike="noStrike">
                <a:solidFill>
                  <a:srgbClr val="00ffcc"/>
                </a:solidFill>
                <a:latin typeface="Wingdings"/>
                <a:ea typeface="Wingdings"/>
              </a:rPr>
              <a:t>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稱上面的花片為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全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紅色花片是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全部的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稱上面的花片為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紅色花片是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你喜歡那一種分數描述方式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33360"/>
            <a:ext cx="4032000" cy="64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全部情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全部有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平分成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份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份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全部的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/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e3e3ff"/>
                </a:solidFill>
                <a:latin typeface="標楷體"/>
                <a:ea typeface="標楷體"/>
              </a:rPr>
              <a:t>)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全部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數學模型的擴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乘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一種單位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導出量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兩種單位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有多少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可以有那些解讀題意的方式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可以有那些解題策略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只處理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種單位「個」</a:t>
            </a:r>
            <a:r>
              <a:rPr b="0" lang="zh-TW" sz="4000" spc="-1" strike="noStrike">
                <a:solidFill>
                  <a:srgbClr val="ffffff"/>
                </a:solidFill>
                <a:latin typeface="細明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有多少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透過加法或乘法解決問題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　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2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00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×4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2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同時處理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種單位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「個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、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盒」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有多少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　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  </a:t>
            </a:r>
            <a:r>
              <a:rPr b="0" lang="zh-TW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2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　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2708280"/>
            <a:ext cx="358920" cy="2665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有多少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　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2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　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如何記錄解題過程？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844640"/>
            <a:ext cx="358920" cy="2665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一枝鉛筆賣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元，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枝賣多少元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  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×4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代公式的概念：將題目中的數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　代入公式，就能夠得到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4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蘋果，每人分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，最多可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　分給多少人？剩幾個蘋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－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－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8 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4÷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4……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－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－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代公式的概念：除法不是運算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　是比較摘要的記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一桶水賣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2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元，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/4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桶賣多少元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2÷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×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  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2×3/4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代公式的概念：將題目中的數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　代入公式，就能夠得到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6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－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n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－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能理解常用導出單位的記法，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解決生活中的問題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它是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乘法問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或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比或比值問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蘋果平分成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份，每份是多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　個蘋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÷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/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/5×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/5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÷5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/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代公式的概念：將題目中的數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　代入公式，就能夠得到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蘋果平分成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份，每份是多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　個蘋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5/5×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5/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5/5÷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/5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÷5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/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代公式的概念：將題目中的數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　代入公式，就能夠得到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有多少個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　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 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每一盒有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2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是否滿足代公式的概念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蘋果有多少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蘋果有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×10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箱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是否滿足代公式的概念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蘋果有多少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你喜歡那一種記法？為什麼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蘋果有多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全部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全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你喜歡那一種記法？為什麼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小時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 )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尺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如何解決比值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換單位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的問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小時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 )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尺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小時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里：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小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　　　 　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00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尺：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6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　　　　 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尺：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 　　　　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公尺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將比值轉換成比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，比值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換單位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問題就變成基本的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換單位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問題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0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公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小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0×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公里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小時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0×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公尺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6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分鐘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90×(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00/6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(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公尺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分鐘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500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公尺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分鐘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將比值視為單位來運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鉛筆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枝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鉛筆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，問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有多少枝鉛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乘法問題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0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00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數學模型的擴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全數加法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同分母分數加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　　　　　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異分母分數加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鉛筆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枝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鉛筆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，問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有多少枝鉛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比的問題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x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：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(1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箱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x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0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200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枝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箱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y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枝：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y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000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鉛筆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枝，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鉛筆有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，問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有多少枝鉛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比值的問題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)×20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)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00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00(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箱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)×5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箱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00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0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</a:t>
            </a:r>
            <a:r>
              <a:rPr b="0" lang="en-US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箱</a:t>
            </a:r>
            <a:r>
              <a:rPr b="0" lang="en-US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×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箱＝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2000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文具公司交運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800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枝鉛筆，包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成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箱，且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枝鉛筆裝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盒，問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　箱有多少盒鉛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×□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盒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×2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80000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計算時不理單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甲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有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蘋果，</a:t>
            </a: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乙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有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蘋果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甲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有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/7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蘋果，</a:t>
            </a: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乙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有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/7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蘋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</a:t>
            </a: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甲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有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/7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蘋果，</a:t>
            </a: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乙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有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/5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個蘋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兩人合起來共有幾個蘋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它們是相同的數學模型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2/7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/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點數的對象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/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全數加法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分數加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2/7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/7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2/7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3/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通分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/7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3/5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＝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10/35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＋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21/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同分母加法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e3e3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異分母加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數學模型的擴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連續量情境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離散量情境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全部情境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連續量情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披薩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平分成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塊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塊披薩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全數的舊名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)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披薩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新的分數名字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716280"/>
            <a:ext cx="187164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645000"/>
            <a:ext cx="187164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581360"/>
            <a:ext cx="194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211640" y="3645000"/>
            <a:ext cx="0" cy="180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63640" y="3933720"/>
            <a:ext cx="136836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564000" y="3933720"/>
            <a:ext cx="129528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3716280"/>
            <a:ext cx="36036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8480" y="3479760"/>
            <a:ext cx="650880" cy="211320"/>
          </a:xfrm>
          <a:custGeom>
            <a:avLst/>
            <a:gdLst/>
            <a:ahLst/>
            <a:rect l="l" t="t" r="r" b="b"/>
            <a:pathLst>
              <a:path w="410" h="133">
                <a:moveTo>
                  <a:pt x="0" y="133"/>
                </a:moveTo>
                <a:cubicBezTo>
                  <a:pt x="53" y="97"/>
                  <a:pt x="55" y="99"/>
                  <a:pt x="125" y="91"/>
                </a:cubicBezTo>
                <a:cubicBezTo>
                  <a:pt x="139" y="77"/>
                  <a:pt x="151" y="67"/>
                  <a:pt x="160" y="50"/>
                </a:cubicBezTo>
                <a:cubicBezTo>
                  <a:pt x="163" y="43"/>
                  <a:pt x="162" y="34"/>
                  <a:pt x="167" y="29"/>
                </a:cubicBezTo>
                <a:cubicBezTo>
                  <a:pt x="194" y="0"/>
                  <a:pt x="245" y="18"/>
                  <a:pt x="285" y="15"/>
                </a:cubicBezTo>
                <a:cubicBezTo>
                  <a:pt x="313" y="5"/>
                  <a:pt x="334" y="13"/>
                  <a:pt x="361" y="22"/>
                </a:cubicBezTo>
                <a:cubicBezTo>
                  <a:pt x="408" y="68"/>
                  <a:pt x="403" y="70"/>
                  <a:pt x="410" y="84"/>
                </a:cubicBezTo>
                <a:lnTo>
                  <a:pt x="177" y="10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rot="3133800">
            <a:off x="6203880" y="3487320"/>
            <a:ext cx="863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32720" y="3715920"/>
            <a:ext cx="36036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連續量情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披薩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平分成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塊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塊披薩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00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個披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離散量情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盒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平分成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份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份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00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蘋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割對象是蘋果或蘋果盒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離散量情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盒蘋果有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平分成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份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個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ff00"/>
                </a:solidFill>
                <a:latin typeface="標楷體"/>
                <a:ea typeface="標楷體"/>
              </a:rPr>
              <a:t>份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Wingdings 3"/>
                <a:ea typeface="Wingdings 3"/>
              </a:rPr>
              <a:t>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/8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盒蘋果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類比連續量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◎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分割的對象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是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8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個蘋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不是裝蘋果的盒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4:24:39Z</dcterms:created>
  <dc:creator>USER</dc:creator>
  <dc:description/>
  <dc:language>en-US</dc:language>
  <cp:lastModifiedBy>cyc</cp:lastModifiedBy>
  <dcterms:modified xsi:type="dcterms:W3CDTF">2010-11-24T07:20:12Z</dcterms:modified>
  <cp:revision>121</cp:revision>
  <dc:subject/>
  <dc:title>投影片 1</dc:title>
</cp:coreProperties>
</file>