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406E-E5B1-453D-98ED-4293634AE92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E9B0-4ABB-4947-93C7-004110E0C36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6E11-4C50-4907-AE7B-AF7C1D6827A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E25B-D3B5-4778-B0DD-9BC3B064160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5D40-C9E7-4C64-AC22-8FD48659A65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7783-FDF4-4D60-A2AB-ECF870B9915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BC2E-02B5-4010-A4FD-134F620A35B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E6DD-35A2-49FA-8DBA-774327860CE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6813-B305-4BAC-A873-C89CE385D25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36A0-3FE2-4220-9E2F-9C8F90A9F8E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C072-AFC1-4B73-8A32-898C79F2B9F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3612-16F0-4E8B-B0F7-1FBFFB4BC845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ABBA-B6F8-479E-96ED-52FB06CE451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2B38-8A53-4698-BDB5-7EFD174EEB2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E91D-EDF6-4EF1-832E-B8AC8331FE5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E4B9-1171-479A-9112-A05D6701789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8FF0-A411-449D-9777-3D015E5E3E9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7E87-3EEA-40F7-B7DD-8647DF4EE0A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2D80-051D-41F2-A828-B483D77EC94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A05C-CA0D-4194-9C4B-C441E8BE59C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AB8F-B2B2-4963-AE89-A8F8908E902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EB99-DD38-4E41-880B-6113C043F61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6A04-D8A6-4C44-802A-A314E2BAAB5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892A-5CAC-44D5-9331-B567CFF5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320F-A8C0-4C45-962D-9AC711AB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A7F4B-25D8-43D4-84E9-5317BF65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E2777-4665-412D-AB89-0B846598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FF682-BD1C-482F-B1DD-C01C299A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DBABC-BD20-4D3F-A166-6F5345C9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9D1ED-0AC2-4019-9253-CD2D77A3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B16DE-9EA5-46BB-9673-64D8219C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36545-A02F-4D2D-9379-811BBD1D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4E6C8-BDB5-4738-8F8C-CCFD87E6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8120F-F2CF-4149-A904-E070F7D4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55E2A-0EDA-465B-8EBB-F7B7B010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FA9-C259-4A88-81EF-AF005B16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6F49B-8E53-4B4E-9324-3EB57CB5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276C1-C086-4316-90EE-44AADF42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4DFEA-4294-4DD0-873A-682665D2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8062D-BDCB-410C-BF92-C5C54007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6DE73-168D-42C4-AF4D-F2470283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1F7DE-A811-41D4-ADF0-96C4C706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B55FD-B6F9-46A1-9ED2-2D2AE0A0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B150B-1698-4680-B801-B4ADD107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ACA83-59B6-4E37-825D-C15493F7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FA484-B7B5-4688-84C1-6049A953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5FDF-C3C0-433A-8066-2E1B1D9D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A130B-6488-4BB7-ABB1-7D19EDEC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80814-8C2A-467C-9E14-A633EC56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13D52-3EF9-4398-A14C-C6183A31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20F33-8C28-4E74-BD25-210733BC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27F66-9048-4AE9-AACA-68B7211D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71FBE-30F9-4936-A92E-6DB991B1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30CF4-7069-4A42-A3ED-649489E3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4817B-A164-4BBC-B29E-ED387100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E299C-707E-47E8-9973-F2CB308F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66AA7-4233-4F5D-AD1F-8B3158DE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D72F-273F-4554-B4D5-0B8530F3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C8A0E-06F6-41EF-B878-27423645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7244F-7A49-45C1-9D6F-618BE8DF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FE304-501B-4D0D-AB53-CB7B71CB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254E-6D64-4126-B83E-7D591B88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EAA3-626D-454A-9537-703E0D73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6080-7018-4578-827D-68ED60C4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A4B6-AFDF-465D-8D41-73DF3290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BDEE-37CF-407F-9BF7-63CF103E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D227-7FA6-40D0-8E69-8D0DD985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DDE6-4F8B-417C-8D7F-06F7DA5B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FEF4-D16D-4109-8AA7-35730CD1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481D-DBB1-4FC7-8059-69A8331A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E668-9D4A-4CE6-82CE-AB8973D7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335E-BDD5-4ABE-974F-EC3D53C9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2686-A702-44B4-A263-AEC71CE6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CDA99-FC6C-4C86-8BD8-7F221C0D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CAFF8-86E0-49A4-80EA-81A68B5E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3DBB5-4E31-4B5E-A862-FB792954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6984B-9609-445D-A590-6046054D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3BE9B-3D94-4516-9898-E2433F05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E58-02F1-4E80-87E7-A27DA1AC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D1D7A-40A4-4088-9A28-229FE025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F89AE-BAEB-444B-8709-721B50F9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2198E-FB03-44E0-A112-BF21632C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FC6FB-9BCC-428B-8A1E-8F985A19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EA431-1660-4D98-9056-E1E75DC8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90E16-6FAD-48B0-AB92-AC2C9B29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8B8E8-2183-4BCA-B77A-53F04EE0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6B931-8CD9-4DCC-95AA-35900E8E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A36B6-8733-4AAC-926F-05A77D90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C9EF3-5865-48E3-8DFA-38B345B8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934-81D1-41D9-9B5E-E2721D9F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446AE-7EB3-4620-9A56-7C437252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473F9-88DB-467E-AAB5-49391A45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A5E43-4A80-4038-A8F2-C0A9765B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F7FFA-0F32-4670-AE12-9D916187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8424B-942D-4C20-9FD8-756D5C1A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F5640-F723-4B89-ADE4-1BF34DD2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00AC0-6260-4B75-94C0-09106823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4C110-916B-4B41-A530-8E3FEEC5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7F610-1516-44DD-8E41-CFCD119F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C65FE-12A3-4746-A638-F0C22203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CF4E-4965-4318-B34E-57753E47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09810-2203-420D-BA91-F18A4888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D32F9-CAFE-4F9E-8290-399CB63A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64603-FF88-429B-876A-436B15BC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62390-B5F6-42A6-98D7-C999ADC4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B7EF4-2B55-4F53-8BEE-B0F7AD52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1B375-3333-491A-A4C1-92428B2A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B1980-5034-4415-AF70-4FE3BC21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5D322-3007-4C24-AF8D-D5B93029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99AB6-359B-4B73-974F-E287FFAA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B00F2-BD3A-4AC3-842A-948DA805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81F4-68F3-4449-8B4F-2989C474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9F347-0953-415F-99BD-B4FE2BD7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873AA-96F4-4466-B093-C0A57DB3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17F39-B96D-4648-B55E-CCB4CE8F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16ADF-CF3E-48FD-88B3-C83E48A5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00E22-AE67-49C5-931B-EA25D2F5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735B9-150D-4E30-84C0-CA26341C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CC976-2F19-4E57-BE0F-8D74182A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4CCD9-FA12-4196-B7C5-338A1924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68A9A-48A5-4D4D-82F8-7178FD74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4E044-74F4-4AEA-918E-648F4098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233D-6C8B-4842-AA28-3586265D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20473-763B-4B9E-86CC-9F1F50D8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72298-B916-4455-B93E-AAC55964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BEA98-483F-4087-8DE7-00942168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5D1BD-ACA4-47E0-BC03-8368003E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24DEA-584C-4976-8EA5-44D18C40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28A04-8A72-419B-AFE3-73576355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96FDE-7E33-4BDC-913A-DA65902E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77CF9-5A84-44EA-B29D-25BB501D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4E09D-D65A-4449-A36E-34431760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29653-4780-4B41-BF8D-A149439B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2232-C15F-45A5-8FBE-07FCD6C6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0B21B-7916-4422-9A80-FA539A7C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34668-1F1B-446F-9BD5-E9B7980E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A8074-D047-4180-9A28-004376BF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2FD8E-E240-4DEF-8844-7BBDAEF0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5040C-6B2B-4C9E-9CE2-A3B0C442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99661-3784-4279-9BCB-819852E9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00DF6-9399-48AE-AA03-1770DBAC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67A73-743B-4957-8CA6-0E405B5F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2E99C-EA73-472A-89DC-9B5C7C41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00CD3-FDA5-4FCE-8A35-575EBA61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AF50-5116-44A7-9614-2F5EFFAE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C65D3-0DA0-43AC-8738-953C3017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290C5-D7AA-4C30-A89D-839BA422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AA7B1-3A61-4FA3-A4CE-158C7D43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8CFB2-35FE-4A55-B25C-CF61C854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3693D-442F-41AB-BE04-A2263F1E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36C1F-A16F-4DDA-B15C-38BF76F5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57B7F-1FA6-4F80-97BD-9DDDE5E2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18BBC-824C-40F7-BC3B-42A59C4F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33D12-0808-4038-85BA-BDF46006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58942-82A8-4979-8971-0941B851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F8A2-A666-4FA3-9C19-547B0FDF76B9}" type="slidenum">
              <a:rPr b="0" lang="zh-TW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9AD8-6A6D-4810-91F6-BE6B2AFCC9C7}" type="slidenum">
              <a:rPr b="0" lang="zh-TW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1CB2-C705-4B77-99AD-361CC4BDA90F}" type="slidenum">
              <a:rPr b="0" lang="zh-TW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4958-EA89-49BD-8F49-A6F3FF45C573}" type="slidenum">
              <a:rPr b="0" lang="zh-TW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10F8-CA06-44B9-B3F5-0996F54BE8EF}" type="slidenum">
              <a:rPr b="0" lang="zh-TW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BC71-1D83-495E-AF69-7D6A650D76BE}" type="slidenum">
              <a:rPr b="0" lang="zh-TW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E0BA-63E9-42B2-BAD4-EC41828CC8B4}" type="slidenum">
              <a:rPr b="0" lang="zh-TW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3129-0E48-41E5-92AA-8FABF7FBA84E}" type="slidenum">
              <a:rPr b="0" lang="zh-TW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3D42-267D-4E64-9447-7E71FFBF11D4}" type="slidenum">
              <a:rPr b="0" lang="zh-TW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E349-B6B0-48ED-8BF4-5D92631E0DA2}" type="slidenum">
              <a:rPr b="0" lang="zh-TW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2D90-94A7-4DE5-92F9-D08F70C81349}" type="slidenum">
              <a:rPr b="0" lang="zh-TW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5945;&#26696;3/&#20013;/&#25945;&#26696;&#19968;&#65306;&#20998;&#20998;&#30475;.doc" TargetMode="External"/><Relationship Id="rId3" Type="http://schemas.openxmlformats.org/officeDocument/2006/relationships/hyperlink" Target="file:///&#24310;1.mpg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5945;&#26696;3/&#20013;/&#25945;&#26696;&#20108;&#65306;&#20056;&#36554;&#35352;.doc" TargetMode="External"/><Relationship Id="rId3" Type="http://schemas.openxmlformats.org/officeDocument/2006/relationships/hyperlink" Target="file:///&#24310;2.mpg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5945;&#26696;3/&#20013;/&#25945;&#26696;&#19977;&#65306;&#30475;&#26376;&#26310;.doc" TargetMode="External"/><Relationship Id="rId3" Type="http://schemas.openxmlformats.org/officeDocument/2006/relationships/hyperlink" Target="file:///&#22914;(3).avi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5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f2f2f"/>
                </a:solidFill>
                <a:latin typeface="Franklin Gothic Medium"/>
              </a:rPr>
              <a:t>補救教學</a:t>
            </a:r>
            <a:br>
              <a:rPr sz="4400"/>
            </a:br>
            <a:r>
              <a:rPr b="0" lang="zh-TW" sz="4400" spc="-1" strike="noStrike">
                <a:solidFill>
                  <a:srgbClr val="2f2f2f"/>
                </a:solidFill>
                <a:latin typeface="Franklin Gothic Medium"/>
              </a:rPr>
              <a:t>三年級的除法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69236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  <a:ea typeface="標楷體"/>
              </a:rPr>
              <a:t>興中國小張根延、陳瀅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f2f2f"/>
                </a:solidFill>
                <a:latin typeface="Franklin Gothic Medium"/>
              </a:rPr>
              <a:t>等分除題型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285840" y="128556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Franklin Gothic Book"/>
              </a:rPr>
              <a:t>爺爺有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21</a:t>
            </a:r>
            <a:r>
              <a:rPr b="0" lang="zh-TW" sz="3000" spc="-1" strike="noStrike">
                <a:solidFill>
                  <a:srgbClr val="000000"/>
                </a:solidFill>
                <a:latin typeface="Franklin Gothic Book"/>
              </a:rPr>
              <a:t>張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Franklin Gothic Book"/>
              </a:rPr>
              <a:t>元的鈔票，要平分給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7</a:t>
            </a:r>
            <a:r>
              <a:rPr b="0" lang="zh-TW" sz="3000" spc="-1" strike="noStrike">
                <a:solidFill>
                  <a:srgbClr val="000000"/>
                </a:solidFill>
                <a:latin typeface="Franklin Gothic Book"/>
              </a:rPr>
              <a:t>個孫子，每個孫子得到幾張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Franklin Gothic Book"/>
              </a:rPr>
              <a:t>元鈔票？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錯誤類型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式子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用乘法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直式對，橫式錯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亂湊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計算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算錯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答案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不會寫、單位、數字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寫成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300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元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空白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f2f2f"/>
                </a:solidFill>
                <a:latin typeface="Franklin Gothic Medium"/>
              </a:rPr>
              <a:t>等分除題型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285840" y="128556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000000"/>
                </a:solidFill>
                <a:uFillTx/>
                <a:latin typeface="Franklin Gothic Book"/>
              </a:rPr>
              <a:t>小安</a:t>
            </a:r>
            <a:r>
              <a:rPr b="0" lang="zh-TW" sz="3000" spc="-1" strike="noStrike">
                <a:solidFill>
                  <a:srgbClr val="000000"/>
                </a:solidFill>
                <a:latin typeface="Franklin Gothic Book"/>
              </a:rPr>
              <a:t>有一條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24</a:t>
            </a:r>
            <a:r>
              <a:rPr b="0" lang="zh-TW" sz="3000" spc="-1" strike="noStrike">
                <a:solidFill>
                  <a:srgbClr val="000000"/>
                </a:solidFill>
                <a:latin typeface="Franklin Gothic Book"/>
              </a:rPr>
              <a:t>公分的繩子，想圍成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Franklin Gothic Book"/>
              </a:rPr>
              <a:t>個正方形，圍成後的正方形邊長是幾公分？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錯誤類型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式子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用乘法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用乘法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1 ×1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4 ÷ 1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、 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4 ÷ 6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、 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4 ÷3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4 ÷8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計算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答案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不會寫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空白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f2f2f"/>
                </a:solidFill>
                <a:latin typeface="Franklin Gothic Medium"/>
              </a:rPr>
              <a:t>除法錯誤類型</a:t>
            </a: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—</a:t>
            </a:r>
            <a:r>
              <a:rPr b="0" lang="zh-TW" sz="4400" spc="-1" strike="noStrike">
                <a:solidFill>
                  <a:srgbClr val="2f2f2f"/>
                </a:solidFill>
                <a:latin typeface="Franklin Gothic Medium"/>
              </a:rPr>
              <a:t>包含除題型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428760" y="1428840"/>
          <a:ext cx="8429400" cy="4937040"/>
        </p:xfrm>
        <a:graphic>
          <a:graphicData uri="http://schemas.openxmlformats.org/drawingml/2006/table">
            <a:tbl>
              <a:tblPr/>
              <a:tblGrid>
                <a:gridCol w="3217680"/>
                <a:gridCol w="1049400"/>
                <a:gridCol w="1049400"/>
                <a:gridCol w="1049400"/>
                <a:gridCol w="1049040"/>
                <a:gridCol w="1014480"/>
              </a:tblGrid>
              <a:tr h="2746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題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錯誤類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錯誤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列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錯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計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錯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答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錯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空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54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顆彈珠，每次發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9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顆，可以發射幾次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/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2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18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顆白球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人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6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顆，可分給幾人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/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2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4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9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位小朋友玩遊戲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4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個人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組，可以分成幾組？剩下幾位小朋友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/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2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Arial"/>
                        </a:rPr>
                        <a:t>28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分的彩帶，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7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分剪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段，可以剪成幾段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/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58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朵玫瑰花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6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朵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束，可以綁幾束？剩下幾朵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/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1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隻蜜蜂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6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隻腳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48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隻腳是幾隻蜜蜂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/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1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39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顆牛奶糖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6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顆裝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盒，可以裝成幾盒？剩下幾顆糖果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/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1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f2f2f"/>
                </a:solidFill>
                <a:latin typeface="Franklin Gothic Medium"/>
              </a:rPr>
              <a:t>除法錯誤類型</a:t>
            </a: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—</a:t>
            </a:r>
            <a:r>
              <a:rPr b="0" lang="zh-TW" sz="4400" spc="-1" strike="noStrike">
                <a:solidFill>
                  <a:srgbClr val="2f2f2f"/>
                </a:solidFill>
                <a:latin typeface="Franklin Gothic Medium"/>
              </a:rPr>
              <a:t>包含除題型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357120" y="1285920"/>
          <a:ext cx="8572680" cy="5375160"/>
        </p:xfrm>
        <a:graphic>
          <a:graphicData uri="http://schemas.openxmlformats.org/drawingml/2006/table">
            <a:tbl>
              <a:tblPr/>
              <a:tblGrid>
                <a:gridCol w="3273480"/>
                <a:gridCol w="1066680"/>
                <a:gridCol w="1067040"/>
                <a:gridCol w="1066680"/>
                <a:gridCol w="1066680"/>
                <a:gridCol w="1032120"/>
              </a:tblGrid>
              <a:tr h="334800"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題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錯誤類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錯誤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列式錯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計算錯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答案錯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空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62280" rIns="622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輛計程車可以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4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個人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13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個人可以坐滿幾輛計程車？多幾個人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/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3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2280" rIns="622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星期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7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天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8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月分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3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天，是幾星期又幾天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1/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3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62280" rIns="622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三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5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班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33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個人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張長椅子可以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6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個人，要準備幾張長椅子才夠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6/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4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62280" rIns="622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遊樂園小火車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節車廂可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4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個人，</a:t>
                      </a:r>
                      <a:r>
                        <a:rPr b="0" lang="zh-TW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標楷體"/>
                        </a:rPr>
                        <a:t>小傑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班上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26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個人，需要幾節車廂才夠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8/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4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62280" rIns="622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閏年的二月是幾星期又幾天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6/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4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2280" rIns="622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輛小巴士可以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7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人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55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人需要準備幾輛小巴士才夠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1/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5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f2f2f"/>
                </a:solidFill>
                <a:latin typeface="Franklin Gothic Medium"/>
              </a:rPr>
              <a:t>除法錯誤類型</a:t>
            </a: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—</a:t>
            </a:r>
            <a:r>
              <a:rPr b="0" lang="zh-TW" sz="4400" spc="-1" strike="noStrike">
                <a:solidFill>
                  <a:srgbClr val="2f2f2f"/>
                </a:solidFill>
                <a:latin typeface="Franklin Gothic Medium"/>
              </a:rPr>
              <a:t>等分除題型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428760" y="1143000"/>
          <a:ext cx="8572320" cy="5429160"/>
        </p:xfrm>
        <a:graphic>
          <a:graphicData uri="http://schemas.openxmlformats.org/drawingml/2006/table">
            <a:tbl>
              <a:tblPr/>
              <a:tblGrid>
                <a:gridCol w="3273120"/>
                <a:gridCol w="1067040"/>
                <a:gridCol w="1066680"/>
                <a:gridCol w="1066680"/>
                <a:gridCol w="1067040"/>
                <a:gridCol w="1031760"/>
              </a:tblGrid>
              <a:tr h="285840"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題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錯誤類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錯誤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列式錯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計算錯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答案錯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空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62280" rIns="622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個梨子，平分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5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盤，每盤有幾個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/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3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62280" rIns="622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班上同學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42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人，要平分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6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組做自然實驗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組有幾人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/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2280" rIns="622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條起司蛋糕長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56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分，要平分切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7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塊，每塊是幾公分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/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1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62280" rIns="622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包遊戲卡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8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張，平分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8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人，每人分得幾張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/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1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62280" rIns="622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爺爺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2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100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元的鈔票，要平分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7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個孫子，每個孫子得到幾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00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元鈔票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/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2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62280" rIns="622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標楷體"/>
                        </a:rPr>
                        <a:t>小安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有一條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24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分的繩子，想圍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個正方形，圍成後的正方形邊長是幾公分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9/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3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條長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72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尺的繩子，被剪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8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段一樣長的小繩子，每段小繩子長幾公尺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/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1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f2f2f"/>
                </a:solidFill>
                <a:latin typeface="Franklin Gothic Medium"/>
              </a:rPr>
              <a:t>綜合分析：錯誤率較高題型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某個月份會有幾個星期又幾天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詳細說明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星期有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7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天，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月份有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31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天，是幾星期又幾天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須有某些先備知識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閏年的二月是幾星期又幾天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f2f2f"/>
                </a:solidFill>
                <a:latin typeface="Franklin Gothic Medium"/>
              </a:rPr>
              <a:t>綜合分析：錯誤率較高題型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小數除以大數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包含除的變化型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須加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)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如：三年五班有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33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人，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張長椅子可以坐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個人，要準備幾張長椅子才夠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f2f2f"/>
                </a:solidFill>
                <a:latin typeface="Franklin Gothic Medium"/>
              </a:rPr>
              <a:t>迷思概念表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aphicFrame>
        <p:nvGraphicFramePr>
          <p:cNvPr id="525" name="Object 3"/>
          <p:cNvGraphicFramePr/>
          <p:nvPr/>
        </p:nvGraphicFramePr>
        <p:xfrm>
          <a:off x="285840" y="1525680"/>
          <a:ext cx="8501040" cy="533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1525680"/>
                    <a:ext cx="850104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f2f2f"/>
                </a:solidFill>
                <a:latin typeface="Franklin Gothic Medium"/>
              </a:rPr>
              <a:t>教學設計架構表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aphicFrame>
        <p:nvGraphicFramePr>
          <p:cNvPr id="528" name="Object 2"/>
          <p:cNvGraphicFramePr/>
          <p:nvPr/>
        </p:nvGraphicFramePr>
        <p:xfrm>
          <a:off x="252360" y="914400"/>
          <a:ext cx="8796240" cy="633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360" y="914400"/>
                    <a:ext cx="8796240" cy="63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f2f2f"/>
                </a:solidFill>
                <a:latin typeface="Franklin Gothic Medium"/>
              </a:rPr>
              <a:t>活動一：分分看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設計理念：實際生活中，學生較少經驗不夠分配而不分的情況；除法問題也是被除數＞除數的題型較常見，因此學生在面對被除數＜除數的題目時，便會自動用除數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÷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被除數來作答。因此希望透過實際操作被除數比除數小的題目，讓學生熟悉此類題目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教學流程：</a:t>
            </a:r>
            <a:r>
              <a:rPr b="0" lang="zh-TW" sz="3200" spc="-1" strike="noStrike" u="sng">
                <a:solidFill>
                  <a:srgbClr val="00d5d5"/>
                </a:solidFill>
                <a:uFillTx/>
                <a:latin typeface="Franklin Gothic Book"/>
                <a:hlinkClick r:id="rId2"/>
              </a:rPr>
              <a:t>教案一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、</a:t>
            </a:r>
            <a:r>
              <a:rPr b="0" lang="zh-TW" sz="3200" spc="-1" strike="noStrike" u="sng">
                <a:solidFill>
                  <a:srgbClr val="00d5d5"/>
                </a:solidFill>
                <a:uFillTx/>
                <a:latin typeface="Franklin Gothic Book"/>
                <a:hlinkClick r:id="rId3"/>
              </a:rPr>
              <a:t>上課情形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f2f2f"/>
                </a:solidFill>
                <a:latin typeface="Franklin Gothic Medium"/>
              </a:rPr>
              <a:t>實施流程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統計學生錯誤的題型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分析錯誤類型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找出錯誤最多的類型，並根據其迷思概念來設計教學活動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補救教學實施過程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後測，檢驗學生的學習成效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f2f2f"/>
                </a:solidFill>
                <a:latin typeface="Franklin Gothic Medium"/>
              </a:rPr>
              <a:t>活動二：乘車記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設計理念：學生習慣商和餘數分開回答，例如「分成幾組剩幾人」。但遇到被除數要全部分完的情形時，學生常常會忘記，有餘數，則商要加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；或是不理解商和餘數的意義，而將商加上餘數。因此希望透過實際操作分組情況，引導學生理解商和餘數的意義；及有餘數時，商要加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的理由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教學流程：</a:t>
            </a:r>
            <a:r>
              <a:rPr b="0" lang="zh-TW" sz="3200" spc="-1" strike="noStrike" u="sng">
                <a:solidFill>
                  <a:srgbClr val="00d5d5"/>
                </a:solidFill>
                <a:uFillTx/>
                <a:latin typeface="Franklin Gothic Book"/>
                <a:hlinkClick r:id="rId2"/>
              </a:rPr>
              <a:t>教案二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、</a:t>
            </a:r>
            <a:r>
              <a:rPr b="0" lang="zh-TW" sz="3200" spc="-1" strike="noStrike" u="sng">
                <a:solidFill>
                  <a:srgbClr val="00d5d5"/>
                </a:solidFill>
                <a:uFillTx/>
                <a:latin typeface="Franklin Gothic Book"/>
                <a:hlinkClick r:id="rId3"/>
              </a:rPr>
              <a:t>上課情形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f2f2f"/>
                </a:solidFill>
                <a:latin typeface="Franklin Gothic Medium"/>
              </a:rPr>
              <a:t>活動三：看月曆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設計理念：學生平時較少使用月曆，所以對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【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】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的概念較薄弱，因此希望藉由透過月曆，請學生實際觀察月曆，認識每個月的日數；每個月與一星期的關係；平年和閏年的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月天數並不同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教學流程：</a:t>
            </a:r>
            <a:r>
              <a:rPr b="0" lang="zh-TW" sz="3200" spc="-1" strike="noStrike" u="sng">
                <a:solidFill>
                  <a:srgbClr val="00d5d5"/>
                </a:solidFill>
                <a:uFillTx/>
                <a:latin typeface="Franklin Gothic Book"/>
                <a:hlinkClick r:id="rId2"/>
              </a:rPr>
              <a:t>教案三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、</a:t>
            </a:r>
            <a:r>
              <a:rPr b="0" lang="zh-TW" sz="3200" spc="-1" strike="noStrike" u="sng">
                <a:solidFill>
                  <a:srgbClr val="00d5d5"/>
                </a:solidFill>
                <a:uFillTx/>
                <a:latin typeface="Franklin Gothic Book"/>
                <a:hlinkClick r:id="rId3"/>
              </a:rPr>
              <a:t>上課情形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f2f2f"/>
                </a:solidFill>
                <a:latin typeface="Franklin Gothic Medium"/>
              </a:rPr>
              <a:t>教學省思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57120" y="1600200"/>
            <a:ext cx="83296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活動一：剛開始分花片的部分，先從學生比較熟悉的大數除以小數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花片比人多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來平分，再慢慢減少花片到比人少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活動二：因為時間緊迫，上課速度比較快，操作部分只進行一次，較不能建立概念的理解。學習單需修改為給人，讓學生畫車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活動三：有些學生還是不能以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7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天為一單位量，會用日數除以月份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後側結果：不如預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f2f2f"/>
                </a:solidFill>
                <a:latin typeface="Franklin Gothic Medium"/>
              </a:rPr>
              <a:t>錯誤類型</a:t>
            </a: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(</a:t>
            </a:r>
            <a:r>
              <a:rPr b="0" lang="zh-TW" sz="4400" spc="-1" strike="noStrike">
                <a:solidFill>
                  <a:srgbClr val="2f2f2f"/>
                </a:solidFill>
                <a:latin typeface="Franklin Gothic Medium"/>
              </a:rPr>
              <a:t>除法文字題</a:t>
            </a: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)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來源：練習卷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因為非分析習作，再加上剛學完乘法，所以錯誤率較習作高些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題目類型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包含除題型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基本型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變化型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須加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等分除題型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f2f2f"/>
                </a:solidFill>
                <a:latin typeface="Franklin Gothic Medium"/>
              </a:rPr>
              <a:t>包含除題型～基本型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5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顆彈珠，每次發射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9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顆，可以發射幾次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錯誤類型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式子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—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用乘法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計算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答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—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單位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96" name="Picture 5" descr=""/>
          <p:cNvPicPr/>
          <p:nvPr/>
        </p:nvPicPr>
        <p:blipFill>
          <a:blip r:embed="rId2"/>
          <a:stretch/>
        </p:blipFill>
        <p:spPr>
          <a:xfrm>
            <a:off x="3851280" y="2205000"/>
            <a:ext cx="2357280" cy="1647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7" name="Picture 6" descr=""/>
          <p:cNvPicPr/>
          <p:nvPr/>
        </p:nvPicPr>
        <p:blipFill>
          <a:blip r:embed="rId3"/>
          <a:stretch/>
        </p:blipFill>
        <p:spPr>
          <a:xfrm>
            <a:off x="3635280" y="4221000"/>
            <a:ext cx="2714760" cy="1785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f2f2f"/>
                </a:solidFill>
                <a:latin typeface="Franklin Gothic Medium"/>
              </a:rPr>
              <a:t>包含除題型～基本型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Franklin Gothic Book"/>
              </a:rPr>
              <a:t>星期有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7</a:t>
            </a:r>
            <a:r>
              <a:rPr b="0" lang="zh-TW" sz="3000" spc="-1" strike="noStrike">
                <a:solidFill>
                  <a:srgbClr val="000000"/>
                </a:solidFill>
                <a:latin typeface="Franklin Gothic Book"/>
              </a:rPr>
              <a:t>天，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8</a:t>
            </a:r>
            <a:r>
              <a:rPr b="0" lang="zh-TW" sz="3000" spc="-1" strike="noStrike">
                <a:solidFill>
                  <a:srgbClr val="000000"/>
                </a:solidFill>
                <a:latin typeface="Franklin Gothic Book"/>
              </a:rPr>
              <a:t>月分有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31</a:t>
            </a:r>
            <a:r>
              <a:rPr b="0" lang="zh-TW" sz="3000" spc="-1" strike="noStrike">
                <a:solidFill>
                  <a:srgbClr val="000000"/>
                </a:solidFill>
                <a:latin typeface="Franklin Gothic Book"/>
              </a:rPr>
              <a:t>天，是幾星期又幾天？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錯誤類型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式子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亂算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橫式沒有列出餘數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31 ÷ 8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、 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35 ÷ 7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、 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8 ÷7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計算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答案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亂寫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單位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沒寫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f2f2f"/>
                </a:solidFill>
                <a:latin typeface="Franklin Gothic Medium"/>
              </a:rPr>
              <a:t>包含除題型～基本型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Franklin Gothic Book"/>
              </a:rPr>
              <a:t>閏年的二月是幾星期又幾天？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錯誤類型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式子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乘法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9 ÷ 4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、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8 ÷ 7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、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0 ÷7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÷7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4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、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7÷2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、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8÷2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9÷2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計算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答案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空白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f2f2f"/>
                </a:solidFill>
                <a:latin typeface="Franklin Gothic Medium"/>
              </a:rPr>
              <a:t>包含除題型～變化型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14200" y="1285560"/>
            <a:ext cx="8715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f2f2f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Franklin Gothic Book"/>
              </a:rPr>
              <a:t>遊樂園小火車，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Franklin Gothic Book"/>
              </a:rPr>
              <a:t>節車廂可載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r>
              <a:rPr b="0" lang="zh-TW" sz="3000" spc="-1" strike="noStrike">
                <a:solidFill>
                  <a:srgbClr val="000000"/>
                </a:solidFill>
                <a:latin typeface="Franklin Gothic Book"/>
              </a:rPr>
              <a:t>個人，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Franklin Gothic Book"/>
              </a:rPr>
              <a:t>小傑</a:t>
            </a:r>
            <a:r>
              <a:rPr b="0" lang="zh-TW" sz="3000" spc="-1" strike="noStrike">
                <a:solidFill>
                  <a:srgbClr val="000000"/>
                </a:solidFill>
                <a:latin typeface="Franklin Gothic Book"/>
              </a:rPr>
              <a:t>班上有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26</a:t>
            </a:r>
            <a:r>
              <a:rPr b="0" lang="zh-TW" sz="3000" spc="-1" strike="noStrike">
                <a:solidFill>
                  <a:srgbClr val="000000"/>
                </a:solidFill>
                <a:latin typeface="Franklin Gothic Book"/>
              </a:rPr>
              <a:t>個人，需要幾節車廂才夠？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f2f2f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</a:rPr>
              <a:t>錯誤類型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標楷體"/>
              </a:rPr>
              <a:t>1.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</a:rPr>
              <a:t>式子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</a:rPr>
              <a:t>—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</a:rPr>
              <a:t>用乘法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</a:rPr>
              <a:t>      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</a:rPr>
              <a:t>少列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</a:rPr>
              <a:t>6+1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</a:rPr>
              <a:t>      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</a:rPr>
              <a:t>少列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</a:rPr>
              <a:t>6+1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</a:rPr>
              <a:t>，但答案對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</a:rPr>
              <a:t>      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</a:rPr>
              <a:t>列成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</a:rPr>
              <a:t>6+2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標楷體"/>
              </a:rPr>
              <a:t>2.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</a:rPr>
              <a:t>計算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標楷體"/>
              </a:rPr>
              <a:t>3.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</a:rPr>
              <a:t>答案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</a:rPr>
              <a:t>—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</a:rPr>
              <a:t>寫錯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</a:rPr>
              <a:t>      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</a:rPr>
              <a:t>單位寫錯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f2f2f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f2f2f"/>
                </a:solidFill>
                <a:latin typeface="Franklin Gothic Medium"/>
              </a:rPr>
              <a:t>等分除題型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班上同學有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42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人，要平分成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組做自然實驗，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組有幾人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錯誤類型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式子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—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用乘法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計算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答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—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單位錯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   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不會寫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f2f2f"/>
                </a:solidFill>
                <a:latin typeface="Franklin Gothic Medium"/>
              </a:rPr>
              <a:t>等分除題型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有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0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個梨子，平分成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Franklin Gothic Book"/>
              </a:rPr>
              <a:t>盤，每盤有幾個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錯誤類型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式子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用乘法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寫成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5 ÷ 0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直式對，橫式錯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未列式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計算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答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亂寫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01:44:50Z</dcterms:created>
  <dc:creator>Valued Acer Customer</dc:creator>
  <dc:description/>
  <dc:language>en-US</dc:language>
  <cp:lastModifiedBy>USER</cp:lastModifiedBy>
  <dcterms:modified xsi:type="dcterms:W3CDTF">2010-11-29T03:08:43Z</dcterms:modified>
  <cp:revision>47</cp:revision>
  <dc:subject/>
  <dc:title>三年級</dc:title>
</cp:coreProperties>
</file>