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61D-6A07-4E31-AF5E-39285613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B37-36F8-4C12-BC0A-4557C46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6AA-79FC-444D-B32A-BD2C7A9A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1B4-707F-4057-8B86-5B583231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8A3-319E-4B72-922B-9650070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9C2-49D0-4163-9FB6-DE36AD3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2D2-254C-4834-A5F0-11F0302A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3AD-23B4-4EA8-B989-3758091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59-D5B2-4835-B4F8-655619FF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9B9-34E2-468A-A050-A8E70570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CC7-F80C-4D51-8CBE-FBE23FC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216-E18F-47B5-9A14-DDC9696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7153-5067-41E7-A7DB-C5BFCFE0098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節數減少下的國語文教學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br>
              <a:rPr sz="32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太保國小校長 江連君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7DD-B900-4537-B34F-49D603E118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國小老師教室活動分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25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內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比率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講    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問    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醒規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板    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具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業測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    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519280" y="60357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資料來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柯華葳「國小日常教學活動之生態研究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900000" y="6093000"/>
            <a:ext cx="1079640" cy="765000"/>
          </a:xfrm>
          <a:custGeom>
            <a:avLst/>
            <a:gdLst>
              <a:gd name="textAreaLeft" fmla="*/ 49320 w 1079640"/>
              <a:gd name="textAreaRight" fmla="*/ 1030320 w 1079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0480" h="21600">
                <a:moveTo>
                  <a:pt x="0" y="0"/>
                </a:moveTo>
                <a:lnTo>
                  <a:pt x="30480" y="0"/>
                </a:lnTo>
                <a:lnTo>
                  <a:pt x="30480" y="21600"/>
                </a:lnTo>
                <a:lnTo>
                  <a:pt x="0" y="21600"/>
                </a:lnTo>
                <a:close/>
              </a:path>
              <a:path fill="lightenLess" w="30480" h="21600">
                <a:moveTo>
                  <a:pt x="0" y="0"/>
                </a:moveTo>
                <a:lnTo>
                  <a:pt x="30480" y="0"/>
                </a:lnTo>
                <a:lnTo>
                  <a:pt x="29080" y="1400"/>
                </a:lnTo>
                <a:lnTo>
                  <a:pt x="1400" y="1400"/>
                </a:lnTo>
                <a:close/>
              </a:path>
              <a:path fill="darken" w="30480" h="21600">
                <a:moveTo>
                  <a:pt x="30480" y="0"/>
                </a:moveTo>
                <a:lnTo>
                  <a:pt x="30480" y="21600"/>
                </a:lnTo>
                <a:lnTo>
                  <a:pt x="29080" y="20200"/>
                </a:lnTo>
                <a:lnTo>
                  <a:pt x="29080" y="1400"/>
                </a:lnTo>
                <a:close/>
              </a:path>
              <a:path fill="darkenLess" w="30480" h="21600">
                <a:moveTo>
                  <a:pt x="30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80" y="20200"/>
                </a:lnTo>
                <a:close/>
              </a:path>
              <a:path fill="lighten" w="30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80" h="21600">
                <a:moveTo>
                  <a:pt x="8233" y="3794"/>
                </a:moveTo>
                <a:lnTo>
                  <a:pt x="22246" y="10800"/>
                </a:lnTo>
                <a:lnTo>
                  <a:pt x="8233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15B-4C78-486E-81F9-B9F3370276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901880" y="404640"/>
          <a:ext cx="5340240" cy="5545440"/>
        </p:xfrm>
        <a:graphic>
          <a:graphicData uri="http://schemas.openxmlformats.org/drawingml/2006/table">
            <a:tbl>
              <a:tblPr/>
              <a:tblGrid>
                <a:gridCol w="2670120"/>
                <a:gridCol w="267012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習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吸收率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文   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   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視   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視聽媒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動手做、經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報告、教別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216680" y="6093000"/>
            <a:ext cx="316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ea typeface="華康粗圓體"/>
                <a:hlinkClick r:id="rId2" action="ppaction://hlinksldjump"/>
              </a:rPr>
              <a:t>資料來源：美國德州大學研究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ea typeface="華康粗圓體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85080" y="530064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3794"/>
                </a:moveTo>
                <a:lnTo>
                  <a:pt x="18853" y="10800"/>
                </a:lnTo>
                <a:lnTo>
                  <a:pt x="4840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530064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7520"/>
                </a:moveTo>
                <a:lnTo>
                  <a:pt x="7301" y="7520"/>
                </a:lnTo>
                <a:lnTo>
                  <a:pt x="7301" y="12855"/>
                </a:lnTo>
                <a:cubicBezTo>
                  <a:pt x="7301" y="13778"/>
                  <a:pt x="8102" y="14509"/>
                  <a:pt x="9138" y="14509"/>
                </a:cubicBezTo>
                <a:lnTo>
                  <a:pt x="10800" y="14509"/>
                </a:lnTo>
                <a:cubicBezTo>
                  <a:pt x="11836" y="14509"/>
                  <a:pt x="12636" y="13778"/>
                  <a:pt x="12636" y="12855"/>
                </a:cubicBezTo>
                <a:lnTo>
                  <a:pt x="12636" y="7520"/>
                </a:lnTo>
                <a:lnTo>
                  <a:pt x="10800" y="7520"/>
                </a:lnTo>
                <a:lnTo>
                  <a:pt x="14308" y="4012"/>
                </a:lnTo>
                <a:lnTo>
                  <a:pt x="17981" y="7520"/>
                </a:lnTo>
                <a:lnTo>
                  <a:pt x="16144" y="7520"/>
                </a:lnTo>
                <a:lnTo>
                  <a:pt x="16144" y="12855"/>
                </a:lnTo>
                <a:cubicBezTo>
                  <a:pt x="16144" y="15623"/>
                  <a:pt x="13568" y="18182"/>
                  <a:pt x="10800" y="18182"/>
                </a:cubicBezTo>
                <a:lnTo>
                  <a:pt x="9138" y="18182"/>
                </a:lnTo>
                <a:cubicBezTo>
                  <a:pt x="6370" y="18182"/>
                  <a:pt x="3794" y="15623"/>
                  <a:pt x="3794" y="12855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99B-5FF4-41BC-8462-9D230BEB19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參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國語文教育的策進意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一、教師充分發揮發展課程、組織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的專業知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二、教學方法生動活潑及多元化，以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昇學習興趣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三、多提供閱讀、思考、發表的機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四、充分應用教學媒體，並由具體情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引發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五、加強閱讀指導，提供有意義的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學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375-2952-47DD-8D71-81572BFFA1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參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國語文教育的策進意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六、加強低成就學生有效的補救教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、培養兒童主動的自我學習能力，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鼓勵家長參與兒童的學習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八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多實施多元而達到真正評估的評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九、紙筆測驗減少基本能力評量，相對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加應用及思考層次評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十、教師多進行課程教材及教學方法的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究探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F35-7E72-43AA-B333-FDFC275905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94560" y="47628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Arial"/>
                <a:ea typeface="華康粗圓體"/>
              </a:rPr>
              <a:t>國民教育法施行細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06064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華康粗圓體"/>
              </a:rPr>
              <a:t>第七條第五款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華康粗圓體"/>
              </a:rPr>
              <a:t>教師應依據學生之興趣、能力、性向及身心發展狀況等個別差異，增減教材，因材施教，並注重啟發學生思考能力及自動研究的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443640" y="5589720"/>
            <a:ext cx="865080" cy="100800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167">
                <a:moveTo>
                  <a:pt x="0" y="0"/>
                </a:moveTo>
                <a:lnTo>
                  <a:pt x="21600" y="0"/>
                </a:lnTo>
                <a:lnTo>
                  <a:pt x="21600" y="25167"/>
                </a:lnTo>
                <a:lnTo>
                  <a:pt x="0" y="25167"/>
                </a:lnTo>
                <a:close/>
              </a:path>
              <a:path fill="lightenLess" w="21600" h="251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7">
                <a:moveTo>
                  <a:pt x="21600" y="0"/>
                </a:moveTo>
                <a:lnTo>
                  <a:pt x="21600" y="25167"/>
                </a:lnTo>
                <a:lnTo>
                  <a:pt x="20200" y="23767"/>
                </a:lnTo>
                <a:lnTo>
                  <a:pt x="20200" y="1400"/>
                </a:lnTo>
                <a:close/>
              </a:path>
              <a:path fill="darkenLess" w="21600" h="25167">
                <a:moveTo>
                  <a:pt x="21600" y="25167"/>
                </a:moveTo>
                <a:lnTo>
                  <a:pt x="0" y="25167"/>
                </a:lnTo>
                <a:lnTo>
                  <a:pt x="1400" y="23767"/>
                </a:lnTo>
                <a:lnTo>
                  <a:pt x="20200" y="23767"/>
                </a:lnTo>
                <a:close/>
              </a:path>
              <a:path fill="lighten" w="21600" h="25167">
                <a:moveTo>
                  <a:pt x="0" y="251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7"/>
                </a:lnTo>
                <a:close/>
              </a:path>
              <a:path fill="darken" w="21600" h="25167">
                <a:moveTo>
                  <a:pt x="3794" y="5577"/>
                </a:moveTo>
                <a:lnTo>
                  <a:pt x="17806" y="12584"/>
                </a:lnTo>
                <a:lnTo>
                  <a:pt x="3794" y="1959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493-EE25-4A01-BDFF-3800C08E81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《灰 姑 娘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上課鈴響了，孩子們跑進教室，這節課老師要講的是《灰姑娘》的故事。老師先請一個孩子上臺給同學講一講這個故事。孩子很快講完了，老師對他表示了感謝，然後開始向全班提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068640"/>
            <a:ext cx="7705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924280"/>
            <a:ext cx="7705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924280"/>
            <a:ext cx="7488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3068640"/>
            <a:ext cx="741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997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你們喜歡故事裏面的哪一個？不喜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990033"/>
                </a:solidFill>
                <a:latin typeface="Arial"/>
                <a:ea typeface="華康粗圓體"/>
              </a:rPr>
              <a:t>哪一個？為什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149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喜歡辛黛瑞拉（灰姑娘），還有王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不喜歡她的後母和後母帶來的姐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辛黛瑞拉善良、可愛、漂亮。後母和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姐對辛黛瑞拉不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408-911C-4B13-8AC7-CEA274682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老師：如果在午夜</a:t>
            </a: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12</a:t>
            </a: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點的時候，辛黛瑞拉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有來得及跳上她的南瓜馬車，你們想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990033"/>
                </a:solidFill>
                <a:latin typeface="Arial"/>
              </a:rPr>
              <a:t>想，可能會出現什麼情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98900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辛黛瑞拉會變成原來髒髒的樣子，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著破舊的衣服。哎呀，那就慘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068640"/>
            <a:ext cx="84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所以，你們一定要做一個守時的人，不然就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能給自己帶來麻煩。另外 你們看，你們每個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平時都打扮得漂漂亮亮 的，千萬不要突然邋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邋遢地出現 在別人面前，不然你們 的朋友要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著了。女孩子們，你們更要注意， 將來你們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大和男孩子約會，要是你不注意，被你的男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友看到你很 難看的 樣子，他們可能就嚇昏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（老師做昏倒狀， 全班大笑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94836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3794"/>
                </a:moveTo>
                <a:lnTo>
                  <a:pt x="19522" y="10800"/>
                </a:lnTo>
                <a:lnTo>
                  <a:pt x="5509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32C-B76D-4CE1-A95C-9072D509C7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26028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33"/>
                </a:solidFill>
                <a:latin typeface="Arial"/>
                <a:ea typeface="華康粗圓體"/>
              </a:rPr>
              <a:t>好，下一個問題：如果你是辛黛瑞拉的後母，你會不會阻止辛黛瑞拉去參加王子的舞會？你們一定要誠實喲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（過了一會兒，有孩子舉手回答），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果我是辛黛瑞拉 的後母，我也會 阻止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去參加王子的舞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860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為什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4508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因為，因為我愛自己的女兒，我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華康粗圓體"/>
              </a:rPr>
              <a:t>自己的女兒當上王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084640"/>
            <a:ext cx="86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7A2-6088-495F-AC74-157B0A427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老師：是的，所以，我們看到的後母好像都是不好的人，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們只是對別人不夠 好，可是她們對自己的孩子卻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好，你們明白了嗎？她們不是壞人，只是她們還不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990033"/>
                </a:solidFill>
                <a:latin typeface="華康粗圓體"/>
                <a:ea typeface="華康粗圓體"/>
              </a:rPr>
              <a:t>夠像愛自己的孩子一樣去愛其他的孩子</a:t>
            </a:r>
            <a:r>
              <a:rPr b="1" lang="zh-TW" sz="2400" spc="-1" strike="noStrike">
                <a:solidFill>
                  <a:srgbClr val="990033"/>
                </a:solidFill>
                <a:latin typeface="Arial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133720"/>
            <a:ext cx="8820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Arial"/>
                <a:ea typeface="華康粗圓體"/>
              </a:rPr>
              <a:t>孩子們，下一個問題：辛黛瑞拉的後母不讓她去參加王子的舞會，甚至把門鎖起來，她為什麼能夠去，而且成為舞會上最美麗的姑娘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5002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因為有仙女幫助她，給她漂亮的衣服，把南瓜變成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車，把狗和老鼠變成僕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365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對，你們說得很好！想一想，如果辛黛瑞拉沒有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400" spc="-1" strike="noStrike">
                <a:solidFill>
                  <a:srgbClr val="990033"/>
                </a:solidFill>
                <a:latin typeface="Arial"/>
                <a:ea typeface="華康粗圓體"/>
              </a:rPr>
              <a:t>到仙女的幫助，她是不可能去參加舞會的，是不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37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是的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B94-CEC2-469D-880F-77FB3E2C8F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476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如果狗、老鼠都不願意幫助她，她可能在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後的時刻成功地跑回家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6286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不會，那樣她就可以成功地嚇到王子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（全班再次大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63700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雖然辛黛瑞拉有仙女幫助她，但是，光有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女的幫助還不夠。所以，孩子們，無論走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哪裏，我們都是需要朋友的。我們的朋友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一定是仙女，但是，我們需要他們，我也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望你們有很多很多的朋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01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下面，請你們想一想，如果辛黛瑞拉因為後母不願意她參加舞會就放棄了機會，她可能成為王子的新娘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6B1-C608-4C5F-BCA6-6883CA072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江連君校長與國語文教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擔任嘉義縣國教輔導團教學輔導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擔任嘉義大學「語文科教材教法」兼任講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擔任南一出版社國語教科書編寫委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擔任全國、台南縣、台中市、嘉義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語文競賽作文評審委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擔任台南縣、嘉義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語文競賽作文培訓指導講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出版「開啟童詩的鑰匙」榮獲教育部教學研究著作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出版「比讀書更重要的事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幼獅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各校親子共讀及閱讀寫作教學講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D10-F27C-4EE9-83A0-24A3C0A23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不會！那樣的話，她就不會到舞會上，不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被王子遇到，認識和 愛上她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62864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對極了！如果辛黛瑞拉不想參加舞會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是她的後母沒有阻止，甚至支持她去，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是沒有用的，是誰決定她要去參加王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舞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57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她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221000"/>
            <a:ext cx="83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所以，孩子們，就是辛黛瑞拉沒有媽媽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她，她的後母不愛她，這也不能夠讓她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愛自己。就是因為她愛自己，她才可能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尋找自己希望得到的東西。如果你們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有人覺得沒有人愛，或者像辛黛瑞拉一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有一個不愛她的後母，你們要怎麼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101080" y="328464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A66-1D10-42CC-8893-F484A8C78F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333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要愛自己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對，沒有一個人可以阻止你愛自己，如果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覺得別人不夠愛你，你要加倍地愛自己；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果別人沒有給你機會，你應該加倍地給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機會；如果你們真的愛自己，就會為自己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到自己需要的東西，沒有人可以阻止辛黛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拉參加王子的舞會，沒有人可以阻止辛黛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拉當上王后，除了她自己。對不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對！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5373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最後一個問題，這個故事有什麼不合理的地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4E5-08B1-426C-AB50-3261A8019E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0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學生：（過了好一會）午夜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12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點以後所有的東西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要變回原樣，可是，辛黛瑞拉的水晶鞋沒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華康粗圓體"/>
              </a:rPr>
              <a:t>變回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13372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老師：天哪，你們太棒了！你們看，就是偉大的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家也有出錯的時候，所以，出錯並不是什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可怕的事情。我擔保，如果你們當中誰將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要當作家，一定比這個作家更棒！你們相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           </a:t>
            </a:r>
            <a:r>
              <a:rPr b="1" lang="zh-TW" sz="2800" spc="-1" strike="noStrike">
                <a:solidFill>
                  <a:srgbClr val="990033"/>
                </a:solidFill>
                <a:latin typeface="Arial"/>
                <a:ea typeface="華康粗圓體"/>
              </a:rPr>
              <a:t>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C3E-07B6-470D-B336-D9994B8545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共讀的動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改善閱讀教學的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加強師生互動增進班級經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學習的情趣與成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A7A-C25A-490C-8453-FE7A2D2616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共讀的目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樂於閱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勤於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精於討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勇於發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8C2-CEFA-4C09-95EE-C0B9C48C68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共讀活動實施歷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書與募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評估需求、圖書分類、圖書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師增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閱讀指導研習、教師讀書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課程規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融入領域課程、規劃彈性課程、配合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校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0DD-9EE8-42D4-A9A5-7D0036A645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共讀活動實施歷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活動設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活動實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引導活動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引發閱讀動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主題活動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共讀與討論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延伸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靜態活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留言板、閱讀筆記、故事接寫、寫給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寫給書中人物、改編或創作故事、閱讀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動態活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角色扮演、心得發表、人物走秀、讀者劇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辯論、說故事、戲劇演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594-ECB2-4E85-B683-CD38E4F8F6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粗隸"/>
              </a:rPr>
              <a:t>國語文整體評量的建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降低成績考查命題評量占國語學期成績的比例，而相對提高各種口頭、書面發表等多元評量的比例，以逐漸導正考試即是語文評量的觀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205000"/>
            <a:ext cx="8820000" cy="30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多實施「實作評量」，以評定學生整體語文能力，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到真正評估的目的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213000"/>
            <a:ext cx="856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為顧及學生個別差異，可收集兒童日常作業、作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及各種學習成果資料，實施所謂</a:t>
            </a: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「檔案評量</a:t>
            </a: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華康粗圓體"/>
              </a:rPr>
              <a:t>」</a:t>
            </a: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，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藉此了解學生語文學習的進展與困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56200"/>
            <a:ext cx="849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因應九年一貫課程綱要實施側重基本能力的特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考慮實施「能力檢核」式的形成性評量，以有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促進學生主動自學能力的發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7708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3794"/>
                </a:moveTo>
                <a:lnTo>
                  <a:pt x="19522" y="10800"/>
                </a:lnTo>
                <a:lnTo>
                  <a:pt x="5509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71B-E460-4195-A382-041334F304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肆、結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文鼎粗隸"/>
                <a:ea typeface="文鼎粗隸"/>
              </a:rPr>
              <a:t>一、不是絕境，是生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文鼎粗隸"/>
                <a:ea typeface="文鼎粗隸"/>
              </a:rPr>
              <a:t>二、共同建構國語文教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  </a:t>
            </a:r>
            <a:r>
              <a:rPr b="0" lang="zh-TW" sz="54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理想環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77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5AD-722B-4A25-9D1C-34E0270BBA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大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壹、</a:t>
            </a:r>
            <a:r>
              <a:rPr b="0" lang="zh-TW" sz="48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  <a:hlinkClick r:id="rId2" action="ppaction://hlinksldjump"/>
              </a:rPr>
              <a:t>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貳、</a:t>
            </a:r>
            <a:r>
              <a:rPr b="0" lang="zh-TW" sz="48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  <a:hlinkClick r:id="rId3" action="ppaction://hlinksldjump"/>
              </a:rPr>
              <a:t>當前國語文教育的問題面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參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國語文教育的策進意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肆、</a:t>
            </a:r>
            <a:r>
              <a:rPr b="0" lang="zh-TW" sz="4800" spc="-1" strike="noStrike" u="sng">
                <a:solidFill>
                  <a:srgbClr val="cc3300"/>
                </a:solidFill>
                <a:uFillTx/>
                <a:latin typeface="標楷體"/>
                <a:ea typeface="標楷體"/>
                <a:hlinkClick r:id="rId4" action="ppaction://hlinksldjump"/>
              </a:rPr>
              <a:t>結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19A-9D12-43B3-AFE2-7B567020DB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壹、前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發現語文教育的「鵝卵石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6804000" y="4941720"/>
            <a:ext cx="1152720" cy="935280"/>
          </a:xfrm>
          <a:custGeom>
            <a:avLst/>
            <a:gdLst>
              <a:gd name="textAreaLeft" fmla="*/ 60480 w 1152720"/>
              <a:gd name="textAreaRight" fmla="*/ 1092240 w 115272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6620" h="21600">
                <a:moveTo>
                  <a:pt x="0" y="0"/>
                </a:moveTo>
                <a:lnTo>
                  <a:pt x="26620" y="0"/>
                </a:lnTo>
                <a:lnTo>
                  <a:pt x="26620" y="21600"/>
                </a:lnTo>
                <a:lnTo>
                  <a:pt x="0" y="21600"/>
                </a:lnTo>
                <a:close/>
              </a:path>
              <a:path fill="lightenLess" w="26620" h="21600">
                <a:moveTo>
                  <a:pt x="0" y="0"/>
                </a:moveTo>
                <a:lnTo>
                  <a:pt x="26620" y="0"/>
                </a:lnTo>
                <a:lnTo>
                  <a:pt x="25220" y="1400"/>
                </a:lnTo>
                <a:lnTo>
                  <a:pt x="1400" y="1400"/>
                </a:lnTo>
                <a:close/>
              </a:path>
              <a:path fill="darken" w="26620" h="21600">
                <a:moveTo>
                  <a:pt x="26620" y="0"/>
                </a:moveTo>
                <a:lnTo>
                  <a:pt x="26620" y="21600"/>
                </a:lnTo>
                <a:lnTo>
                  <a:pt x="25220" y="20200"/>
                </a:lnTo>
                <a:lnTo>
                  <a:pt x="25220" y="1400"/>
                </a:lnTo>
                <a:close/>
              </a:path>
              <a:path fill="darkenLess" w="26620" h="21600">
                <a:moveTo>
                  <a:pt x="2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20" y="20200"/>
                </a:lnTo>
                <a:close/>
              </a:path>
              <a:path fill="lighten" w="2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20" h="21600">
                <a:moveTo>
                  <a:pt x="6303" y="7493"/>
                </a:moveTo>
                <a:lnTo>
                  <a:pt x="9811" y="7493"/>
                </a:lnTo>
                <a:lnTo>
                  <a:pt x="9811" y="12828"/>
                </a:lnTo>
                <a:cubicBezTo>
                  <a:pt x="9811" y="13751"/>
                  <a:pt x="10612" y="14482"/>
                  <a:pt x="11647" y="14482"/>
                </a:cubicBezTo>
                <a:lnTo>
                  <a:pt x="13310" y="14482"/>
                </a:lnTo>
                <a:cubicBezTo>
                  <a:pt x="14346" y="14482"/>
                  <a:pt x="15146" y="13751"/>
                  <a:pt x="15146" y="12828"/>
                </a:cubicBezTo>
                <a:lnTo>
                  <a:pt x="15146" y="7493"/>
                </a:lnTo>
                <a:lnTo>
                  <a:pt x="13310" y="7493"/>
                </a:lnTo>
                <a:lnTo>
                  <a:pt x="16817" y="3985"/>
                </a:lnTo>
                <a:lnTo>
                  <a:pt x="20490" y="7493"/>
                </a:lnTo>
                <a:lnTo>
                  <a:pt x="18654" y="7493"/>
                </a:lnTo>
                <a:lnTo>
                  <a:pt x="18654" y="12828"/>
                </a:lnTo>
                <a:cubicBezTo>
                  <a:pt x="18654" y="15596"/>
                  <a:pt x="16078" y="18155"/>
                  <a:pt x="13310" y="18155"/>
                </a:cubicBezTo>
                <a:lnTo>
                  <a:pt x="11647" y="18155"/>
                </a:lnTo>
                <a:cubicBezTo>
                  <a:pt x="8880" y="18155"/>
                  <a:pt x="6303" y="15596"/>
                  <a:pt x="6303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BDF-F1AE-4E6E-8133-DE723D700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貳、當前國語文教育的問題面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、偏向教科書課文的認知，生活學習明顯不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教學重點多傾向字詞、語句基本語文能力練習，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       少進行篇章之文學、文化陶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教學過度強調記憶層次，忽略應用、批判思考層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教材、教學方式缺乏多元生動，兒童缺乏語文學習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6" action="ppaction://hlinksldjump"/>
              </a:rPr>
              <a:t>       趣降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五、教室語文學習的資源匱乏，兒童無法在真實情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進行語文學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六、教學評量側重紙筆測驗，多元而真實的評量方式仍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落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752472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88B-8749-4F0D-80B9-68EF24DD66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亞洲地區重要國家國小一年級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授課節數對照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600200"/>
          <a:ext cx="8640720" cy="3989520"/>
        </p:xfrm>
        <a:graphic>
          <a:graphicData uri="http://schemas.openxmlformats.org/drawingml/2006/table">
            <a:tbl>
              <a:tblPr/>
              <a:tblGrid>
                <a:gridCol w="950760"/>
                <a:gridCol w="2382840"/>
                <a:gridCol w="2641680"/>
                <a:gridCol w="2665440"/>
              </a:tblGrid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國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課總節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週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數學授課節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週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國語授課節數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週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香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加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臺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節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55640" y="6381720"/>
            <a:ext cx="6408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877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資料來源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/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臺北教育大學馮永敏教授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google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搜尋網站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國語日報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94.10.13(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四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教育版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華康粗圓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7493"/>
                </a:moveTo>
                <a:lnTo>
                  <a:pt x="10668" y="7493"/>
                </a:lnTo>
                <a:lnTo>
                  <a:pt x="10668" y="12828"/>
                </a:lnTo>
                <a:cubicBezTo>
                  <a:pt x="10668" y="13751"/>
                  <a:pt x="11468" y="14482"/>
                  <a:pt x="12504" y="14482"/>
                </a:cubicBezTo>
                <a:lnTo>
                  <a:pt x="14167" y="14482"/>
                </a:lnTo>
                <a:cubicBezTo>
                  <a:pt x="15202" y="14482"/>
                  <a:pt x="16003" y="13751"/>
                  <a:pt x="16003" y="12828"/>
                </a:cubicBezTo>
                <a:lnTo>
                  <a:pt x="16003" y="7493"/>
                </a:lnTo>
                <a:lnTo>
                  <a:pt x="14167" y="7493"/>
                </a:lnTo>
                <a:lnTo>
                  <a:pt x="17674" y="3985"/>
                </a:lnTo>
                <a:lnTo>
                  <a:pt x="21347" y="7493"/>
                </a:lnTo>
                <a:lnTo>
                  <a:pt x="19511" y="7493"/>
                </a:lnTo>
                <a:lnTo>
                  <a:pt x="19511" y="12828"/>
                </a:lnTo>
                <a:cubicBezTo>
                  <a:pt x="19511" y="15596"/>
                  <a:pt x="16934" y="18155"/>
                  <a:pt x="14167" y="18155"/>
                </a:cubicBezTo>
                <a:lnTo>
                  <a:pt x="12504" y="18155"/>
                </a:lnTo>
                <a:cubicBezTo>
                  <a:pt x="9736" y="18155"/>
                  <a:pt x="7160" y="15596"/>
                  <a:pt x="7160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D1F-35AF-4425-B0DF-35D66E763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國小高年級國語科定期成績考查</a:t>
            </a:r>
            <a:r>
              <a:rPr b="0" lang="zh-TW" sz="30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評量重點分布</a:t>
            </a:r>
            <a:r>
              <a:rPr b="0" lang="zh-TW" sz="30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統計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052640"/>
          <a:ext cx="8291520" cy="5332320"/>
        </p:xfrm>
        <a:graphic>
          <a:graphicData uri="http://schemas.openxmlformats.org/drawingml/2006/table">
            <a:tbl>
              <a:tblPr/>
              <a:tblGrid>
                <a:gridCol w="746280"/>
                <a:gridCol w="523800"/>
                <a:gridCol w="1046160"/>
                <a:gridCol w="1012680"/>
                <a:gridCol w="1073160"/>
                <a:gridCol w="1069920"/>
                <a:gridCol w="1074960"/>
                <a:gridCol w="928440"/>
                <a:gridCol w="8161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重點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次數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篇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1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.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7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1.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7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2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.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      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1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.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6804000" y="6381720"/>
            <a:ext cx="792360" cy="476280"/>
          </a:xfrm>
          <a:custGeom>
            <a:avLst/>
            <a:gdLst>
              <a:gd name="textAreaLeft" fmla="*/ 30600 w 792360"/>
              <a:gd name="textAreaRight" fmla="*/ 761760 w 792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24" h="21600">
                <a:moveTo>
                  <a:pt x="0" y="0"/>
                </a:moveTo>
                <a:lnTo>
                  <a:pt x="35924" y="0"/>
                </a:lnTo>
                <a:lnTo>
                  <a:pt x="35924" y="21600"/>
                </a:lnTo>
                <a:lnTo>
                  <a:pt x="0" y="21600"/>
                </a:lnTo>
                <a:close/>
              </a:path>
              <a:path fill="lightenLess" w="35924" h="21600">
                <a:moveTo>
                  <a:pt x="0" y="0"/>
                </a:moveTo>
                <a:lnTo>
                  <a:pt x="35924" y="0"/>
                </a:lnTo>
                <a:lnTo>
                  <a:pt x="34524" y="1400"/>
                </a:lnTo>
                <a:lnTo>
                  <a:pt x="1400" y="1400"/>
                </a:lnTo>
                <a:close/>
              </a:path>
              <a:path fill="darken" w="35924" h="21600">
                <a:moveTo>
                  <a:pt x="35924" y="0"/>
                </a:moveTo>
                <a:lnTo>
                  <a:pt x="35924" y="21600"/>
                </a:lnTo>
                <a:lnTo>
                  <a:pt x="34524" y="20200"/>
                </a:lnTo>
                <a:lnTo>
                  <a:pt x="34524" y="1400"/>
                </a:lnTo>
                <a:close/>
              </a:path>
              <a:path fill="darkenLess" w="35924" h="21600">
                <a:moveTo>
                  <a:pt x="3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4" y="20200"/>
                </a:lnTo>
                <a:close/>
              </a:path>
              <a:path fill="lighten" w="3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4" h="21600">
                <a:moveTo>
                  <a:pt x="10955" y="3794"/>
                </a:moveTo>
                <a:lnTo>
                  <a:pt x="24968" y="10800"/>
                </a:lnTo>
                <a:lnTo>
                  <a:pt x="10955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A48-6B22-48B1-8083-0BC3FB052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國小高年級國語科定期成績考查評量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層次</a:t>
            </a:r>
            <a:r>
              <a:rPr b="0" lang="zh-TW" sz="28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分布統計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197000"/>
          <a:ext cx="8229600" cy="5660640"/>
        </p:xfrm>
        <a:graphic>
          <a:graphicData uri="http://schemas.openxmlformats.org/drawingml/2006/table">
            <a:tbl>
              <a:tblPr/>
              <a:tblGrid>
                <a:gridCol w="839880"/>
                <a:gridCol w="839520"/>
                <a:gridCol w="1749600"/>
                <a:gridCol w="1397160"/>
                <a:gridCol w="1231920"/>
                <a:gridCol w="1234800"/>
                <a:gridCol w="93672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層次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月別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記  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理  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批判思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6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3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.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.7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.1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8.8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.5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9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9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.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.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8.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.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.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.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2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.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.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平      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8.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.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.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.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8712360" y="587700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3794"/>
                </a:moveTo>
                <a:lnTo>
                  <a:pt x="20987" y="10800"/>
                </a:lnTo>
                <a:lnTo>
                  <a:pt x="6974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2DB-67E2-4C39-A510-168F44AB7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國中老師教室活動分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268280"/>
          <a:ext cx="8229600" cy="4767480"/>
        </p:xfrm>
        <a:graphic>
          <a:graphicData uri="http://schemas.openxmlformats.org/drawingml/2006/table">
            <a:tbl>
              <a:tblPr/>
              <a:tblGrid>
                <a:gridCol w="3510000"/>
                <a:gridCol w="47196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活動內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比率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講    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考    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自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過場時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例行事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組活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秩序管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閒    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715720" y="62161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資料來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周祝英「國中日常教學活動之生態研究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2484360" y="6308640"/>
            <a:ext cx="935280" cy="549360"/>
          </a:xfrm>
          <a:custGeom>
            <a:avLst/>
            <a:gdLst>
              <a:gd name="textAreaLeft" fmla="*/ 35280 w 935280"/>
              <a:gd name="textAreaRight" fmla="*/ 900000 w 935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764" h="21600">
                <a:moveTo>
                  <a:pt x="0" y="0"/>
                </a:moveTo>
                <a:lnTo>
                  <a:pt x="36764" y="0"/>
                </a:lnTo>
                <a:lnTo>
                  <a:pt x="36764" y="21600"/>
                </a:lnTo>
                <a:lnTo>
                  <a:pt x="0" y="21600"/>
                </a:lnTo>
                <a:close/>
              </a:path>
              <a:path fill="lightenLess" w="36764" h="21600">
                <a:moveTo>
                  <a:pt x="0" y="0"/>
                </a:moveTo>
                <a:lnTo>
                  <a:pt x="36764" y="0"/>
                </a:lnTo>
                <a:lnTo>
                  <a:pt x="35364" y="1400"/>
                </a:lnTo>
                <a:lnTo>
                  <a:pt x="1400" y="1400"/>
                </a:lnTo>
                <a:close/>
              </a:path>
              <a:path fill="darken" w="36764" h="21600">
                <a:moveTo>
                  <a:pt x="36764" y="0"/>
                </a:moveTo>
                <a:lnTo>
                  <a:pt x="36764" y="21600"/>
                </a:lnTo>
                <a:lnTo>
                  <a:pt x="35364" y="20200"/>
                </a:lnTo>
                <a:lnTo>
                  <a:pt x="35364" y="1400"/>
                </a:lnTo>
                <a:close/>
              </a:path>
              <a:path fill="darkenLess" w="36764" h="21600">
                <a:moveTo>
                  <a:pt x="3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64" y="20200"/>
                </a:lnTo>
                <a:close/>
              </a:path>
              <a:path fill="lighten" w="3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64" h="21600">
                <a:moveTo>
                  <a:pt x="11375" y="3794"/>
                </a:moveTo>
                <a:lnTo>
                  <a:pt x="25388" y="10800"/>
                </a:lnTo>
                <a:lnTo>
                  <a:pt x="11375" y="17806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BFA-7F41-4478-ABD9-FBD5CE111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08:52Z</dcterms:created>
  <dc:creator>cgu</dc:creator>
  <dc:description/>
  <dc:language>en-US</dc:language>
  <cp:lastModifiedBy>csie</cp:lastModifiedBy>
  <dcterms:modified xsi:type="dcterms:W3CDTF">2010-04-06T03:56:23Z</dcterms:modified>
  <cp:revision>114</cp:revision>
  <dc:subject/>
  <dc:title>  第十二章、權利與福利                                                                                              陳麗如  初編</dc:title>
</cp:coreProperties>
</file>