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42F-91E9-42D3-81D2-C13E0B41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4B9-972A-4443-8493-2818F54D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B21C-DE62-41E0-8EE4-2295E7A1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D77-7D35-45FA-ABD8-4E1F46EC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B8AF-7C27-4304-A843-21B1BF86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1A31-DA31-4520-9137-69F7E2C0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ED8A-7775-4E61-B1E9-54DA73D9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8892-7743-4EC6-80CC-C2FF7F0B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9653-BF3F-49CD-9E70-B7004ADC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E26-A121-4397-BE4B-0740E2DC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0D0-656A-4D91-984E-7AE0ADE6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F43-886A-4147-993C-8DF453FC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3BE4-E414-445D-A8BD-CC18843408A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121104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9933ff"/>
                </a:solidFill>
                <a:latin typeface="標楷體"/>
                <a:ea typeface="標楷體"/>
              </a:rPr>
              <a:t>嘉義縣太保國小</a:t>
            </a:r>
            <a:br>
              <a:rPr sz="4000"/>
            </a:br>
            <a:r>
              <a:rPr b="0" lang="zh-TW" sz="4000" spc="-1" strike="noStrike">
                <a:solidFill>
                  <a:srgbClr val="9933ff"/>
                </a:solidFill>
                <a:latin typeface="標楷體"/>
                <a:ea typeface="標楷體"/>
              </a:rPr>
              <a:t>『</a:t>
            </a:r>
            <a:r>
              <a:rPr b="0" lang="zh-TW" sz="4000" spc="-1" strike="noStrike">
                <a:solidFill>
                  <a:srgbClr val="9933ff"/>
                </a:solidFill>
                <a:latin typeface="標楷體"/>
                <a:ea typeface="標楷體"/>
              </a:rPr>
              <a:t>99</a:t>
            </a:r>
            <a:r>
              <a:rPr b="0" lang="zh-TW" sz="4000" spc="-1" strike="noStrike">
                <a:solidFill>
                  <a:srgbClr val="9933ff"/>
                </a:solidFill>
                <a:latin typeface="標楷體"/>
                <a:ea typeface="標楷體"/>
              </a:rPr>
              <a:t>年度精進教學計畫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08280" y="4091040"/>
            <a:ext cx="392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1b36"/>
                </a:solidFill>
                <a:latin typeface="Arial"/>
                <a:ea typeface="王漢宗中行書繁"/>
              </a:rPr>
              <a:t>成果照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3360" y="1116000"/>
            <a:ext cx="6093000" cy="370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3360" y="5148360"/>
            <a:ext cx="6048360" cy="3527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52640" y="395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老師研習情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3360" y="971640"/>
            <a:ext cx="5975280" cy="367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0280" y="5003640"/>
            <a:ext cx="6121440" cy="370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52640" y="25092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老師研習情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3360" y="1187280"/>
            <a:ext cx="6165720" cy="3656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3360" y="5219640"/>
            <a:ext cx="6191280" cy="3697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52640" y="395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老師研習情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6280" y="44460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江連君校長上課情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3360" y="1116000"/>
            <a:ext cx="6192720" cy="37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3360" y="5148360"/>
            <a:ext cx="6191280" cy="3635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4640" y="1332000"/>
            <a:ext cx="6048720" cy="360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6280" y="5364000"/>
            <a:ext cx="5977080" cy="316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6280" y="44460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江連君校長上課情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80" y="4932360"/>
            <a:ext cx="5977080" cy="363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4640" y="1403280"/>
            <a:ext cx="6048720" cy="3311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6280" y="44460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林俊良校長上課情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0640" y="5219640"/>
            <a:ext cx="5904000" cy="341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0640" y="1187280"/>
            <a:ext cx="5850000" cy="3745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6280" y="44460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林俊良校長上課情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4640" y="1187280"/>
            <a:ext cx="6120000" cy="374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3360" y="5076720"/>
            <a:ext cx="6191280" cy="3584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13000" y="46836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蔡勝德老師上課情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3360" y="1042920"/>
            <a:ext cx="6191280" cy="360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4640" y="4859280"/>
            <a:ext cx="6093000" cy="3933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13000" y="25092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蔡勝德老師上課情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52640" y="395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老師研習情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3360" y="1042920"/>
            <a:ext cx="6192720" cy="3384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3360" y="4716360"/>
            <a:ext cx="6191280" cy="4103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52640" y="395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老師研習情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0280" y="1258920"/>
            <a:ext cx="6121440" cy="3168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3360" y="4932360"/>
            <a:ext cx="5975280" cy="3851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0:58:39Z</dcterms:created>
  <dc:creator>csie</dc:creator>
  <dc:description/>
  <dc:language>en-US</dc:language>
  <cp:lastModifiedBy>csie</cp:lastModifiedBy>
  <dcterms:modified xsi:type="dcterms:W3CDTF">2010-11-25T03:41:36Z</dcterms:modified>
  <cp:revision>5</cp:revision>
  <dc:subject/>
  <dc:title>嘉義縣『99年度偏遠國民中小學 推動閱讀實施計畫』</dc:title>
</cp:coreProperties>
</file>