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C81C-70E2-4FEF-B284-EA15B08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1349-6F46-49EF-807B-1F49C2B3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EAA4-244B-44E8-ADCC-9C6162F5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02CA-959C-42F2-859E-C7B3A65C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EB9E-6EA4-41A8-AC6B-CB0687EA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C65-EC94-4A59-A22D-2023294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15E-BC76-4577-9809-CDDD8138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B78-0415-4FB4-B27C-3F81CEF4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396F-7362-4EBD-8C4D-B170CA9F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491-FC09-4CE5-B203-4BBEC06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0D5D-887B-452A-B952-DD781F7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1150-2736-4832-AAC6-38D8223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8E24-F6BE-4BA2-AE0B-FD7711C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5BFC-458C-448D-9B81-1321DD3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9D1-FAFD-408E-936C-81F693C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B121-7791-4720-A976-FD3FF0C6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4A7A-29D9-4BEF-B0D5-EED22E31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BE38-2E0E-492A-8BFA-CBA5882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59D0-7400-4A7F-8A5D-2074511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B977-1271-40AE-A837-AB8BCDB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5E61-143B-4649-83E5-238BB3B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C244-D3E0-4F32-AAF7-308C50E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B537-6D6E-4D79-BE05-AB693DE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05AC-48A1-4505-AE44-B446D053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9AE5-B768-4167-8764-4153E50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5ADB-6095-4892-9DED-6A7C957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7244-CE07-434B-83CA-C3148F2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C018-3F39-4F7C-8752-A6AAB2A8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6E04-56FB-457E-9ED0-6ABC04BE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A5582-B11F-4917-B57A-B4EAC91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358B-1BAE-40AB-8B9F-9E992C63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0224-72E1-4C2D-986C-2C9A9D29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615E-FA8D-41AD-9659-BBD1EDE1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69D0-8BE2-437E-858E-6DE07D7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416B-3B69-4821-812B-25C5F24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23E2-D516-489B-B280-54AC020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DBBC7-42E1-4BB6-A13C-7F1EA23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9F4F-30BA-4CC3-A83C-738E684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9A18-D7B8-4B79-8915-686C916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4334-9FC0-4733-921C-A7B5360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BEA8-DBAE-4BD4-A293-7E9F86A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5552-FFDB-4FE8-8882-D9AC4D05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3FE3-D660-4C8B-AB08-7F841127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D062-2D64-4C78-8E97-E717826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B575-7E7A-430D-9897-D88B0891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D7DE-863A-4682-833D-5AE0B05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7F6F-BF3C-4762-BC8A-56DB2130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C999-5F12-4472-B6D5-064143B2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3D5E-A8B5-4B63-A748-FFFE0B9D1F5C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320F-145B-49AE-ACDA-091C60229481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B98-9D10-4FE5-A464-6D65DFC728E8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27E-57D2-4A21-B173-AE4D98B36FD8}" type="slidenum">
              <a:rPr b="0" lang="zh-TW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 rot="5400000">
            <a:off x="2339280" y="2277720"/>
            <a:ext cx="6264360" cy="237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粗隸"/>
              </a:rPr>
              <a:t>兒童詩賞析及</a:t>
            </a:r>
            <a:endParaRPr b="0" lang="en-US" sz="6000" spc="-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粗隸"/>
              <a:ea typeface="文鼎粗隸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粗隸"/>
              <a:ea typeface="文鼎粗隸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粗隸"/>
              <a:ea typeface="文鼎粗隸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文鼎粗隸"/>
              </a:rPr>
              <a:t>在語文教學的運用</a:t>
            </a:r>
            <a:endParaRPr b="0" lang="en-US" sz="6000" spc="-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文鼎粗隸"/>
              <a:ea typeface="文鼎粗隸"/>
            </a:endParaRPr>
          </a:p>
        </p:txBody>
      </p:sp>
      <p:sp>
        <p:nvSpPr>
          <p:cNvPr id="317" name=""/>
          <p:cNvSpPr txBox="1"/>
          <p:nvPr/>
        </p:nvSpPr>
        <p:spPr>
          <a:xfrm rot="5400000">
            <a:off x="-2773800" y="836640"/>
            <a:ext cx="972180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太保國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                      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標楷體"/>
              </a:rPr>
              <a:t>校長  江連君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標楷體"/>
              <a:ea typeface="標楷體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300360" y="-1108080"/>
            <a:ext cx="2057400" cy="73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衣架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台北縣碧華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         凃惠珍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60195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好傻的衣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一天到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穿著溼溼的衣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在外面納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生病了怎麼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國語日報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87640" y="-459000"/>
            <a:ext cx="201636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  </a:t>
            </a: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兩位怪先生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台北縣莒光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   官文惠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626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「乒」先生不喜歡把腳伸到右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「乓」先生不喜歡把腳伸到左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他們倆走起路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總是乒乒乓乓　　乒乒乓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「乒」先生就對「乓」先生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我們兩人合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於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就變成了勇敢的「兵」先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大雨第二期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93080" y="-531720"/>
            <a:ext cx="1738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</a:t>
            </a: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湖</a:t>
            </a:r>
            <a:br>
              <a:rPr sz="38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高雄市四維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　　　　　　　　　　　            馮馨醇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6769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湖是一個小畫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能畫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莊嚴的山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高大的樹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蔚藍的天空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漂浮的白雲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就是畫不出流浪的風兒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風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很生氣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就把湖畫的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弄得皺皺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兒童日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360" y="-1108080"/>
            <a:ext cx="21607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Tahoma"/>
                <a:ea typeface="標楷體"/>
              </a:rPr>
              <a:t>湖</a:t>
            </a:r>
            <a:br>
              <a:rPr sz="5400"/>
            </a:br>
            <a:r>
              <a:rPr b="0" lang="zh-TW" sz="46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</a:t>
            </a:r>
            <a:r>
              <a:rPr b="0" lang="zh-TW" sz="2800" spc="-1" strike="noStrike">
                <a:solidFill>
                  <a:srgbClr val="ffffcc"/>
                </a:solidFill>
                <a:latin typeface="Tahoma"/>
                <a:ea typeface="標楷體"/>
              </a:rPr>
              <a:t>│台北縣碧華國小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高小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906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湖是個仁慈的老人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風兒用手撩他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雨兒用水潑他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他都不生氣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反而仰著臉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笑得更深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32360" y="62064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 </a:t>
            </a: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兒童詩的形式與內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60199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兒童詩是給小朋友讀的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兒童詩要分行寫，內容要力求精簡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兒童詩的文字讀起來要很順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兒童詩要表現美麗的想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兒童詩要寫出動人的情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308360" y="549360"/>
            <a:ext cx="1552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cc"/>
                </a:solidFill>
                <a:latin typeface="Tahoma"/>
                <a:ea typeface="標楷體"/>
              </a:rPr>
              <a:t>兒童詩的寫法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549360"/>
            <a:ext cx="6192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擬人法｜</a:t>
            </a:r>
            <a:r>
              <a:rPr b="0" lang="zh-TW" sz="36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天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以人擬物法｜</a:t>
            </a:r>
            <a:r>
              <a:rPr b="0" lang="zh-TW" sz="36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姊姊的笑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譬喻法｜</a:t>
            </a:r>
            <a:r>
              <a:rPr b="0" lang="zh-TW" sz="36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社會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仿聲法｜</a:t>
            </a:r>
            <a:r>
              <a:rPr b="0" lang="zh-TW" sz="3600" spc="-1" strike="noStrike" u="sng">
                <a:solidFill>
                  <a:srgbClr val="ebf25a"/>
                </a:solidFill>
                <a:uFillTx/>
                <a:latin typeface="Tahoma"/>
                <a:hlinkClick r:id="rId4" action="ppaction://hlinksldjump"/>
              </a:rPr>
              <a:t>火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重複法｜</a:t>
            </a:r>
            <a:r>
              <a:rPr b="0" lang="zh-TW" sz="3600" spc="-1" strike="noStrike" u="sng">
                <a:solidFill>
                  <a:srgbClr val="ebf25a"/>
                </a:solidFill>
                <a:uFillTx/>
                <a:latin typeface="Tahoma"/>
                <a:hlinkClick r:id="rId5" action="ppaction://hlinksldjump"/>
              </a:rPr>
              <a:t>秋天的腳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>
            <a:hlinkClick r:id="rId6" action="ppaction://hlinksldjump"/>
          </p:cNvPr>
          <p:cNvSpPr/>
          <p:nvPr/>
        </p:nvSpPr>
        <p:spPr>
          <a:xfrm>
            <a:off x="25092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77080" y="-1035360"/>
            <a:ext cx="1906560" cy="72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天空</a:t>
            </a:r>
            <a:br>
              <a:rPr sz="38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台中縣瑞峰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          徐怡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613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今天的天空做了很多棉花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大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就把各式各樣的棉花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排在透明的大玻璃　窗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等著顧客來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直到了傍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才放下厚厚的鐵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打烊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小龍兒第五輯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8028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4" y="14482"/>
                </a:cubicBezTo>
                <a:lnTo>
                  <a:pt x="10807" y="14482"/>
                </a:lnTo>
                <a:cubicBezTo>
                  <a:pt x="11842" y="14482"/>
                  <a:pt x="12643" y="13751"/>
                  <a:pt x="12643" y="12828"/>
                </a:cubicBezTo>
                <a:lnTo>
                  <a:pt x="12643" y="7493"/>
                </a:lnTo>
                <a:lnTo>
                  <a:pt x="10807" y="7493"/>
                </a:lnTo>
                <a:lnTo>
                  <a:pt x="14314" y="3985"/>
                </a:lnTo>
                <a:lnTo>
                  <a:pt x="17987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4" y="18155"/>
                </a:lnTo>
                <a:cubicBezTo>
                  <a:pt x="6377" y="18155"/>
                  <a:pt x="3800" y="15596"/>
                  <a:pt x="3800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7640" y="-171360"/>
            <a:ext cx="2159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cc"/>
                </a:solidFill>
                <a:latin typeface="Tahoma"/>
                <a:ea typeface="標楷體"/>
              </a:rPr>
              <a:t>姊姊的笑容</a:t>
            </a:r>
            <a:br>
              <a:rPr sz="40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屏東縣東港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許秀瑩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5699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一朵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二朵花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三朵花﹕﹕﹕﹕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一齊開在姊姊的臉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風箏特刊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028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4" y="14482"/>
                </a:cubicBezTo>
                <a:lnTo>
                  <a:pt x="10807" y="14482"/>
                </a:lnTo>
                <a:cubicBezTo>
                  <a:pt x="11842" y="14482"/>
                  <a:pt x="12643" y="13751"/>
                  <a:pt x="12643" y="12828"/>
                </a:cubicBezTo>
                <a:lnTo>
                  <a:pt x="12643" y="7493"/>
                </a:lnTo>
                <a:lnTo>
                  <a:pt x="10807" y="7493"/>
                </a:lnTo>
                <a:lnTo>
                  <a:pt x="14314" y="3985"/>
                </a:lnTo>
                <a:lnTo>
                  <a:pt x="17987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4" y="18155"/>
                </a:lnTo>
                <a:cubicBezTo>
                  <a:pt x="6377" y="18155"/>
                  <a:pt x="3800" y="15596"/>
                  <a:pt x="3800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43280" y="-1035000"/>
            <a:ext cx="2158920" cy="72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社會課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</a:t>
            </a:r>
            <a:r>
              <a:rPr b="0" lang="zh-TW" sz="2800" spc="-1" strike="noStrike">
                <a:solidFill>
                  <a:srgbClr val="ffffcc"/>
                </a:solidFill>
                <a:latin typeface="Tahoma"/>
                <a:ea typeface="標楷體"/>
              </a:rPr>
              <a:t>│新竹市東門國小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鄭宏權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6265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社會課像一場戰爭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老師的問題像炸彈一樣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到處爆炸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炸死了不少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當老師快炸到我時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我有了防備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立刻答出問題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而老師的炸彈就立刻失效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培根兒童文學第九期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810108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32720" y="-819360"/>
            <a:ext cx="194472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火車</a:t>
            </a:r>
            <a:br>
              <a:rPr sz="44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台北縣碧華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         葉倫伶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768240"/>
            <a:ext cx="647712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站長揮著紅旗子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火車看見了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生氣的往前直衝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嘴裡還叫著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標楷體"/>
              </a:rPr>
              <a:t>「去搶！去搶！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碧華兒童第三期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江連君校長與童詩教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7885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指導學生出版「童年</a:t>
            </a:r>
            <a:r>
              <a:rPr b="0" lang="zh-TW" sz="2800" spc="-1" strike="noStrike">
                <a:solidFill>
                  <a:srgbClr val="2f1311"/>
                </a:solidFill>
                <a:latin typeface="Wingdings 2"/>
                <a:ea typeface="Wingdings 2"/>
              </a:rPr>
              <a:t></a:t>
            </a: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童心</a:t>
            </a:r>
            <a:r>
              <a:rPr b="0" lang="zh-TW" sz="2800" spc="-1" strike="noStrike">
                <a:solidFill>
                  <a:srgbClr val="2f1311"/>
                </a:solidFill>
                <a:latin typeface="Wingdings 2"/>
                <a:ea typeface="Wingdings 2"/>
              </a:rPr>
              <a:t></a:t>
            </a: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童趣」童詩作品輯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f010b"/>
                </a:solidFill>
                <a:latin typeface="Arial"/>
              </a:rPr>
              <a:t>指導學生出版「小龍兒」童詩作品輯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f010b"/>
                </a:solidFill>
                <a:latin typeface="Arial"/>
              </a:rPr>
              <a:t>於兒童日報</a:t>
            </a: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「童詩舞臺」發表童詩作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榮獲第十屆柔蘭文學童詩組第一名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出版「開啟童詩的鑰匙」榮獲教育部教學研究著作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出版「童詩桃花源」童詩作品輯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發表「由童詩發展省思童 詩教學」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彙集發表的</a:t>
            </a: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63</a:t>
            </a: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首童詩成童詩創作作品選輯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秋天的腳步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江連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63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秋天的腳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輕輕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在田野間來回的徘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秋天的腳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細細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在花叢裏獨自的玩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秋天的腳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柔柔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在山林中低聲的吟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標楷體"/>
              </a:rPr>
              <a:t>接下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60195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秋天的腳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儘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輕輕  細細  柔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卻扯破了大榕樹的綠絨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褪下了玫瑰花的紅衣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還不小心灌醉了楓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讓他火紅著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嚇跑夏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吵醒冬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02800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4" y="14482"/>
                </a:cubicBezTo>
                <a:lnTo>
                  <a:pt x="10807" y="14482"/>
                </a:lnTo>
                <a:cubicBezTo>
                  <a:pt x="11842" y="14482"/>
                  <a:pt x="12643" y="13751"/>
                  <a:pt x="12643" y="12828"/>
                </a:cubicBezTo>
                <a:lnTo>
                  <a:pt x="12643" y="7493"/>
                </a:lnTo>
                <a:lnTo>
                  <a:pt x="10807" y="7493"/>
                </a:lnTo>
                <a:lnTo>
                  <a:pt x="14314" y="3985"/>
                </a:lnTo>
                <a:lnTo>
                  <a:pt x="17987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4" y="18155"/>
                </a:lnTo>
                <a:cubicBezTo>
                  <a:pt x="6377" y="18155"/>
                  <a:pt x="3800" y="15596"/>
                  <a:pt x="3800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3280" y="259920"/>
            <a:ext cx="211932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兒童詩的寫作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6019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從生活中取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特別而美麗的想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欣賞和練習﹝發表﹞同樣重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要創作少模仿不抄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童詩的教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3280" y="277920"/>
            <a:ext cx="507384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欣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方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</a:rPr>
              <a:t>取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童詩的教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相關的語文活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看圖說故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猜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聯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腦力激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童詩的教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三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習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命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引導思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習作時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童詩的教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作品評閱與輔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創作、模仿、抄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文字刪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評語批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等第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分數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評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cc"/>
                </a:solidFill>
                <a:latin typeface="Tahoma"/>
              </a:rPr>
              <a:t>童詩的教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發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在班級公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參加比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</a:rPr>
              <a:t>投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916000" y="260280"/>
            <a:ext cx="4733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讀詩、寫詩的孩子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　認真生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在生命中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　有更多的感動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　　和思考想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 rot="5400000">
            <a:off x="-504360" y="281700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謝謝聆聽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7280" y="-1467000"/>
            <a:ext cx="2819160" cy="76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標楷體"/>
                <a:ea typeface="標楷體"/>
              </a:rPr>
              <a:t>春風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標楷體"/>
                <a:ea typeface="標楷體"/>
              </a:rPr>
              <a:t>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│中壢新明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                             曾錦山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695160"/>
            <a:ext cx="404352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春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叫花兒張開嘴來唱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月光光第二集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629040" y="694800"/>
            <a:ext cx="2057400" cy="55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超級的天生藝術家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      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江連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60199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有我偷偷的發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其實你是個天生的畫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美麗的水花和漣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可栩栩如生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有我偷偷的發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其實你是個天生的舞蹈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華爾滋、狄斯可和吉魯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樣樣都能精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ahoma"/>
                <a:ea typeface="標楷體"/>
              </a:rPr>
              <a:t>接下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777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有我偷偷的發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其實你是個天生的音樂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低迴悲傷的、激昂豪邁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節奏那麼的分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雨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當別人撐著傘穿著雨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到處躲避你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你知道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有我坐在窗臺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靜靜的看著、聽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才偷偷的發現你這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超級的天生藝術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兒童日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6000" y="115920"/>
            <a:ext cx="158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傘</a:t>
            </a:r>
            <a:br>
              <a:rPr sz="38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　　　　　　  　 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張賢坤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7380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　　雨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　下著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低著頭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趕快回家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書包淋溼了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衣服也不暖和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突然一把傘在面前閃亮著光輝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那是媽媽的傘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我擡起頭來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雨已停了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感激地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　喊著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　　　　　　　媽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兒童文學創作六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43640" y="188640"/>
            <a:ext cx="168768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　　 </a:t>
            </a: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百葉窗</a:t>
            </a:r>
            <a:br>
              <a:rPr sz="3800"/>
            </a:br>
            <a:r>
              <a:rPr b="0" lang="zh-TW" sz="3800" spc="-1" strike="noStrike">
                <a:solidFill>
                  <a:srgbClr val="ffffcc"/>
                </a:solidFill>
                <a:latin typeface="Tahoma"/>
                <a:ea typeface="標楷體"/>
              </a:rPr>
              <a:t>　　　　　     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苗栗縣海寶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　　　　　　　　　          杜榮琛老師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6019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把奇特的鋸子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只要媽媽溫柔的手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輕又輕的一拉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刷│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陽光就被割成一片片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像透明的玻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整齊的排放在地板上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童詩五家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020000" y="259920"/>
            <a:ext cx="1914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香皂也累了</a:t>
            </a:r>
            <a:br>
              <a:rPr sz="4400"/>
            </a:br>
            <a:r>
              <a:rPr b="0" lang="zh-TW" sz="4200" spc="-1" strike="noStrike">
                <a:solidFill>
                  <a:srgbClr val="ffffcc"/>
                </a:solidFill>
                <a:latin typeface="Tahoma"/>
                <a:ea typeface="標楷體"/>
              </a:rPr>
              <a:t>　　　　　　　　 </a:t>
            </a:r>
            <a:r>
              <a:rPr b="0" lang="zh-TW" sz="2400" spc="-1" strike="noStrike">
                <a:solidFill>
                  <a:srgbClr val="ffffcc"/>
                </a:solidFill>
                <a:latin typeface="Tahoma"/>
                <a:ea typeface="標楷體"/>
              </a:rPr>
              <a:t>│江連君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056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上沖又下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左搓再右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主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洗過了舒服的熱水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坐在搖椅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輕鬆一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香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也洗過舒服的熱水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躺在香皂盒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睡著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│</a:t>
            </a:r>
            <a:r>
              <a:rPr b="0" lang="zh-TW" sz="2800" spc="-1" strike="noStrike">
                <a:solidFill>
                  <a:srgbClr val="ffffff"/>
                </a:solidFill>
                <a:latin typeface="2of5(Industrial) [RPDL BARCODE]"/>
                <a:ea typeface="標楷體"/>
              </a:rPr>
              <a:t>選自兒童日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16360" y="-1179720"/>
            <a:ext cx="20574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標楷體"/>
                <a:ea typeface="標楷體"/>
              </a:rPr>
              <a:t>海浪</a:t>
            </a:r>
            <a:r>
              <a:rPr b="0" lang="zh-TW" sz="4200" spc="-1" strike="noStrike">
                <a:solidFill>
                  <a:srgbClr val="ffffcc"/>
                </a:solidFill>
                <a:latin typeface="標楷體"/>
                <a:ea typeface="標楷體"/>
              </a:rPr>
              <a:t>                        </a:t>
            </a:r>
            <a:br>
              <a:rPr sz="4200"/>
            </a:br>
            <a:r>
              <a:rPr b="0" lang="zh-TW" sz="4200" spc="-1" strike="noStrike">
                <a:solidFill>
                  <a:srgbClr val="ffffcc"/>
                </a:solidFill>
                <a:latin typeface="標楷體"/>
                <a:ea typeface="標楷體"/>
              </a:rPr>
              <a:t>                 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│苗栗縣海寶國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                       張信義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6481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座座的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會走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會搖動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座座的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站不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會倒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座座的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不小心的倒塌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跌成白白的碎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選自﹝海浪的聲音﹞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3:03:50Z</dcterms:created>
  <dc:creator>MHES</dc:creator>
  <dc:description/>
  <dc:language>en-US</dc:language>
  <cp:lastModifiedBy>csie</cp:lastModifiedBy>
  <dcterms:modified xsi:type="dcterms:W3CDTF">2010-04-19T02:20:33Z</dcterms:modified>
  <cp:revision>31</cp:revision>
  <dc:subject/>
  <dc:title>春        風           中壢新明國小  曾錦山</dc:title>
</cp:coreProperties>
</file>