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0746"/>
                </a:solidFill>
                <a:latin typeface="Gill Sans MT"/>
              </a:rPr>
              <a:t>Click to move the slide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0908-4738-4EED-B774-B3C456AB8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8079-E65F-4374-945C-06D8AB6F6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AC9-585D-430F-8453-74FF0496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1D6E-9163-4577-9E26-C6E7E278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4D3-58B4-4FF6-A44E-EBA1F5F8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C2F7-73A5-4395-8D3D-AE89A55C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C259-5CD8-460D-8F3F-786F5107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A483-7718-48F8-A224-441C7861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51FF-7EEA-4412-9FD5-E42FEFD8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1C72-9596-47E1-8B5F-F3348570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14E2-705F-476D-A46D-452716C7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0BD2-872D-4AB4-8AB5-3F69F7E9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90BB-8E69-4341-BC9E-3B859F52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14E-59E1-4662-93FF-36E55BF1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52DF-7C95-4927-B781-2FC57AB2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1C75-4BFC-42F0-8568-1ADABB89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F951-D0C3-4597-B600-1542976E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3345-0207-4049-982E-C541A15A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1DD0-9C6A-4C83-AF15-6437AE64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FA7-DE8A-4262-B447-1D12157B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9A5B-A381-4AF4-8EF3-9663F2D2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4F6A-B810-4278-A278-A3E1C562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3FDA-7A54-4579-AF81-8E7E65C5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50D-6049-4336-8D7C-CE55D6E1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65EF-B211-4A96-AD56-2E35D8C1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2B14-D158-463F-91C0-B68C3EC5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0746"/>
                </a:solidFill>
                <a:latin typeface="Gill Sans MT"/>
              </a:rPr>
              <a:t>Click to edit the title text format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entau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entau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a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01AD-5576-46EE-8ED6-01AC5AB3FA7B}" type="slidenum">
              <a:rPr b="0" lang="en-US" sz="1200" spc="-1" strike="noStrike">
                <a:solidFill>
                  <a:srgbClr val="898989"/>
                </a:solidFill>
                <a:latin typeface="Centa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0746"/>
                </a:solidFill>
                <a:latin typeface="Gill Sans MT"/>
              </a:rPr>
              <a:t>Click to edit the title text format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4f1919"/>
                </a:solidFill>
                <a:latin typeface="Centau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f1919"/>
                </a:solidFill>
                <a:latin typeface="Centau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1919"/>
                </a:solidFill>
                <a:latin typeface="Centa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3F93-62D4-4B4A-BDA4-2E3219703CD8}" type="slidenum">
              <a:rPr b="0" lang="en-US" sz="1200" spc="-1" strike="noStrike">
                <a:solidFill>
                  <a:srgbClr val="4f1919"/>
                </a:solidFill>
                <a:latin typeface="Centa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1699920"/>
            <a:ext cx="7846920" cy="20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課程教學實務分享</a:t>
            </a:r>
            <a:endParaRPr b="1" lang="en-US" sz="60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4365720"/>
            <a:ext cx="680076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永慶高中教務主任  陳美秀</a:t>
            </a:r>
            <a:endParaRPr b="1" lang="en-US" sz="40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教學管理</a:t>
            </a:r>
            <a:r>
              <a:rPr b="1" lang="en-US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(</a:t>
            </a:r>
            <a:r>
              <a:rPr b="1" lang="zh-TW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四</a:t>
            </a:r>
            <a:r>
              <a:rPr b="1" lang="en-US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)</a:t>
            </a:r>
            <a:endParaRPr b="1" lang="en-US" sz="46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4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堅持原則，展現教學的專業權威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5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教學正常化：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(1)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依課表授課，教學請務必正常化，請勿於上課時間讓學生進行與教學內容無關之活動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(2)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影片教學需與課程相關，請配合教學內容及進度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(3)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第八節及週六輔導課不宜用影片方式教學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(4)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勿私下調課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教學管理</a:t>
            </a:r>
            <a:r>
              <a:rPr b="1" lang="en-US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(</a:t>
            </a:r>
            <a:r>
              <a:rPr b="1" lang="zh-TW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五</a:t>
            </a:r>
            <a:r>
              <a:rPr b="1" lang="en-US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)</a:t>
            </a:r>
            <a:endParaRPr b="1" lang="en-US" sz="46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6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時時檢討自己的進度和教法，使更為精進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7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注重形成性評量（小考），讓學生養成複習的好習慣。用自己上課時間或與導師協調，排入早自習考試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8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能追蹤學生的學習狀況，給予私下要求、指導、補考等措施，也要多與導師聯繫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9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對於特殊違規份子，要即時處理，必要時通報導師，以防問題加重或其他人起而效尤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10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有機會多參加比賽，展示自己的實力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4a452a"/>
                </a:solidFill>
                <a:latin typeface="Gill Sans MT"/>
                <a:ea typeface="文鼎粗行楷"/>
              </a:rPr>
              <a:t>提升學生的學習視野與競爭力</a:t>
            </a:r>
            <a:endParaRPr b="1" lang="en-US" sz="5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4a452a"/>
                </a:solidFill>
                <a:latin typeface="Gill Sans MT"/>
                <a:ea typeface="文鼎粗行楷"/>
              </a:rPr>
              <a:t>不同的老師，</a:t>
            </a:r>
            <a:endParaRPr b="1" lang="en-US" sz="50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4a452a"/>
                </a:solidFill>
                <a:latin typeface="Gill Sans MT"/>
                <a:ea typeface="文鼎粗行楷"/>
              </a:rPr>
              <a:t>把孩子帶到不同的地方去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高國中大不同</a:t>
            </a:r>
            <a:r>
              <a:rPr b="1" lang="en-US" sz="44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(</a:t>
            </a:r>
            <a:r>
              <a:rPr b="1" lang="zh-TW" sz="44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一</a:t>
            </a:r>
            <a:r>
              <a:rPr b="1" lang="en-US" sz="44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)</a:t>
            </a:r>
            <a:r>
              <a:rPr b="1" lang="en-US" sz="4400" spc="-1" strike="noStrike">
                <a:solidFill>
                  <a:srgbClr val="e30746"/>
                </a:solidFill>
                <a:latin typeface="Gill Sans MT"/>
              </a:rPr>
              <a:t> 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一、課程規劃不同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      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(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一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)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高中：高一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99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課綱、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             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高一體育班課綱、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             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高二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95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暫綱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      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(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二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)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國中：依「九年一貫課程綱要」實施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高國中大不同</a:t>
            </a:r>
            <a:r>
              <a:rPr b="1" lang="en-US" sz="44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(</a:t>
            </a:r>
            <a:r>
              <a:rPr b="1" lang="zh-TW" sz="44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二</a:t>
            </a:r>
            <a:r>
              <a:rPr b="1" lang="en-US" sz="44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)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二、成績評量及成績計算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     </a:t>
            </a: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(</a:t>
            </a: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一</a:t>
            </a: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)</a:t>
            </a: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高中成績考查作業要點：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           </a:t>
            </a: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1.</a:t>
            </a: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畢業條件：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              </a:t>
            </a: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(1)</a:t>
            </a: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每學年學業總平均成績及格</a:t>
            </a: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(</a:t>
            </a: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三個學年都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                   </a:t>
            </a: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要及格</a:t>
            </a: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)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              </a:t>
            </a: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(2)</a:t>
            </a: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學科累計學分數達</a:t>
            </a: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160</a:t>
            </a: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學分以上：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                   </a:t>
            </a: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必修</a:t>
            </a: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120</a:t>
            </a: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學分，選修</a:t>
            </a: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40</a:t>
            </a: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學分。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              </a:t>
            </a: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(3)</a:t>
            </a: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德行評量之獎懲紀錄相抵後未滿三大過者。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           </a:t>
            </a: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2.</a:t>
            </a: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體育班成績：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              </a:t>
            </a: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(1)</a:t>
            </a: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一、二年級及格分數：</a:t>
            </a: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40</a:t>
            </a: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分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              </a:t>
            </a: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(2)</a:t>
            </a: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三年級及格分數：</a:t>
            </a:r>
            <a:r>
              <a:rPr b="1" lang="en-US" sz="2800" spc="-1" strike="noStrike">
                <a:solidFill>
                  <a:srgbClr val="4a452a"/>
                </a:solidFill>
                <a:latin typeface="Gill Sans MT"/>
              </a:rPr>
              <a:t>50</a:t>
            </a:r>
            <a:r>
              <a:rPr b="1" lang="zh-TW" sz="2800" spc="-1" strike="noStrike">
                <a:solidFill>
                  <a:srgbClr val="4a452a"/>
                </a:solidFill>
                <a:latin typeface="Gill Sans MT"/>
              </a:rPr>
              <a:t>分</a:t>
            </a:r>
            <a:endParaRPr b="1" lang="en-US" sz="28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高國中大不同</a:t>
            </a:r>
            <a:r>
              <a:rPr b="1" lang="en-US" sz="44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(</a:t>
            </a:r>
            <a:r>
              <a:rPr b="1" lang="zh-TW" sz="44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二</a:t>
            </a:r>
            <a:r>
              <a:rPr b="1" lang="en-US" sz="44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)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(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二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)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國中成績評量作業要點：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         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1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因應免試升學的政策，學生在校成績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  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的公平性是很重要的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         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2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教師上網登錄後，會另印製成績單讓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  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教師確認簽名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         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3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教師評量的比例分配，如紙筆測驗、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  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情意態度及技能等。若家長質疑成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  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績，此可以禁得起家長檢驗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學校重要學習活動</a:t>
            </a:r>
            <a:r>
              <a:rPr b="1" lang="zh-TW" sz="4400" spc="-1" strike="noStrike">
                <a:solidFill>
                  <a:srgbClr val="e30746"/>
                </a:solidFill>
                <a:latin typeface="Gill Sans MT"/>
              </a:rPr>
              <a:t> </a:t>
            </a:r>
            <a:r>
              <a:rPr b="1" lang="en-US" sz="4400" spc="-1" strike="noStrike">
                <a:solidFill>
                  <a:srgbClr val="e30746"/>
                </a:solidFill>
                <a:latin typeface="Gill Sans MT"/>
              </a:rPr>
              <a:t>(</a:t>
            </a:r>
            <a:r>
              <a:rPr b="1" lang="zh-TW" sz="4400" spc="-1" strike="noStrike">
                <a:solidFill>
                  <a:srgbClr val="e30746"/>
                </a:solidFill>
                <a:latin typeface="Gill Sans MT"/>
              </a:rPr>
              <a:t>一</a:t>
            </a:r>
            <a:r>
              <a:rPr b="1" lang="en-US" sz="4400" spc="-1" strike="noStrike">
                <a:solidFill>
                  <a:srgbClr val="e30746"/>
                </a:solidFill>
                <a:latin typeface="Gill Sans MT"/>
              </a:rPr>
              <a:t>)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(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一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)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閱讀寫作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         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1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好讀週報實施：國二每一班，每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  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星期均有一份好讀週報，讓老師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  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利用此推展閱讀活動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2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活動或比賽：以提升學生閱讀、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   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寫作能力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學校重要學習活動</a:t>
            </a:r>
            <a:r>
              <a:rPr b="1" lang="zh-TW" sz="4400" spc="-1" strike="noStrike">
                <a:solidFill>
                  <a:srgbClr val="e30746"/>
                </a:solidFill>
                <a:latin typeface="Gill Sans MT"/>
              </a:rPr>
              <a:t> </a:t>
            </a:r>
            <a:r>
              <a:rPr b="1" lang="en-US" sz="4400" spc="-1" strike="noStrike">
                <a:solidFill>
                  <a:srgbClr val="e30746"/>
                </a:solidFill>
                <a:latin typeface="Gill Sans MT"/>
              </a:rPr>
              <a:t>(</a:t>
            </a:r>
            <a:r>
              <a:rPr b="1" lang="zh-TW" sz="4400" spc="-1" strike="noStrike">
                <a:solidFill>
                  <a:srgbClr val="e30746"/>
                </a:solidFill>
                <a:latin typeface="Gill Sans MT"/>
              </a:rPr>
              <a:t>二</a:t>
            </a:r>
            <a:r>
              <a:rPr b="1" lang="en-US" sz="4400" spc="-1" strike="noStrike">
                <a:solidFill>
                  <a:srgbClr val="e30746"/>
                </a:solidFill>
                <a:latin typeface="Gill Sans MT"/>
              </a:rPr>
              <a:t>)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(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二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)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英語能力增強：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1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英文單字測驗：每次段考後一週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2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鼓勵同學參加全民英檢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        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3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其他競賽活動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教學管理</a:t>
            </a:r>
            <a:r>
              <a:rPr b="1" lang="en-US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(</a:t>
            </a:r>
            <a:r>
              <a:rPr b="1" lang="zh-TW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一</a:t>
            </a:r>
            <a:r>
              <a:rPr b="1" lang="en-US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)</a:t>
            </a:r>
            <a:r>
              <a:rPr b="1" lang="en-US" sz="4400" spc="-1" strike="noStrike">
                <a:solidFill>
                  <a:srgbClr val="e30746"/>
                </a:solidFill>
                <a:latin typeface="Gill Sans MT"/>
              </a:rPr>
              <a:t> </a:t>
            </a:r>
            <a:endParaRPr b="1" lang="en-US" sz="44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(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一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)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身為導師的學生學習管理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1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剛開始好好帶班很重要，關係到學生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  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行為、班級氣氛、班風、班級成績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…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  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等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         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2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多主動與家長聯繫班上孩子在校和在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  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家的學習狀況 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         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3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主動詢問任課老師是否需要安排複習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  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考。或自行安排各科複習小考，讓學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  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生養成平常多複習的習慣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教學管理</a:t>
            </a:r>
            <a:r>
              <a:rPr b="1" lang="en-US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(</a:t>
            </a:r>
            <a:r>
              <a:rPr b="1" lang="zh-TW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二</a:t>
            </a:r>
            <a:r>
              <a:rPr b="1" lang="en-US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)</a:t>
            </a:r>
            <a:endParaRPr b="1" lang="en-US" sz="46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4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製作成績單給家長簽名。一方面警惕學生，使其了解學習情況，家長也能感受到導師的用心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5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多與任課老師聯繫了解孩子的上課狀況，空堂時，也可以至教室多走動觀察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6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有時間多與家長聯繫，家長將會感激，孩子也會更好帶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教學管理</a:t>
            </a:r>
            <a:r>
              <a:rPr b="1" lang="en-US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(</a:t>
            </a:r>
            <a:r>
              <a:rPr b="1" lang="zh-TW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三</a:t>
            </a:r>
            <a:r>
              <a:rPr b="1" lang="en-US" sz="4600" spc="-1" strike="noStrike">
                <a:solidFill>
                  <a:srgbClr val="e30746"/>
                </a:solidFill>
                <a:latin typeface="Gill Sans MT"/>
                <a:ea typeface="華康魏碑體"/>
              </a:rPr>
              <a:t>)</a:t>
            </a:r>
            <a:endParaRPr b="1" lang="en-US" sz="4600" spc="-1" strike="noStrike">
              <a:solidFill>
                <a:srgbClr val="e30746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(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二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)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身為任課教師的教學管理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         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1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做好備課的工作（包含教材的熟悉、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  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教法的精準、學生的了解、評量的準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  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備等）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         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2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不遲到，不早退，盡自己的義務與維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  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護學生的權益。 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         </a:t>
            </a:r>
            <a:r>
              <a:rPr b="1" lang="en-US" sz="3200" spc="-1" strike="noStrike">
                <a:solidFill>
                  <a:srgbClr val="4a452a"/>
                </a:solidFill>
                <a:latin typeface="Gill Sans MT"/>
              </a:rPr>
              <a:t>3.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上課秩序必須加強，因為沒有秩序就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  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沒有學習。一開始即建立上課常規，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            </a:t>
            </a:r>
            <a:r>
              <a:rPr b="1" lang="zh-TW" sz="3200" spc="-1" strike="noStrike">
                <a:solidFill>
                  <a:srgbClr val="4a452a"/>
                </a:solidFill>
                <a:latin typeface="Gill Sans MT"/>
              </a:rPr>
              <a:t>嚴格執行。</a:t>
            </a:r>
            <a:endParaRPr b="1" lang="en-US" sz="3200" spc="-1" strike="noStrike">
              <a:solidFill>
                <a:srgbClr val="4a452a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4:31:39Z</dcterms:created>
  <dc:creator/>
  <dc:description/>
  <dc:language>en-US</dc:language>
  <cp:lastModifiedBy/>
  <dcterms:modified xsi:type="dcterms:W3CDTF">2010-12-14T10:25:16Z</dcterms:modified>
  <cp:revision>17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571028</vt:lpwstr>
  </property>
</Properties>
</file>