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04EB-7A1D-4093-BD38-88E3F727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0600-98EC-4A21-AAF7-ACD8797F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EB4-FB38-42ED-8E11-89DC65B1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67F1-BDF2-4762-817F-84FAA067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9ED8-5895-480B-8568-A8555FAD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61DD-5902-4F11-95C0-E36B865A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BF54-7692-44C3-B76E-404C7C68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C1DF-2C4B-4ECB-AE20-24401B79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B8AA-5042-43C6-9476-03A6488C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CBD6-8EBA-4C68-AA21-4764BFE6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BFE3-1A9F-4EA3-8A07-CA85A76F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2188-8A50-44D0-A190-BA3C58FF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E3BB-6E61-4C02-B3B5-4E03C6E06CD0}" type="slidenum">
              <a:rPr b="0" lang="zh-TW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51280" y="980640"/>
            <a:ext cx="55087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9900"/>
                </a:solidFill>
                <a:latin typeface="Calibri"/>
                <a:ea typeface="標楷體"/>
              </a:rPr>
              <a:t>教學評量的</a:t>
            </a:r>
            <a:br>
              <a:rPr sz="4800"/>
            </a:br>
            <a:r>
              <a:rPr b="1" lang="zh-TW" sz="4800" spc="-1" strike="noStrike">
                <a:solidFill>
                  <a:srgbClr val="ff9900"/>
                </a:solidFill>
                <a:latin typeface="Calibri"/>
                <a:ea typeface="標楷體"/>
              </a:rPr>
              <a:t>基本概念與實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4720" y="4221000"/>
            <a:ext cx="449424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Calibri"/>
                <a:ea typeface="新細明體"/>
              </a:rPr>
              <a:t>曾玉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Calibri"/>
                <a:ea typeface="新細明體"/>
              </a:rPr>
              <a:t>國立中正大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Calibri"/>
                <a:ea typeface="新細明體"/>
              </a:rPr>
              <a:t>師資培育中心暨課程研究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Calibri"/>
                <a:ea typeface="新細明體"/>
              </a:rPr>
              <a:t>認知與學習實驗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新細明體"/>
              </a:rPr>
              <a:t>96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新細明體"/>
              </a:rPr>
              <a:t>指考化學雙向細目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19280" y="870120"/>
            <a:ext cx="6337440" cy="59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選擇題的編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性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1.</a:t>
            </a: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選擇題的組成元素有兩大部分：題幹</a:t>
            </a:r>
            <a:r>
              <a:rPr b="0" lang="en-US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(stem)</a:t>
            </a: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與選項</a:t>
            </a:r>
            <a:r>
              <a:rPr b="0" lang="en-US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(alternatives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2.</a:t>
            </a: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在作答方面，可分為正確答案和最佳答案兩種形式。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3.</a:t>
            </a: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就形式而言，可分為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</a:t>
            </a: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完全的問句、不完全的敘述句、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</a:t>
            </a: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題幹置於指導語中、選項置於題幹中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選擇題的作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正確答案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下列何者為力的單位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A</a:t>
            </a: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、焦耳       </a:t>
            </a:r>
            <a:r>
              <a:rPr b="0" lang="en-US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B</a:t>
            </a: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、伏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C</a:t>
            </a: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、公斤重</a:t>
            </a: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*    </a:t>
            </a:r>
            <a:r>
              <a:rPr b="0" lang="en-US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D</a:t>
            </a: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、瓦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最佳答案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好的中學老師應具備什麼樣的條件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A</a:t>
            </a: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、與家長維持良好的人際關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B</a:t>
            </a: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、豐富的專業知識</a:t>
            </a: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*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C</a:t>
            </a: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、端莊大方的外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D</a:t>
            </a: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、維持班上秩序的本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選擇題的形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272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完全的問句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    </a:t>
            </a: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下列哪一位科學家製造「候風地動儀」，可以精確的測知地震發生的地方？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A</a:t>
            </a: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華康隸書體W3"/>
              </a:rPr>
              <a:t> </a:t>
            </a: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張衡</a:t>
            </a: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* </a:t>
            </a:r>
            <a:r>
              <a:rPr b="0" lang="en-US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、張機 </a:t>
            </a:r>
            <a:r>
              <a:rPr b="0" lang="en-US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C</a:t>
            </a: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、蔡倫 </a:t>
            </a:r>
            <a:r>
              <a:rPr b="0" lang="en-US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D</a:t>
            </a: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、淳于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不完全的敘述句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孔門弟子中同樣問孝、問人、而孔子所答各有不同，可見孔子的教學是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A. </a:t>
            </a: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因材施教</a:t>
            </a: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*   </a:t>
            </a:r>
            <a:r>
              <a:rPr b="0" lang="en-US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B.</a:t>
            </a: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有教無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C. </a:t>
            </a: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誨人不倦    </a:t>
            </a:r>
            <a:r>
              <a:rPr b="0" lang="en-US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D.</a:t>
            </a: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隨機應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選擇題的形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選項置於題幹中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在以下的各個題目中，請挑選文法錯誤的所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Mar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華康隸書體W3"/>
                <a:ea typeface="華康隸書體W3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Joh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華康隸書體W3"/>
                <a:ea typeface="華康隸書體W3"/>
              </a:rPr>
              <a:t>went</a:t>
            </a:r>
            <a:r>
              <a:rPr b="0" lang="en-US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華康隸書體W3"/>
                <a:ea typeface="華康隸書體W3"/>
              </a:rPr>
              <a:t>to school</a:t>
            </a:r>
            <a:r>
              <a:rPr b="0" lang="en-US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華康隸書體W3"/>
                <a:ea typeface="華康隸書體W3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yester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A       B       C    D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如果小華能夠安全（</a:t>
            </a:r>
            <a:r>
              <a:rPr b="0" lang="en-US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A </a:t>
            </a: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渡過</a:t>
            </a: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* </a:t>
            </a:r>
            <a:r>
              <a:rPr b="0" lang="en-US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B </a:t>
            </a: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逃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C </a:t>
            </a: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衝過 </a:t>
            </a:r>
            <a:r>
              <a:rPr b="0" lang="en-US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D </a:t>
            </a: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跳過）這個難關，那麼他就會很快地復原。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選擇題的優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1.</a:t>
            </a: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比申論題等須專家評量的考題，計分更經濟且客觀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2.</a:t>
            </a: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考試範圍比申論題更廣泛，內容取樣更具代表性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3.</a:t>
            </a: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題意比簡答題更清楚，不會造成混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4.</a:t>
            </a: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比是非題，選擇題的誘答選項具有教學診斷的價值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選擇題的編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選擇題的編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5.</a:t>
            </a: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比是非題更能偵測學習效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6.</a:t>
            </a: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比是非題更能降低反應心向的干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7.</a:t>
            </a: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比是非題更能免於猜測的影響，提高信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425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選擇題的缺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1.</a:t>
            </a:r>
            <a:r>
              <a:rPr b="0" lang="zh-TW" sz="31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相對於申論題等建構反應題型，較不易評量高層次的能力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2.</a:t>
            </a:r>
            <a:r>
              <a:rPr b="0" lang="zh-TW" sz="31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相對於建構反應題，選擇題不易編寫，尤其是誘答選項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3.</a:t>
            </a:r>
            <a:r>
              <a:rPr b="0" lang="zh-TW" sz="31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相對於建構反應題，選擇題無法免於猜測的干擾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4.</a:t>
            </a:r>
            <a:r>
              <a:rPr b="0" lang="zh-TW" sz="31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相對於實作評量，紙筆測驗的選擇題偏重語文能力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選擇題的編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編寫選擇題的注意事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一般原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1.</a:t>
            </a: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如果別的題型比選擇題更適合，不要堅持使用選擇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2.</a:t>
            </a: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每個問題都與所欲評量的學習成果有著密切的聯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3.</a:t>
            </a: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每個題目只針對一個問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選擇題的編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4.</a:t>
            </a: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問題的描述或複雜度必須切合學生程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5.</a:t>
            </a: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用字遣詞應簡明，避免不必要的陳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6.</a:t>
            </a: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避免過於弔詭的試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7.</a:t>
            </a: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題目不要太多，以免造成猜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8.</a:t>
            </a: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難度要適中，勿過份簡單或困難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9.</a:t>
            </a: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題號用數字，選項用文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選擇題的編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9900"/>
                </a:solidFill>
                <a:latin typeface="Calibri"/>
                <a:ea typeface="新細明體"/>
              </a:rPr>
              <a:t>大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Group 3"/>
          <p:cNvGrpSpPr/>
          <p:nvPr/>
        </p:nvGrpSpPr>
        <p:grpSpPr>
          <a:xfrm>
            <a:off x="1892160" y="1725840"/>
            <a:ext cx="5194440" cy="685800"/>
            <a:chOff x="1892160" y="1725840"/>
            <a:chExt cx="5194440" cy="685800"/>
          </a:xfrm>
        </p:grpSpPr>
        <p:sp>
          <p:nvSpPr>
            <p:cNvPr id="45" name="Line 4"/>
            <p:cNvSpPr/>
            <p:nvPr/>
          </p:nvSpPr>
          <p:spPr>
            <a:xfrm>
              <a:off x="2286000" y="238428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5"/>
            <p:cNvSpPr/>
            <p:nvPr/>
          </p:nvSpPr>
          <p:spPr>
            <a:xfrm rot="3418800">
              <a:off x="2001240" y="1808280"/>
              <a:ext cx="479520" cy="520920"/>
            </a:xfrm>
            <a:prstGeom prst="rect">
              <a:avLst/>
            </a:prstGeom>
            <a:gradFill rotWithShape="0">
              <a:gsLst>
                <a:gs pos="0">
                  <a:srgbClr val="54d060"/>
                </a:gs>
                <a:gs pos="100000">
                  <a:srgbClr val="27602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6"/>
            <p:cNvSpPr/>
            <p:nvPr/>
          </p:nvSpPr>
          <p:spPr>
            <a:xfrm>
              <a:off x="4314600" y="1800360"/>
              <a:ext cx="237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評量於教學中的角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7"/>
            <p:cNvSpPr/>
            <p:nvPr/>
          </p:nvSpPr>
          <p:spPr>
            <a:xfrm>
              <a:off x="2059200" y="185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8"/>
          <p:cNvGrpSpPr/>
          <p:nvPr/>
        </p:nvGrpSpPr>
        <p:grpSpPr>
          <a:xfrm>
            <a:off x="1892520" y="2487600"/>
            <a:ext cx="5194080" cy="685800"/>
            <a:chOff x="1892520" y="2487600"/>
            <a:chExt cx="5194080" cy="685800"/>
          </a:xfrm>
        </p:grpSpPr>
        <p:sp>
          <p:nvSpPr>
            <p:cNvPr id="50" name="Line 9"/>
            <p:cNvSpPr/>
            <p:nvPr/>
          </p:nvSpPr>
          <p:spPr>
            <a:xfrm>
              <a:off x="2286000" y="314640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 rot="3418800">
              <a:off x="2001600" y="2569680"/>
              <a:ext cx="479160" cy="520920"/>
            </a:xfrm>
            <a:prstGeom prst="rect">
              <a:avLst/>
            </a:prstGeom>
            <a:gradFill rotWithShape="0">
              <a:gsLst>
                <a:gs pos="0">
                  <a:srgbClr val="8e97ee"/>
                </a:gs>
                <a:gs pos="100000">
                  <a:srgbClr val="42466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1"/>
            <p:cNvSpPr/>
            <p:nvPr/>
          </p:nvSpPr>
          <p:spPr>
            <a:xfrm>
              <a:off x="4314600" y="2562120"/>
              <a:ext cx="237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優質教學評量的基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2"/>
            <p:cNvSpPr/>
            <p:nvPr/>
          </p:nvSpPr>
          <p:spPr>
            <a:xfrm>
              <a:off x="2059200" y="2612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3"/>
          <p:cNvGrpSpPr/>
          <p:nvPr/>
        </p:nvGrpSpPr>
        <p:grpSpPr>
          <a:xfrm>
            <a:off x="1892160" y="3380040"/>
            <a:ext cx="5194440" cy="685800"/>
            <a:chOff x="1892160" y="3380040"/>
            <a:chExt cx="5194440" cy="685800"/>
          </a:xfrm>
        </p:grpSpPr>
        <p:sp>
          <p:nvSpPr>
            <p:cNvPr id="55" name="Line 14"/>
            <p:cNvSpPr/>
            <p:nvPr/>
          </p:nvSpPr>
          <p:spPr>
            <a:xfrm>
              <a:off x="2286000" y="403848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5"/>
            <p:cNvSpPr/>
            <p:nvPr/>
          </p:nvSpPr>
          <p:spPr>
            <a:xfrm rot="3418800">
              <a:off x="2001240" y="3462480"/>
              <a:ext cx="479520" cy="520920"/>
            </a:xfrm>
            <a:prstGeom prst="rect">
              <a:avLst/>
            </a:prstGeom>
            <a:gradFill rotWithShape="0">
              <a:gsLst>
                <a:gs pos="0">
                  <a:srgbClr val="4383e1"/>
                </a:gs>
                <a:gs pos="100000">
                  <a:srgbClr val="1f3d6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6"/>
            <p:cNvSpPr/>
            <p:nvPr/>
          </p:nvSpPr>
          <p:spPr>
            <a:xfrm>
              <a:off x="4395960" y="3454560"/>
              <a:ext cx="261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教學評量的類別與特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7"/>
            <p:cNvSpPr/>
            <p:nvPr/>
          </p:nvSpPr>
          <p:spPr>
            <a:xfrm>
              <a:off x="2059200" y="3505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8"/>
          <p:cNvGrpSpPr/>
          <p:nvPr/>
        </p:nvGrpSpPr>
        <p:grpSpPr>
          <a:xfrm>
            <a:off x="1892160" y="4218120"/>
            <a:ext cx="5772960" cy="685800"/>
            <a:chOff x="1892160" y="4218120"/>
            <a:chExt cx="5772960" cy="685800"/>
          </a:xfrm>
        </p:grpSpPr>
        <p:sp>
          <p:nvSpPr>
            <p:cNvPr id="60" name="Line 19"/>
            <p:cNvSpPr/>
            <p:nvPr/>
          </p:nvSpPr>
          <p:spPr>
            <a:xfrm>
              <a:off x="2286000" y="48769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0"/>
            <p:cNvSpPr/>
            <p:nvPr/>
          </p:nvSpPr>
          <p:spPr>
            <a:xfrm rot="3418800">
              <a:off x="2001240" y="4300560"/>
              <a:ext cx="479520" cy="520920"/>
            </a:xfrm>
            <a:prstGeom prst="rect">
              <a:avLst/>
            </a:prstGeom>
            <a:gradFill rotWithShape="0">
              <a:gsLst>
                <a:gs pos="0">
                  <a:srgbClr val="f28a5c"/>
                </a:gs>
                <a:gs pos="100000">
                  <a:srgbClr val="70402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21"/>
            <p:cNvSpPr/>
            <p:nvPr/>
          </p:nvSpPr>
          <p:spPr>
            <a:xfrm>
              <a:off x="4558320" y="4332240"/>
              <a:ext cx="31068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如何實施有系統的教學評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2"/>
            <p:cNvSpPr/>
            <p:nvPr/>
          </p:nvSpPr>
          <p:spPr>
            <a:xfrm>
              <a:off x="2059200" y="434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選擇題的編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題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題幹本身要有意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 </a:t>
            </a:r>
            <a:r>
              <a:rPr b="0" lang="zh-TW" sz="2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中華民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A </a:t>
            </a:r>
            <a:r>
              <a:rPr b="0" lang="zh-TW" sz="2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建立於西元</a:t>
            </a:r>
            <a:r>
              <a:rPr b="0" lang="en-US" sz="2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1912</a:t>
            </a:r>
            <a:r>
              <a:rPr b="0" lang="zh-TW" sz="2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年＊ </a:t>
            </a:r>
            <a:r>
              <a:rPr b="0" lang="en-US" sz="2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B </a:t>
            </a:r>
            <a:r>
              <a:rPr b="0" lang="zh-TW" sz="2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首任總統是李登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C </a:t>
            </a:r>
            <a:r>
              <a:rPr b="0" lang="zh-TW" sz="2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是聯合國的會員     </a:t>
            </a:r>
            <a:r>
              <a:rPr b="0" lang="en-US" sz="2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D </a:t>
            </a:r>
            <a:r>
              <a:rPr b="0" lang="zh-TW" sz="2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是進口導向的國家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題幹宜清楚、勿過份冗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盡量不要將選項插入題幹之中（以免題幹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被分割，造成閱讀困難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若使用否定字眼，應特別標示清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選擇題的編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標準答案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1. </a:t>
            </a: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標準答案的語法應和題幹一致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2. </a:t>
            </a: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標準答案不宜直接從課本中抄錄，應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 </a:t>
            </a: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加以改寫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3. </a:t>
            </a: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謹慎使用「以上皆非」「以上皆是」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8182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441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誘答選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1514520" indent="-436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誘答選項必須有似真性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41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   </a:t>
            </a:r>
            <a:r>
              <a:rPr b="0" lang="zh-TW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誘答就是引誘學生選答，如果不能發揮誘答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41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      </a:t>
            </a:r>
            <a:r>
              <a:rPr b="0" lang="zh-TW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作用，就不能稱為誘答選項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41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41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     </a:t>
            </a:r>
            <a:r>
              <a:rPr b="0" lang="zh-TW" sz="30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台北市最早開發的地區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41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A.</a:t>
            </a:r>
            <a:r>
              <a:rPr b="0" lang="zh-TW" sz="30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松山  </a:t>
            </a:r>
            <a:r>
              <a:rPr b="0" lang="en-US" sz="30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B.</a:t>
            </a:r>
            <a:r>
              <a:rPr b="0" lang="zh-TW" sz="30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萬華</a:t>
            </a:r>
            <a:r>
              <a:rPr b="0" lang="zh-TW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＊  </a:t>
            </a:r>
            <a:r>
              <a:rPr b="0" lang="en-US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C.</a:t>
            </a:r>
            <a:r>
              <a:rPr b="0" lang="zh-TW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關渡  </a:t>
            </a:r>
            <a:r>
              <a:rPr b="0" lang="en-US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D.</a:t>
            </a:r>
            <a:r>
              <a:rPr b="0" lang="zh-TW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基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選擇題的編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選擇題的編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每個誘答選項最好都能反映出學生的迷思或學習困難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每個誘答選項的文法都必須和題幹一致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避免誘答選項兼有重複、同意、相似包含或從屬關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A </a:t>
            </a:r>
            <a:r>
              <a:rPr b="0" lang="zh-TW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雞  </a:t>
            </a:r>
            <a:r>
              <a:rPr b="0" lang="en-US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B </a:t>
            </a:r>
            <a:r>
              <a:rPr b="0" lang="zh-TW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小雞  </a:t>
            </a:r>
            <a:r>
              <a:rPr b="0" lang="en-US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C </a:t>
            </a:r>
            <a:r>
              <a:rPr b="0" lang="zh-TW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母雞  </a:t>
            </a:r>
            <a:r>
              <a:rPr b="0" lang="en-US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D </a:t>
            </a:r>
            <a:r>
              <a:rPr b="0" lang="zh-TW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選擇題的編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752480"/>
            <a:ext cx="8375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Calibri"/>
                <a:ea typeface="華康隸書體W3"/>
              </a:rPr>
              <a:t>選項安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所有的選項必須是同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如果所有的選項都有著共同的字詞，該字詞應移至題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《</a:t>
            </a:r>
            <a:r>
              <a:rPr b="0" lang="zh-TW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新聞報導</a:t>
            </a:r>
            <a:r>
              <a:rPr b="0" lang="en-US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》</a:t>
            </a:r>
            <a:r>
              <a:rPr b="0" lang="zh-TW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節目的播出，其主要目的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A </a:t>
            </a:r>
            <a:r>
              <a:rPr b="0" lang="zh-TW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提供傳播訊息的功能</a:t>
            </a:r>
            <a:r>
              <a:rPr b="0" lang="zh-TW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*   </a:t>
            </a:r>
            <a:r>
              <a:rPr b="0" lang="en-US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B </a:t>
            </a:r>
            <a:r>
              <a:rPr b="0" lang="zh-TW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提供教育大眾的功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C </a:t>
            </a:r>
            <a:r>
              <a:rPr b="0" lang="zh-TW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提供溝通意見的能力    </a:t>
            </a:r>
            <a:r>
              <a:rPr b="0" lang="en-US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D </a:t>
            </a:r>
            <a:r>
              <a:rPr b="0" lang="zh-TW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提供娛樂的功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A </a:t>
            </a:r>
            <a:r>
              <a:rPr b="0" lang="zh-TW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傳播訊息</a:t>
            </a:r>
            <a:r>
              <a:rPr b="0" lang="zh-TW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* </a:t>
            </a:r>
            <a:r>
              <a:rPr b="0" lang="en-US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B </a:t>
            </a:r>
            <a:r>
              <a:rPr b="0" lang="zh-TW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教育大眾 </a:t>
            </a:r>
            <a:r>
              <a:rPr b="0" lang="en-US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C </a:t>
            </a:r>
            <a:r>
              <a:rPr b="0" lang="zh-TW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溝通意見 </a:t>
            </a:r>
            <a:r>
              <a:rPr b="0" lang="en-US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D </a:t>
            </a:r>
            <a:r>
              <a:rPr b="0" lang="zh-TW" sz="2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娛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選擇題的編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選項安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選項的安排盡量依字母、數值大小、或年代順序排列。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바탕"/>
                <a:ea typeface="바탕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바탕"/>
                <a:ea typeface="바탕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바탕"/>
                <a:ea typeface="바탕"/>
              </a:rPr>
              <a:t>The water is the river is </a:t>
            </a:r>
            <a:r>
              <a:rPr b="0" lang="en-US" sz="2600" spc="-1" strike="noStrike">
                <a:solidFill>
                  <a:srgbClr val="000000"/>
                </a:solidFill>
                <a:latin typeface="바탕"/>
                <a:ea typeface="바탕"/>
              </a:rPr>
              <a:t>﹍﹍﹍﹍</a:t>
            </a:r>
            <a:r>
              <a:rPr b="0" lang="en-US" sz="2600" spc="-1" strike="noStrike">
                <a:solidFill>
                  <a:srgbClr val="000000"/>
                </a:solidFill>
                <a:latin typeface="바탕"/>
                <a:ea typeface="바탕"/>
              </a:rPr>
              <a:t>; it is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바탕"/>
                <a:ea typeface="바탕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바탕"/>
                <a:ea typeface="바탕"/>
              </a:rPr>
              <a:t>polluted.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바탕"/>
                <a:ea typeface="바탕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바탕"/>
                <a:ea typeface="바탕"/>
              </a:rPr>
              <a:t>A. sweet  B. dirty  C. clean  D. hum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選擇題的編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答案線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如果只有正確答案採用題幹中的關鍵字詞，會洩漏答案所在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所有選項的陳述應該一樣的詳細，避免正確答案過度詳細。</a:t>
            </a:r>
            <a:r>
              <a:rPr b="0" lang="zh-TW" sz="2400" spc="-1" strike="noStrike">
                <a:solidFill>
                  <a:srgbClr val="000000"/>
                </a:solidFill>
                <a:latin typeface="Calibri"/>
                <a:ea typeface="華康隸書體W3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9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  </a:t>
            </a:r>
            <a:r>
              <a:rPr b="0" lang="zh-TW" sz="19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狹長的智利，南北氣候溫差大，南部地區不利農業發展的因素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9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  </a:t>
            </a:r>
            <a:r>
              <a:rPr b="0" lang="zh-TW" sz="19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是：</a:t>
            </a:r>
            <a:r>
              <a:rPr b="0" lang="en-US" sz="19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A </a:t>
            </a:r>
            <a:r>
              <a:rPr b="0" lang="zh-TW" sz="19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氣候乾燥 </a:t>
            </a:r>
            <a:r>
              <a:rPr b="0" lang="en-US" sz="19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B </a:t>
            </a:r>
            <a:r>
              <a:rPr b="0" lang="zh-TW" sz="19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高溫高濕 </a:t>
            </a:r>
            <a:r>
              <a:rPr b="0" lang="en-US" sz="19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C </a:t>
            </a:r>
            <a:r>
              <a:rPr b="0" lang="zh-TW" sz="19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夏乾冬雨 </a:t>
            </a:r>
            <a:r>
              <a:rPr b="0" lang="en-US" sz="19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D </a:t>
            </a:r>
            <a:r>
              <a:rPr b="0" lang="zh-TW" sz="19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緯度較高，冰河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9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  </a:t>
            </a:r>
            <a:r>
              <a:rPr b="0" lang="zh-TW" sz="19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形顯著</a:t>
            </a:r>
            <a:r>
              <a:rPr b="0" lang="zh-TW" sz="19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*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正確答案的位置宜隨機出現，避免過度集中在某個位置。</a:t>
            </a:r>
            <a:r>
              <a:rPr b="0" lang="zh-TW" sz="2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論文題的優點和限制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）</a:t>
            </a: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論文題一般被認為是用來測量較高層次的認知能力，而客觀測驗則是測量由低層次到高層次的認知能力皆有。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）</a:t>
            </a: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論文題可以用來測量學生的組織、統整、歸納、問題解決和表達觀點的能力，這是客觀測驗所無法達成的。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論文題的命題技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優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可以測量較高層次的學習成果（如：分析、綜合和評鑑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可以促進學生思考的統整和應用，以及問題解決的能力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可以影響及改變學生的學習習慣和方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4.</a:t>
            </a: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可以增進學生的寫作表達能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5.</a:t>
            </a: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命題比較簡便、容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論文題的命題技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限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試題取樣不具代表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由於是自由組織和表達觀點，因此很難與所學習的結果牽連上關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評分容易受到寫作能力和作答技巧的影響；此外，筆跡、錯別字、文法結構的表達與對錯等因素，也會影響評分的公正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4.</a:t>
            </a: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評分主觀且不一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5.</a:t>
            </a:r>
            <a:r>
              <a:rPr b="0" lang="zh-TW" sz="32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作答及閱卷均相當費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論文題的命題技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alibri"/>
                <a:ea typeface="新細明體"/>
              </a:rPr>
              <a:t>評量與教學的關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reeform 3"/>
          <p:cNvSpPr/>
          <p:nvPr/>
        </p:nvSpPr>
        <p:spPr>
          <a:xfrm rot="21048600">
            <a:off x="5076720" y="2133360"/>
            <a:ext cx="866880" cy="554040"/>
          </a:xfrm>
          <a:prstGeom prst="pie">
            <a:avLst/>
          </a:prstGeom>
          <a:gradFill rotWithShape="0">
            <a:gsLst>
              <a:gs pos="0">
                <a:srgbClr val="17a217">
                  <a:alpha val="32156"/>
                </a:srgbClr>
              </a:gs>
              <a:gs pos="100000">
                <a:srgbClr val="009900"/>
              </a:gs>
            </a:gsLst>
            <a:lin ang="5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4140360" y="3357720"/>
            <a:ext cx="1439640" cy="504720"/>
          </a:xfrm>
          <a:prstGeom prst="roundRect">
            <a:avLst>
              <a:gd name="adj" fmla="val 4690"/>
            </a:avLst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5796000" y="2708280"/>
            <a:ext cx="1368360" cy="504720"/>
          </a:xfrm>
          <a:prstGeom prst="roundRect">
            <a:avLst>
              <a:gd name="adj" fmla="val 4690"/>
            </a:avLst>
          </a:prstGeom>
          <a:noFill/>
          <a:ln w="57240">
            <a:solidFill>
              <a:srgbClr val="4b7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2"/>
          <p:cNvSpPr/>
          <p:nvPr/>
        </p:nvSpPr>
        <p:spPr>
          <a:xfrm rot="21172800">
            <a:off x="3249360" y="2890800"/>
            <a:ext cx="958680" cy="360360"/>
          </a:xfrm>
          <a:prstGeom prst="pie">
            <a:avLst/>
          </a:prstGeom>
          <a:gradFill rotWithShape="0">
            <a:gsLst>
              <a:gs pos="0">
                <a:srgbClr val="ee8d4c">
                  <a:alpha val="32156"/>
                </a:srgbClr>
              </a:gs>
              <a:gs pos="100000">
                <a:srgbClr val="ec823a"/>
              </a:gs>
            </a:gsLst>
            <a:lin ang="4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5"/>
          <p:cNvGrpSpPr/>
          <p:nvPr/>
        </p:nvGrpSpPr>
        <p:grpSpPr>
          <a:xfrm>
            <a:off x="2556000" y="4005360"/>
            <a:ext cx="1439640" cy="504720"/>
            <a:chOff x="2556000" y="4005360"/>
            <a:chExt cx="1439640" cy="504720"/>
          </a:xfrm>
        </p:grpSpPr>
        <p:sp>
          <p:nvSpPr>
            <p:cNvPr id="70" name="AutoShape 16"/>
            <p:cNvSpPr/>
            <p:nvPr/>
          </p:nvSpPr>
          <p:spPr>
            <a:xfrm>
              <a:off x="2556000" y="4030920"/>
              <a:ext cx="1439640" cy="47916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ec82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17"/>
            <p:cNvSpPr/>
            <p:nvPr/>
          </p:nvSpPr>
          <p:spPr>
            <a:xfrm>
              <a:off x="2691360" y="4008960"/>
              <a:ext cx="1168920" cy="43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fa76c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18"/>
            <p:cNvSpPr/>
            <p:nvPr/>
          </p:nvSpPr>
          <p:spPr>
            <a:xfrm flipH="1">
              <a:off x="3747600" y="4019760"/>
              <a:ext cx="44640" cy="21960"/>
            </a:xfrm>
            <a:prstGeom prst="octagon">
              <a:avLst>
                <a:gd name="adj" fmla="val 2928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19"/>
            <p:cNvSpPr/>
            <p:nvPr/>
          </p:nvSpPr>
          <p:spPr>
            <a:xfrm flipH="1">
              <a:off x="2754360" y="4019760"/>
              <a:ext cx="45720" cy="21960"/>
            </a:xfrm>
            <a:prstGeom prst="octagon">
              <a:avLst>
                <a:gd name="adj" fmla="val 2928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20"/>
            <p:cNvSpPr/>
            <p:nvPr/>
          </p:nvSpPr>
          <p:spPr>
            <a:xfrm>
              <a:off x="2616120" y="40053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21"/>
            <p:cNvSpPr/>
            <p:nvPr/>
          </p:nvSpPr>
          <p:spPr>
            <a:xfrm>
              <a:off x="2603520" y="4070160"/>
              <a:ext cx="13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 </a:t>
              </a:r>
              <a:r>
                <a:rPr b="1" lang="zh-TW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教學目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22"/>
          <p:cNvSpPr/>
          <p:nvPr/>
        </p:nvSpPr>
        <p:spPr>
          <a:xfrm>
            <a:off x="4284720" y="3429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起點行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3"/>
          <p:cNvSpPr/>
          <p:nvPr/>
        </p:nvSpPr>
        <p:spPr>
          <a:xfrm>
            <a:off x="5867280" y="27813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教學活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4"/>
          <p:cNvSpPr/>
          <p:nvPr/>
        </p:nvSpPr>
        <p:spPr>
          <a:xfrm>
            <a:off x="7308720" y="1844640"/>
            <a:ext cx="1440000" cy="576360"/>
          </a:xfrm>
          <a:prstGeom prst="roundRect">
            <a:avLst>
              <a:gd name="adj" fmla="val 4690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5"/>
          <p:cNvSpPr/>
          <p:nvPr/>
        </p:nvSpPr>
        <p:spPr>
          <a:xfrm>
            <a:off x="7667640" y="198900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評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6"/>
          <p:cNvSpPr/>
          <p:nvPr/>
        </p:nvSpPr>
        <p:spPr>
          <a:xfrm rot="20748000">
            <a:off x="6732360" y="1341360"/>
            <a:ext cx="866520" cy="554040"/>
          </a:xfrm>
          <a:prstGeom prst="pi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7"/>
          <p:cNvSpPr/>
          <p:nvPr/>
        </p:nvSpPr>
        <p:spPr>
          <a:xfrm>
            <a:off x="6443640" y="4653000"/>
            <a:ext cx="1440000" cy="504720"/>
          </a:xfrm>
          <a:prstGeom prst="roundRect">
            <a:avLst>
              <a:gd name="adj" fmla="val 4690"/>
            </a:avLst>
          </a:prstGeom>
          <a:noFill/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8"/>
          <p:cNvSpPr/>
          <p:nvPr/>
        </p:nvSpPr>
        <p:spPr>
          <a:xfrm>
            <a:off x="6772680" y="4724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回饋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29"/>
          <p:cNvSpPr/>
          <p:nvPr/>
        </p:nvSpPr>
        <p:spPr>
          <a:xfrm rot="11434200">
            <a:off x="3858840" y="4919040"/>
            <a:ext cx="2079720" cy="48420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0"/>
          <p:cNvSpPr/>
          <p:nvPr/>
        </p:nvSpPr>
        <p:spPr>
          <a:xfrm rot="12683400">
            <a:off x="4884480" y="4388760"/>
            <a:ext cx="1431720" cy="48420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1"/>
          <p:cNvSpPr/>
          <p:nvPr/>
        </p:nvSpPr>
        <p:spPr>
          <a:xfrm rot="15354000">
            <a:off x="5792400" y="3718800"/>
            <a:ext cx="1353960" cy="48420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32"/>
          <p:cNvSpPr/>
          <p:nvPr/>
        </p:nvSpPr>
        <p:spPr>
          <a:xfrm rot="17458200">
            <a:off x="6669720" y="3307320"/>
            <a:ext cx="1793880" cy="48420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論文題的命題原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1.</a:t>
            </a: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較複雜或較高層次學習結果的評量，才需要使用論文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2.</a:t>
            </a: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問題儘量與所要測量的學習結果有所相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3.</a:t>
            </a: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明確敘述問題，務必使學生都清楚瞭解問題的要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論文題的命題技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論文題的命題原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4.</a:t>
            </a: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不允許學生可以選擇其中幾道試題作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5.</a:t>
            </a: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給與學生充分的作答時間，並提示每一題的作答限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6.</a:t>
            </a: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以多題短答的限制反應題取代少題長答的申論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論文題的命題技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論文題的評分原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1.</a:t>
            </a: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妥善預擬評分要點，作為評分的依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2.</a:t>
            </a: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依據所預期的學習結果來評分，避免受到有關因素影響評分的客觀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3.</a:t>
            </a: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一次只評閱一道試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論文題的命題技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論文題的評分原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4.</a:t>
            </a: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宜在同一段時間內評完所有試卷，並且應該避免中途停頓或被打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5.</a:t>
            </a: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使用匿名評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6.</a:t>
            </a: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如果可能的話，由兩位以上評分者獨立評閱每一道試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論文題的命題技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兩大類題型之比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Object 4" descr=""/>
          <p:cNvPicPr/>
          <p:nvPr/>
        </p:nvPicPr>
        <p:blipFill>
          <a:blip r:embed="rId2"/>
          <a:stretch/>
        </p:blipFill>
        <p:spPr>
          <a:xfrm>
            <a:off x="533520" y="1700280"/>
            <a:ext cx="8610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測驗的計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客觀計分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  </a:t>
            </a: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所謂客觀計分就是試題都有標準答案，不論由任何人評分其結果都是一樣的。可分為：</a:t>
            </a:r>
            <a:r>
              <a:rPr b="0" lang="en-US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1.</a:t>
            </a: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手工計分  </a:t>
            </a:r>
            <a:r>
              <a:rPr b="0" lang="en-US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2.</a:t>
            </a: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機械計分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主觀評分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    </a:t>
            </a: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主觀評分是指：試題沒有標準答案，若由不同的人來評分，常因評分者個人的價值觀或參考標準不同而有不同的結果。可分為</a:t>
            </a:r>
            <a:r>
              <a:rPr b="0" lang="en-US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1.</a:t>
            </a: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分析式評分 </a:t>
            </a:r>
            <a:r>
              <a:rPr b="0" lang="en-US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2.</a:t>
            </a: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整體式評分。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論文式題目的計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分析式評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將評審的標準分析成幾個代表不同特質的項目，並就各項目賦予不同的比重，計分時則先就每一個項目給分，再合計總分。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若將項目分得太細則會增加評分者的負擔，反而使分項計分流於形式。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越是強調獨創性、整體性的作品，越不容易採用分項計分，所以無法普遍使用。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論文式題目的計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整體式評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只就每一被評審對象給分或排列其等級，而不另外分項給分。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優點：簡便易行，計分速度快、可用於難以分析成不同特質的評分對象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缺點：個人主觀因素的影響大，分數的信度較低、無法提供充分的回饋，讓學生有所改進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紙筆式評量的缺點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偏重認知評量，忽略情意、技能的評量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在認知部分是偏重知識、理解、應用等層次的認知能力，較無法評量出分析、綜合、評鑑、創意等較高層次的認知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測量方式統一性，不具個別差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重視個別分數，加重學生間的競爭，減低互相合作精神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6516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alibri"/>
                <a:ea typeface="文鼎粗隸"/>
              </a:rPr>
              <a:t>實施實作評量</a:t>
            </a:r>
            <a:r>
              <a:rPr b="1" lang="zh-TW" sz="4400" spc="-1" strike="noStrike">
                <a:solidFill>
                  <a:srgbClr val="000000"/>
                </a:solidFill>
                <a:latin typeface="文鼎粗隸"/>
                <a:ea typeface="文鼎粗隸"/>
              </a:rPr>
              <a:t>的程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84000" y="2131560"/>
            <a:ext cx="620244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粗隸"/>
                <a:ea typeface="文鼎粗隸"/>
              </a:rPr>
              <a:t>實作評量的意義：在自然或已建構好的情境中，要求學生執行或處理一件指定的工作，並由教師觀察與評鑑學生的建構性反應的過程與結果，看它們是否適當、精確和合理地達成教學目標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1332000" y="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文鼎粗隸"/>
                <a:ea typeface="文鼎粗隸"/>
              </a:rPr>
              <a:t>評量要依據教學目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340000" y="1557360"/>
            <a:ext cx="6804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教學目標是多面向多層次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文鼎粗隸"/>
                <a:ea typeface="文鼎粗隸"/>
              </a:rPr>
              <a:t>認知的教學目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   </a:t>
            </a:r>
            <a:r>
              <a:rPr b="0" lang="zh-TW" sz="2600" spc="-1" strike="noStrike">
                <a:solidFill>
                  <a:srgbClr val="003300"/>
                </a:solidFill>
                <a:latin typeface="文鼎粗隸"/>
                <a:ea typeface="文鼎粗隸"/>
              </a:rPr>
              <a:t>知識、理解、應用、分析、綜合、評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文鼎粗隸"/>
                <a:ea typeface="文鼎粗隸"/>
              </a:rPr>
              <a:t>情意的教學目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   </a:t>
            </a:r>
            <a:r>
              <a:rPr b="0" lang="zh-TW" sz="2600" spc="-1" strike="noStrike">
                <a:solidFill>
                  <a:srgbClr val="003300"/>
                </a:solidFill>
                <a:latin typeface="文鼎粗隸"/>
                <a:ea typeface="文鼎粗隸"/>
              </a:rPr>
              <a:t>接受、反應、評價、價值重組、內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文鼎粗隸"/>
                <a:ea typeface="文鼎粗隸"/>
              </a:rPr>
              <a:t>動作技能的教學目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   </a:t>
            </a:r>
            <a:r>
              <a:rPr b="0" lang="zh-TW" sz="2600" spc="-1" strike="noStrike">
                <a:solidFill>
                  <a:srgbClr val="003300"/>
                </a:solidFill>
                <a:latin typeface="文鼎粗隸"/>
                <a:ea typeface="文鼎粗隸"/>
              </a:rPr>
              <a:t>知覺、準備、模仿、熟練、精練、創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文鼎粗隸"/>
                <a:ea typeface="文鼎粗隸"/>
              </a:rPr>
              <a:t>實作評量的實施步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773440" y="2349000"/>
            <a:ext cx="5913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文鼎粗隸"/>
                <a:ea typeface="文鼎粗隸"/>
              </a:rPr>
              <a:t>確立實作評量的目的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文鼎粗隸"/>
                <a:ea typeface="文鼎粗隸"/>
              </a:rPr>
              <a:t>選擇評量的焦點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文鼎粗隸"/>
                <a:ea typeface="文鼎粗隸"/>
              </a:rPr>
              <a:t>提供適當的表現情境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文鼎粗隸"/>
                <a:ea typeface="文鼎粗隸"/>
              </a:rPr>
              <a:t>選擇計分和評定方法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文鼎粗隸"/>
                <a:ea typeface="文鼎粗隸"/>
              </a:rPr>
              <a:t>確立實作評量的目的</a:t>
            </a: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68000" y="2060280"/>
            <a:ext cx="68756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使用實作評量主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1.</a:t>
            </a: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給學生評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2.</a:t>
            </a: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診斷學生的學習情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目的不同，觀察方法和評分方式亦不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文鼎粗隸"/>
                <a:ea typeface="文鼎粗隸"/>
              </a:rPr>
              <a:t>確立實作評量的目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410920" y="1844280"/>
            <a:ext cx="626436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使用作業分析</a:t>
            </a:r>
            <a:r>
              <a:rPr b="0" lang="en-US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(task analysis)</a:t>
            </a: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確認影響實作的最重要因素，才有助於進行更精確的觀察和判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確立實作評量的目的後，要詳細說明細節行為的項目，以及教師所期望學生達成的表現標準。</a:t>
            </a:r>
            <a:r>
              <a:rPr b="0" lang="zh-TW" sz="36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文鼎粗隸"/>
                <a:ea typeface="文鼎粗隸"/>
              </a:rPr>
              <a:t>確立實作評量目的舉例</a:t>
            </a:r>
            <a:br>
              <a:rPr sz="4000"/>
            </a:br>
            <a:r>
              <a:rPr b="1" lang="zh-TW" sz="3200" spc="-1" strike="noStrike">
                <a:solidFill>
                  <a:srgbClr val="000000"/>
                </a:solidFill>
                <a:latin typeface="文鼎粗隸"/>
                <a:ea typeface="文鼎粗隸"/>
              </a:rPr>
              <a:t>評量「演講」的陳述方式（歐滄和，民</a:t>
            </a:r>
            <a:r>
              <a:rPr b="1" lang="en-US" sz="3200" spc="-1" strike="noStrike">
                <a:solidFill>
                  <a:srgbClr val="000000"/>
                </a:solidFill>
                <a:latin typeface="文鼎粗隸"/>
                <a:ea typeface="文鼎粗隸"/>
              </a:rPr>
              <a:t>91</a:t>
            </a:r>
            <a:r>
              <a:rPr b="1" lang="zh-TW" sz="3200" spc="-1" strike="noStrike">
                <a:solidFill>
                  <a:srgbClr val="000000"/>
                </a:solidFill>
                <a:latin typeface="文鼎粗隸"/>
                <a:ea typeface="文鼎粗隸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56000" y="1773000"/>
            <a:ext cx="7386480" cy="39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94560" indent="-394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文鼎粗隸"/>
                <a:ea typeface="文鼎粗隸"/>
              </a:rPr>
              <a:t>以輕鬆自然的姿勢站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4560" indent="-394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文鼎粗隸"/>
                <a:ea typeface="文鼎粗隸"/>
              </a:rPr>
              <a:t>與聽眾保持良好的目光接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4560" indent="-394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文鼎粗隸"/>
                <a:ea typeface="文鼎粗隸"/>
              </a:rPr>
              <a:t>使用適當的面部表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4560" indent="-394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文鼎粗隸"/>
                <a:ea typeface="文鼎粗隸"/>
              </a:rPr>
              <a:t>有效地運用肢體語言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4560" indent="-394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文鼎粗隸"/>
                <a:ea typeface="文鼎粗隸"/>
              </a:rPr>
              <a:t>以適當的音量清楚說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4560" indent="-394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文鼎粗隸"/>
                <a:ea typeface="文鼎粗隸"/>
              </a:rPr>
              <a:t>以適當的速度說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4560" indent="-394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文鼎粗隸"/>
                <a:ea typeface="文鼎粗隸"/>
              </a:rPr>
              <a:t>以有條理的方式呈現觀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4560" indent="-394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文鼎粗隸"/>
                <a:ea typeface="文鼎粗隸"/>
              </a:rPr>
              <a:t>使用正確的修辭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4560" indent="-394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文鼎粗隸"/>
                <a:ea typeface="文鼎粗隸"/>
              </a:rPr>
              <a:t>維繫聽眾的興趣和注意力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56944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00"/>
                </a:solidFill>
                <a:latin typeface="文鼎粗隸"/>
                <a:ea typeface="文鼎粗隸"/>
              </a:rPr>
              <a:t>確立實作評量目的舉例</a:t>
            </a:r>
            <a:br>
              <a:rPr sz="2800"/>
            </a:br>
            <a:r>
              <a:rPr b="1" lang="zh-TW" sz="2800" spc="-1" strike="noStrike">
                <a:solidFill>
                  <a:srgbClr val="ff9900"/>
                </a:solidFill>
                <a:latin typeface="文鼎粗隸"/>
                <a:ea typeface="文鼎粗隸"/>
              </a:rPr>
              <a:t>實作評量中常見之行為特徵及教學目標</a:t>
            </a:r>
            <a:br>
              <a:rPr sz="2800"/>
            </a:br>
            <a:r>
              <a:rPr b="1" lang="zh-TW" sz="2800" spc="-1" strike="noStrike">
                <a:solidFill>
                  <a:srgbClr val="ff9900"/>
                </a:solidFill>
                <a:latin typeface="文鼎粗隸"/>
                <a:ea typeface="文鼎粗隸"/>
              </a:rPr>
              <a:t>（余民寧，</a:t>
            </a:r>
            <a:r>
              <a:rPr b="1" lang="en-US" sz="2800" spc="-1" strike="noStrike">
                <a:solidFill>
                  <a:srgbClr val="ff9900"/>
                </a:solidFill>
                <a:latin typeface="文鼎粗隸"/>
                <a:ea typeface="文鼎粗隸"/>
              </a:rPr>
              <a:t>1997</a:t>
            </a:r>
            <a:r>
              <a:rPr b="1" lang="zh-TW" sz="2800" spc="-1" strike="noStrike">
                <a:solidFill>
                  <a:srgbClr val="ff9900"/>
                </a:solidFill>
                <a:latin typeface="文鼎粗隸"/>
                <a:ea typeface="文鼎粗隸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5800" y="1752480"/>
          <a:ext cx="7821720" cy="4989600"/>
        </p:xfrm>
        <a:graphic>
          <a:graphicData uri="http://schemas.openxmlformats.org/drawingml/2006/table">
            <a:tbl>
              <a:tblPr/>
              <a:tblGrid>
                <a:gridCol w="3911760"/>
                <a:gridCol w="390996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行為特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學目標舉例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在真實情境中，辨認事物的名稱、功能或瑕疵所在</a:t>
                      </a:r>
                      <a:r>
                        <a:rPr b="0" lang="zh-TW" sz="2600" spc="-1" strike="noStrike">
                          <a:solidFill>
                            <a:srgbClr val="ff00ff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600" spc="-1" strike="noStrike">
                          <a:solidFill>
                            <a:srgbClr val="0000ff"/>
                          </a:solidFill>
                          <a:latin typeface="標楷體"/>
                          <a:ea typeface="標楷體"/>
                        </a:rPr>
                        <a:t>依照所給的說明製作出一個成品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表現一組操作性行為或程序</a:t>
                      </a: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找出汽車故障所在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說出各種標本的名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6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說出各種工具的用途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600" spc="-1" strike="noStrike">
                          <a:solidFill>
                            <a:srgbClr val="0000ff"/>
                          </a:solidFill>
                          <a:latin typeface="Calibri"/>
                          <a:ea typeface="標楷體"/>
                        </a:rPr>
                        <a:t>設計一套學生制服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600" spc="-1" strike="noStrike">
                          <a:solidFill>
                            <a:srgbClr val="0000ff"/>
                          </a:solidFill>
                          <a:latin typeface="Calibri"/>
                          <a:ea typeface="標楷體"/>
                        </a:rPr>
                        <a:t>畫一張電路線路圖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600" spc="-1" strike="noStrike">
                          <a:solidFill>
                            <a:srgbClr val="0000ff"/>
                          </a:solidFill>
                          <a:latin typeface="Calibri"/>
                          <a:ea typeface="標楷體"/>
                        </a:rPr>
                        <a:t>寫一首合唱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600" spc="-1" strike="noStrike">
                          <a:solidFill>
                            <a:srgbClr val="ff0000"/>
                          </a:solidFill>
                          <a:latin typeface="Calibri"/>
                          <a:ea typeface="標楷體"/>
                        </a:rPr>
                        <a:t>修理故障的收音機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600" spc="-1" strike="noStrike">
                          <a:solidFill>
                            <a:srgbClr val="ff0000"/>
                          </a:solidFill>
                          <a:latin typeface="Calibri"/>
                          <a:ea typeface="標楷體"/>
                        </a:rPr>
                        <a:t>表演華爾滋舞步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600" spc="-1" strike="noStrike">
                          <a:solidFill>
                            <a:srgbClr val="ff0000"/>
                          </a:solidFill>
                          <a:latin typeface="Calibri"/>
                          <a:ea typeface="標楷體"/>
                        </a:rPr>
                        <a:t>演示測量血壓的程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484000" y="333360"/>
            <a:ext cx="620244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文鼎粗隸"/>
                <a:ea typeface="文鼎粗隸"/>
              </a:rPr>
              <a:t>選擇評量的重點</a:t>
            </a: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700000" y="1915920"/>
            <a:ext cx="5545080" cy="40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粗隸"/>
                <a:ea typeface="文鼎粗隸"/>
              </a:rPr>
              <a:t>實作評量重點可以放在過程或結果，或兩者兼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粗隸"/>
                <a:ea typeface="文鼎粗隸"/>
              </a:rPr>
              <a:t>依據所欲評量的技能之性質而決定評量的重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文鼎粗隸"/>
                <a:ea typeface="文鼎粗隸"/>
              </a:rPr>
              <a:t>學習的開始階段較強調操作過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文鼎粗隸"/>
                <a:ea typeface="文鼎粗隸"/>
              </a:rPr>
              <a:t>學習終了階段較注意成果的品質</a:t>
            </a:r>
            <a:r>
              <a:rPr b="0" lang="zh-TW" sz="2400" spc="-1" strike="noStrike">
                <a:solidFill>
                  <a:srgbClr val="000000"/>
                </a:solidFill>
                <a:latin typeface="文鼎粗隸"/>
                <a:ea typeface="文鼎粗隸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25440" y="274320"/>
            <a:ext cx="656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文鼎粗隸"/>
                <a:ea typeface="文鼎粗隸"/>
              </a:rPr>
              <a:t>強調過程</a:t>
            </a: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56000" y="1700280"/>
            <a:ext cx="619272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沒有成果可以評分時（例如：駕駛、體操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或成果無法取得時（例如：急救、消防演習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操作過程可以按順序直接進行觀察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對於操作過程做分析有助於改進成果時</a:t>
            </a:r>
            <a:r>
              <a:rPr b="0" lang="zh-TW" sz="3400" spc="-1" strike="noStrike">
                <a:solidFill>
                  <a:srgbClr val="000000"/>
                </a:solidFill>
                <a:latin typeface="文鼎粗隸"/>
                <a:ea typeface="文鼎粗隸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7020000" y="6308640"/>
            <a:ext cx="151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67071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文鼎粗隸"/>
                <a:ea typeface="文鼎粗隸"/>
              </a:rPr>
              <a:t>強調成果（作品）</a:t>
            </a: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700000" y="2060640"/>
            <a:ext cx="644364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粗隸"/>
                <a:ea typeface="文鼎粗隸"/>
              </a:rPr>
              <a:t>多種不同的操作過程都可以造就好的成果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粗隸"/>
                <a:ea typeface="文鼎粗隸"/>
              </a:rPr>
              <a:t>無法觀察到學生的操作過程時（例如：家庭作業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粗隸"/>
                <a:ea typeface="文鼎粗隸"/>
              </a:rPr>
              <a:t>學生對於操作過程都已經精熟，彼此之間沒有顯著差異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粗隸"/>
                <a:ea typeface="文鼎粗隸"/>
              </a:rPr>
              <a:t>個人的成果之間有很大的差異，可以做明顯的區分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文鼎粗隸"/>
                <a:ea typeface="文鼎粗隸"/>
              </a:rPr>
              <a:t>提供適當的表現情境</a:t>
            </a: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339640" y="1700280"/>
            <a:ext cx="630540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粗隸"/>
                <a:ea typeface="文鼎粗隸"/>
              </a:rPr>
              <a:t>實作標準一經界定後，教師便需要準備可供進行觀察實作成果的施測情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粗隸"/>
                <a:ea typeface="文鼎粗隸"/>
              </a:rPr>
              <a:t>可以是教室內自然發生的情境，也可以是教師特別設計模擬真實的情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粗隸"/>
                <a:ea typeface="文鼎粗隸"/>
              </a:rPr>
              <a:t>使用何種施測情境，可以參考兩個判斷原則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7920" indent="-436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粗隸"/>
                <a:ea typeface="文鼎粗隸"/>
              </a:rPr>
              <a:t>教室中自然發生</a:t>
            </a:r>
            <a:r>
              <a:rPr b="0" lang="zh-TW" sz="2800" spc="-1" strike="noStrike">
                <a:solidFill>
                  <a:srgbClr val="000000"/>
                </a:solidFill>
                <a:latin typeface="文鼎粗隸"/>
                <a:ea typeface="文鼎粗隸"/>
              </a:rPr>
              <a:t>實作</a:t>
            </a:r>
            <a:r>
              <a:rPr b="0" lang="zh-TW" sz="3200" spc="-1" strike="noStrike">
                <a:solidFill>
                  <a:srgbClr val="000000"/>
                </a:solidFill>
                <a:latin typeface="文鼎粗隸"/>
                <a:ea typeface="文鼎粗隸"/>
              </a:rPr>
              <a:t>的頻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7920" indent="-436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粗隸"/>
                <a:ea typeface="文鼎粗隸"/>
              </a:rPr>
              <a:t>做決定的重要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文鼎粗隸"/>
                <a:ea typeface="文鼎粗隸"/>
              </a:rPr>
              <a:t>選擇計分和評定方法</a:t>
            </a:r>
            <a:r>
              <a:rPr b="0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76360" y="2131920"/>
            <a:ext cx="5065560" cy="38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整體式評分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分析式評分法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7129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華康隸書體"/>
                <a:ea typeface="文鼎粗隸"/>
              </a:rPr>
              <a:t>評量方法應與</a:t>
            </a:r>
            <a:br>
              <a:rPr sz="4000"/>
            </a:br>
            <a:r>
              <a:rPr b="1" lang="zh-TW" sz="4000" spc="-1" strike="noStrike">
                <a:solidFill>
                  <a:srgbClr val="000000"/>
                </a:solidFill>
                <a:latin typeface="華康隸書體"/>
                <a:ea typeface="文鼎粗隸"/>
              </a:rPr>
              <a:t>評量行為要適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348000" y="2492280"/>
            <a:ext cx="53388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文鼎粗隸"/>
              </a:rPr>
              <a:t>有多種評量方法供選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文鼎粗隸"/>
              </a:rPr>
              <a:t>不同方法可以評量的能力面向不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79280" y="635040"/>
            <a:ext cx="67071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alibri"/>
                <a:ea typeface="文鼎粗隸"/>
              </a:rPr>
              <a:t>實施卷宗評量</a:t>
            </a:r>
            <a:r>
              <a:rPr b="1" lang="zh-TW" sz="4400" spc="-1" strike="noStrike">
                <a:solidFill>
                  <a:srgbClr val="000000"/>
                </a:solidFill>
                <a:latin typeface="文鼎粗隸"/>
                <a:ea typeface="文鼎粗隸"/>
              </a:rPr>
              <a:t>的程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42920" y="1989000"/>
            <a:ext cx="5832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卷宗評量又稱檔案評量、卷列評量、個人作品選集評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係指教師指導學生有系統地收集其作品，並置於資料夾內。教師根據資料夾內的作品予以評量，以了解學生之學習過程及結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95280" y="404280"/>
            <a:ext cx="6337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文鼎粗隸"/>
                <a:ea typeface="文鼎粗隸"/>
              </a:rPr>
              <a:t>卷宗評量的適用時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68000" y="2060280"/>
            <a:ext cx="6418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班級人數少，師生個別接觸頻率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各教師之間有共識，願意配合作長期的觀察和紀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學生間能力差異很大，有必要進行個別化的教學與評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40000" y="333360"/>
            <a:ext cx="63468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文鼎粗隸"/>
                <a:ea typeface="文鼎粗隸"/>
              </a:rPr>
              <a:t>如何實施卷宗評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68000" y="2060280"/>
            <a:ext cx="6418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目的與內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文鼎粗隸"/>
                <a:ea typeface="文鼎粗隸"/>
              </a:rPr>
              <a:t>目的敘述：教師要先釐清自己使用這種方法的自我價值，及希望此方法達成什麼目的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300" spc="-1" strike="noStrike">
                <a:solidFill>
                  <a:srgbClr val="000000"/>
                </a:solidFill>
                <a:latin typeface="文鼎粗隸"/>
                <a:ea typeface="文鼎粗隸"/>
              </a:rPr>
              <a:t>卷宗的內容：整理出的卷宗，應足以描述自己的專短處與成長歷程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95640" y="549360"/>
            <a:ext cx="641664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文鼎粗隸"/>
                <a:ea typeface="文鼎粗隸"/>
              </a:rPr>
              <a:t>卷宗評量的實施步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410920" y="2349360"/>
            <a:ext cx="6481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文鼎粗隸"/>
                <a:ea typeface="文鼎粗隸"/>
              </a:rPr>
              <a:t>決定形成卷宗評量的課程目標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文鼎粗隸"/>
                <a:ea typeface="文鼎粗隸"/>
              </a:rPr>
              <a:t>將課程目標化成可觀察的行為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文鼎粗隸"/>
                <a:ea typeface="文鼎粗隸"/>
              </a:rPr>
              <a:t>檢查出課程的範圍及順序，並決定出一個收集證據及完成評估的適當時間架構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文鼎粗隸"/>
                <a:ea typeface="文鼎粗隸"/>
              </a:rPr>
              <a:t>決定卷宗評量模式中的決策者（例如老師、學生、家長等）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25800" y="549000"/>
            <a:ext cx="64864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文鼎粗隸"/>
                <a:ea typeface="文鼎粗隸"/>
              </a:rPr>
              <a:t>卷宗評量的實施步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700000" y="2349360"/>
            <a:ext cx="6264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文鼎粗隸"/>
                <a:ea typeface="文鼎粗隸"/>
              </a:rPr>
              <a:t>決定收集資料的形式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文鼎粗隸"/>
                <a:ea typeface="文鼎粗隸"/>
              </a:rPr>
              <a:t>決定一個能將資料轉換成決策的方法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文鼎粗隸"/>
                <a:ea typeface="文鼎粗隸"/>
              </a:rPr>
              <a:t>建立一個討論及報告評量資料、以及決定進行方式的系統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文鼎粗隸"/>
                <a:ea typeface="文鼎粗隸"/>
              </a:rPr>
              <a:t>建立一系列的卷宗內容及展示品以提供比較之用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95280" y="404640"/>
            <a:ext cx="649116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文鼎粗隸"/>
                <a:ea typeface="文鼎粗隸"/>
              </a:rPr>
              <a:t>如何實施卷宗評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84000" y="2060280"/>
            <a:ext cx="6202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粗隸"/>
                <a:ea typeface="文鼎粗隸"/>
              </a:rPr>
              <a:t>評分準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文鼎粗隸"/>
                <a:ea typeface="文鼎粗隸"/>
              </a:rPr>
              <a:t>強調多元面向與整體的表現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文鼎粗隸"/>
                <a:ea typeface="文鼎粗隸"/>
              </a:rPr>
              <a:t>個人</a:t>
            </a:r>
            <a:r>
              <a:rPr b="0" lang="zh-TW" sz="2500" spc="-1" strike="noStrike">
                <a:solidFill>
                  <a:srgbClr val="000000"/>
                </a:solidFill>
                <a:latin typeface="文鼎粗隸"/>
                <a:ea typeface="文鼎粗隸"/>
              </a:rPr>
              <a:t>整體</a:t>
            </a:r>
            <a:r>
              <a:rPr b="0" lang="zh-TW" sz="2600" spc="-1" strike="noStrike">
                <a:solidFill>
                  <a:srgbClr val="000000"/>
                </a:solidFill>
                <a:latin typeface="文鼎粗隸"/>
                <a:ea typeface="文鼎粗隸"/>
              </a:rPr>
              <a:t>的表現勝過部分的加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文鼎粗隸"/>
                <a:ea typeface="文鼎粗隸"/>
              </a:rPr>
              <a:t>考量部分與整體的對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文鼎粗隸"/>
                <a:ea typeface="文鼎粗隸"/>
              </a:rPr>
              <a:t>實作能力的表現同實作評量的評分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文鼎粗隸"/>
                <a:ea typeface="文鼎粗隸"/>
              </a:rPr>
              <a:t>尋求評分者間開放的對話與討論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680"/>
            <a:ext cx="75787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文鼎粗隸"/>
                <a:ea typeface="文鼎粗隸"/>
              </a:rPr>
              <a:t>卷宗評量 </a:t>
            </a:r>
            <a:r>
              <a:rPr b="1" lang="en-US" sz="4800" spc="-1" strike="noStrike">
                <a:solidFill>
                  <a:srgbClr val="000000"/>
                </a:solidFill>
                <a:latin typeface="文鼎粗隸"/>
                <a:ea typeface="文鼎粗隸"/>
              </a:rPr>
              <a:t>vs.</a:t>
            </a:r>
            <a:r>
              <a:rPr b="1" lang="zh-TW" sz="4800" spc="-1" strike="noStrike">
                <a:solidFill>
                  <a:srgbClr val="000000"/>
                </a:solidFill>
                <a:latin typeface="文鼎粗隸"/>
                <a:ea typeface="文鼎粗隸"/>
              </a:rPr>
              <a:t>傳統評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1219320"/>
          <a:ext cx="8458200" cy="5246640"/>
        </p:xfrm>
        <a:graphic>
          <a:graphicData uri="http://schemas.openxmlformats.org/drawingml/2006/table">
            <a:tbl>
              <a:tblPr/>
              <a:tblGrid>
                <a:gridCol w="1347840"/>
                <a:gridCol w="3592440"/>
                <a:gridCol w="351792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2222"/>
                          </a:solidFill>
                          <a:latin typeface="文鼎粗隸"/>
                          <a:ea typeface="文鼎粗隸"/>
                        </a:rPr>
                        <a:t>卷宗評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文鼎粗隸"/>
                          <a:ea typeface="文鼎粗隸"/>
                        </a:rPr>
                        <a:t>傳統測驗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文鼎粗隸"/>
                          <a:ea typeface="文鼎粗隸"/>
                        </a:rPr>
                        <a:t>評量的範圍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文鼎粗隸"/>
                          <a:ea typeface="文鼎粗隸"/>
                        </a:rPr>
                        <a:t>不受教材範圍限制，可以看到全部學生能力的全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文鼎粗隸"/>
                          <a:ea typeface="文鼎粗隸"/>
                        </a:rPr>
                        <a:t>侷限於教材範圍之內，看不出特優及落後學生能力的全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文鼎粗隸"/>
                          <a:ea typeface="文鼎粗隸"/>
                        </a:rPr>
                        <a:t>評量主要目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2222"/>
                          </a:solidFill>
                          <a:latin typeface="文鼎粗隸"/>
                          <a:ea typeface="文鼎粗隸"/>
                        </a:rPr>
                        <a:t>培養學生自我評鑑、自我改進的能力，養成學生學習責任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2222"/>
                          </a:solidFill>
                          <a:latin typeface="文鼎粗隸"/>
                          <a:ea typeface="文鼎粗隸"/>
                        </a:rPr>
                        <a:t>考核學生學習成果及教師教學效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文鼎粗隸"/>
                          <a:ea typeface="文鼎粗隸"/>
                        </a:rPr>
                        <a:t>評量時學生反應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文鼎粗隸"/>
                          <a:ea typeface="文鼎粗隸"/>
                        </a:rPr>
                        <a:t>以應用綜合層次的、建構式的反應為主。可以參考資料、或共同完成活動設計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2222"/>
                          </a:solidFill>
                          <a:latin typeface="文鼎粗隸"/>
                          <a:ea typeface="文鼎粗隸"/>
                        </a:rPr>
                        <a:t>以知識、理解層次的、選出式的反應為主。不可參考資料，且獨立受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88480" y="309600"/>
            <a:ext cx="758052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文鼎粗隸"/>
                <a:ea typeface="文鼎粗隸"/>
              </a:rPr>
              <a:t>卷宗評量 </a:t>
            </a:r>
            <a:r>
              <a:rPr b="1" lang="en-US" sz="4800" spc="-1" strike="noStrike">
                <a:solidFill>
                  <a:srgbClr val="000000"/>
                </a:solidFill>
                <a:latin typeface="文鼎粗隸"/>
                <a:ea typeface="文鼎粗隸"/>
              </a:rPr>
              <a:t>vs.</a:t>
            </a:r>
            <a:r>
              <a:rPr b="1" lang="zh-TW" sz="4800" spc="-1" strike="noStrike">
                <a:solidFill>
                  <a:srgbClr val="000000"/>
                </a:solidFill>
                <a:latin typeface="文鼎粗隸"/>
                <a:ea typeface="文鼎粗隸"/>
              </a:rPr>
              <a:t>傳統評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68360" y="1197000"/>
          <a:ext cx="8381880" cy="5437080"/>
        </p:xfrm>
        <a:graphic>
          <a:graphicData uri="http://schemas.openxmlformats.org/drawingml/2006/table">
            <a:tbl>
              <a:tblPr/>
              <a:tblGrid>
                <a:gridCol w="1523880"/>
                <a:gridCol w="3657600"/>
                <a:gridCol w="32004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2222"/>
                          </a:solidFill>
                          <a:latin typeface="文鼎粗隸"/>
                          <a:ea typeface="文鼎粗隸"/>
                        </a:rPr>
                        <a:t>卷宗評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文鼎粗隸"/>
                          <a:ea typeface="文鼎粗隸"/>
                        </a:rPr>
                        <a:t>傳統測驗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文鼎粗隸"/>
                          <a:ea typeface="文鼎粗隸"/>
                        </a:rPr>
                        <a:t>適用時機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文鼎粗隸"/>
                          <a:ea typeface="文鼎粗隸"/>
                        </a:rPr>
                        <a:t>小班級、強調個別教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文鼎粗隸"/>
                          <a:ea typeface="文鼎粗隸"/>
                        </a:rPr>
                        <a:t>大班級、有統一教材進度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文鼎粗隸"/>
                          <a:ea typeface="文鼎粗隸"/>
                        </a:rPr>
                        <a:t>個別差異的考慮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2222"/>
                          </a:solidFill>
                          <a:latin typeface="文鼎粗隸"/>
                          <a:ea typeface="文鼎粗隸"/>
                        </a:rPr>
                        <a:t>活動設計中已經考量到學生個別差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2222"/>
                          </a:solidFill>
                          <a:latin typeface="文鼎粗隸"/>
                          <a:ea typeface="文鼎粗隸"/>
                        </a:rPr>
                        <a:t>全部學生使用相同的教材及測驗內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文鼎粗隸"/>
                          <a:ea typeface="文鼎粗隸"/>
                        </a:rPr>
                        <a:t>學生角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2222"/>
                          </a:solidFill>
                          <a:latin typeface="文鼎粗隸"/>
                          <a:ea typeface="文鼎粗隸"/>
                        </a:rPr>
                        <a:t>學習者、求助者、自我評量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2222"/>
                          </a:solidFill>
                          <a:latin typeface="文鼎粗隸"/>
                          <a:ea typeface="文鼎粗隸"/>
                        </a:rPr>
                        <a:t>被評量者、被獎懲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2222"/>
                          </a:solidFill>
                          <a:latin typeface="文鼎粗隸"/>
                          <a:ea typeface="文鼎粗隸"/>
                        </a:rPr>
                        <a:t>家長角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文鼎粗隸"/>
                          <a:ea typeface="文鼎粗隸"/>
                        </a:rPr>
                        <a:t>被邀參與評量及學生學習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2222"/>
                          </a:solidFill>
                          <a:latin typeface="文鼎粗隸"/>
                          <a:ea typeface="文鼎粗隸"/>
                        </a:rPr>
                        <a:t>被告知學生的學習成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2360" y="475920"/>
            <a:ext cx="79995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文鼎粗隸"/>
                <a:ea typeface="文鼎粗隸"/>
              </a:rPr>
              <a:t>卷宗評量 </a:t>
            </a:r>
            <a:r>
              <a:rPr b="1" lang="en-US" sz="4800" spc="-1" strike="noStrike">
                <a:solidFill>
                  <a:srgbClr val="000000"/>
                </a:solidFill>
                <a:latin typeface="文鼎粗隸"/>
                <a:ea typeface="文鼎粗隸"/>
              </a:rPr>
              <a:t>vs.</a:t>
            </a:r>
            <a:r>
              <a:rPr b="1" lang="zh-TW" sz="4800" spc="-1" strike="noStrike">
                <a:solidFill>
                  <a:srgbClr val="000000"/>
                </a:solidFill>
                <a:latin typeface="文鼎粗隸"/>
                <a:ea typeface="文鼎粗隸"/>
              </a:rPr>
              <a:t>傳統評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1981080"/>
          <a:ext cx="8381880" cy="4324320"/>
        </p:xfrm>
        <a:graphic>
          <a:graphicData uri="http://schemas.openxmlformats.org/drawingml/2006/table">
            <a:tbl>
              <a:tblPr/>
              <a:tblGrid>
                <a:gridCol w="1371600"/>
                <a:gridCol w="3657600"/>
                <a:gridCol w="3352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2222"/>
                          </a:solidFill>
                          <a:latin typeface="文鼎粗隸"/>
                          <a:ea typeface="文鼎粗隸"/>
                        </a:rPr>
                        <a:t>卷宗評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文鼎粗隸"/>
                          <a:ea typeface="文鼎粗隸"/>
                        </a:rPr>
                        <a:t>傳統測驗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2222"/>
                          </a:solidFill>
                          <a:latin typeface="文鼎粗隸"/>
                          <a:ea typeface="文鼎粗隸"/>
                        </a:rPr>
                        <a:t>教師角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文鼎粗隸"/>
                          <a:ea typeface="文鼎粗隸"/>
                        </a:rPr>
                        <a:t>活動設計者、顧問、引導激勵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2222"/>
                          </a:solidFill>
                          <a:latin typeface="文鼎粗隸"/>
                          <a:ea typeface="文鼎粗隸"/>
                        </a:rPr>
                        <a:t>考核者、獎懲者、補救教學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文鼎粗隸"/>
                          <a:ea typeface="文鼎粗隸"/>
                        </a:rPr>
                        <a:t>師生關係比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2222"/>
                          </a:solidFill>
                          <a:latin typeface="文鼎粗隸"/>
                          <a:ea typeface="文鼎粗隸"/>
                        </a:rPr>
                        <a:t>像舊式的師徒制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2222"/>
                          </a:solidFill>
                          <a:latin typeface="文鼎粗隸"/>
                          <a:ea typeface="文鼎粗隸"/>
                        </a:rPr>
                        <a:t>像工廠的製造者與其產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文鼎粗隸"/>
                          <a:ea typeface="文鼎粗隸"/>
                        </a:rPr>
                        <a:t>評量結果說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文鼎粗隸"/>
                          <a:ea typeface="文鼎粗隸"/>
                        </a:rPr>
                        <a:t>學生的努力、進步與成就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2222"/>
                          </a:solidFill>
                          <a:latin typeface="文鼎粗隸"/>
                          <a:ea typeface="文鼎粗隸"/>
                        </a:rPr>
                        <a:t>只有學生成就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50920" y="1773360"/>
          <a:ext cx="8497800" cy="4508280"/>
        </p:xfrm>
        <a:graphic>
          <a:graphicData uri="http://schemas.openxmlformats.org/drawingml/2006/table">
            <a:tbl>
              <a:tblPr/>
              <a:tblGrid>
                <a:gridCol w="1312920"/>
                <a:gridCol w="2038320"/>
                <a:gridCol w="1285920"/>
                <a:gridCol w="1287360"/>
                <a:gridCol w="1285920"/>
                <a:gridCol w="12873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6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教學內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66ff"/>
                        </a:gs>
                        <a:gs pos="100000">
                          <a:srgbClr val="2f2f7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6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敎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6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6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目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6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4776"/>
                        </a:gs>
                        <a:gs pos="50000">
                          <a:srgbClr val="3399ff"/>
                        </a:gs>
                        <a:gs pos="100000">
                          <a:srgbClr val="184776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6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知識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4776"/>
                        </a:gs>
                        <a:gs pos="50000">
                          <a:srgbClr val="3399ff"/>
                        </a:gs>
                        <a:gs pos="100000">
                          <a:srgbClr val="184776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971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971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80e3"/>
                    </a:solidFill>
                  </a:tcPr>
                </a:tc>
              </a:tr>
              <a:tr h="12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6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理解與問題解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2f5e"/>
                        </a:gs>
                        <a:gs pos="50000">
                          <a:srgbClr val="0066cc"/>
                        </a:gs>
                        <a:gs pos="100000">
                          <a:srgbClr val="002f5e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3589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3589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6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技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4776"/>
                        </a:gs>
                        <a:gs pos="50000">
                          <a:srgbClr val="3399ff"/>
                        </a:gs>
                        <a:gs pos="100000">
                          <a:srgbClr val="184776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971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971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80e3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6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產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2f5e"/>
                        </a:gs>
                        <a:gs pos="50000">
                          <a:srgbClr val="0066cc"/>
                        </a:gs>
                        <a:gs pos="100000">
                          <a:srgbClr val="002f5e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3589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3589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3589d">
                        <a:alpha val="48000"/>
                      </a:srgbClr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6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情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4776"/>
                        </a:gs>
                        <a:gs pos="50000">
                          <a:srgbClr val="3399ff"/>
                        </a:gs>
                        <a:gs pos="100000">
                          <a:srgbClr val="184776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971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8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971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80e3"/>
                    </a:solidFill>
                  </a:tcPr>
                </a:tc>
              </a:tr>
            </a:tbl>
          </a:graphicData>
        </a:graphic>
      </p:graphicFrame>
      <p:sp>
        <p:nvSpPr>
          <p:cNvPr id="202" name="Rectangle 175"/>
          <p:cNvSpPr/>
          <p:nvPr/>
        </p:nvSpPr>
        <p:spPr>
          <a:xfrm>
            <a:off x="1116000" y="40464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多元評量適用之雙向細目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692316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alibri"/>
                <a:ea typeface="文鼎粗隸"/>
              </a:rPr>
              <a:t>如何實施有系統的評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27280" y="2637000"/>
            <a:ext cx="605952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各種評量措施隱含不同之學習理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實施紙筆式評量的程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Calibri"/>
                <a:ea typeface="文鼎粗隸"/>
              </a:rPr>
              <a:t>實施實作評量</a:t>
            </a: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的程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Calibri"/>
                <a:ea typeface="文鼎粗隸"/>
              </a:rPr>
              <a:t>實施卷宗評量</a:t>
            </a: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的程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4000" y="358920"/>
            <a:ext cx="6659640" cy="7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文鼎粗隸"/>
                <a:ea typeface="文鼎粗隸"/>
              </a:rPr>
              <a:t>實施紙筆式評量的程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773440" y="2492280"/>
            <a:ext cx="591336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決定評量的目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擬定教學目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制定雙向細目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編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試題分析與選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粗隸"/>
                <a:ea typeface="文鼎粗隸"/>
              </a:rPr>
              <a:t>定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華康隸書體W3"/>
                <a:ea typeface="華康隸書體W3"/>
              </a:rPr>
              <a:t>設計雙向細目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Object 3" descr=""/>
          <p:cNvPicPr/>
          <p:nvPr/>
        </p:nvPicPr>
        <p:blipFill>
          <a:blip r:embed="rId2"/>
          <a:stretch/>
        </p:blipFill>
        <p:spPr>
          <a:xfrm>
            <a:off x="1517760" y="1395360"/>
            <a:ext cx="6092640" cy="404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Object 4"/>
          <p:cNvGraphicFramePr/>
          <p:nvPr/>
        </p:nvGraphicFramePr>
        <p:xfrm>
          <a:off x="838080" y="1390680"/>
          <a:ext cx="8305920" cy="5467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390680"/>
                    <a:ext cx="83059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新細明體"/>
              </a:rPr>
              <a:t>94</a:t>
            </a:r>
            <a:r>
              <a:rPr b="0" lang="zh-TW" sz="4000" spc="-1" strike="noStrike">
                <a:solidFill>
                  <a:srgbClr val="000000"/>
                </a:solidFill>
                <a:latin typeface="Calibri"/>
                <a:ea typeface="新細明體"/>
              </a:rPr>
              <a:t>指考生物雙向細目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Espace réservé du texte 2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05636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08:10:30Z</dcterms:created>
  <dc:creator>user</dc:creator>
  <dc:description/>
  <dc:language>en-US</dc:language>
  <cp:lastModifiedBy>user</cp:lastModifiedBy>
  <dcterms:modified xsi:type="dcterms:W3CDTF">2010-12-02T01:11:17Z</dcterms:modified>
  <cp:revision>67</cp:revision>
  <dc:subject/>
  <dc:title>教學評量的 基本概念與實施</dc:title>
</cp:coreProperties>
</file>