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AB0-5512-4770-A214-32EB3265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C6E-0D02-4A38-ABB5-D8465D18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C6A-48DF-4121-BB15-99F97674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628-D54C-47A1-822C-B1FD4314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632F-690C-4B19-A417-ACE53018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0023-7CB7-4D0C-A7DC-80D0D87A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F04C-00F5-4CC0-A3AC-66608024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C952-869F-4ED5-89FF-B2428492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559D-62C5-4DC3-9091-D8D25A78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01C0-EC04-437C-8CED-FDA612E8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99E1-5F97-4525-9A9B-51155449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E67-7B00-4C9D-ACA7-C441881C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837C-253E-4A6A-A890-66BD4669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E33A-73FD-4D84-A63B-B33B3044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A59C-2E66-415F-951A-41A7A465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D0F1-AE1A-4B99-ABE7-40FD25D9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5B67-A11A-44DB-A46C-CF7A46E2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09B-C85A-4F1C-B476-9C973557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054-69D5-4A21-8AFD-7EA55114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CE5-8587-4D42-8C77-B8BACF56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C3C-64E1-40FA-B8D1-C86DE0BB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F50-7EFB-4ED8-9DF6-2062C7B1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8397-9683-44BF-8633-2A4F100B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086-DB7D-4095-9E40-13708522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8688-B1E5-4167-A1DC-53C96EF24C5F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AD40-A297-4138-8378-A5A429834DF5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jjh.tpc.edu.tw/mediafile/492/news/59/2009-11/2.&#20197;&#26292;&#21147;&#30332;&#27945;&#24773;&#32210;.mpg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jjh.tpc.edu.tw/mediafile/492/news/59/2009-11/&#23567;&#23401;&#19981;&#31528;2.wmv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6408720" cy="201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迎向陽光—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學生行為輔導與策略</a:t>
            </a:r>
            <a:r>
              <a:rPr b="0" lang="zh-TW" sz="60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44370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分享者：蔡志彥主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258920" y="620280"/>
            <a:ext cx="7416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ff"/>
                </a:solidFill>
                <a:latin typeface="標楷體"/>
                <a:ea typeface="標楷體"/>
              </a:rPr>
              <a:t>資源 放錯地方 就是垃圾</a:t>
            </a:r>
            <a:br>
              <a:rPr sz="2800"/>
            </a:br>
            <a:r>
              <a:rPr b="1" lang="zh-TW" sz="2800" spc="-1" strike="noStrike">
                <a:solidFill>
                  <a:srgbClr val="3333ff"/>
                </a:solidFill>
                <a:latin typeface="標楷體"/>
                <a:ea typeface="標楷體"/>
              </a:rPr>
              <a:t>垃圾 放對地方 就是資源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賞識，是一股最大的推動力，因為你簡單的幾個字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幾句話，或是你的一個動作，一個表情，已經改變了很多事情，也許，你自己都不知道呢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小孩不笨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」片中以家長及老師管教子女時，所面對的困難為主題，真實反映青少年在學校及家庭裡所需面對的壓力。體會到孩子們不只是需要父母親及老師的關愛，他們更需要父母親及老師給予他們的賞識及肯定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提醒我們多賞識別人，多看優點，讓每個人的潛能發揮出來。父母及老師以身作則示範正向語言表達方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四、建立良好親師生關係的重要因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正向能量來面對自己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以身作則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欣賞自己做的不錯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給予自己讚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看對方優點、少批判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運用自己和他人內在的資源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6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種下希望的種子、提高自我價值相信自己和別人都是有能力的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好、你好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標楷體"/>
              </a:rPr>
              <a:t>五、學生輔導策略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7920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一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衝動過動的學生特質 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­­­</a:t>
            </a:r>
            <a:r>
              <a:rPr b="0" lang="zh-TW" sz="3200" spc="-1" strike="noStrike" u="sng">
                <a:solidFill>
                  <a:srgbClr val="00b200"/>
                </a:solidFill>
                <a:uFillTx/>
                <a:latin typeface="標楷體"/>
                <a:ea typeface="標楷體"/>
                <a:hlinkClick r:id="rId1"/>
              </a:rPr>
              <a:t>火爆型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管理規則化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指令要─簡單、正向、清楚、可行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zh-TW" sz="2600" spc="-1" strike="noStrike">
                <a:solidFill>
                  <a:srgbClr val="cc00ff"/>
                </a:solidFill>
                <a:latin typeface="標楷體"/>
                <a:ea typeface="標楷體"/>
              </a:rPr>
              <a:t>《換句話說》→聽其言，滿足其需求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我知道你敲打同學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我猜你打他一定有一好理由吧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你不可以敲打同學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少用你不可以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)→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你可以說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善用你可以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你還可以有甚麼好方法來達到你的期待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訂定可以改善的契約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04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阻止傷害他人的行為，讓其瞭解行為後果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瞭解其生活出現什麼問題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了解引發暴力 的內在可能原因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協助其找到好的問題解決方法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協助其找到自我尊重、更欣賞自己、喜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自己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提供使其放鬆的運動或活動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善用其能量，提供成功的舞台，有正向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現的機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omic Sans MS"/>
                <a:ea typeface="標楷體"/>
              </a:rPr>
              <a:t>了解引發暴力的內在可能原因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沮喪、孤單、無力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試圖控制別人、內心感到脆弱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受不了家庭變故或困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家庭缺乏溫暖及情感交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個人有缺點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課業趕不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無法滿足父母、師長期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被別人欺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414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對火爆者瞭解其情緒原點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標楷體"/>
              </a:rPr>
              <a:t>有哪些被壓抑的傷痛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標楷體"/>
              </a:rPr>
              <a:t>內在有何害怕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標楷體"/>
              </a:rPr>
              <a:t>家庭互動中出現哪些問題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標楷體"/>
              </a:rPr>
              <a:t>學校生活中出現哪些問題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標楷體"/>
              </a:rPr>
              <a:t>協助找到情緒出口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標楷體"/>
              </a:rPr>
              <a:t>協助其走出傷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標楷體"/>
              </a:rPr>
              <a:t>找出其成就感來源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火爆型溝通管道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71720" y="1213920"/>
            <a:ext cx="8229600" cy="7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  <a:ea typeface="標楷體"/>
              </a:rPr>
              <a:t>指責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3000240" y="15717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788000" y="206064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500720" y="1214280"/>
            <a:ext cx="4071960" cy="70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期待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2400" spc="-1" strike="noStrike">
                <a:solidFill>
                  <a:srgbClr val="002060"/>
                </a:solidFill>
                <a:latin typeface="Arial"/>
                <a:ea typeface="標楷體"/>
              </a:rPr>
              <a:t>你希望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字方塊 6"/>
          <p:cNvSpPr/>
          <p:nvPr/>
        </p:nvSpPr>
        <p:spPr>
          <a:xfrm>
            <a:off x="500040" y="1916280"/>
            <a:ext cx="8643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常見型態，你將如何應對？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（此類型是老師最容易被激起情緒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b200"/>
                </a:solidFill>
                <a:latin typeface="標楷體"/>
                <a:ea typeface="標楷體"/>
              </a:rPr>
              <a:t>〈憤怒型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        </a:t>
            </a:r>
            <a:r>
              <a:rPr b="1" lang="zh-TW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你很生氣老師要求你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你希望老師如何協助你呢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你對老師大聲吼叫有沒有效果呢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如果仍無法改善你想可以用什麼好方法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"/>
          <p:cNvSpPr/>
          <p:nvPr/>
        </p:nvSpPr>
        <p:spPr>
          <a:xfrm>
            <a:off x="1763640" y="4869000"/>
            <a:ext cx="70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Arial"/>
                <a:ea typeface="標楷體"/>
              </a:rPr>
              <a:t>善用可激發潛能的資源：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自我爭取、有領導才能、有能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Arial"/>
                <a:ea typeface="標楷體"/>
              </a:rPr>
              <a:t>如何讓其有成就感，協助他找到正向合理的期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Arial"/>
                <a:ea typeface="標楷體"/>
              </a:rPr>
              <a:t>需給學生一點時間陪伴同理，才能協助其放下不合理的期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8"/>
          <p:cNvSpPr/>
          <p:nvPr/>
        </p:nvSpPr>
        <p:spPr>
          <a:xfrm>
            <a:off x="755640" y="36450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b200"/>
                </a:solidFill>
                <a:latin typeface="標楷體"/>
                <a:ea typeface="標楷體"/>
              </a:rPr>
              <a:t>〈推卸型〉</a:t>
            </a:r>
            <a:r>
              <a:rPr b="1" lang="zh-TW" sz="1800" spc="-1" strike="noStrike">
                <a:solidFill>
                  <a:srgbClr val="002060"/>
                </a:solidFill>
                <a:latin typeface="Arial"/>
              </a:rPr>
              <a:t>都是他先欺負我， 你要教他們不要欺負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你很生氣他們如此對你，你用過什麼有效的方法讓他們不會欺負你呢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我們一起討論，看看有什麼方法可以讓同學和你相處更愉快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二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衝動的學生特質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­­­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打岔型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了解其打岔的可能原因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引起注意、無聊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善用可激發潛能的資源：幽默、自發性、創造力、好玩、有彈性</a:t>
            </a: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找到他有興趣的部分才能夠使 他注意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善用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非語言溝通策略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身體接近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輕拍背部、按摩背部、擁抱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臨近增強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比你很棒的手勢、微笑的眼神提示行為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搖手、搖頭、禁止訊息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打岔型溝通門道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  <a:ea typeface="標楷體"/>
              </a:rPr>
              <a:t>打岔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2786040" y="1928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788000" y="206064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4286160" y="1571760"/>
            <a:ext cx="39290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情境：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何才會舒服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字方塊 12"/>
          <p:cNvSpPr/>
          <p:nvPr/>
        </p:nvSpPr>
        <p:spPr>
          <a:xfrm>
            <a:off x="714240" y="2500200"/>
            <a:ext cx="771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b200"/>
                </a:solidFill>
                <a:latin typeface="標楷體"/>
                <a:ea typeface="標楷體"/>
              </a:rPr>
              <a:t>〈放任型〉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我忘了帶課本回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你要記得的事好多喔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!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你覺做甚麼事你比較容易記住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     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你最關心的是什麼？有沒有好方法可以記住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b200"/>
                </a:solidFill>
                <a:latin typeface="標楷體"/>
                <a:ea typeface="標楷體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字方塊 13"/>
          <p:cNvSpPr/>
          <p:nvPr/>
        </p:nvSpPr>
        <p:spPr>
          <a:xfrm>
            <a:off x="826920" y="3857760"/>
            <a:ext cx="78170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b200"/>
                </a:solidFill>
                <a:latin typeface="標楷體"/>
                <a:ea typeface="標楷體"/>
              </a:rPr>
              <a:t>〈口是心非型〉</a:t>
            </a:r>
            <a:r>
              <a:rPr b="1" lang="zh-TW" sz="1800" spc="-1" strike="noStrike">
                <a:solidFill>
                  <a:srgbClr val="2d2d8a"/>
                </a:solidFill>
                <a:latin typeface="標楷體"/>
                <a:ea typeface="標楷體"/>
              </a:rPr>
              <a:t>我會努力配合老師，但事實上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b200"/>
                </a:solidFill>
                <a:latin typeface="標楷體"/>
                <a:ea typeface="標楷體"/>
              </a:rPr>
              <a:t>   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很高興你能努力，讓我感動你能夠努力一部分來配合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哪些部分你覺得自己已做到了呢？如何才能讓你學習更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8"/>
          <p:cNvSpPr/>
          <p:nvPr/>
        </p:nvSpPr>
        <p:spPr>
          <a:xfrm>
            <a:off x="1908000" y="4941720"/>
            <a:ext cx="6950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善用可激發潛能的資源：幽默、自發性、創造力、好玩、有彈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找到他有興趣的部分才能夠使他注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三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脆弱型學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善用可激發潛能的資源：關懷的、靈敏的、善良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同理他的情緒，協助他找到正向的能量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改變激怒他人的言行舉止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練習果決的反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建立自信、建立盟友（鼓勵發展興趣給予成就感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學習各種避免或逃脫險境的方法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同儕支持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小義工給予果敢表達示範與陪伴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社交技巧、情緒管理訓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自我概念及自信心的提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003640" y="1557360"/>
            <a:ext cx="3854520" cy="4608360"/>
          </a:xfrm>
          <a:prstGeom prst="rect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omic Sans MS"/>
                <a:ea typeface="標楷體"/>
              </a:rPr>
              <a:t>一</a:t>
            </a:r>
            <a:r>
              <a:rPr b="1" lang="zh-TW" sz="4000" spc="-1" strike="noStrike">
                <a:solidFill>
                  <a:srgbClr val="ff0000"/>
                </a:solidFill>
                <a:latin typeface="Comic Sans MS"/>
              </a:rPr>
              <a:t>、</a:t>
            </a:r>
            <a:r>
              <a:rPr b="1" lang="zh-TW" sz="4000" spc="-1" strike="noStrike">
                <a:solidFill>
                  <a:srgbClr val="ff0000"/>
                </a:solidFill>
                <a:latin typeface="Comic Sans MS"/>
                <a:ea typeface="標楷體"/>
              </a:rPr>
              <a:t>你如何瞭解學生內心好不好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4248000" cy="5472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0K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的狀況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尊重自己與他人         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能夠探索不同的觀點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展現推理能力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可以分享想法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能覺察自己的行為，有公平公正的觀念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有信心嘗試新事物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果斷而非攻擊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能察覺他人需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003640" y="1773360"/>
            <a:ext cx="374508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不好的狀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語言攻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肢體攻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快速但不平衡的成長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鱉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靜不下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懶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學習表現很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沉默不說話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16480" y="119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00ff"/>
                </a:solidFill>
                <a:latin typeface="Comic Sans MS"/>
              </a:rPr>
              <a:t>成長的挫折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712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  <a:ea typeface="標楷體"/>
              </a:rPr>
              <a:t>討好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4"/>
          <p:cNvSpPr/>
          <p:nvPr/>
        </p:nvSpPr>
        <p:spPr>
          <a:xfrm>
            <a:off x="2987640" y="1916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788000" y="206064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429080" y="1571760"/>
            <a:ext cx="4070520" cy="703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感受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2400" spc="-1" strike="noStrike">
                <a:solidFill>
                  <a:srgbClr val="002060"/>
                </a:solidFill>
                <a:latin typeface="Arial"/>
                <a:ea typeface="標楷體"/>
              </a:rPr>
              <a:t>你很難過</a:t>
            </a:r>
            <a:r>
              <a:rPr b="1" lang="zh-TW" sz="2400" spc="-1" strike="noStrike">
                <a:solidFill>
                  <a:srgbClr val="002060"/>
                </a:solidFill>
                <a:latin typeface="Arial"/>
                <a:ea typeface="標楷體"/>
              </a:rPr>
              <a:t>,</a:t>
            </a:r>
            <a:r>
              <a:rPr b="1" lang="zh-TW" sz="2400" spc="-1" strike="noStrike">
                <a:solidFill>
                  <a:srgbClr val="002060"/>
                </a:solidFill>
                <a:latin typeface="Arial"/>
                <a:ea typeface="標楷體"/>
              </a:rPr>
              <a:t>因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2"/>
          <p:cNvSpPr/>
          <p:nvPr/>
        </p:nvSpPr>
        <p:spPr>
          <a:xfrm>
            <a:off x="324000" y="2492280"/>
            <a:ext cx="9144000" cy="24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7030a0"/>
                </a:solidFill>
                <a:latin typeface="標楷體"/>
                <a:ea typeface="標楷體"/>
              </a:rPr>
              <a:t>常見學生型態，你將如何應對？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（此類型是老師最能應付的是受教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b200"/>
                </a:solidFill>
                <a:latin typeface="標楷體"/>
                <a:ea typeface="標楷體"/>
              </a:rPr>
              <a:t>〈憂鬱型〉</a:t>
            </a:r>
            <a:r>
              <a:rPr b="1" lang="zh-TW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我覺得很難過他人都不喜歡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你很擔心同學都不喜歡你？你有哪些方面是很不錯的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我們一起來想一想你擔心的部分，如何可以讓他更改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3"/>
          <p:cNvSpPr/>
          <p:nvPr/>
        </p:nvSpPr>
        <p:spPr>
          <a:xfrm>
            <a:off x="1835280" y="5500800"/>
            <a:ext cx="66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Arial"/>
                <a:ea typeface="標楷體"/>
              </a:rPr>
              <a:t>善用可激發潛能的資源：關懷的、靈敏的、善良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Arial"/>
                <a:ea typeface="標楷體"/>
              </a:rPr>
              <a:t>同理他的情緒，協助他找到正向的能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8"/>
          <p:cNvSpPr/>
          <p:nvPr/>
        </p:nvSpPr>
        <p:spPr>
          <a:xfrm>
            <a:off x="214200" y="3786120"/>
            <a:ext cx="84297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b200"/>
                </a:solidFill>
                <a:latin typeface="標楷體"/>
                <a:ea typeface="標楷體"/>
              </a:rPr>
              <a:t>（無力型） 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我不想進教室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我</a:t>
            </a:r>
            <a:r>
              <a:rPr b="1" lang="zh-TW" sz="1800" spc="-1" strike="noStrike">
                <a:solidFill>
                  <a:srgbClr val="002060"/>
                </a:solidFill>
                <a:latin typeface="標楷體"/>
                <a:ea typeface="標楷體"/>
              </a:rPr>
              <a:t>該怎麼辦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面對要進教室，你覺得有壓力嗎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?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說說你害怕甚麼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我發現你在什麼課表現不錯，可見你有能力做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想一想，害怕進教室的原因是什麼？ 有甚麼方法可以克服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6364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     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討好型溝通管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有智慧老師的快樂之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26560" y="1125360"/>
            <a:ext cx="7705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行楷"/>
                <a:ea typeface="文鼎粗行楷"/>
              </a:rPr>
              <a:t>凡生命都需被溫柔對待，愛能改變一切，若能多分享一點愛給他人，世界可以變的更美好，願喜樂常與我們同在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文鼎粗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行楷"/>
                <a:ea typeface="文鼎粗行楷"/>
              </a:rPr>
              <a:t>當瞭解學生需求時，可以更進入其內心世界， 他可以快樂的學習，用愛及看到他的優勢能力，提供成就感，他可以激發潛能、迎向陽光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圖片 3" descr="快樂彩虹.gif"/>
          <p:cNvPicPr/>
          <p:nvPr/>
        </p:nvPicPr>
        <p:blipFill>
          <a:blip r:embed="rId1"/>
          <a:stretch/>
        </p:blipFill>
        <p:spPr>
          <a:xfrm>
            <a:off x="250920" y="189000"/>
            <a:ext cx="928440" cy="90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73422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二</a:t>
            </a:r>
            <a:r>
              <a:rPr b="1" lang="zh-TW" sz="3600" spc="-1" strike="noStrike">
                <a:solidFill>
                  <a:srgbClr val="ff0000"/>
                </a:solidFill>
                <a:latin typeface="Comic Sans MS"/>
              </a:rPr>
              <a:t>、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 態度改變，孩子的心人生也會改變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686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http://www.youtube.com/watch?v=8ayQKE3Jpb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3" descr="圖1"/>
          <p:cNvPicPr/>
          <p:nvPr/>
        </p:nvPicPr>
        <p:blipFill>
          <a:blip r:embed="rId1"/>
          <a:stretch/>
        </p:blipFill>
        <p:spPr>
          <a:xfrm>
            <a:off x="1042920" y="3141720"/>
            <a:ext cx="2952720" cy="2259000"/>
          </a:xfrm>
          <a:prstGeom prst="rect">
            <a:avLst/>
          </a:prstGeom>
          <a:ln w="57240">
            <a:solidFill>
              <a:srgbClr val="00b2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4140360" y="4005360"/>
            <a:ext cx="1296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圖片 5" descr="放輕鬆.gif"/>
          <p:cNvPicPr/>
          <p:nvPr/>
        </p:nvPicPr>
        <p:blipFill>
          <a:blip r:embed="rId2"/>
          <a:stretch/>
        </p:blipFill>
        <p:spPr>
          <a:xfrm>
            <a:off x="5508720" y="3141720"/>
            <a:ext cx="29509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630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omic Sans MS"/>
                <a:ea typeface="標楷體"/>
              </a:rPr>
              <a:t>三</a:t>
            </a:r>
            <a:r>
              <a:rPr b="1" lang="zh-TW" sz="4000" spc="-1" strike="noStrike">
                <a:solidFill>
                  <a:srgbClr val="ff0000"/>
                </a:solidFill>
                <a:latin typeface="Comic Sans MS"/>
              </a:rPr>
              <a:t>、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從正向角度看學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8360" y="2421000"/>
            <a:ext cx="4762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684360" y="981000"/>
          <a:ext cx="8064000" cy="5184360"/>
        </p:xfrm>
        <a:graphic>
          <a:graphicData uri="http://schemas.openxmlformats.org/drawingml/2006/table">
            <a:tbl>
              <a:tblPr/>
              <a:tblGrid>
                <a:gridCol w="1809000"/>
                <a:gridCol w="3126960"/>
                <a:gridCol w="3128040"/>
              </a:tblGrid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常見問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換個角度正向看優勢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對策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衝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彈性度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供活動讓衝動舒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數數深呼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沒耐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有智慧的持續作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探索其有能力及興趣的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不服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自主獨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聽其言和他討論他能作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做事不考慮後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勇於冒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鼓勵其冒險敢衝的動力和其討論可能的後果，增進思辨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攻擊性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情緒敏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供活動舒解情緒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,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了解其情緒原點，減少前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憂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自我要求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供小成功表現的機會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給予適切鼓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你覺自己是好老師嗎</a:t>
            </a: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07640" y="765000"/>
            <a:ext cx="5543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嚴格但是公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尊重學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作一好榜樣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重視學生個別差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耐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願意傾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理解與關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傾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熱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幽默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3422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Comic Sans MS"/>
                <a:ea typeface="標楷體"/>
              </a:rPr>
              <a:t>我看見學生的哪些天才呢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標楷體"/>
              </a:rPr>
              <a:t>正向思考帶給學生更多的能量與鼓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以學生為榮，因為我欣賞他……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帶給學生哪些正面的影響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聽到學生的哪些好訊息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讓學生有哪些表現的機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對學生懷抱希望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00b200"/>
                </a:solidFill>
                <a:uFillTx/>
                <a:latin typeface="Comic Sans MS"/>
                <a:ea typeface="標楷體"/>
                <a:hlinkClick r:id="rId1"/>
              </a:rPr>
              <a:t>讚美的力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76720" y="2565360"/>
            <a:ext cx="2362320" cy="2449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219640" y="5013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50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人讚美的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476360" y="2492280"/>
            <a:ext cx="2592360" cy="2449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692360" y="134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被罵的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054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Comic Sans MS"/>
                <a:ea typeface="標楷體"/>
              </a:rPr>
              <a:t>我看見學生的哪些天才呢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善用正向一致性的溝通策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善用鼓勵策略：指出你觀察到的正面特質、正向回饋多，學生會發展更多正面的自我形象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我覺得你………，因為………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a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採用完整語句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含時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地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人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事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物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要素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b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即時原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c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採用當事人喜歡的稱讚方式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d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善用其他情境，以增強讚賞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14040" y="836280"/>
            <a:ext cx="72579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具體責備部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使用完整句子，並說明欲取代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正確行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b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次只責備一個行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c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當出現改善行為時，立即稱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d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用堅定口氣，並用身體語言加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e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必須靠近孩子身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f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自己的情緒不要失去控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7:16:09Z</dcterms:created>
  <dc:creator>user</dc:creator>
  <dc:description/>
  <dc:language>en-US</dc:language>
  <cp:lastModifiedBy>user</cp:lastModifiedBy>
  <dcterms:modified xsi:type="dcterms:W3CDTF">2010-12-08T07:55:29Z</dcterms:modified>
  <cp:revision>8</cp:revision>
  <dc:subject/>
  <dc:title>迎向陽光--</dc:title>
</cp:coreProperties>
</file>