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BE0-C5FF-4E94-8DAE-7A9F9765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3BD-C48D-43EA-B5BB-FDB0F7C9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58A-5502-47CE-AB0F-0F65B4B2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00B-DB2D-472B-A1AC-08A64902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5958-8C0D-4C6C-93BE-ABF2D95C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53ED-107F-4002-9E1B-44594714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FCB8-F8F8-4C48-B32F-5DBB648A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B1F2-6E73-4911-AF0A-A90C0178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3CC5-CE58-4D67-B360-26749A97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CA59-19E1-4D7A-BAFB-4FF2F43D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2057-B370-4BEF-AAF3-E0DA48F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934-FE9E-45F7-88BE-3ACF9A03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6078-49FA-47FB-8E8D-700B1D5B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4037-2060-404E-AA36-26553D3B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0396-2E72-4B7F-9439-9801F1B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3B2D-CD12-4127-8458-8351964E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F8C9-684B-4E11-A627-A283F5C1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778-6FE5-4C6E-B2F8-8AB3584B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52D-DCB5-483D-AA9A-D2A8E614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4AB-B59C-49ED-945A-D82DF09F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13B-0034-48C8-A76B-0EA19BA4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130-75EA-4E23-93D3-0C7BAC89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218-D155-44B1-AE42-2852F5B7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875-84EF-40E6-B972-73346F49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BE68-CD22-4EB2-91BF-68442E6A23D1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321E-8DE5-452D-9E85-E2B2F45351F9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經營分享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永慶高中學務主任 蔡志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常規訂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39640" y="2491920"/>
            <a:ext cx="441972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實務討論與分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學習情境佈置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Tahoma"/>
                <a:ea typeface="標楷體"/>
              </a:rPr>
              <a:t>目的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擴展學習深度與廣度、提升學生學習興趣、增進學生思考與欣賞機會、豐富學習內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Tahoma"/>
                <a:ea typeface="標楷體"/>
              </a:rPr>
              <a:t>原則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整體性、教育性、合作性、創新性、需要性、安全性、經濟性、可替換性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Tahoma"/>
                <a:ea typeface="標楷體"/>
              </a:rPr>
              <a:t>範圍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採光、通風、噪音、設備（桌椅、講桌、）座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學習情境佈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2017440"/>
            <a:ext cx="82090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Tahoma"/>
                <a:ea typeface="標楷體"/>
              </a:rPr>
              <a:t>項目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：榮譽榜、意見箱、圖書區、學習專      欄（學生作品、每日一詞、每週一 句）、相關視聽器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注意事項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過程：事先規劃、共同參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技巧：重複利用、空間應用、色彩協調、資料及作品展示位置、管理更換方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氣氛經營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影響因素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教師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人格特質、領導方式、對學生的期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學生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儕關係、次級文化（同學團體的價值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與行為模式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師生關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平等關係、雙向交流、溝通協商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相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氣氛經營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345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策略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折衷式領導、適度的期望、搭起師生溝通的橋樑、培養個人幽默感、了解學生、輔導學生自我肯定、鼓勵學生自我超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師生溝通互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好老師的特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課堂教學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聲音宏亮有朝氣、擅於言詞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氣氛輕鬆、知識豐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待人處事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明白、誠懇告知學生錯誤；風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幽默…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影響因素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教師部分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教師權威、人格特質、專業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力（聽、說及覺察）教學經驗、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師期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學生部分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學生舊經驗、學生期待、學生的偏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其他部分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座位安排、非語言訊息（文字、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具、手勢、肢體動作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師生溝通互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師生溝通互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489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有效溝通原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接納了解學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善用肢體語言（點頭、微笑、眼光注視…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控制情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發揮幽默的力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多鼓勵讚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違規行為處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146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違規行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包括擾亂秩序及影響教學效果的行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原因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教師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教學準備、人格特質、領導方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學生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生理特質、想獲得注意、無聊或無助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習成就欠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環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座位安排、班級氣氛、師生關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其他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家庭因素、班級大小、教材內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處理方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有效預防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：訂定班規、明確表達教師期望、審慎安排教學活動、給予成功的經驗、良好的師生關係、多與家長聯繫、了解學生的背景問題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適當處理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保留孩子的自尊和顏面、儘量採用私下糾正方式、澄清學生不當行為的輕重、平等對待每位學生、不影響教學、採取消弱策略、使用肢體語言、適度的幽默感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違規行為處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4967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經營的意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班級經營是</a:t>
            </a:r>
            <a:r>
              <a:rPr b="0" lang="zh-TW" sz="3200" spc="-1" strike="noStrike">
                <a:solidFill>
                  <a:srgbClr val="ff0000"/>
                </a:solidFill>
                <a:latin typeface="Tahoma"/>
                <a:ea typeface="標楷體"/>
              </a:rPr>
              <a:t>以「班級」為單位，以「老師」為中心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，以</a:t>
            </a: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科學的方法、人性化的理念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，配合</a:t>
            </a:r>
            <a:r>
              <a:rPr b="0" lang="zh-TW" sz="3200" spc="-1" strike="noStrike">
                <a:solidFill>
                  <a:srgbClr val="336600"/>
                </a:solidFill>
                <a:latin typeface="Tahoma"/>
                <a:ea typeface="標楷體"/>
              </a:rPr>
              <a:t>社會的需求，學校的目標，家長的期望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透過老師做</a:t>
            </a:r>
            <a:r>
              <a:rPr b="0" lang="zh-TW" sz="3200" spc="-1" strike="noStrike">
                <a:solidFill>
                  <a:srgbClr val="800000"/>
                </a:solidFill>
                <a:latin typeface="Tahoma"/>
                <a:ea typeface="標楷體"/>
              </a:rPr>
              <a:t>適當的規劃推動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，達到</a:t>
            </a:r>
            <a:r>
              <a:rPr b="0" lang="zh-TW" sz="3200" spc="-1" strike="noStrike">
                <a:solidFill>
                  <a:srgbClr val="9900cc"/>
                </a:solidFill>
                <a:latin typeface="Tahoma"/>
                <a:ea typeface="標楷體"/>
              </a:rPr>
              <a:t>健全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學生</a:t>
            </a:r>
            <a:r>
              <a:rPr b="0" lang="zh-TW" sz="3200" spc="-1" strike="noStrike">
                <a:solidFill>
                  <a:srgbClr val="9900cc"/>
                </a:solidFill>
                <a:latin typeface="Tahoma"/>
                <a:ea typeface="標楷體"/>
              </a:rPr>
              <a:t>身心發展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的目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親師合作策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Tahoma"/>
                <a:ea typeface="標楷體"/>
              </a:rPr>
              <a:t>家長的角色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教學的支援者、教師的合夥人、學習的協助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Tahoma"/>
                <a:ea typeface="標楷體"/>
              </a:rPr>
              <a:t>家長應該知道的事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教師對學生的期望、期望達成的方式，子女在學校的表現、他們能提供的協助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親師溝通的方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聯絡簿、通知、電話聯絡、調查表、班級網頁、電子郵件、班刊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親師溝通的內容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報告孩子優良表現、異常或特殊意外事件、在校學習狀況、協助配合事項、學校重要活動、溝通觀念、關心學生健康情形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親師合作策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教師同儕合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校內的支援合作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導師部份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學生管教與輔導；親師溝同協助；作業處理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行政人員部分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教學環境的安排；教材教具的提供、蒐集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教師同儕合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68263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校際間的交流與分享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資源蒐集與分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材、教法的研究分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活動支援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經營的意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866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範圍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  <a:ea typeface="標楷體"/>
              </a:rPr>
              <a:t>以「班級」為單位，以「老師」為中心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方法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333399"/>
                </a:solidFill>
                <a:latin typeface="Tahoma"/>
                <a:ea typeface="標楷體"/>
              </a:rPr>
              <a:t>科學的方法、人性化的理念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依據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Tahoma"/>
                <a:ea typeface="標楷體"/>
              </a:rPr>
              <a:t>配合</a:t>
            </a:r>
            <a:r>
              <a:rPr b="0" lang="zh-TW" sz="3000" spc="-1" strike="noStrike">
                <a:solidFill>
                  <a:srgbClr val="336600"/>
                </a:solidFill>
                <a:latin typeface="Tahoma"/>
                <a:ea typeface="標楷體"/>
              </a:rPr>
              <a:t>社會需求、學校目標、家長期望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策略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Tahoma"/>
                <a:ea typeface="標楷體"/>
              </a:rPr>
              <a:t>老師做</a:t>
            </a:r>
            <a:r>
              <a:rPr b="0" lang="zh-TW" sz="3000" spc="-1" strike="noStrike">
                <a:solidFill>
                  <a:srgbClr val="9900cc"/>
                </a:solidFill>
                <a:latin typeface="Tahoma"/>
                <a:ea typeface="標楷體"/>
              </a:rPr>
              <a:t>適當的規劃推動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4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ahoma"/>
                <a:ea typeface="標楷體"/>
              </a:rPr>
              <a:t>目的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r>
              <a:rPr b="0" lang="zh-TW" sz="3000" spc="-1" strike="noStrike">
                <a:solidFill>
                  <a:srgbClr val="800000"/>
                </a:solidFill>
                <a:latin typeface="Tahoma"/>
                <a:ea typeface="標楷體"/>
              </a:rPr>
              <a:t>健全學生身心發展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經營的目的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2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增進教學效能、提升學習品質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2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立學習規則、整合學習資源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2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促進師生、同儕良性的互動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2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培養學生自我管理的能力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經營的內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班級的行政管理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：認識學生、座位安排、幹部選拔、活動的宣導及配合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班級的教學管理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：教學活動設計、教材安排、教法運用、學習評量、作業指導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班級的常規管理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：班級公約、出缺席掌握、學生輔導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班級的環境管理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：課桌椅陳列、教具設備、環境美化綠…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班級的人際管理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師生關係、班級氣氛、親師合作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經營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4953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效能的教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班級常規訂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習情境佈置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班級氣氛營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師生溝通技巧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違規行為處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親師合作策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師同儕合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常規訂定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目的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維持教學秩序使教學順利進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原則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在教學前老師</a:t>
            </a:r>
            <a:r>
              <a:rPr b="0" lang="zh-TW" sz="3200" spc="-1" strike="noStrike">
                <a:solidFill>
                  <a:srgbClr val="9900cc"/>
                </a:solidFill>
                <a:latin typeface="標楷體"/>
                <a:ea typeface="標楷體"/>
              </a:rPr>
              <a:t>事先告訴學生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對他們上課的期待，並建立規則或制度，讓學生了解遵守或不遵守的結果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常規訂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實施方式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老師先有腹案：內容包括行為期待及學習規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讓學生表達意見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或期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轉化為具體班規：內容簡潔、正面措詞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列入評量項目：將學生平時表現列入評量紀錄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執行原則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正向引導、表揚優良行為、對事不對人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隨時指導、強調師生合作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文鼎新藝體"/>
              </a:rPr>
              <a:t>班級常規訂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標楷體"/>
              </a:rPr>
              <a:t>獎懲原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buClr>
                <a:srgbClr val="ff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獎賞多於懲罰、即時合理、事先訂定標準、精神重於物質、懲罰盡量於私底下進行（施罰後應給予輔導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buClr>
                <a:srgbClr val="ff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懲罰方式：施予厭惡的刺激、剝奪權利、消弱、隔離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6:14:12Z</dcterms:created>
  <dc:creator>user</dc:creator>
  <dc:description/>
  <dc:language>en-US</dc:language>
  <cp:lastModifiedBy>user</cp:lastModifiedBy>
  <dcterms:modified xsi:type="dcterms:W3CDTF">2010-12-08T06:26:54Z</dcterms:modified>
  <cp:revision>3</cp:revision>
  <dc:subject/>
  <dc:title> 班級經營</dc:title>
</cp:coreProperties>
</file>