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BC3-0D09-4C7E-82F5-58723E38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E04-76B2-4B80-92AF-6BA86D36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596-55C7-41DC-9DED-96A093EC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394-93F0-42D3-B19C-6B6B2577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AD01-EA16-4E67-9480-DD2A0C52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7ECE-BD9F-4EFB-8C46-7A10D138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049F-6B09-4004-A692-92C0C82B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4476-3765-424A-8C3B-79D603FF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9A4B-BE17-45BF-AA08-774C0347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8E11-C791-4464-9EC3-38BE129C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F5A2-4F46-4C50-89E5-FD51EE1E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659-68C6-4C84-BDF3-43FD2EEE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0DDA-85D0-492D-AF7D-13E03CA1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0F58-19FC-4081-A2C4-EF159C23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6103-AE93-47B0-A372-ECF25C7D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6C80-45A2-431B-AA5A-BAC03A5F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A4D9-8901-4BF8-80DC-FAAE23B6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1CC-146E-46A7-B800-5555CB0B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705-07D9-4B5A-BC6D-179BC540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75E8-DC6A-45D4-B594-F548E533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E6C-E383-4A8B-9499-63BE9969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CFC-3756-4A9E-A92B-30A3C3EE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4B9-8485-4660-BBF5-56695039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857-6496-4A79-99FC-B3EE81D6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CAF5-2C65-41E2-ABB2-71FA1CF07137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5D98-2D48-43C6-B6B7-6F10AF711134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du.tw/EJE/index.aspx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mediaed.nccu.edu.tw/page1.php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sea.ntou.edu.tw/" TargetMode="External"/><Relationship Id="rId2" Type="http://schemas.openxmlformats.org/officeDocument/2006/relationships/hyperlink" Target="http://sea.ntou.edu.tw/" TargetMode="External"/><Relationship Id="rId3" Type="http://schemas.openxmlformats.org/officeDocument/2006/relationships/hyperlink" Target="http://sea.ntou.edu.tw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163.32.145.8/main.php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5.png"/><Relationship Id="rId10" Type="http://schemas.openxmlformats.org/officeDocument/2006/relationships/image" Target="../media/image17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8064360" cy="30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00"/>
                </a:solidFill>
                <a:latin typeface="Arial"/>
                <a:ea typeface="金梅書法豆豆字體"/>
              </a:rPr>
              <a:t>社會學習領域</a:t>
            </a:r>
            <a:br>
              <a:rPr sz="5400"/>
            </a:br>
            <a:r>
              <a:rPr b="0" lang="zh-TW" sz="5400" spc="-1" strike="noStrike">
                <a:solidFill>
                  <a:srgbClr val="ffff00"/>
                </a:solidFill>
                <a:latin typeface="Arial"/>
                <a:ea typeface="金梅書法豆豆字體"/>
              </a:rPr>
              <a:t>課綱修正宣導簡報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13213" t="15424" r="12776" b="7493"/>
          <a:stretch/>
        </p:blipFill>
        <p:spPr>
          <a:xfrm>
            <a:off x="973080" y="3833640"/>
            <a:ext cx="1873440" cy="1873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32000" y="3933720"/>
            <a:ext cx="547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金梅書法豆豆字體"/>
              </a:rPr>
              <a:t>中央課程與教學輔導團 諮詢教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金梅書法豆豆字體"/>
              </a:rPr>
              <a:t>嘉義縣社會領域國小組 輔導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金梅書法豆豆字體"/>
              </a:rPr>
              <a:t>嘉義縣中埔鄉三層國小 教導主任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金梅書法豆豆字體"/>
              </a:rPr>
              <a:t>主講人：陳振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92000" y="3222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10000"/>
              </a:lnSpc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以註腳方式，增加「能力指標」之補充說明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177336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華康魏碑體(P)"/>
                <a:ea typeface="華康魏碑體(P)"/>
              </a:rPr>
              <a:t>註腳共有</a:t>
            </a:r>
            <a:r>
              <a:rPr b="0" lang="en-US" sz="4400" spc="-1" strike="noStrike">
                <a:solidFill>
                  <a:srgbClr val="ffff00"/>
                </a:solidFill>
                <a:latin typeface="華康魏碑體(P)"/>
                <a:ea typeface="華康魏碑體(P)"/>
              </a:rPr>
              <a:t>55</a:t>
            </a:r>
            <a:r>
              <a:rPr b="0" lang="zh-TW" sz="4400" spc="-1" strike="noStrike">
                <a:solidFill>
                  <a:srgbClr val="ffff00"/>
                </a:solidFill>
                <a:latin typeface="華康魏碑體(P)"/>
                <a:ea typeface="華康魏碑體(P)"/>
              </a:rPr>
              <a:t>個</a:t>
            </a:r>
            <a:br>
              <a:rPr sz="4400"/>
            </a:br>
            <a:r>
              <a:rPr b="0" lang="zh-TW" sz="4400" spc="-1" strike="noStrike">
                <a:solidFill>
                  <a:srgbClr val="ffff00"/>
                </a:solidFill>
                <a:latin typeface="華康魏碑體(P)"/>
                <a:ea typeface="華康魏碑體(P)"/>
              </a:rPr>
              <a:t>依內容可分為四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3141720"/>
            <a:ext cx="0" cy="32400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3718080"/>
            <a:ext cx="64764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3429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魏碑體(P)"/>
              </a:rPr>
              <a:t>界定概念或指涉範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4510080"/>
            <a:ext cx="64764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4221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魏碑體(P)"/>
              </a:rPr>
              <a:t>說明能力指標的實施方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5302080"/>
            <a:ext cx="64764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501336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魏碑體(P)"/>
              </a:rPr>
              <a:t>說明能力指標強調實施的重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24000" y="6165720"/>
            <a:ext cx="64764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5877000"/>
            <a:ext cx="63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魏碑體(P)"/>
              </a:rPr>
              <a:t>舉例說明能力指標用詞指涉的內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92000" y="29052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10000"/>
              </a:lnSpc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界定概念或指涉範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1700280"/>
            <a:ext cx="8197920" cy="654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7480" indent="-9874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1-3-1</a:t>
            </a:r>
            <a:r>
              <a:rPr b="1" lang="zh-TW" sz="3200" spc="-1" strike="noStrike" u="sng">
                <a:solidFill>
                  <a:srgbClr val="ffffff"/>
                </a:solidFill>
                <a:uFillTx/>
                <a:latin typeface="華康魏碑體"/>
                <a:ea typeface="華康魏碑體"/>
              </a:rPr>
              <a:t>瞭</a:t>
            </a:r>
            <a:r>
              <a:rPr b="0" lang="zh-TW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解</a:t>
            </a:r>
            <a:r>
              <a:rPr b="0" lang="zh-TW" sz="32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生活環境</a:t>
            </a:r>
            <a:r>
              <a:rPr b="0" lang="en-US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[7]</a:t>
            </a:r>
            <a:r>
              <a:rPr b="1" lang="zh-TW" sz="3200" spc="-1" strike="noStrike" u="sng">
                <a:solidFill>
                  <a:srgbClr val="ffffff"/>
                </a:solidFill>
                <a:uFillTx/>
                <a:latin typeface="華康魏碑體"/>
                <a:ea typeface="華康魏碑體"/>
              </a:rPr>
              <a:t>的地方差異</a:t>
            </a:r>
            <a:r>
              <a:rPr b="0" lang="zh-TW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，並能尊重及欣賞</a:t>
            </a:r>
            <a:r>
              <a:rPr b="1" lang="zh-TW" sz="3200" spc="-1" strike="noStrike" u="sng">
                <a:solidFill>
                  <a:srgbClr val="ffffff"/>
                </a:solidFill>
                <a:uFillTx/>
                <a:latin typeface="華康魏碑體"/>
                <a:ea typeface="華康魏碑體"/>
              </a:rPr>
              <a:t>各地</a:t>
            </a:r>
            <a:r>
              <a:rPr b="0" lang="zh-TW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的不同特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68360" y="3500280"/>
            <a:ext cx="8156160" cy="1427400"/>
            <a:chOff x="468360" y="3500280"/>
            <a:chExt cx="8156160" cy="1427400"/>
          </a:xfrm>
        </p:grpSpPr>
        <p:sp>
          <p:nvSpPr>
            <p:cNvPr id="133" name=""/>
            <p:cNvSpPr/>
            <p:nvPr/>
          </p:nvSpPr>
          <p:spPr>
            <a:xfrm>
              <a:off x="468360" y="4346280"/>
              <a:ext cx="8156160" cy="581400"/>
            </a:xfrm>
            <a:prstGeom prst="rect">
              <a:avLst/>
            </a:prstGeom>
            <a:noFill/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華康魏碑體"/>
                  <a:ea typeface="華康魏碑體"/>
                </a:rPr>
                <a:t>[7]</a:t>
              </a:r>
              <a:r>
                <a:rPr b="1" lang="zh-TW" sz="3200" spc="-1" strike="noStrike">
                  <a:solidFill>
                    <a:srgbClr val="ffff00"/>
                  </a:solidFill>
                  <a:latin typeface="華康魏碑體"/>
                  <a:ea typeface="華康魏碑體"/>
                </a:rPr>
                <a:t>「</a:t>
              </a:r>
              <a:r>
                <a:rPr b="0" lang="zh-TW" sz="3200" spc="-1" strike="noStrike">
                  <a:solidFill>
                    <a:srgbClr val="ffff00"/>
                  </a:solidFill>
                  <a:latin typeface="華康魏碑體"/>
                  <a:ea typeface="華康魏碑體"/>
                </a:rPr>
                <a:t>生活</a:t>
              </a:r>
              <a:r>
                <a:rPr b="1" lang="zh-TW" sz="3200" spc="-1" strike="noStrike">
                  <a:solidFill>
                    <a:srgbClr val="ffff00"/>
                  </a:solidFill>
                  <a:latin typeface="華康魏碑體"/>
                  <a:ea typeface="華康魏碑體"/>
                </a:rPr>
                <a:t>環境」包括自然的生活環境和人文的生活環境。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77560" y="3500280"/>
              <a:ext cx="949680" cy="71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33"/>
            </a:solidFill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01760" y="1844640"/>
            <a:ext cx="841824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8560" indent="-89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1-4-2</a:t>
            </a:r>
            <a:r>
              <a:rPr b="0" lang="zh-TW" sz="36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分析自然環境、人文環境</a:t>
            </a:r>
            <a:r>
              <a:rPr b="0" lang="en-US" sz="36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[1]</a:t>
            </a:r>
            <a:r>
              <a:rPr b="0" lang="zh-TW" sz="36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及其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 互動如何影響人類的生活型態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2280" y="3502080"/>
            <a:ext cx="8156160" cy="1488600"/>
            <a:chOff x="422280" y="3502080"/>
            <a:chExt cx="8156160" cy="1488600"/>
          </a:xfrm>
        </p:grpSpPr>
        <p:sp>
          <p:nvSpPr>
            <p:cNvPr id="137" name=""/>
            <p:cNvSpPr/>
            <p:nvPr/>
          </p:nvSpPr>
          <p:spPr>
            <a:xfrm>
              <a:off x="422280" y="4348080"/>
              <a:ext cx="8156160" cy="642600"/>
            </a:xfrm>
            <a:prstGeom prst="rect">
              <a:avLst/>
            </a:prstGeom>
            <a:noFill/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87480" indent="-98748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華康魏碑體"/>
                  <a:ea typeface="華康魏碑體"/>
                </a:rPr>
                <a:t>[1]</a:t>
              </a:r>
              <a:r>
                <a:rPr b="0" lang="zh-TW" sz="3600" spc="-1" strike="noStrike">
                  <a:solidFill>
                    <a:srgbClr val="ffffff"/>
                  </a:solidFill>
                  <a:latin typeface="華康魏碑體"/>
                  <a:ea typeface="華康魏碑體"/>
                </a:rPr>
                <a:t>包括媒體環境。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31480" y="3502080"/>
              <a:ext cx="949680" cy="71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33"/>
            </a:solidFill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885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55640" y="1066680"/>
          <a:ext cx="7772400" cy="5059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華康魏碑體(P)"/>
                        </a:rPr>
                        <a:t>國小二階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華康魏碑體(P)"/>
                        </a:rPr>
                        <a:t>國小三階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華康魏碑體(P)"/>
                        </a:rPr>
                        <a:t>國中四階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1-2-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2-2-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1-3-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1-3-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4-3-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6-3-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8-3-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8-3-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2-4-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2-4-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3-4-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7-4-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8-4-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92000" y="2602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10000"/>
              </a:lnSpc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舉例說明能力指標用詞指涉的內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760" y="1989000"/>
            <a:ext cx="8197560" cy="11660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7480" indent="-9874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5-3-1</a:t>
            </a:r>
            <a:r>
              <a:rPr b="0" lang="zh-TW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說明個體的發展與成長，會受到社區與社會等</a:t>
            </a:r>
            <a:r>
              <a:rPr b="0" lang="en-US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[27]</a:t>
            </a:r>
            <a:r>
              <a:rPr b="0" lang="zh-TW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重大的影響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68360" y="4076640"/>
            <a:ext cx="8156160" cy="1427400"/>
            <a:chOff x="468360" y="4076640"/>
            <a:chExt cx="8156160" cy="1427400"/>
          </a:xfrm>
        </p:grpSpPr>
        <p:sp>
          <p:nvSpPr>
            <p:cNvPr id="144" name=""/>
            <p:cNvSpPr/>
            <p:nvPr/>
          </p:nvSpPr>
          <p:spPr>
            <a:xfrm>
              <a:off x="468360" y="4922640"/>
              <a:ext cx="8156160" cy="581400"/>
            </a:xfrm>
            <a:prstGeom prst="rect">
              <a:avLst/>
            </a:prstGeom>
            <a:noFill/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20640" indent="-620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華康魏碑體"/>
                  <a:ea typeface="華康魏碑體"/>
                </a:rPr>
                <a:t>[27]</a:t>
              </a:r>
              <a:r>
                <a:rPr b="1" lang="zh-TW" sz="3200" spc="-1" strike="noStrike">
                  <a:solidFill>
                    <a:srgbClr val="ffff00"/>
                  </a:solidFill>
                  <a:latin typeface="華康魏碑體"/>
                  <a:ea typeface="華康魏碑體"/>
                </a:rPr>
                <a:t>可以「大眾傳播媒體」為例。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77560" y="4076640"/>
              <a:ext cx="949680" cy="71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33"/>
            </a:solidFill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01760" y="1895400"/>
            <a:ext cx="819756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7480" indent="-98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6-4-5</a:t>
            </a:r>
            <a:r>
              <a:rPr b="0" lang="zh-TW" sz="36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說明個人如何爭取保障及權利、紛爭解決的機制及司法系統的基本運作程序與原則。</a:t>
            </a:r>
            <a:r>
              <a:rPr b="0" lang="en-US" sz="36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[10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22280" y="4076640"/>
            <a:ext cx="8156160" cy="1488600"/>
            <a:chOff x="422280" y="4076640"/>
            <a:chExt cx="8156160" cy="1488600"/>
          </a:xfrm>
        </p:grpSpPr>
        <p:sp>
          <p:nvSpPr>
            <p:cNvPr id="148" name=""/>
            <p:cNvSpPr/>
            <p:nvPr/>
          </p:nvSpPr>
          <p:spPr>
            <a:xfrm>
              <a:off x="422280" y="4922640"/>
              <a:ext cx="8156160" cy="642600"/>
            </a:xfrm>
            <a:prstGeom prst="rect">
              <a:avLst/>
            </a:prstGeom>
            <a:noFill/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20640" indent="-620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華康魏碑體"/>
                  <a:ea typeface="華康魏碑體"/>
                </a:rPr>
                <a:t>[10]</a:t>
              </a:r>
              <a:r>
                <a:rPr b="0" lang="zh-TW" sz="3600" spc="-1" strike="noStrike">
                  <a:solidFill>
                    <a:srgbClr val="ffffff"/>
                  </a:solidFill>
                  <a:latin typeface="華康魏碑體"/>
                  <a:ea typeface="華康魏碑體"/>
                </a:rPr>
                <a:t>例如可以勞資衝突為例做說明。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31480" y="4076640"/>
              <a:ext cx="949680" cy="71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33"/>
            </a:solidFill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885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55640" y="1628640"/>
          <a:ext cx="7772400" cy="28958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華康魏碑體(P)"/>
                        </a:rPr>
                        <a:t>國小二階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華康魏碑體(P)"/>
                        </a:rPr>
                        <a:t>國小三階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華康魏碑體(P)"/>
                        </a:rPr>
                        <a:t>國中四階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5-2-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5-3-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5-3-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9-3-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6-4-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7-4-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9-4-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452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課綱修正後有那些改變？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17936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48428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金梅書法豆豆字體"/>
                <a:ea typeface="金梅書法豆豆字體"/>
              </a:rPr>
              <a:t>重覆或艱澀的指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708280"/>
            <a:ext cx="741708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20000"/>
              </a:lnSpc>
              <a:spcBef>
                <a:spcPts val="2500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(P)"/>
                <a:ea typeface="華康魏碑體(P)"/>
              </a:rPr>
              <a:t>與小中學</a:t>
            </a:r>
            <a:r>
              <a:rPr b="0" lang="zh-TW" sz="4000" spc="-1" strike="noStrike" u="sng">
                <a:solidFill>
                  <a:srgbClr val="ffcc66"/>
                </a:solidFill>
                <a:uFillTx/>
                <a:latin typeface="華康魏碑體(P)"/>
                <a:ea typeface="華康魏碑體(P)"/>
              </a:rPr>
              <a:t>整併或調整順序</a:t>
            </a:r>
            <a:r>
              <a:rPr b="0" lang="zh-TW" sz="4000" spc="-1" strike="noStrike">
                <a:solidFill>
                  <a:srgbClr val="ffffff"/>
                </a:solidFill>
                <a:latin typeface="華康魏碑體(P)"/>
                <a:ea typeface="華康魏碑體(P)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22440" indent="-622440">
              <a:lnSpc>
                <a:spcPct val="120000"/>
              </a:lnSpc>
              <a:spcBef>
                <a:spcPts val="2500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66"/>
                </a:solidFill>
                <a:uFillTx/>
                <a:latin typeface="華康魏碑體(P)"/>
                <a:ea typeface="華康魏碑體(P)"/>
              </a:rPr>
              <a:t>刪除</a:t>
            </a:r>
            <a:r>
              <a:rPr b="0" lang="zh-TW" sz="4000" spc="-1" strike="noStrike">
                <a:solidFill>
                  <a:srgbClr val="ffffff"/>
                </a:solidFill>
                <a:latin typeface="華康魏碑體(P)"/>
                <a:ea typeface="華康魏碑體(P)"/>
              </a:rPr>
              <a:t>過於</a:t>
            </a:r>
            <a:r>
              <a:rPr b="0" lang="zh-TW" sz="4000" spc="-1" strike="noStrike" u="sng">
                <a:solidFill>
                  <a:srgbClr val="ffcc66"/>
                </a:solidFill>
                <a:uFillTx/>
                <a:latin typeface="華康魏碑體(P)"/>
                <a:ea typeface="華康魏碑體(P)"/>
              </a:rPr>
              <a:t>艱澀</a:t>
            </a:r>
            <a:r>
              <a:rPr b="0" lang="zh-TW" sz="4000" spc="-1" strike="noStrike">
                <a:solidFill>
                  <a:srgbClr val="ffffff"/>
                </a:solidFill>
                <a:latin typeface="華康魏碑體(P)"/>
                <a:ea typeface="華康魏碑體(P)"/>
              </a:rPr>
              <a:t>之「能力指標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92000" y="2602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10000"/>
              </a:lnSpc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中小學整併與調整順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11253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金梅書法豆豆字體"/>
              </a:rPr>
              <a:t>第五主題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6560" y="1844640"/>
            <a:ext cx="7343640" cy="7034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52520" indent="-135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華康正顏楷體W7"/>
                <a:ea typeface="華康正顏楷體W7"/>
              </a:rPr>
              <a:t>5-2-2</a:t>
            </a:r>
            <a:r>
              <a:rPr b="0" lang="zh-TW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了解認識自我及認識周圍環境的歷程，是出於主動的，也是主觀的，但是經由討論和溝通，可以分享觀點與形成共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55640" y="3833640"/>
            <a:ext cx="7345440" cy="1549440"/>
            <a:chOff x="755640" y="3833640"/>
            <a:chExt cx="7345440" cy="1549440"/>
          </a:xfrm>
        </p:grpSpPr>
        <p:sp>
          <p:nvSpPr>
            <p:cNvPr id="160" name=""/>
            <p:cNvSpPr/>
            <p:nvPr/>
          </p:nvSpPr>
          <p:spPr>
            <a:xfrm>
              <a:off x="755640" y="4679640"/>
              <a:ext cx="7345440" cy="703440"/>
            </a:xfrm>
            <a:prstGeom prst="rect">
              <a:avLst/>
            </a:prstGeom>
            <a:noFill/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352520" indent="-135252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華康正顏楷體W7"/>
                  <a:ea typeface="華康正顏楷體W7"/>
                </a:rPr>
                <a:t>5-4-2</a:t>
              </a:r>
              <a:r>
                <a:rPr b="0" lang="zh-TW" sz="2800" spc="-1" strike="noStrike">
                  <a:solidFill>
                    <a:srgbClr val="ffffff"/>
                  </a:solidFill>
                  <a:latin typeface="華康魏碑體"/>
                  <a:ea typeface="華康魏碑體"/>
                </a:rPr>
                <a:t>了解認識自我及認識周圍環境的歷程，是出於主動的，也是主觀的，但是經由討論和溝通，可以分享觀點與形成共識。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26080" y="3833640"/>
              <a:ext cx="855000" cy="71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33"/>
            </a:solidFill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92000" y="2602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10000"/>
              </a:lnSpc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中小學整併與調整順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11253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金梅書法豆豆字體"/>
              </a:rPr>
              <a:t>第六主題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6560" y="1844640"/>
            <a:ext cx="7343640" cy="7034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52520" indent="-13525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華康正顏楷體W7"/>
                <a:ea typeface="華康正顏楷體W7"/>
              </a:rPr>
              <a:t>6-4-3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  <a:ea typeface="華康魏碑體"/>
              </a:rPr>
              <a:t>說明司法系統的基本運作程序與原則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55640" y="3357720"/>
            <a:ext cx="7345440" cy="1549440"/>
            <a:chOff x="755640" y="3357720"/>
            <a:chExt cx="7345440" cy="1549440"/>
          </a:xfrm>
        </p:grpSpPr>
        <p:sp>
          <p:nvSpPr>
            <p:cNvPr id="166" name=""/>
            <p:cNvSpPr/>
            <p:nvPr/>
          </p:nvSpPr>
          <p:spPr>
            <a:xfrm>
              <a:off x="755640" y="4203720"/>
              <a:ext cx="7345440" cy="703440"/>
            </a:xfrm>
            <a:prstGeom prst="rect">
              <a:avLst/>
            </a:prstGeom>
            <a:noFill/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352520" indent="-135252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華康正顏楷體W7"/>
                  <a:ea typeface="華康正顏楷體W7"/>
                </a:rPr>
                <a:t>6-4-5</a:t>
              </a:r>
              <a:r>
                <a:rPr b="0" lang="zh-TW" sz="3600" spc="-1" strike="noStrike">
                  <a:solidFill>
                    <a:srgbClr val="ffffff"/>
                  </a:solidFill>
                  <a:latin typeface="Times New Roman"/>
                  <a:ea typeface="華康魏碑體"/>
                </a:rPr>
                <a:t>說明個人如何爭取保障及權利、紛爭解決的機制及司法系統的基本運作程序與原則。</a:t>
              </a:r>
              <a:r>
                <a:rPr b="0" lang="zh-TW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26080" y="3357720"/>
              <a:ext cx="855000" cy="71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33"/>
            </a:solidFill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45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什麼是課綱修正？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25100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1889280"/>
            <a:ext cx="727236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92</a:t>
            </a: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年九年一貫課程正式綱要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95</a:t>
            </a: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年社會學習領域基本內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97</a:t>
            </a: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年國民中小學課程綱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2000" y="4005360"/>
            <a:ext cx="7417080" cy="136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92000" y="2602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10000"/>
              </a:lnSpc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中小學整併與調整順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1253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金梅書法豆豆字體"/>
              </a:rPr>
              <a:t>第八主題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6560" y="2055960"/>
            <a:ext cx="7075440" cy="15350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52520" indent="-135252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華康正顏楷體W7"/>
                <a:ea typeface="華康正顏楷體W7"/>
              </a:rPr>
              <a:t>8-4-1 8-4-2 8-4-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52520" indent="-135252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華康正顏楷體W7"/>
                <a:ea typeface="華康正顏楷體W7"/>
              </a:rPr>
              <a:t>8-4-4       8-4-5</a:t>
            </a:r>
            <a:r>
              <a:rPr b="0" lang="zh-TW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26920" y="3892680"/>
            <a:ext cx="7058160" cy="1544040"/>
            <a:chOff x="826920" y="3892680"/>
            <a:chExt cx="7058160" cy="1544040"/>
          </a:xfrm>
        </p:grpSpPr>
        <p:sp>
          <p:nvSpPr>
            <p:cNvPr id="172" name=""/>
            <p:cNvSpPr/>
            <p:nvPr/>
          </p:nvSpPr>
          <p:spPr>
            <a:xfrm>
              <a:off x="826920" y="4733280"/>
              <a:ext cx="7058160" cy="703440"/>
            </a:xfrm>
            <a:prstGeom prst="rect">
              <a:avLst/>
            </a:prstGeom>
            <a:noFill/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352520" indent="-1352520"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華康正顏楷體W7"/>
                  <a:ea typeface="華康正顏楷體W7"/>
                </a:rPr>
                <a:t>8-3-3 8-3-4 8-4-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77120" y="3892680"/>
              <a:ext cx="821880" cy="714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33"/>
            </a:solidFill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92000" y="2602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10000"/>
              </a:lnSpc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中小學整併與調整順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11253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金梅書法豆豆字體"/>
              </a:rPr>
              <a:t>第九主題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6560" y="1844640"/>
            <a:ext cx="7723080" cy="7034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52520" indent="-1352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華康魏碑體"/>
                <a:ea typeface="華康魏碑體"/>
              </a:rPr>
              <a:t>9-2-1</a:t>
            </a:r>
            <a:r>
              <a:rPr b="0" lang="zh-TW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說明各種關係網路</a:t>
            </a:r>
            <a:r>
              <a:rPr b="0" lang="en-US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如交通網、資訊網、人際網、經濟網等</a:t>
            </a:r>
            <a:r>
              <a:rPr b="0" lang="en-US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的全球化對全球關連性所造成的影響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826920" y="3681360"/>
            <a:ext cx="7632360" cy="1549440"/>
            <a:chOff x="826920" y="3681360"/>
            <a:chExt cx="7632360" cy="1549440"/>
          </a:xfrm>
        </p:grpSpPr>
        <p:sp>
          <p:nvSpPr>
            <p:cNvPr id="178" name=""/>
            <p:cNvSpPr/>
            <p:nvPr/>
          </p:nvSpPr>
          <p:spPr>
            <a:xfrm>
              <a:off x="826920" y="4527360"/>
              <a:ext cx="7632360" cy="703440"/>
            </a:xfrm>
            <a:prstGeom prst="rect">
              <a:avLst/>
            </a:prstGeom>
            <a:noFill/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98560" indent="-89856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華康魏碑體"/>
                  <a:ea typeface="華康魏碑體"/>
                </a:rPr>
                <a:t>9-4-1</a:t>
              </a:r>
              <a:r>
                <a:rPr b="0" lang="zh-TW" sz="2800" spc="-1" strike="noStrike" u="sng">
                  <a:solidFill>
                    <a:srgbClr val="ffffff"/>
                  </a:solidFill>
                  <a:uFillTx/>
                  <a:latin typeface="華康魏碑體"/>
                  <a:ea typeface="華康魏碑體"/>
                </a:rPr>
                <a:t>探討</a:t>
              </a:r>
              <a:r>
                <a:rPr b="0" lang="zh-TW" sz="2800" spc="-1" strike="noStrike">
                  <a:solidFill>
                    <a:srgbClr val="ffffff"/>
                  </a:solidFill>
                  <a:latin typeface="華康魏碑體"/>
                  <a:ea typeface="華康魏碑體"/>
                </a:rPr>
                <a:t>各種關係網路</a:t>
              </a:r>
              <a:r>
                <a:rPr b="0" lang="en-US" sz="2800" spc="-1" strike="noStrike">
                  <a:solidFill>
                    <a:srgbClr val="ffffff"/>
                  </a:solidFill>
                  <a:latin typeface="華康魏碑體"/>
                  <a:ea typeface="華康魏碑體"/>
                </a:rPr>
                <a:t>(</a:t>
              </a:r>
              <a:r>
                <a:rPr b="0" lang="zh-TW" sz="2800" spc="-1" strike="noStrike">
                  <a:solidFill>
                    <a:srgbClr val="ffffff"/>
                  </a:solidFill>
                  <a:latin typeface="華康魏碑體"/>
                  <a:ea typeface="華康魏碑體"/>
                </a:rPr>
                <a:t>如交通網、資訊網、人際網、經濟網等</a:t>
              </a:r>
              <a:r>
                <a:rPr b="0" lang="en-US" sz="2800" spc="-1" strike="noStrike">
                  <a:solidFill>
                    <a:srgbClr val="ffffff"/>
                  </a:solidFill>
                  <a:latin typeface="華康魏碑體"/>
                  <a:ea typeface="華康魏碑體"/>
                </a:rPr>
                <a:t>)</a:t>
              </a:r>
              <a:r>
                <a:rPr b="0" lang="zh-TW" sz="2800" spc="-1" strike="noStrike">
                  <a:solidFill>
                    <a:srgbClr val="ffffff"/>
                  </a:solidFill>
                  <a:latin typeface="華康魏碑體"/>
                  <a:ea typeface="華康魏碑體"/>
                </a:rPr>
                <a:t>的</a:t>
              </a:r>
              <a:r>
                <a:rPr b="0" lang="zh-TW" sz="2800" spc="-1" strike="noStrike" u="sng">
                  <a:solidFill>
                    <a:srgbClr val="ffffff"/>
                  </a:solidFill>
                  <a:uFillTx/>
                  <a:latin typeface="華康魏碑體"/>
                  <a:ea typeface="華康魏碑體"/>
                </a:rPr>
                <a:t>發展如何讓全球各地的人類、生物與環境產生更緊密的關係，對於人類社會又造成什麼影響。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7240" y="3681360"/>
              <a:ext cx="888480" cy="71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33"/>
            </a:solidFill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92000" y="2602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10000"/>
              </a:lnSpc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中小學整併與調整順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11253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金梅書法豆豆字體"/>
              </a:rPr>
              <a:t>第九主題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6560" y="1844640"/>
            <a:ext cx="7723080" cy="15350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52520" indent="-135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華康正顏楷體W7"/>
                <a:ea typeface="華康正顏楷體W7"/>
              </a:rPr>
              <a:t>9-2-2</a:t>
            </a:r>
            <a:r>
              <a:rPr b="0" lang="zh-TW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比較不同文化背景者闡釋經驗、事物和表達的方式，並能欣賞文化的多樣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52520" indent="-135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華康正顏楷體W7"/>
                <a:ea typeface="華康正顏楷體W7"/>
              </a:rPr>
              <a:t>9-4-2</a:t>
            </a:r>
            <a:r>
              <a:rPr b="0" lang="zh-TW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說明不同文化之接觸和交流如何造成衝突、合作與文化創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26920" y="4330800"/>
            <a:ext cx="7632360" cy="2032560"/>
            <a:chOff x="826920" y="4330800"/>
            <a:chExt cx="7632360" cy="2032560"/>
          </a:xfrm>
        </p:grpSpPr>
        <p:sp>
          <p:nvSpPr>
            <p:cNvPr id="184" name=""/>
            <p:cNvSpPr/>
            <p:nvPr/>
          </p:nvSpPr>
          <p:spPr>
            <a:xfrm>
              <a:off x="826920" y="5176800"/>
              <a:ext cx="7632360" cy="1186560"/>
            </a:xfrm>
            <a:prstGeom prst="rect">
              <a:avLst/>
            </a:prstGeom>
            <a:noFill/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352520" indent="-135252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華康正顏楷體W7"/>
                  <a:ea typeface="華康正顏楷體W7"/>
                </a:rPr>
                <a:t>9-4-3</a:t>
              </a:r>
              <a:r>
                <a:rPr b="0" lang="zh-TW" sz="2800" spc="-1" strike="noStrike">
                  <a:solidFill>
                    <a:srgbClr val="ffffff"/>
                  </a:solidFill>
                  <a:latin typeface="華康魏碑體"/>
                  <a:ea typeface="華康魏碑體"/>
                </a:rPr>
                <a:t>探討不同文化背景者在闡釋經驗、對待事物和表達方式等方面的差異，</a:t>
              </a:r>
              <a:r>
                <a:rPr b="0" lang="en-US" sz="2800" spc="-1" strike="noStrike" u="sng">
                  <a:solidFill>
                    <a:srgbClr val="ff9900"/>
                  </a:solidFill>
                  <a:uFillTx/>
                  <a:latin typeface="華康魏碑體"/>
                  <a:ea typeface="華康魏碑體"/>
                  <a:hlinkClick r:id="rId1" action="ppaction://hlinksldjump"/>
                </a:rPr>
                <a:t>[53]</a:t>
              </a:r>
              <a:r>
                <a:rPr b="0" lang="zh-TW" sz="2800" spc="-1" strike="noStrike">
                  <a:solidFill>
                    <a:srgbClr val="ffffff"/>
                  </a:solidFill>
                  <a:latin typeface="華康魏碑體"/>
                  <a:ea typeface="華康魏碑體"/>
                </a:rPr>
                <a:t>並能欣賞文化的多樣性</a:t>
              </a: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17240" y="4330800"/>
              <a:ext cx="888480" cy="71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33"/>
            </a:solidFill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26920" y="393372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金梅書法豆豆字體"/>
              </a:rPr>
              <a:t>第九主題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200" y="471816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0000" indent="-1170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9-2-1 </a:t>
            </a:r>
            <a:r>
              <a:rPr b="0" lang="zh-TW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說明各種關係網路</a:t>
            </a:r>
            <a:r>
              <a:rPr b="0" lang="en-US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(</a:t>
            </a:r>
            <a:r>
              <a:rPr b="0" lang="zh-TW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如交通網、資訊網、人際網、經濟網等</a:t>
            </a:r>
            <a:r>
              <a:rPr b="0" lang="en-US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)</a:t>
            </a:r>
            <a:r>
              <a:rPr b="0" lang="zh-TW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的全球化對全球關連性所造成的影響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78200" y="5437080"/>
            <a:ext cx="5976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005440"/>
            <a:ext cx="5976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5797440"/>
            <a:ext cx="5976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33336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10000"/>
              </a:lnSpc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刪除過於艱澀之「能力指標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1484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金梅書法豆豆字體"/>
              </a:rPr>
              <a:t>第七主題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234936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0000" indent="-1170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7-3-4 </a:t>
            </a:r>
            <a:r>
              <a:rPr b="0" lang="zh-TW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說明政府有時會基於非經濟原因，去干預社會的經濟活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79640" y="2637000"/>
            <a:ext cx="5977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3139920"/>
            <a:ext cx="5976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452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課綱修正後有那些改變？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7936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48428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金梅書法豆豆字體"/>
                <a:ea typeface="金梅書法豆豆字體"/>
              </a:rPr>
              <a:t>配合時代脈絡需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金梅書法豆豆字體"/>
                <a:ea typeface="金梅書法豆豆字體"/>
              </a:rPr>
              <a:t>呼應社會團體的期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2997360"/>
            <a:ext cx="6570720" cy="47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20000"/>
              </a:lnSpc>
              <a:spcBef>
                <a:spcPts val="2999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直接</a:t>
            </a:r>
            <a:r>
              <a:rPr b="0" lang="en-US" sz="4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--</a:t>
            </a:r>
            <a:r>
              <a:rPr b="0" lang="zh-TW" sz="4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增加能力指標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22440" indent="-622440">
              <a:lnSpc>
                <a:spcPct val="120000"/>
              </a:lnSpc>
              <a:spcBef>
                <a:spcPts val="2999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間接</a:t>
            </a:r>
            <a:r>
              <a:rPr b="0" lang="en-US" sz="4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—</a:t>
            </a:r>
            <a:r>
              <a:rPr b="0" lang="zh-TW" sz="4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融入文字敘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22440" indent="-622440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　　　　增加內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22440" indent="-622440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華康正顏楷體W7"/>
                <a:ea typeface="華康正顏楷體W7"/>
              </a:rPr>
              <a:t>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92000" y="2602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10000"/>
              </a:lnSpc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直接</a:t>
            </a:r>
            <a:r>
              <a:rPr b="0" lang="en-US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--</a:t>
            </a: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增加能力指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11280" y="1052640"/>
          <a:ext cx="8137440" cy="5472000"/>
        </p:xfrm>
        <a:graphic>
          <a:graphicData uri="http://schemas.openxmlformats.org/drawingml/2006/table">
            <a:tbl>
              <a:tblPr/>
              <a:tblGrid>
                <a:gridCol w="6121440"/>
                <a:gridCol w="20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能力指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增加原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</a:tr>
              <a:tr h="87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8840" indent="-888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1-3-11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暸解臺灣地理位置的特色及其對臺灣歷史發展的影響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配合</a:t>
                      </a:r>
                      <a:r>
                        <a:rPr b="0" lang="zh-TW" sz="40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海洋教育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議題之融入而新增的能力指標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</a:tr>
              <a:tr h="82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8840" indent="-888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1-3-12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暸解臺灣具備海洋國家發展的條件及優勢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9640" indent="-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1-4-9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探討臺灣四周海域的特色，分析海洋與居民生活的關係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9640" indent="-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1-4-10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暸解海洋主權與經濟發展、國  防、政治主權的關係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8840" indent="-888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1-4-11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暸解領海與經濟海域的管轄主權等海洋權益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8840" indent="-888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1-4-12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認識水污染防治法、海洋污染防治法國際海洋公約相關法規的基本精神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685800" y="1989000"/>
          <a:ext cx="7772400" cy="3384720"/>
        </p:xfrm>
        <a:graphic>
          <a:graphicData uri="http://schemas.openxmlformats.org/drawingml/2006/table">
            <a:tbl>
              <a:tblPr/>
              <a:tblGrid>
                <a:gridCol w="4672080"/>
                <a:gridCol w="3100320"/>
              </a:tblGrid>
              <a:tr h="33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88840" indent="-888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7-4-9</a:t>
                      </a: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探討經濟發展對受雇者的影響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採納</a:t>
                      </a:r>
                      <a:r>
                        <a:rPr b="0" lang="zh-TW" sz="36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勞動人權</a:t>
                      </a: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相關團體之建議而新增的能力指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549360"/>
            <a:ext cx="80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00000"/>
              </a:lnSpc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 </a:t>
            </a: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間接</a:t>
            </a:r>
            <a:r>
              <a:rPr b="0" lang="en-US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—</a:t>
            </a: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融入文字敘述，增加內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4360" y="1628640"/>
          <a:ext cx="7772400" cy="4938840"/>
        </p:xfrm>
        <a:graphic>
          <a:graphicData uri="http://schemas.openxmlformats.org/drawingml/2006/table">
            <a:tbl>
              <a:tblPr/>
              <a:tblGrid>
                <a:gridCol w="4464000"/>
                <a:gridCol w="3308400"/>
              </a:tblGrid>
              <a:tr h="265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9640" indent="-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6-2-4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說明不同的個人、群體（如性別、族群、階層等）文化</a:t>
                      </a: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與其他生命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為何應受到尊重與保護，以及如何避免偏見與歧視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採納</a:t>
                      </a:r>
                      <a:r>
                        <a:rPr b="0" lang="zh-TW" sz="32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動物保護團體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之建議，增加「其他生命」之文字敍述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04880" indent="-704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6-4-5</a:t>
                      </a: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說明個人如何爭取保障及權利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、紛爭解決的機制及司法系統的基本運作程序與原則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採納</a:t>
                      </a:r>
                      <a:r>
                        <a:rPr b="0" lang="zh-TW" sz="32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勞動人權</a:t>
                      </a: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相關團體之建議，增加「說明個人如何爭取保障及權利」之文字敍述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682560" y="1773360"/>
          <a:ext cx="8388360" cy="3014640"/>
        </p:xfrm>
        <a:graphic>
          <a:graphicData uri="http://schemas.openxmlformats.org/drawingml/2006/table">
            <a:tbl>
              <a:tblPr/>
              <a:tblGrid>
                <a:gridCol w="5041800"/>
                <a:gridCol w="3346560"/>
              </a:tblGrid>
              <a:tr h="3014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8840" indent="-888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7-4-6</a:t>
                      </a: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舉例說明某些經濟行為的後果不僅及於行為人本身，還會影響大眾、</a:t>
                      </a:r>
                      <a:r>
                        <a:rPr b="0" lang="zh-TW" sz="32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生態及其他生物</a:t>
                      </a: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，政府因此必須扮演適當的角色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採納</a:t>
                      </a:r>
                      <a:r>
                        <a:rPr b="0" lang="zh-TW" sz="36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動物保護</a:t>
                      </a: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團體之建議，增加「生態及其他生物」之文字敍述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685800" y="1844640"/>
          <a:ext cx="7772400" cy="4484880"/>
        </p:xfrm>
        <a:graphic>
          <a:graphicData uri="http://schemas.openxmlformats.org/drawingml/2006/table">
            <a:tbl>
              <a:tblPr/>
              <a:tblGrid>
                <a:gridCol w="5038560"/>
                <a:gridCol w="2733840"/>
              </a:tblGrid>
              <a:tr h="448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92160" indent="-99216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9-3-4</a:t>
                      </a: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列舉當前全球共同面對與關心的課題（如環境保護</a:t>
                      </a:r>
                      <a:r>
                        <a:rPr b="0" lang="zh-TW" sz="3600" spc="-1" strike="noStrike">
                          <a:solidFill>
                            <a:srgbClr val="ffff00"/>
                          </a:solidFill>
                          <a:latin typeface="華康魏碑體(P)"/>
                          <a:ea typeface="華康魏碑體(P)"/>
                        </a:rPr>
                        <a:t>、生物保育、勞工保護</a:t>
                      </a: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、飢餓、犯罪、疫病、基本人權、經貿與科技研究等）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ffffff"/>
                          </a:solidFill>
                          <a:latin typeface="華康魏碑體(P)"/>
                          <a:ea typeface="華康魏碑體(P)"/>
                        </a:rPr>
                        <a:t>採納動物保護團體、全國教師會之建議，增加「生物保育、勞工保護」之文字敍述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33"/>
                      </a:solidFill>
                    </a:lnL>
                    <a:lnR w="5760">
                      <a:solidFill>
                        <a:srgbClr val="ccff33"/>
                      </a:solidFill>
                    </a:lnR>
                    <a:lnT w="5760">
                      <a:solidFill>
                        <a:srgbClr val="ccff33"/>
                      </a:solidFill>
                    </a:lnT>
                    <a:lnB w="5760">
                      <a:solidFill>
                        <a:srgbClr val="ccff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452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課綱修正的原則？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7936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1700280"/>
            <a:ext cx="7417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30000"/>
              </a:lnSpc>
              <a:spcBef>
                <a:spcPts val="2500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僅進行</a:t>
            </a:r>
            <a:r>
              <a:rPr b="0" lang="zh-TW" sz="40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課綱內容</a:t>
            </a: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之</a:t>
            </a:r>
            <a:r>
              <a:rPr b="0" lang="zh-TW" sz="40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修訂</a:t>
            </a: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，</a:t>
            </a:r>
            <a:r>
              <a:rPr b="0" lang="zh-TW" sz="40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未涉及課程架構</a:t>
            </a: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之改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22440" indent="-622440">
              <a:lnSpc>
                <a:spcPct val="130000"/>
              </a:lnSpc>
              <a:spcBef>
                <a:spcPts val="2500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仍劃分為</a:t>
            </a:r>
            <a:r>
              <a:rPr b="0" lang="en-US" sz="40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7</a:t>
            </a:r>
            <a:r>
              <a:rPr b="0" lang="zh-TW" sz="40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大學習領域</a:t>
            </a: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，且各學習領域之</a:t>
            </a:r>
            <a:r>
              <a:rPr b="0" lang="zh-TW" sz="40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學習節數分配亦未更動</a:t>
            </a: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452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課綱修正後有那些改變？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7936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5080" y="1708200"/>
            <a:ext cx="619128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金梅書法豆豆字體"/>
                <a:ea typeface="金梅書法豆豆字體"/>
              </a:rPr>
              <a:t>增加</a:t>
            </a:r>
            <a:r>
              <a:rPr b="0" lang="zh-TW" sz="4400" spc="-1" strike="noStrike">
                <a:solidFill>
                  <a:srgbClr val="ffffff"/>
                </a:solidFill>
                <a:latin typeface="金梅書法豆豆字體"/>
                <a:ea typeface="金梅書法豆豆字體"/>
              </a:rPr>
              <a:t>海洋教育</a:t>
            </a:r>
            <a:r>
              <a:rPr b="0" lang="zh-TW" sz="4400" spc="-1" strike="noStrike">
                <a:solidFill>
                  <a:srgbClr val="ffff00"/>
                </a:solidFill>
                <a:latin typeface="金梅書法豆豆字體"/>
                <a:ea typeface="金梅書法豆豆字體"/>
              </a:rPr>
              <a:t>基本知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金梅書法豆豆字體"/>
                <a:ea typeface="金梅書法豆豆字體"/>
              </a:rPr>
              <a:t>增加</a:t>
            </a:r>
            <a:r>
              <a:rPr b="0" lang="zh-TW" sz="4400" spc="-1" strike="noStrike">
                <a:solidFill>
                  <a:srgbClr val="ffffff"/>
                </a:solidFill>
                <a:latin typeface="金梅書法豆豆字體"/>
                <a:ea typeface="金梅書法豆豆字體"/>
              </a:rPr>
              <a:t>媒體素養</a:t>
            </a:r>
            <a:r>
              <a:rPr b="0" lang="zh-TW" sz="4400" spc="-1" strike="noStrike">
                <a:solidFill>
                  <a:srgbClr val="ffff00"/>
                </a:solidFill>
                <a:latin typeface="金梅書法豆豆字體"/>
                <a:ea typeface="金梅書法豆豆字體"/>
              </a:rPr>
              <a:t>基本知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金梅書法豆豆字體"/>
                <a:ea typeface="金梅書法豆豆字體"/>
              </a:rPr>
              <a:t>增加</a:t>
            </a:r>
            <a:r>
              <a:rPr b="0" lang="zh-TW" sz="4400" spc="-1" strike="noStrike">
                <a:solidFill>
                  <a:srgbClr val="ffffff"/>
                </a:solidFill>
                <a:latin typeface="金梅書法豆豆字體"/>
                <a:ea typeface="金梅書法豆豆字體"/>
              </a:rPr>
              <a:t>動物福利</a:t>
            </a:r>
            <a:r>
              <a:rPr b="0" lang="zh-TW" sz="4400" spc="-1" strike="noStrike">
                <a:solidFill>
                  <a:srgbClr val="ffff00"/>
                </a:solidFill>
                <a:latin typeface="金梅書法豆豆字體"/>
                <a:ea typeface="金梅書法豆豆字體"/>
              </a:rPr>
              <a:t>基本知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金梅書法豆豆字體"/>
                <a:ea typeface="金梅書法豆豆字體"/>
              </a:rPr>
              <a:t>增加</a:t>
            </a:r>
            <a:r>
              <a:rPr b="0" lang="zh-TW" sz="4400" spc="-1" strike="noStrike">
                <a:solidFill>
                  <a:srgbClr val="ffffff"/>
                </a:solidFill>
                <a:latin typeface="金梅書法豆豆字體"/>
                <a:ea typeface="金梅書法豆豆字體"/>
              </a:rPr>
              <a:t>勞動人權</a:t>
            </a:r>
            <a:r>
              <a:rPr b="0" lang="zh-TW" sz="4400" spc="-1" strike="noStrike">
                <a:solidFill>
                  <a:srgbClr val="ffff00"/>
                </a:solidFill>
                <a:latin typeface="金梅書法豆豆字體"/>
                <a:ea typeface="金梅書法豆豆字體"/>
              </a:rPr>
              <a:t>基本知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452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課綱修正後有那些改變？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17936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05080" y="1557360"/>
            <a:ext cx="6191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社會學習領域七至九年級有編寫</a:t>
            </a:r>
            <a:r>
              <a:rPr b="0" lang="zh-TW" sz="44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基本內容</a:t>
            </a:r>
            <a:r>
              <a:rPr b="0" lang="zh-TW" sz="44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，做比較細的規範，在這次研修過程中，</a:t>
            </a:r>
            <a:r>
              <a:rPr b="0" lang="zh-TW" sz="44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除文字敘述的調整外，不做其他修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624720" cy="41655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452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到何處取得修正後的課綱？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17936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05080" y="1125360"/>
            <a:ext cx="61912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教育部國教司網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http://www.edu.tw/EJE/index.asp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5373720"/>
            <a:ext cx="1441440" cy="7920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12145" t="20458" r="14932" b="6922"/>
          <a:stretch/>
        </p:blipFill>
        <p:spPr>
          <a:xfrm>
            <a:off x="468360" y="476280"/>
            <a:ext cx="8064360" cy="6022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195640" y="5661000"/>
            <a:ext cx="6337080" cy="5047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36440" y="365040"/>
            <a:ext cx="8893440" cy="5943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932360" y="260280"/>
            <a:ext cx="1655640" cy="57636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260280"/>
            <a:ext cx="1511280" cy="57636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96360" y="260280"/>
            <a:ext cx="1511280" cy="57636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5734080"/>
            <a:ext cx="8569080" cy="57636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452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97</a:t>
            </a: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課綱什麼時候開始實施？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17936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1773360"/>
            <a:ext cx="78483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00000"/>
              </a:lnSpc>
              <a:spcBef>
                <a:spcPts val="2251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華康魏碑體(P)"/>
                <a:ea typeface="華康魏碑體(P)"/>
              </a:rPr>
              <a:t>97</a:t>
            </a:r>
            <a:r>
              <a:rPr b="0" lang="zh-TW" sz="3600" spc="-1" strike="noStrike">
                <a:solidFill>
                  <a:srgbClr val="ffff00"/>
                </a:solidFill>
                <a:latin typeface="華康魏碑體(P)"/>
                <a:ea typeface="華康魏碑體(P)"/>
              </a:rPr>
              <a:t>年</a:t>
            </a:r>
            <a:r>
              <a:rPr b="0" lang="zh-TW" sz="3600" spc="-1" strike="noStrike">
                <a:solidFill>
                  <a:srgbClr val="ffffff"/>
                </a:solidFill>
                <a:latin typeface="華康魏碑體(P)"/>
                <a:ea typeface="華康魏碑體(P)"/>
              </a:rPr>
              <a:t>完成修訂草案、公聽會審議定案公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100000"/>
              </a:lnSpc>
              <a:spcBef>
                <a:spcPts val="2251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華康魏碑體(P)"/>
                <a:ea typeface="華康魏碑體(P)"/>
              </a:rPr>
              <a:t>97-98</a:t>
            </a:r>
            <a:r>
              <a:rPr b="0" lang="zh-TW" sz="3600" spc="-1" strike="noStrike">
                <a:solidFill>
                  <a:srgbClr val="ffff00"/>
                </a:solidFill>
                <a:latin typeface="華康魏碑體(P)"/>
                <a:ea typeface="華康魏碑體(P)"/>
              </a:rPr>
              <a:t>年</a:t>
            </a:r>
            <a:r>
              <a:rPr b="0" lang="zh-TW" sz="3600" spc="-1" strike="noStrike">
                <a:solidFill>
                  <a:srgbClr val="ffffff"/>
                </a:solidFill>
                <a:latin typeface="華康魏碑體(P)"/>
                <a:ea typeface="華康魏碑體(P)"/>
              </a:rPr>
              <a:t>編輯教科書、教師專業培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100000"/>
              </a:lnSpc>
              <a:spcBef>
                <a:spcPts val="2251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華康魏碑體(P)"/>
                <a:ea typeface="華康魏碑體(P)"/>
              </a:rPr>
              <a:t>99</a:t>
            </a:r>
            <a:r>
              <a:rPr b="0" lang="zh-TW" sz="3600" spc="-1" strike="noStrike">
                <a:solidFill>
                  <a:srgbClr val="ffff00"/>
                </a:solidFill>
                <a:latin typeface="華康魏碑體(P)"/>
                <a:ea typeface="華康魏碑體(P)"/>
              </a:rPr>
              <a:t>年</a:t>
            </a:r>
            <a:r>
              <a:rPr b="0" lang="zh-TW" sz="3600" spc="-1" strike="noStrike">
                <a:solidFill>
                  <a:srgbClr val="ffffff"/>
                </a:solidFill>
                <a:latin typeface="華康魏碑體(P)"/>
                <a:ea typeface="華康魏碑體(P)"/>
              </a:rPr>
              <a:t>教科書審查、教師專業培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100000"/>
              </a:lnSpc>
              <a:spcBef>
                <a:spcPts val="2001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華康魏碑體(P)"/>
                <a:ea typeface="華康魏碑體(P)"/>
              </a:rPr>
              <a:t>100</a:t>
            </a:r>
            <a:r>
              <a:rPr b="0" lang="zh-TW" sz="3600" spc="-1" strike="noStrike">
                <a:solidFill>
                  <a:srgbClr val="ffff00"/>
                </a:solidFill>
                <a:latin typeface="華康魏碑體(P)"/>
                <a:ea typeface="華康魏碑體(P)"/>
              </a:rPr>
              <a:t>學年</a:t>
            </a:r>
            <a:r>
              <a:rPr b="0" lang="zh-TW" sz="3600" spc="-1" strike="noStrike">
                <a:solidFill>
                  <a:srgbClr val="ffffff"/>
                </a:solidFill>
                <a:latin typeface="華康魏碑體(P)"/>
                <a:ea typeface="華康魏碑體(P)"/>
              </a:rPr>
              <a:t>正式實施 </a:t>
            </a:r>
            <a:r>
              <a:rPr b="0" lang="en-US" sz="3600" spc="-1" strike="noStrike">
                <a:solidFill>
                  <a:srgbClr val="ffcc66"/>
                </a:solidFill>
                <a:latin typeface="華康魏碑體(P)"/>
                <a:ea typeface="華康魏碑體(P)"/>
              </a:rPr>
              <a:t>(</a:t>
            </a:r>
            <a:r>
              <a:rPr b="0" lang="zh-TW" sz="3600" spc="-1" strike="noStrike">
                <a:solidFill>
                  <a:srgbClr val="ffcc66"/>
                </a:solidFill>
                <a:latin typeface="華康魏碑體(P)"/>
                <a:ea typeface="華康魏碑體(P)"/>
              </a:rPr>
              <a:t>一</a:t>
            </a:r>
            <a:r>
              <a:rPr b="0" lang="zh-TW" sz="3200" spc="-1" strike="noStrike">
                <a:solidFill>
                  <a:srgbClr val="ffcc66"/>
                </a:solidFill>
                <a:latin typeface="華康魏碑體(P)"/>
                <a:ea typeface="華康魏碑體(P)"/>
              </a:rPr>
              <a:t>、三、七年級</a:t>
            </a:r>
            <a:r>
              <a:rPr b="0" lang="en-US" sz="3200" spc="-1" strike="noStrike">
                <a:solidFill>
                  <a:srgbClr val="ffcc66"/>
                </a:solidFill>
                <a:latin typeface="華康魏碑體(P)"/>
                <a:ea typeface="華康魏碑體(P)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100000"/>
              </a:lnSpc>
              <a:spcBef>
                <a:spcPts val="2001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9185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ffff00"/>
                </a:solidFill>
                <a:uFillTx/>
                <a:latin typeface="華康魏碑體"/>
                <a:ea typeface="華康魏碑體"/>
              </a:rPr>
              <a:t>提升教科書編審品質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90000"/>
              <a:buFont typeface="華康魏碑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配合新課程之推動，加強教科書相關配套</a:t>
            </a:r>
            <a:r>
              <a:rPr b="0" lang="en-US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(</a:t>
            </a:r>
            <a:r>
              <a:rPr b="0" lang="zh-TW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如辦理教材研討、編審座談、使用意見回饋等</a:t>
            </a:r>
            <a:r>
              <a:rPr b="0" lang="en-US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)</a:t>
            </a:r>
            <a:r>
              <a:rPr b="0" lang="zh-TW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，以提升教科書編審品質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90000"/>
              <a:buFont typeface="華康魏碑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教科書審定，由現行「逐冊」送審，改為以「學年」或「學習階段」送審，便於檢視教材銜接情形，確保教材符應能力指標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2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重要配套措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7936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267920"/>
            <a:ext cx="77738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251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ffff00"/>
                </a:solidFill>
                <a:uFillTx/>
                <a:latin typeface="華康魏碑體"/>
                <a:ea typeface="華康魏碑體"/>
              </a:rPr>
              <a:t> </a:t>
            </a:r>
            <a:r>
              <a:rPr b="0" lang="zh-TW" sz="3600" spc="-1" strike="noStrike" u="sng">
                <a:solidFill>
                  <a:srgbClr val="ffff00"/>
                </a:solidFill>
                <a:uFillTx/>
                <a:latin typeface="華康魏碑體"/>
                <a:ea typeface="華康魏碑體"/>
              </a:rPr>
              <a:t>改善學習評量資料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90000"/>
              <a:buFont typeface="華康魏碑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比照國際評量，施測週期由每年</a:t>
            </a:r>
            <a:r>
              <a:rPr b="0" lang="en-US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1</a:t>
            </a:r>
            <a:r>
              <a:rPr b="0" lang="zh-TW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次調為每</a:t>
            </a:r>
            <a:r>
              <a:rPr b="0" lang="en-US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3</a:t>
            </a:r>
            <a:r>
              <a:rPr b="0" lang="zh-TW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年</a:t>
            </a:r>
            <a:r>
              <a:rPr b="0" lang="en-US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1</a:t>
            </a:r>
            <a:r>
              <a:rPr b="0" lang="zh-TW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22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2009,2012,2015</a:t>
            </a:r>
            <a:r>
              <a:rPr b="0" lang="zh-TW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國小正式施測，國高中試題研發及預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22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2010,2013,2016</a:t>
            </a:r>
            <a:r>
              <a:rPr b="0" lang="zh-TW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國中正式施測，國小高中職試題研發及預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22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2011,2014,2017</a:t>
            </a:r>
            <a:r>
              <a:rPr b="0" lang="zh-TW" sz="36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高中職正式施測，國中小試題研發及預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2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重要配套措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17936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9960" y="980640"/>
            <a:ext cx="8275680" cy="40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5748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金梅書法豆豆字體"/>
              </a:rPr>
              <a:t>PART 2</a:t>
            </a:r>
            <a:br>
              <a:rPr sz="6000"/>
            </a:br>
            <a:r>
              <a:rPr b="0" lang="zh-TW" sz="6000" spc="-1" strike="noStrike">
                <a:solidFill>
                  <a:srgbClr val="ffffff"/>
                </a:solidFill>
                <a:latin typeface="Arial"/>
                <a:ea typeface="金梅書法豆豆字體"/>
              </a:rPr>
              <a:t>教學資源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2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課綱修正後的新興議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17936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24360" y="2492280"/>
            <a:ext cx="2950920" cy="295128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金梅書法豆豆字體"/>
              </a:rPr>
              <a:t>社會學習領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580000" y="2060640"/>
            <a:ext cx="3313080" cy="936360"/>
            <a:chOff x="5580000" y="2060640"/>
            <a:chExt cx="3313080" cy="936360"/>
          </a:xfrm>
        </p:grpSpPr>
        <p:sp>
          <p:nvSpPr>
            <p:cNvPr id="239" name=""/>
            <p:cNvSpPr/>
            <p:nvPr/>
          </p:nvSpPr>
          <p:spPr>
            <a:xfrm flipV="1">
              <a:off x="5580000" y="2491920"/>
              <a:ext cx="576360" cy="5050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43640" y="2060640"/>
              <a:ext cx="2449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ffffff"/>
                  </a:solidFill>
                  <a:latin typeface="Times New Roman"/>
                  <a:ea typeface="金梅書法豆豆字體"/>
                </a:rPr>
                <a:t>海洋教育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435640" y="5084640"/>
            <a:ext cx="2881440" cy="1299240"/>
            <a:chOff x="5435640" y="5084640"/>
            <a:chExt cx="2881440" cy="1299240"/>
          </a:xfrm>
        </p:grpSpPr>
        <p:sp>
          <p:nvSpPr>
            <p:cNvPr id="242" name=""/>
            <p:cNvSpPr/>
            <p:nvPr/>
          </p:nvSpPr>
          <p:spPr>
            <a:xfrm>
              <a:off x="5867280" y="5619600"/>
              <a:ext cx="2449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ffffff"/>
                  </a:solidFill>
                  <a:latin typeface="Times New Roman"/>
                  <a:ea typeface="金梅書法豆豆字體"/>
                </a:rPr>
                <a:t>動物福利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35640" y="5084640"/>
              <a:ext cx="504720" cy="576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24000" y="2349360"/>
            <a:ext cx="2736720" cy="1222200"/>
            <a:chOff x="324000" y="2349360"/>
            <a:chExt cx="2736720" cy="1222200"/>
          </a:xfrm>
        </p:grpSpPr>
        <p:sp>
          <p:nvSpPr>
            <p:cNvPr id="245" name=""/>
            <p:cNvSpPr/>
            <p:nvPr/>
          </p:nvSpPr>
          <p:spPr>
            <a:xfrm>
              <a:off x="324000" y="2349360"/>
              <a:ext cx="2449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ffffff"/>
                  </a:solidFill>
                  <a:latin typeface="Times New Roman"/>
                  <a:ea typeface="金梅書法豆豆字體"/>
                </a:rPr>
                <a:t>媒體素養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2286000" y="3273120"/>
              <a:ext cx="774720" cy="298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187280" y="537372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金梅書法豆豆字體"/>
              </a:rPr>
              <a:t>勞動人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22600" y="4849920"/>
            <a:ext cx="725400" cy="450720"/>
          </a:xfrm>
          <a:custGeom>
            <a:avLst/>
            <a:gdLst/>
            <a:ahLst/>
            <a:rect l="l" t="t" r="r" b="b"/>
            <a:pathLst>
              <a:path w="457" h="284">
                <a:moveTo>
                  <a:pt x="457" y="0"/>
                </a:moveTo>
                <a:lnTo>
                  <a:pt x="0" y="284"/>
                </a:lnTo>
              </a:path>
            </a:pathLst>
          </a:custGeom>
          <a:noFill/>
          <a:ln w="38160">
            <a:solidFill>
              <a:srgbClr val="ff9900"/>
            </a:solidFill>
            <a:round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452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課綱修正後有那些改變？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17936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金梅書法豆豆字體"/>
                <a:ea typeface="金梅書法豆豆字體"/>
              </a:rPr>
              <a:t>文字用語不清，過於抽象不具體的指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2000" y="2421000"/>
            <a:ext cx="741708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20000"/>
              </a:lnSpc>
              <a:spcBef>
                <a:spcPts val="2500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(P)"/>
                <a:ea typeface="華康魏碑體(P)"/>
              </a:rPr>
              <a:t>逐條</a:t>
            </a:r>
            <a:r>
              <a:rPr b="0" lang="zh-TW" sz="4000" spc="-1" strike="noStrike" u="sng">
                <a:solidFill>
                  <a:srgbClr val="ffcc66"/>
                </a:solidFill>
                <a:uFillTx/>
                <a:latin typeface="華康魏碑體(P)"/>
                <a:ea typeface="華康魏碑體(P)"/>
              </a:rPr>
              <a:t>修改</a:t>
            </a:r>
            <a:r>
              <a:rPr b="0" lang="zh-TW" sz="4000" spc="-1" strike="noStrike">
                <a:solidFill>
                  <a:srgbClr val="ffffff"/>
                </a:solidFill>
                <a:latin typeface="華康魏碑體(P)"/>
                <a:ea typeface="華康魏碑體(P)"/>
              </a:rPr>
              <a:t>能力指標之</a:t>
            </a:r>
            <a:r>
              <a:rPr b="0" lang="zh-TW" sz="4000" spc="-1" strike="noStrike" u="sng">
                <a:solidFill>
                  <a:srgbClr val="ffcc66"/>
                </a:solidFill>
                <a:uFillTx/>
                <a:latin typeface="華康魏碑體(P)"/>
                <a:ea typeface="華康魏碑體(P)"/>
              </a:rPr>
              <a:t>文字敘述</a:t>
            </a:r>
            <a:r>
              <a:rPr b="0" lang="zh-TW" sz="4000" spc="-1" strike="noStrike">
                <a:solidFill>
                  <a:srgbClr val="ffffff"/>
                </a:solidFill>
                <a:latin typeface="華康魏碑體(P)"/>
                <a:ea typeface="華康魏碑體(P)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22440" indent="-622440">
              <a:lnSpc>
                <a:spcPct val="120000"/>
              </a:lnSpc>
              <a:spcBef>
                <a:spcPts val="2500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(P)"/>
                <a:ea typeface="華康魏碑體(P)"/>
              </a:rPr>
              <a:t>以</a:t>
            </a:r>
            <a:r>
              <a:rPr b="0" lang="zh-TW" sz="4000" spc="-1" strike="noStrike" u="sng">
                <a:solidFill>
                  <a:srgbClr val="ffcc66"/>
                </a:solidFill>
                <a:uFillTx/>
                <a:latin typeface="華康魏碑體(P)"/>
                <a:ea typeface="華康魏碑體(P)"/>
              </a:rPr>
              <a:t>註腳方式</a:t>
            </a:r>
            <a:r>
              <a:rPr b="0" lang="zh-TW" sz="4000" spc="-1" strike="noStrike">
                <a:solidFill>
                  <a:srgbClr val="ffffff"/>
                </a:solidFill>
                <a:latin typeface="華康魏碑體(P)"/>
                <a:ea typeface="華康魏碑體(P)"/>
              </a:rPr>
              <a:t>，增加「能力指標」之補充說明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2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媒體素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17936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49440" y="5849640"/>
            <a:ext cx="770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http://www.mediaed.nccu.edu.tw/page1.ph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19280" y="1376280"/>
            <a:ext cx="7561080" cy="453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12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海洋教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17936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49440" y="6065640"/>
            <a:ext cx="770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sea.ntou.edu.tw</a:t>
            </a:r>
            <a:r>
              <a:rPr b="0" lang="en-US" sz="3200" spc="-1" strike="noStrike" u="sng">
                <a:solidFill>
                  <a:srgbClr val="ff9900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770040" y="1758960"/>
            <a:ext cx="7459560" cy="377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12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海洋教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17936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49440" y="6065640"/>
            <a:ext cx="770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Times New Roman"/>
                <a:hlinkClick r:id="rId1"/>
              </a:rPr>
              <a:t>http://163.32.145.8/main.ph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6769080" cy="4843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12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動物福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17936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49440" y="6065640"/>
            <a:ext cx="770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vm.ntu.edu.tw/DVM/laboratories/laboratories04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22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57240" y="1208160"/>
            <a:ext cx="7230960" cy="444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12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Arial"/>
                <a:ea typeface="金梅書法豆豆字體"/>
              </a:rPr>
              <a:t>勞動人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179360"/>
            <a:ext cx="82296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49440" y="6065640"/>
            <a:ext cx="770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ttp://www.laborrights.net/_NewSys/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397160"/>
            <a:ext cx="7705800" cy="44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389480" cy="6237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572000" y="652320"/>
            <a:ext cx="4367160" cy="62056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cc66"/>
                </a:solidFill>
                <a:latin typeface="Arial"/>
              </a:rPr>
              <a:t>國中組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0" lang="zh-TW" sz="4000" spc="-1" strike="noStrike">
                <a:solidFill>
                  <a:srgbClr val="ffcc66"/>
                </a:solidFill>
                <a:latin typeface="Arial"/>
              </a:rPr>
              <a:t>北北基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)</a:t>
            </a:r>
            <a:r>
              <a:rPr b="0" lang="zh-TW" sz="4000" spc="-1" strike="noStrike">
                <a:solidFill>
                  <a:srgbClr val="ffcc66"/>
                </a:solidFill>
                <a:latin typeface="Arial"/>
              </a:rPr>
              <a:t>課綱轉化成果彙編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cc66"/>
                </a:solidFill>
                <a:latin typeface="Arial"/>
              </a:rPr>
              <a:t>國小組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0" lang="zh-TW" sz="4000" spc="-1" strike="noStrike">
                <a:solidFill>
                  <a:srgbClr val="ffcc66"/>
                </a:solidFill>
                <a:latin typeface="Arial"/>
              </a:rPr>
              <a:t>中央團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)</a:t>
            </a:r>
            <a:r>
              <a:rPr b="0" lang="zh-TW" sz="4000" spc="-1" strike="noStrike">
                <a:solidFill>
                  <a:srgbClr val="ffcc66"/>
                </a:solidFill>
                <a:latin typeface="Arial"/>
              </a:rPr>
              <a:t>課綱轉化成果彙編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4515120" cy="6021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626000" y="835200"/>
            <a:ext cx="4518000" cy="602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981080" y="1523880"/>
            <a:ext cx="54864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ff"/>
                </a:solidFill>
                <a:latin typeface="Times New Roman"/>
                <a:ea typeface="金梅書法豆豆字體"/>
              </a:rPr>
              <a:t>感謝您的聆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ff"/>
                </a:solidFill>
                <a:latin typeface="Times New Roman"/>
                <a:ea typeface="金梅書法豆豆字體"/>
              </a:rPr>
              <a:t>敬請多多指教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990720"/>
            <a:ext cx="7162920" cy="42973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2971800" cy="1931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870600" y="4800600"/>
            <a:ext cx="69876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7543800" y="4495680"/>
            <a:ext cx="558720" cy="609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6413400" y="5181480"/>
            <a:ext cx="349200" cy="381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7835760" y="403848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7861320" y="3657600"/>
            <a:ext cx="279360" cy="304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5940360" y="5013360"/>
            <a:ext cx="365040" cy="396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5435640" y="5157720"/>
            <a:ext cx="306360" cy="333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4724280" y="4869000"/>
            <a:ext cx="501840" cy="5461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0"/>
          <a:stretch/>
        </p:blipFill>
        <p:spPr>
          <a:xfrm>
            <a:off x="4124160" y="5157720"/>
            <a:ext cx="376560" cy="4096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1"/>
          <a:stretch/>
        </p:blipFill>
        <p:spPr>
          <a:xfrm>
            <a:off x="8388360" y="2637000"/>
            <a:ext cx="200160" cy="217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2"/>
          <a:stretch/>
        </p:blipFill>
        <p:spPr>
          <a:xfrm>
            <a:off x="7956720" y="2997360"/>
            <a:ext cx="264960" cy="28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26920" y="2952720"/>
            <a:ext cx="7417080" cy="678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0000" indent="-11700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1-2-1</a:t>
            </a:r>
            <a:r>
              <a:rPr b="0" lang="zh-TW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描述</a:t>
            </a:r>
            <a:r>
              <a:rPr b="0" lang="zh-TW" sz="3200" spc="-1" strike="noStrike" u="sng">
                <a:solidFill>
                  <a:srgbClr val="ffffff"/>
                </a:solidFill>
                <a:uFillTx/>
                <a:latin typeface="華康魏碑體"/>
                <a:ea typeface="華康魏碑體"/>
              </a:rPr>
              <a:t>地方或區域</a:t>
            </a:r>
            <a:r>
              <a:rPr b="0" lang="zh-TW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的自然與人文特性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2000" y="4537080"/>
            <a:ext cx="7417080" cy="1469160"/>
            <a:chOff x="792000" y="4537080"/>
            <a:chExt cx="7417080" cy="1469160"/>
          </a:xfrm>
        </p:grpSpPr>
        <p:sp>
          <p:nvSpPr>
            <p:cNvPr id="103" name=""/>
            <p:cNvSpPr/>
            <p:nvPr/>
          </p:nvSpPr>
          <p:spPr>
            <a:xfrm>
              <a:off x="792000" y="5327640"/>
              <a:ext cx="7417080" cy="678600"/>
            </a:xfrm>
            <a:prstGeom prst="rect">
              <a:avLst/>
            </a:prstGeom>
            <a:noFill/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70000" indent="-1170000"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華康魏碑體"/>
                  <a:ea typeface="華康魏碑體"/>
                </a:rPr>
                <a:t>1-2-1</a:t>
              </a:r>
              <a:r>
                <a:rPr b="0" lang="zh-TW" sz="3200" spc="-1" strike="noStrike">
                  <a:solidFill>
                    <a:srgbClr val="ffff00"/>
                  </a:solidFill>
                  <a:latin typeface="華康魏碑體"/>
                  <a:ea typeface="華康魏碑體"/>
                </a:rPr>
                <a:t>描述</a:t>
              </a:r>
              <a:r>
                <a:rPr b="0" lang="zh-TW" sz="3200" spc="-1" strike="noStrike" u="sng">
                  <a:solidFill>
                    <a:srgbClr val="ffff00"/>
                  </a:solidFill>
                  <a:uFillTx/>
                  <a:latin typeface="華康魏碑體"/>
                  <a:ea typeface="華康魏碑體"/>
                </a:rPr>
                <a:t>居住地方</a:t>
              </a:r>
              <a:r>
                <a:rPr b="0" lang="zh-TW" sz="3200" spc="-1" strike="noStrike">
                  <a:solidFill>
                    <a:srgbClr val="ffff00"/>
                  </a:solidFill>
                  <a:latin typeface="華康魏碑體"/>
                  <a:ea typeface="華康魏碑體"/>
                </a:rPr>
                <a:t>的自然與人文特性 。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24360" y="4537080"/>
              <a:ext cx="863640" cy="719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33"/>
            </a:solidFill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92000" y="476280"/>
            <a:ext cx="74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20000"/>
              </a:lnSpc>
              <a:spcBef>
                <a:spcPts val="2500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逐條修改能力指標之文字敘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413000"/>
            <a:ext cx="838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47840" indent="-134784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1.</a:t>
            </a:r>
            <a:r>
              <a:rPr b="0" lang="zh-TW" sz="40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調整文字敘述，使能力指標更明確具體及語意暢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885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55640" y="1052640"/>
          <a:ext cx="7772400" cy="50911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華康魏碑體(P)"/>
                        </a:rPr>
                        <a:t>國小二階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華康魏碑體(P)"/>
                        </a:rPr>
                        <a:t>國小三階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華康魏碑體(P)"/>
                        </a:rPr>
                        <a:t>國中四階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1-2-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1-2-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6-2-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1-3-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1-3-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3-4-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3-4-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3-4-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6-4-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7-4-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魏碑體(P)"/>
                        </a:rPr>
                        <a:t>9-4-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26920" y="2535120"/>
            <a:ext cx="7417080" cy="6300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0000" indent="-117000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4-3-3 </a:t>
            </a:r>
            <a:r>
              <a:rPr b="0" lang="zh-TW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蒐集人類社會中的各種藝術形式，</a:t>
            </a:r>
            <a:r>
              <a:rPr b="0" lang="zh-TW" sz="3200" spc="-1" strike="noStrike" u="sng">
                <a:solidFill>
                  <a:srgbClr val="ffffff"/>
                </a:solidFill>
                <a:uFillTx/>
                <a:latin typeface="華康魏碑體"/>
                <a:ea typeface="華康魏碑體"/>
              </a:rPr>
              <a:t>並能進行美感的欣賞、溝通與表達</a:t>
            </a:r>
            <a:r>
              <a:rPr b="0" lang="zh-TW" sz="32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26920" y="4406760"/>
            <a:ext cx="7416720" cy="1573560"/>
            <a:chOff x="826920" y="4406760"/>
            <a:chExt cx="7416720" cy="1573560"/>
          </a:xfrm>
        </p:grpSpPr>
        <p:sp>
          <p:nvSpPr>
            <p:cNvPr id="111" name=""/>
            <p:cNvSpPr/>
            <p:nvPr/>
          </p:nvSpPr>
          <p:spPr>
            <a:xfrm>
              <a:off x="826920" y="5350320"/>
              <a:ext cx="7416720" cy="630000"/>
            </a:xfrm>
            <a:prstGeom prst="rect">
              <a:avLst/>
            </a:prstGeom>
            <a:noFill/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70000" indent="-1170000"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華康魏碑體"/>
                  <a:ea typeface="華康魏碑體"/>
                </a:rPr>
                <a:t>4-3-3 </a:t>
              </a:r>
              <a:r>
                <a:rPr b="0" lang="zh-TW" sz="3200" spc="-1" strike="noStrike">
                  <a:solidFill>
                    <a:srgbClr val="ffff00"/>
                  </a:solidFill>
                  <a:latin typeface="華康魏碑體"/>
                  <a:ea typeface="華康魏碑體"/>
                </a:rPr>
                <a:t>瞭解人類社會中的各種藝術形式。</a:t>
              </a:r>
              <a:r>
                <a:rPr b="0" lang="zh-TW" sz="3200" spc="-1" strike="noStrike">
                  <a:solidFill>
                    <a:srgbClr val="ffffff"/>
                  </a:solidFill>
                  <a:latin typeface="華康魏碑體"/>
                  <a:ea typeface="華康魏碑體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7240" y="4406760"/>
              <a:ext cx="863640" cy="801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33"/>
            </a:solidFill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92000" y="517680"/>
            <a:ext cx="74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20000"/>
              </a:lnSpc>
              <a:spcBef>
                <a:spcPts val="2500"/>
              </a:spcBef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逐條修改能力指標之文字敘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413000"/>
            <a:ext cx="8604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47840" indent="-134784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2.</a:t>
            </a:r>
            <a:r>
              <a:rPr b="0" lang="zh-TW" sz="4000" spc="-1" strike="noStrike">
                <a:solidFill>
                  <a:srgbClr val="ffff00"/>
                </a:solidFill>
                <a:latin typeface="華康魏碑體"/>
                <a:ea typeface="華康魏碑體"/>
              </a:rPr>
              <a:t>簡化文字敘述，避免敘述太冗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92000" y="3222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10000"/>
              </a:lnSpc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以註腳方式，增加「能力指標」之補充說明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2193840"/>
            <a:ext cx="6696000" cy="31244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Times New Roman"/>
                <a:ea typeface="華康魏碑體(P)"/>
              </a:rPr>
              <a:t>解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華康魏碑體(P)"/>
              </a:rPr>
              <a:t>關鍵術語</a:t>
            </a:r>
            <a:br>
              <a:rPr sz="4400"/>
            </a:b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華康魏碑體(P)"/>
              </a:rPr>
              <a:t>關係概念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華康魏碑體(P)"/>
              </a:rPr>
              <a:t>部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華康魏碑體(P)"/>
              </a:rPr>
              <a:t>分欲培養的能力內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92000" y="3222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10000"/>
              </a:lnSpc>
              <a:buClr>
                <a:srgbClr val="ccff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以註腳方式，增加「能力指標」之補充說明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2193840"/>
            <a:ext cx="6120000" cy="31244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Times New Roman"/>
                <a:ea typeface="華康魏碑體(P)"/>
              </a:rPr>
              <a:t>避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華康魏碑體(P)"/>
              </a:rPr>
              <a:t>誤讀</a:t>
            </a:r>
            <a:br>
              <a:rPr sz="4400"/>
            </a:b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華康魏碑體(P)"/>
              </a:rPr>
              <a:t>曲解</a:t>
            </a:r>
            <a:br>
              <a:rPr sz="4400"/>
            </a:b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華康魏碑體(P)"/>
              </a:rPr>
              <a:t>各說各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07:30:03Z</dcterms:created>
  <dc:creator>九十年度電腦設備購置案</dc:creator>
  <dc:description/>
  <dc:language>en-US</dc:language>
  <cp:lastModifiedBy>user</cp:lastModifiedBy>
  <dcterms:modified xsi:type="dcterms:W3CDTF">2010-05-25T01:56:01Z</dcterms:modified>
  <cp:revision>329</cp:revision>
  <dc:subject/>
  <dc:title>PowerPoint 簡報</dc:title>
</cp:coreProperties>
</file>