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E53A-79A5-46AC-A4B3-3655B8312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91E4-6ECB-415A-9FB6-9B7CDB732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ACE5-6825-440C-A434-811FA28A5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EFF1-7E3E-4B61-B17B-F6BAF0F7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B912-D62A-40B7-8532-D300852C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C263-4A12-449E-9C45-B07631C7CE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25E5B-0C01-4352-B67D-6449218C49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4CA52-166C-4A7A-9EE5-BC2EB6E8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AFE8C-EE0C-4B3B-BCA3-D817C05D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0DD26-E14B-4C02-BB56-D7BE055D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35588-2185-4BE6-B668-87D65347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E93A9-7FD7-4C4B-A3F9-649A5D74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B25E3-D146-46CA-B972-FC7A3ECC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DB6C-6BCA-4E4A-A45A-F046BEFD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9AFFC-291A-4E51-BF90-FEE15B37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76D95-6596-4904-BDA0-C5D104B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9A3E0-A8AC-4465-9E5C-A6E1E2FC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7D10D-2588-469C-B905-E2DAB38E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9C562-A13E-418C-BC8A-C917BE64AC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287A-E675-4E35-983B-491C84D9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EF22-4E20-4785-850F-F6B7AA25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7027-3C79-47CF-A3E1-1B66CAEA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3F74-D154-49DE-847E-83C7DAB5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2ACC-08B8-4E16-945C-D4F39487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DA64-2E46-4FD9-800B-C0996B72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05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E309-CE78-4EDB-A768-8DF9567E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723960"/>
            <a:ext cx="9144000" cy="12384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6867360" cy="72396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12600" y="343080"/>
            <a:ext cx="6032520" cy="679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C3DA-7A73-42BE-8225-E8D3A98A68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8"/>
          <p:cNvPicPr/>
          <p:nvPr/>
        </p:nvPicPr>
        <p:blipFill>
          <a:blip r:embed="rId2"/>
          <a:stretch/>
        </p:blipFill>
        <p:spPr>
          <a:xfrm>
            <a:off x="7640640" y="782640"/>
            <a:ext cx="1503360" cy="546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9"/>
          <p:cNvSpPr/>
          <p:nvPr/>
        </p:nvSpPr>
        <p:spPr>
          <a:xfrm>
            <a:off x="6873840" y="0"/>
            <a:ext cx="776160" cy="725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47120" y="1440"/>
            <a:ext cx="738000" cy="723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8388360" y="0"/>
            <a:ext cx="755640" cy="722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7643880" y="0"/>
            <a:ext cx="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8386920" y="0"/>
            <a:ext cx="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6"/>
          <p:cNvPicPr/>
          <p:nvPr/>
        </p:nvPicPr>
        <p:blipFill>
          <a:blip r:embed="rId2"/>
          <a:stretch/>
        </p:blipFill>
        <p:spPr>
          <a:xfrm>
            <a:off x="0" y="2516040"/>
            <a:ext cx="9144000" cy="2970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0" y="2797200"/>
            <a:ext cx="9144000" cy="2754360"/>
          </a:xfrm>
          <a:prstGeom prst="rect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7848720" y="5943600"/>
            <a:ext cx="1066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0"/>
            <a:ext cx="3048120" cy="2800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048120" y="0"/>
            <a:ext cx="3124080" cy="2800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6172200" y="0"/>
            <a:ext cx="2971800" cy="2800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152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4723920" y="65527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6AB8-A51F-46BB-B708-6966698DE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4724280" y="6553080"/>
            <a:ext cx="381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0974-E2A9-45CC-9DB1-E61BFD541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3499920"/>
            <a:ext cx="820908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3300"/>
                </a:solidFill>
                <a:latin typeface="標楷體"/>
              </a:rPr>
              <a:t>社會領域教學及省思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5589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報告人：陳振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社會領域的焦點內容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6000" y="1268280"/>
            <a:ext cx="5419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公民教育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歷史和社會科學教育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反思和問題解決教育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知識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技能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3.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價值觀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〈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情意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〉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標楷體"/>
              </a:rPr>
              <a:t>歷史內容的標準要素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23640" y="1773000"/>
            <a:ext cx="3907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歷史理解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歷史思維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歷史的內容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95280" y="1267920"/>
            <a:ext cx="40510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社會史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政治史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科學技術史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經濟史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文化史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地理學的要素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23640" y="1197000"/>
            <a:ext cx="4411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空間中的世界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位置和地區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自然系統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人類系統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環境和社會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地理的應用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建構性知識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8674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學生並不是被動地對他們的環境作出回應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當學生努力使他們的世界更有意義時，她們會彼此驅動著積極投入他們所作事情中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學生的學習結果並不來自於他們所預見的東西，而是來自於當他們努力形成個人意義時他們最終形成的概念信息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原認知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58016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促使學生通過對學習過程的積極參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與來建構世界的意義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典型的作法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出聲思維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將思維可視化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課堂提問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651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幫助學生形成對課程的意義理解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提問過程：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分類、澄清說明、排序、等待時間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提問的有效性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問題的清晰性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提問的次序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3.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題問後教師的等待時間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等待時間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121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指教師提問後至下列行為前之間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的時間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教師自己回答問題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請其他同學來回答這個問題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3.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問另一個問題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概念學習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1196640"/>
            <a:ext cx="6626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概念的類型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連接性概念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〈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三角形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〉    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相關性概念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〈〉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3.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非連接性概念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〈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特殊點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〉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概念的獲得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〈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沙漠、民主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〉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概念的構成 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/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診斷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〈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開放式問答、分類、實踐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〉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概念的引導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221840"/>
            <a:ext cx="845820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通過名稱來介紹相關概念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舉出有關概念的例子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舉出有關概念的反例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提供一些有關概念的正例與反例混合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要求學生定義概念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為學生們提供一些機會，使他們能通過尋找有關概念的特別例證來驗證她們對概念的理解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86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標楷體"/>
              </a:rPr>
              <a:t>專家說的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心理學家桑代克曾就學習的特質指出：「人類改變自我的力量，就是學習，學習可能是自身最深刻動人的一件事」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尋查概念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00000" y="1484280"/>
            <a:ext cx="3762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尋找依據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比較與對照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形成概括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多樣的思維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34920" y="1268280"/>
            <a:ext cx="433836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創造性思維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批判性思維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問題解決思維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決策思維</a:t>
            </a:r>
            <a:endParaRPr b="0" lang="en-US" sz="44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標楷體"/>
              </a:rPr>
              <a:t>專家說的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993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學習不再是生命終階段性的特定需要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將會是普遍而持續性的終身需求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學習是一種生活態度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一項與生俱在的慣性活動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不必、不會、也不可終止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標楷體"/>
              </a:rPr>
              <a:t>學習的</a:t>
            </a:r>
            <a:r>
              <a:rPr b="1" lang="en-US" sz="4800" spc="-1" strike="noStrike">
                <a:solidFill>
                  <a:srgbClr val="ff3300"/>
                </a:solidFill>
                <a:latin typeface="標楷體"/>
              </a:rPr>
              <a:t>3M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00416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學習材料（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</a:rPr>
              <a:t>material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學習方法（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</a:rPr>
              <a:t>method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學習媒介（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</a:rPr>
              <a:t>media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又是專家說的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770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牛頓說：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「如果我能夠看得比別人遠，是因為站在巨人肩膀上的緣故。」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標楷體"/>
              </a:rPr>
              <a:t>精進教學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154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跨越侷限，引導孩子做研究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</a:rPr>
              <a:t>research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大問題，小而美的解法（以學習者為中心，關懷學生的需求與困難，趣味加鷹架理論）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用紮實的方法引導，是給好奇心的最佳尊重（示範、說明、互動、回饋）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將別人的模式融入自己的教學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標楷體"/>
              </a:rPr>
              <a:t>還是專家說的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63272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發展「以學生為中心」的教室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教育的目的，就是要讓每個人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都能充分地展現他擁有的能力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－杜威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標楷體"/>
              </a:rPr>
              <a:t>投入研究產生興趣的方法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讓學生合作工作（合作）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讓學生成為研究主題的專家（專家）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使之浸淫於一個單元的學習（浸淫）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給予機會選擇感興趣的主題（選擇）</a:t>
            </a:r>
            <a:endParaRPr b="0" lang="en-US" sz="36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標楷體"/>
              </a:rPr>
              <a:t>克服閱讀障礙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35280" y="1196640"/>
            <a:ext cx="5635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朗讀（非小說文體）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放聲思考（說出來）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（重述與重讀）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夥伴閱讀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觀看不同觀點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認識關鍵詞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投影片編號版面配置區 3"/>
          <p:cNvSpPr/>
          <p:nvPr/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C168-D8BB-4495-BFF2-E2A81E80E9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1332000" y="1916280"/>
            <a:ext cx="590400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標楷體"/>
              </a:rPr>
              <a:t>感謝聆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標楷體"/>
              </a:rPr>
              <a:t>  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標楷體"/>
              </a:rPr>
              <a:t>魚路古道的啟示？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699920"/>
            <a:ext cx="57070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習焉不察的理論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暗默中運作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</a:rPr>
              <a:t>流傳久遠</a:t>
            </a: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標楷體"/>
              </a:rPr>
              <a:t>課程理論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18920" y="1125000"/>
            <a:ext cx="520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兒童主體的課程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體驗課程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自傳課程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統整課程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正式課程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美學課程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﹝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</a:rPr>
              <a:t>內容與形式合一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</a:rPr>
              <a:t>﹞</a:t>
            </a:r>
            <a:endParaRPr b="0" lang="en-US" sz="40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700360" y="1052640"/>
          <a:ext cx="3505320" cy="109692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000000"/>
                          </a:solidFill>
                          <a:latin typeface="華康粗明體"/>
                          <a:ea typeface="華康粗明體"/>
                        </a:rPr>
                        <a:t>維他命</a:t>
                      </a: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華康粗明體"/>
                          <a:ea typeface="華康粗明體"/>
                        </a:rPr>
                        <a:t>C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a2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619280" y="357336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Tahoma"/>
                <a:ea typeface="華康特粗明體"/>
              </a:rPr>
              <a:t>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Tahoma"/>
                <a:ea typeface="華康特粗明體"/>
              </a:rPr>
              <a:t>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3933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Tahoma"/>
                <a:ea typeface="華康特粗明體"/>
              </a:rPr>
              <a:t>鳳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4005360"/>
            <a:ext cx="6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Tahoma"/>
                <a:ea typeface="華康特粗明體"/>
              </a:rPr>
              <a:t>西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4360" y="3933720"/>
            <a:ext cx="99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華康特粗明體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華康特粗明體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華康特粗明體"/>
              </a:rPr>
              <a:t>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10920" y="2060640"/>
            <a:ext cx="2016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492360" y="2060640"/>
            <a:ext cx="93528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2060640"/>
            <a:ext cx="215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2060640"/>
            <a:ext cx="14396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2060640"/>
            <a:ext cx="288108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3933720"/>
            <a:ext cx="99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華康特粗明體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華康特粗明體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華康特粗明體"/>
              </a:rPr>
              <a:t>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標楷體"/>
                <a:ea typeface="標楷體"/>
              </a:rPr>
              <a:t>課程中的概念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332000" y="1413000"/>
            <a:ext cx="4825800" cy="4883760"/>
            <a:chOff x="1332000" y="1413000"/>
            <a:chExt cx="4825800" cy="4883760"/>
          </a:xfrm>
        </p:grpSpPr>
        <p:grpSp>
          <p:nvGrpSpPr>
            <p:cNvPr id="125" name=""/>
            <p:cNvGrpSpPr/>
            <p:nvPr/>
          </p:nvGrpSpPr>
          <p:grpSpPr>
            <a:xfrm>
              <a:off x="1332000" y="1413000"/>
              <a:ext cx="4825800" cy="4534920"/>
              <a:chOff x="1332000" y="1413000"/>
              <a:chExt cx="4825800" cy="4534920"/>
            </a:xfrm>
          </p:grpSpPr>
          <p:sp>
            <p:nvSpPr>
              <p:cNvPr id="126" name=""/>
              <p:cNvSpPr/>
              <p:nvPr/>
            </p:nvSpPr>
            <p:spPr>
              <a:xfrm>
                <a:off x="1332000" y="1607040"/>
                <a:ext cx="4825800" cy="4340880"/>
              </a:xfrm>
              <a:prstGeom prst="triangle">
                <a:avLst>
                  <a:gd name="adj" fmla="val 50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75960" y="1413000"/>
                <a:ext cx="3670200" cy="3498120"/>
              </a:xfrm>
              <a:prstGeom prst="triangle">
                <a:avLst>
                  <a:gd name="adj" fmla="val 50000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83480" y="1413000"/>
                <a:ext cx="2855160" cy="26568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27440" y="1413000"/>
                <a:ext cx="1835640" cy="168408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622240" y="5105520"/>
              <a:ext cx="258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000000"/>
                  </a:solidFill>
                  <a:latin typeface="Tahoma"/>
                  <a:ea typeface="華康中明體"/>
                </a:rPr>
                <a:t>  </a:t>
              </a:r>
              <a:r>
                <a:rPr b="1" lang="zh-TW" sz="3600" spc="-1" strike="noStrike">
                  <a:solidFill>
                    <a:srgbClr val="000000"/>
                  </a:solidFill>
                  <a:latin typeface="Tahoma"/>
                  <a:ea typeface="華康中明體"/>
                </a:rPr>
                <a:t>事     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91000" y="4198320"/>
              <a:ext cx="258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000000"/>
                  </a:solidFill>
                  <a:latin typeface="Tahoma"/>
                  <a:ea typeface="華康中明體"/>
                </a:rPr>
                <a:t>  </a:t>
              </a:r>
              <a:r>
                <a:rPr b="1" lang="zh-TW" sz="3600" spc="-1" strike="noStrike">
                  <a:solidFill>
                    <a:srgbClr val="000000"/>
                  </a:solidFill>
                  <a:latin typeface="Tahoma"/>
                  <a:ea typeface="華康中明體"/>
                </a:rPr>
                <a:t>概    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91000" y="3291120"/>
              <a:ext cx="258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000000"/>
                  </a:solidFill>
                  <a:latin typeface="Tahoma"/>
                  <a:ea typeface="華康中明體"/>
                </a:rPr>
                <a:t>原理  原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6200" y="2320200"/>
              <a:ext cx="122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000000"/>
                  </a:solidFill>
                  <a:latin typeface="Tahoma"/>
                  <a:ea typeface="華康中明體"/>
                </a:rPr>
                <a:t>理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435640" y="386064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Tahoma"/>
                <a:ea typeface="華康中明體"/>
              </a:rPr>
              <a:t>知識結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標楷體"/>
              </a:rPr>
              <a:t>知識結構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16000" y="1125360"/>
            <a:ext cx="5886360" cy="48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生活的主題和情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對抗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◎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主流、精英的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◎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意識型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◎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他人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快樂學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課程是實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5720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標楷體"/>
                <a:ea typeface="標楷體"/>
              </a:rPr>
              <a:t>課程是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0"/>
            <a:ext cx="6588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3300"/>
                </a:solidFill>
                <a:latin typeface="標楷體"/>
                <a:ea typeface="標楷體"/>
              </a:rPr>
              <a:t>理解課程改革過程</a:t>
            </a:r>
            <a:r>
              <a:rPr b="0" lang="zh-TW" sz="4600" spc="-1" strike="noStrike">
                <a:solidFill>
                  <a:srgbClr val="cc0000"/>
                </a:solidFill>
                <a:latin typeface="華康粗黑體"/>
                <a:ea typeface="華康粗黑體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600200"/>
            <a:ext cx="777240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343080" indent="-34308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97000"/>
            <a:ext cx="82818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新特明體"/>
                <a:ea typeface="華康新特明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新特明體"/>
                <a:ea typeface="華康新特明體"/>
              </a:rPr>
              <a:t>　　 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教育改革就像乘著一艘會漏水的破船，在不合作的水手駕駛下，駛向沒有航海圖的有計劃的旅程。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Fullan,1993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〉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課程改革是各種次級文化、利益團體和多元價值之間相互衡突、協商、適應和妥協的過程。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Dalton,1988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華康新特明體"/>
                <a:ea typeface="華康新特明體"/>
              </a:rPr>
              <a:t>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2852640"/>
            <a:ext cx="171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</a:rPr>
              <a:t>社會領域的定義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458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為學生解決個人和社會問題並作出決策，提供有利的工具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一般的核心知識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關注有爭議的問題，使成為有思想的個體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教師要形成清晰之概念，並接受觀點挑戰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為未來公民作準備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歷史和社會科學教育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反思和問題解決教育</a:t>
            </a: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0:59:58Z</dcterms:created>
  <dc:creator>Admin</dc:creator>
  <dc:description/>
  <dc:language>en-US</dc:language>
  <cp:lastModifiedBy>USER</cp:lastModifiedBy>
  <dcterms:modified xsi:type="dcterms:W3CDTF">2010-05-25T01:33:20Z</dcterms:modified>
  <cp:revision>75</cp:revision>
  <dc:subject/>
  <dc:title>投影片 1</dc:title>
</cp:coreProperties>
</file>