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24F-4B2E-4849-9DA6-DB79125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AB9-2295-4FFB-906D-6B77483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177-B8E9-4B53-9A5A-6104D191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23D-1FAF-493C-AB5F-9ADA8EB8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B015-8B53-44B3-9B5F-401DB8A4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AE44-4548-43B2-96A1-2266C82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89C-F2E9-40C3-AE5E-D9DDAC9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BD75-058F-4108-AD25-33C1232C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D663-116F-49D6-91F0-C0A27E7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2982-C177-496A-9A69-73BC47C3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65E-B748-4655-B2E4-E91026B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B07-EA75-43C8-9FD6-3EE8CFBD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F213-3CCB-4CDC-BA01-CE6BA46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0B37-FF9F-45E8-8BC5-BC06415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578-F3AA-43B1-8B70-7E4082E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2117-33E3-4E66-99E5-3378CE37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52C-0563-4473-A626-2320BDC0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3BE-86E5-42AA-BCF7-91A7A76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4AB-B7A2-4667-9847-99CFEE0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176-49F6-49CF-B2D5-2F88CFC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5EF-74E5-48D2-A25C-EAE9777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5A4-7D8F-4EEC-B790-E4F374B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CD7-957B-42E7-957E-98AD515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865-C0DB-4726-9CD2-52BBE82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0DE8-4FB4-4C3B-99B5-52E6446EB52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8AD-8D8C-4D38-8ADB-914F80AA1E1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br>
              <a:rPr sz="4500"/>
            </a:br>
            <a:br>
              <a:rPr sz="4500"/>
            </a:b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報告人 </a:t>
            </a:r>
            <a:r>
              <a:rPr b="1" lang="en-US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: </a:t>
            </a:r>
            <a:r>
              <a:rPr b="1" lang="zh-TW" sz="3300" spc="-1" strike="noStrike" u="sng">
                <a:solidFill>
                  <a:srgbClr val="336666"/>
                </a:solidFill>
                <a:uFillTx/>
                <a:latin typeface="標楷體"/>
                <a:ea typeface="標楷體"/>
              </a:rPr>
              <a:t>巫明璋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校長</a:t>
            </a:r>
            <a:br>
              <a:rPr sz="3300"/>
            </a:b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苗栗縣龍坑國小校長</a:t>
            </a:r>
            <a:br>
              <a:rPr sz="3300"/>
            </a:br>
            <a:br>
              <a:rPr sz="4500"/>
            </a:b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中華民國九十九年十月六日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133720" y="48006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13C-88A1-469D-82B0-FFA03A637B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050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5327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老師給學生的十二樣見面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一樣牙籤。挑出別人的長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二件橡皮筋。保持彈性，每件事情都能完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三件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OK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繃。恢復別人以及自己受傷的感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四件鉛筆。寫下你每天的願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五件橡皮擦。每個人都會犯錯，沒關係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六件口香糖。堅持下去就能完成工作。而且當你嘗試時，你會得到樂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七件棉花球。提醒你這間教室充滿和善的言語與溫暖的感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八件巧克力。當你沮喪時會讓你舒服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九件面紙。幫別人擦乾眼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第十件金線。記得用友情把我們的心綁在一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十一，銅板。提醒你，你是有價值而且特殊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十二，救生員（糖果代替，救生圈形），當你需要談一談時，你可以來找我</a:t>
            </a:r>
            <a:r>
              <a:rPr b="0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8B3-DF7F-4808-9470-6F22FDA1EF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050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號教室的奇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「品格」：道德六階段的成長，需要終其一生的努力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「閱讀」：閱讀是生活的基石，是和世界接軌的方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「金錢教育」：教孩子終其一生都有用的技能，「管理金錢」就是其一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「考試」：測驗只是理解的溫度計，不管考得如何，隔天太陽都照樣昇起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「藝術」：追求完美，即使永遠無法企及，過程就是一切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D39-55B6-47AD-AD6E-978DA1FAB6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50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優秀是教出來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289_22_66"/>
          <p:cNvPicPr/>
          <p:nvPr/>
        </p:nvPicPr>
        <p:blipFill>
          <a:blip r:embed="rId1"/>
          <a:stretch/>
        </p:blipFill>
        <p:spPr>
          <a:xfrm>
            <a:off x="701028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40C-F0C4-43F5-9512-0CFE42C006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6320" y="712800"/>
            <a:ext cx="7267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336666"/>
                </a:solidFill>
                <a:latin typeface="標楷體"/>
                <a:ea typeface="標楷體"/>
              </a:rPr>
              <a:t>傳授心法三：懲戒和獎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89072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記名字在黑板上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只是警告，不會有其他後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一個「</a:t>
            </a:r>
            <a:r>
              <a:rPr b="1" lang="en-US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學生必須和我坐在一起吃午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兩個「</a:t>
            </a:r>
            <a:r>
              <a:rPr b="1" lang="en-US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下課不能出去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三個「</a:t>
            </a:r>
            <a:r>
              <a:rPr b="1" lang="en-US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學生會收到這樣的類似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15E-5267-4045-924A-0B4338F0C8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3720" y="54288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336666"/>
                </a:solidFill>
                <a:latin typeface="標楷體"/>
                <a:ea typeface="標楷體"/>
              </a:rPr>
              <a:t>傳授心法三：懲戒和獎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53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親愛的家長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或監護人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令郎於四月五日下午三點至四點將被留校輔導，地點在克拉克老師的教室。留校輔導的理由是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王小明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沒有做家庭作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沒有交的作業：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理化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3-1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習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理化課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行為不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說明：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上課與老師發生爭辯，又拒交作業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請在下方簽名，准予令郎參加留校輔導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簽名：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○ ○ ○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 日期：</a:t>
            </a:r>
            <a:r>
              <a:rPr b="1" lang="zh-TW" sz="27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九十三年十二月廿五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46F-B32C-4212-86B2-0B7C57F1FA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6320" y="712800"/>
            <a:ext cx="72676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336666"/>
                </a:solidFill>
                <a:latin typeface="標楷體"/>
                <a:ea typeface="標楷體"/>
              </a:rPr>
              <a:t>傳授心法三：懲戒和獎勵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四個「</a:t>
            </a:r>
            <a:r>
              <a:rPr b="1" lang="en-US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打電話給家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7cdcc"/>
              </a:buClr>
              <a:buSzPct val="150000"/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召開校長家長老師都在場的三方面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懲罰措施是必要的，是孩子品學進步的重要關鍵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03C-D7A9-42DB-BC9C-94E9F9739A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50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38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標楷體"/>
                <a:ea typeface="標楷體"/>
              </a:rPr>
              <a:t>洪蘭教授對大腦之相關研究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老師的教學一定要有趣，而且要讓學生可以得到立即的回饋，如此才能提高學生的學習興趣。</a:t>
            </a:r>
            <a:r>
              <a:rPr b="0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用進廢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有效的學習</a:t>
            </a:r>
            <a:r>
              <a:rPr b="1" lang="en-US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4500" spc="-1" strike="noStrike">
                <a:solidFill>
                  <a:srgbClr val="000000"/>
                </a:solidFill>
                <a:latin typeface="標楷體"/>
                <a:ea typeface="標楷體"/>
              </a:rPr>
              <a:t>主動學習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閱讀可以吸取作者的經驗來學習，並和自己所學的知識產生連結，藉以培養自己的邏輯推理能力和文字口語表達能力，還可以透過不同作者的眼睛來看世界，如此不僅可以培養我們的創造力，甚至可以習得同理心，感受到別人的痛苦，不僅學到知識，也可以學到常識。</a:t>
            </a:r>
            <a:r>
              <a:rPr b="0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A83-14B2-44CC-89C2-6748C5A344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8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叁、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家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給家長的一封信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親師溝通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吃早餐後到校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專用書桌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聽話的小孩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家庭訪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家長的人力資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發展班級特色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家長配合事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C5D-922C-47CA-8C05-1547E8FEEC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8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叁、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學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班長輪流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每人都有任務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培養學生的專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給學生舞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10F-06E7-4E67-9FE8-23E19C4689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8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叁、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教師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學習與成長照片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善用學校設備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CD pl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數位與網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建構學生主動學習的機制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英語會話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句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音樂欣賞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書法作品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三分鐘演講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部落格心情日記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DEE-4F40-4680-B4D1-F20CD257C9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71280" y="1676520"/>
            <a:ext cx="770580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故事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故事二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故事三、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93C-CEBC-435B-B5EC-FC1B30A057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8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叁、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行政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趨勢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推動閱讀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教學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數位化教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攜手計畫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教育優先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獎學金或補助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社會資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B37-3A3F-4B19-85AA-517BA17A25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8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叁、</a:t>
            </a:r>
            <a:r>
              <a:rPr b="1" lang="zh-TW" sz="3300" spc="-1" strike="noStrike">
                <a:solidFill>
                  <a:srgbClr val="336666"/>
                </a:solidFill>
                <a:latin typeface="標楷體"/>
                <a:ea typeface="標楷體"/>
              </a:rPr>
              <a:t>班級經營思維與問題解決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38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教學環境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教室佈置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學生做還是老師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班級特色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分享專區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榮譽樹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生活照</a:t>
            </a:r>
            <a:r>
              <a:rPr b="1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1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音樂欣賞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5B6-9AD6-480B-87D6-6ED294177B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結</a:t>
            </a: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	</a:t>
            </a: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  語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18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000000"/>
                </a:solidFill>
                <a:latin typeface="標楷體"/>
                <a:ea typeface="標楷體"/>
              </a:rPr>
              <a:t>投入就能深入，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000000"/>
                </a:solidFill>
                <a:latin typeface="標楷體"/>
                <a:ea typeface="標楷體"/>
              </a:rPr>
              <a:t>深入就能化平凡為神奇，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000000"/>
                </a:solidFill>
                <a:latin typeface="標楷體"/>
                <a:ea typeface="標楷體"/>
              </a:rPr>
              <a:t>帶好每一位學生。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1289_22_71"/>
          <p:cNvPicPr/>
          <p:nvPr/>
        </p:nvPicPr>
        <p:blipFill>
          <a:blip r:embed="rId1"/>
          <a:stretch/>
        </p:blipFill>
        <p:spPr>
          <a:xfrm>
            <a:off x="60948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289_22_62"/>
          <p:cNvPicPr/>
          <p:nvPr/>
        </p:nvPicPr>
        <p:blipFill>
          <a:blip r:embed="rId2"/>
          <a:stretch/>
        </p:blipFill>
        <p:spPr>
          <a:xfrm>
            <a:off x="3809880" y="4876920"/>
            <a:ext cx="144468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1289_22_66"/>
          <p:cNvPicPr/>
          <p:nvPr/>
        </p:nvPicPr>
        <p:blipFill>
          <a:blip r:embed="rId3"/>
          <a:stretch/>
        </p:blipFill>
        <p:spPr>
          <a:xfrm>
            <a:off x="5257800" y="4876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1289_22_63"/>
          <p:cNvPicPr/>
          <p:nvPr/>
        </p:nvPicPr>
        <p:blipFill>
          <a:blip r:embed="rId4"/>
          <a:stretch/>
        </p:blipFill>
        <p:spPr>
          <a:xfrm>
            <a:off x="6705720" y="4800600"/>
            <a:ext cx="1676160" cy="1576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1289_22_64"/>
          <p:cNvPicPr/>
          <p:nvPr/>
        </p:nvPicPr>
        <p:blipFill>
          <a:blip r:embed="rId5"/>
          <a:stretch/>
        </p:blipFill>
        <p:spPr>
          <a:xfrm>
            <a:off x="2209680" y="4876920"/>
            <a:ext cx="161316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48A-73CB-4DA9-9D59-2DE830263D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6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50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壹、舊經驗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1676520"/>
            <a:ext cx="838836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、行為改變技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制約、代幣制度、增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學習、記憶、遺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三、教材教法、測驗評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四、版書版畫、說故事、琴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289_22_62"/>
          <p:cNvPicPr/>
          <p:nvPr/>
        </p:nvPicPr>
        <p:blipFill>
          <a:blip r:embed="rId1"/>
          <a:stretch/>
        </p:blipFill>
        <p:spPr>
          <a:xfrm>
            <a:off x="7093080" y="836640"/>
            <a:ext cx="155412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964-49BE-4A5E-95D5-8E84457BC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050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100" spc="-1" strike="noStrike">
                <a:solidFill>
                  <a:srgbClr val="000000"/>
                </a:solidFill>
                <a:latin typeface="標楷體"/>
                <a:ea typeface="標楷體"/>
              </a:rPr>
              <a:t>馬斯洛的需求理論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生理的需求</a:t>
            </a: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水、食物、溫暖和性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安全的需求</a:t>
            </a: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免於生理上的傷害，免於心理上的恐懼與傷害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被接納的需求</a:t>
            </a: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被愛和有歸屬感，以一個人的本像被接納，而非所作所為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自尊的需求</a:t>
            </a: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追求自我的價值感，我是有能力、能勝任工作、和有用的人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自我實現</a:t>
            </a: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最高的需求層次，指個人有追求成長的需求，將其潛能完全發揮，且人格的各部份協調一致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289_22_66"/>
          <p:cNvPicPr/>
          <p:nvPr/>
        </p:nvPicPr>
        <p:blipFill>
          <a:blip r:embed="rId1"/>
          <a:stretch/>
        </p:blipFill>
        <p:spPr>
          <a:xfrm>
            <a:off x="701028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DB8-A8DF-435D-8D36-8CB18078F1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050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3Q</a:t>
            </a:r>
            <a:r>
              <a:rPr b="0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達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1.AQ (Adversity Quotient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）逆境智商達人：具有良好的挫折忍受力，能以彈性面對逆境，積極樂觀，接受困難的挑戰，發揮創意找出解決方案，不屈不撓，愈挫愈勇，表現卓越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2.EQ (Emotional Quotient) </a:t>
            </a: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情緒智商達人：具有良好的情緒管理的能力，激勵自己愈挫愈勇，能設身處地為人著想，良好之溝通能力及人際關係，克服困難，積極樂觀影響別人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pt-BR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MQ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pt-BR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Moral Quotient</a:t>
            </a: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）道德智商達人：具有良好的品德，並有禮貌體貼、尊重寬恕、忠心誠實、負責合作等良好情操美德，且能實踐</a:t>
            </a:r>
            <a:r>
              <a:rPr b="1" lang="zh-TW" sz="2700" spc="-1" strike="noStrike">
                <a:solidFill>
                  <a:srgbClr val="ff0000"/>
                </a:solidFill>
                <a:latin typeface="標楷體"/>
                <a:ea typeface="標楷體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289_22_66"/>
          <p:cNvPicPr/>
          <p:nvPr/>
        </p:nvPicPr>
        <p:blipFill>
          <a:blip r:embed="rId1"/>
          <a:stretch/>
        </p:blipFill>
        <p:spPr>
          <a:xfrm>
            <a:off x="7020000" y="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B37-8444-4313-94DE-3F8EBC769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050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多元智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語文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邏輯數學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空間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肢體運作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音樂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人際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內省智慧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自然觀察者智慧</a:t>
            </a:r>
            <a:r>
              <a:rPr b="0" lang="zh-TW" sz="31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289_22_66"/>
          <p:cNvPicPr/>
          <p:nvPr/>
        </p:nvPicPr>
        <p:blipFill>
          <a:blip r:embed="rId1"/>
          <a:stretch/>
        </p:blipFill>
        <p:spPr>
          <a:xfrm>
            <a:off x="7020000" y="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94D-6A55-4C23-AAA7-86BC41F258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602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E8B-A8EA-4625-893D-EB5723F4FE5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050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型組織的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五項修練</a:t>
            </a:r>
            <a:r>
              <a:rPr b="0" lang="zh-TW" sz="23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自我超越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習不斷釐清並加深個人的真正願望，集中精力、培養耐心、並客觀的觀察現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改善心智模式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心智模式是根深柢固於心中，影響我們如何了解這個世界，以及如何採取行動的許多假設、成見。把鏡子轉向自己，學習發掘內心世界的圖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建立共同願景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共同願景的整合，幫助組織培養成員主動而真誠的奉獻和投入，而非被動的遵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4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團隊學習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團隊學習之所以重要，是因為在現代組織中，學習的基本單位是團隊而非個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5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系統思考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切的事件都息息相關，且每次運行的模式相同、每個環節都相互影響。而這些影響通常是隱匿而不易察覺的。企業和人類其他活動也是一種「系統」，身為群體中的一小部份，需明白系統思考的架構及知識體系，可幫助我們認清整個變化型態，了解應如何有效掌握變化、開創新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983-3CAA-4FA6-821D-FAE15868E5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050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ff0000"/>
                </a:solidFill>
                <a:latin typeface="標楷體"/>
                <a:ea typeface="標楷體"/>
              </a:rPr>
              <a:t>貳、新思維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後現代哲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一否定性的後現代主義，強調對現代傳統的否定，觀點是激進的、革命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二建設性的後現代主義，在批判之餘也試圖建立一種以多元論為基礎的思想風格、藝術風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三庸俗的後現代主義，把一切都看作遊戲的產物，就如宗教中所言的一即多，多即一的咒語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去中心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反權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批判主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多元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標楷體"/>
                <a:ea typeface="標楷體"/>
              </a:rPr>
              <a:t>不確定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289_22_66"/>
          <p:cNvPicPr/>
          <p:nvPr/>
        </p:nvPicPr>
        <p:blipFill>
          <a:blip r:embed="rId1"/>
          <a:stretch/>
        </p:blipFill>
        <p:spPr>
          <a:xfrm>
            <a:off x="7020000" y="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班級經營思維與問題解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BCF-73CC-40D4-804D-B2D5FCBB95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10/6</a:t>
            </a:r>
          </a:p>
        </p:txBody>
      </p:sp>
    </p:spTree>
  </p:cSld>
  <p:transition spd="slow">
    <p:random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3:11:47Z</dcterms:created>
  <dc:creator>bright</dc:creator>
  <dc:description/>
  <dc:language>en-US</dc:language>
  <cp:lastModifiedBy>user</cp:lastModifiedBy>
  <dcterms:modified xsi:type="dcterms:W3CDTF">2010-10-05T04:45:33Z</dcterms:modified>
  <cp:revision>150</cp:revision>
  <dc:subject/>
  <dc:title>金門資訊教育入口網站 專案說明</dc:title>
</cp:coreProperties>
</file>