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C0F-5ABE-43EA-86D5-A7AF75F3982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FBA5-941B-49D9-AA13-61E7D9A2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067A-46D9-427E-916E-1427091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CC9A-DEDD-4412-AB30-C923CCF4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2556-51A1-4209-B7F7-B2FC8AEF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2BE-BB3C-4E25-BF97-8CB2401A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F562-7373-48E4-A6F0-5D05821D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3A1-7500-4E20-8130-341F5E66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9D7-1997-4AB2-844C-AF1E92C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7BB-6249-4F85-A577-5D131A1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121-F183-4DEC-B031-0C893E2B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6B1-758E-4CB5-9BE8-C0564B1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360E-EFE1-4F3E-8CC5-64277C0C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781D-A8FF-4F64-93BD-C22A26FF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EC4-1EE8-424D-B65D-2926F37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82E-DB66-4516-AEB7-47A18EE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C6D4-9352-4598-B4B8-BEB7D0B3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353E-8ACE-4AB5-AAA9-CA6AEFFF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5927-95CE-45CD-9543-5B069D43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A9A1-F63F-472D-B0DA-951BE3BA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AF19-BB62-4234-B59C-7C46CE8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7825-BA46-4876-A815-AD1DC27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C580-DE2D-4283-B3A8-E20646F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763D-9A28-499E-AC88-9EB4FCF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BF4E-E4AF-4310-A9E8-0C782CE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62B-27E0-4B80-A513-A8BE501888DE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1AC-0A8C-4F03-B64D-90BA7DF27C48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&#38321;&#35712;&#30456;&#38364;&#23186;&#26448;/&#36523;&#25945;%20(1).wmv" TargetMode="External"/><Relationship Id="rId2" Type="http://schemas.openxmlformats.org/officeDocument/2006/relationships/hyperlink" Target="file:///&#20778;&#31168;&#26159;&#25945;&#32946;&#20986;&#20358;&#30340;.pps" TargetMode="External"/><Relationship Id="rId3" Type="http://schemas.openxmlformats.org/officeDocument/2006/relationships/hyperlink" Target="file:///&#20778;&#31168;&#26159;&#25945;&#32946;&#20986;&#20358;&#30340;.pps" TargetMode="External"/><Relationship Id="rId4" Type="http://schemas.openxmlformats.org/officeDocument/2006/relationships/hyperlink" Target="file:///&#20778;&#31168;&#26159;&#25945;&#32946;&#20986;&#20358;&#30340;.pps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6519;&#32681;&#20625;.wmv" TargetMode="External"/><Relationship Id="rId2" Type="http://schemas.openxmlformats.org/officeDocument/2006/relationships/hyperlink" Target="file:///&#26519;&#32681;&#20625;.wmv" TargetMode="External"/><Relationship Id="rId3" Type="http://schemas.openxmlformats.org/officeDocument/2006/relationships/hyperlink" Target="file:///../../&#21697;&#26684;&#25945;&#32946;/&#34030;&#24681;1.ppt" TargetMode="External"/><Relationship Id="rId4" Type="http://schemas.openxmlformats.org/officeDocument/2006/relationships/hyperlink" Target="file:///../../&#22320;&#29699;&#30334;&#20154;&#26449;&#33674;.pps" TargetMode="External"/><Relationship Id="rId5" Type="http://schemas.openxmlformats.org/officeDocument/2006/relationships/hyperlink" Target="file:///../../&#22320;&#29699;&#30334;&#20154;&#26449;&#33674;.pps" TargetMode="External"/><Relationship Id="rId6" Type="http://schemas.openxmlformats.org/officeDocument/2006/relationships/hyperlink" Target="file:///../../&#22320;&#29699;&#30334;&#20154;&#26449;&#33674;.pps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&#22025;&#32681;&#22823;&#23416;&#20840;&#20154;&#25945;&#32946;&#33287;&#29983;&#28079;&#30332;&#23637;&#35611;&#32177;/&#24907;&#24230;&#25913;&#35722;&#20154;&#29983;&#36319;&#33879;&#25913;&#35722;.wmv" TargetMode="External"/><Relationship Id="rId2" Type="http://schemas.openxmlformats.org/officeDocument/2006/relationships/hyperlink" Target="file:///../../&#22025;&#32681;&#22823;&#23416;&#20840;&#20154;&#25945;&#32946;&#33287;&#29983;&#28079;&#30332;&#23637;&#35611;&#32177;/&#24907;&#24230;&#25913;&#35722;&#20154;&#29983;&#36319;&#33879;&#25913;&#35722;.wmv" TargetMode="External"/><Relationship Id="rId3" Type="http://schemas.openxmlformats.org/officeDocument/2006/relationships/hyperlink" Target="file:///../&#38321;&#35712;&#30456;&#38364;&#23186;&#26448;/&#21029;&#20570;&#24460;&#24724;&#30340;&#20107;.pps" TargetMode="External"/><Relationship Id="rId4" Type="http://schemas.openxmlformats.org/officeDocument/2006/relationships/hyperlink" Target="file:///../&#38321;&#35712;&#30456;&#38364;&#23186;&#26448;/&#21029;&#20570;&#24460;&#24724;&#30340;&#20107;.pps" TargetMode="External"/><Relationship Id="rId5" Type="http://schemas.openxmlformats.org/officeDocument/2006/relationships/hyperlink" Target="file:///../&#38321;&#35712;&#30456;&#38364;&#23186;&#26448;/&#21029;&#20570;&#24460;&#24724;&#30340;&#20107;.pps" TargetMode="External"/><Relationship Id="rId6" Type="http://schemas.openxmlformats.org/officeDocument/2006/relationships/hyperlink" Target="file:///../&#38321;&#35712;&#30456;&#38364;&#23186;&#26448;/&#30524;&#35211;&#28858;&#24977;&#21966;%20&#65311;.mpeg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3478;.avi" TargetMode="External"/><Relationship Id="rId2" Type="http://schemas.openxmlformats.org/officeDocument/2006/relationships/hyperlink" Target="file:///&#23478;.avi" TargetMode="External"/><Relationship Id="rId3" Type="http://schemas.openxmlformats.org/officeDocument/2006/relationships/hyperlink" Target="file:///&#23478;.avi" TargetMode="External"/><Relationship Id="rId4" Type="http://schemas.openxmlformats.org/officeDocument/2006/relationships/hyperlink" Target="file:///&#23478;.avi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880" y="525744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標楷體"/>
                <a:ea typeface="標楷體"/>
              </a:rPr>
              <a:t>主講人：郭秋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55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Times New Roman"/>
                <a:ea typeface="標楷體"/>
              </a:rPr>
              <a:t>教出品格力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05000"/>
            <a:ext cx="7991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Garamond"/>
                <a:ea typeface="標楷體"/>
              </a:rPr>
              <a:t>参、品格教育之內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二、品格教育的目標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消極目標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：獨善其身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積極意義：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兼善天下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</a:rPr>
              <a:t>，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成為全球公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簡而言之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zh-TW" sz="3400" spc="-1" strike="noStrike">
                <a:solidFill>
                  <a:srgbClr val="ffff00"/>
                </a:solidFill>
                <a:latin typeface="標楷體"/>
                <a:ea typeface="標楷體"/>
              </a:rPr>
              <a:t>品格教育就是要讓學生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400" spc="-1" strike="noStrike">
                <a:solidFill>
                  <a:srgbClr val="ffff00"/>
                </a:solidFill>
                <a:latin typeface="標楷體"/>
                <a:ea typeface="標楷體"/>
              </a:rPr>
              <a:t>學習「認識良善、喜愛良善、做出良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400" spc="-1" strike="noStrike">
                <a:solidFill>
                  <a:srgbClr val="ffff00"/>
                </a:solidFill>
                <a:latin typeface="標楷體"/>
                <a:ea typeface="標楷體"/>
              </a:rPr>
              <a:t>善。」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標楷體"/>
              </a:rPr>
              <a:t>肆、</a:t>
            </a:r>
            <a:r>
              <a:rPr b="0" lang="zh-TW" sz="5400" spc="-1" strike="noStrike">
                <a:solidFill>
                  <a:srgbClr val="ffff00"/>
                </a:solidFill>
                <a:latin typeface="Garamond"/>
                <a:ea typeface="標楷體"/>
              </a:rPr>
              <a:t>正確的教育價值觀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一、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打破「萬般皆下品，惟有讀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        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高」之迷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二、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以身作則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，成為學習的典範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1"/>
              </a:rPr>
              <a:t>身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三、建立自信</a:t>
            </a: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；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引導啟發，協助孩子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        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發現優勢與長處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四、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實踐生活規範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，養成良好習慣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        </a:t>
            </a:r>
            <a:r>
              <a:rPr b="0" lang="zh-TW" sz="24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2"/>
              </a:rPr>
              <a:t>優秀是教育出來的</a:t>
            </a:r>
            <a:r>
              <a:rPr b="0" lang="zh-TW" sz="24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3"/>
              </a:rPr>
              <a:t>.</a:t>
            </a:r>
            <a:r>
              <a:rPr b="0" lang="zh-TW" sz="24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4"/>
              </a:rPr>
              <a:t>p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五、溺愛不是愛，讓孩子學會負責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標楷體"/>
              </a:rPr>
              <a:t>肆、</a:t>
            </a:r>
            <a:r>
              <a:rPr b="0" lang="zh-TW" sz="5400" spc="-1" strike="noStrike">
                <a:solidFill>
                  <a:srgbClr val="ffff00"/>
                </a:solidFill>
                <a:latin typeface="Garamond"/>
                <a:ea typeface="標楷體"/>
              </a:rPr>
              <a:t>正確的教育價值觀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4640" y="1701720"/>
            <a:ext cx="8379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六、</a:t>
            </a: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培養孩子做事的能力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七、尊重與讚美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八、容許犯錯，「家」是孩子一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的避風港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九、不強調競爭</a:t>
            </a: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，重視分享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1"/>
              </a:rPr>
              <a:t>林義傑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2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十、培養愛與關懷的能力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3"/>
              </a:rPr>
              <a:t>蓮恩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4"/>
              </a:rPr>
              <a:t>地球百人村莊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5"/>
              </a:rPr>
              <a:t>.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6"/>
              </a:rPr>
              <a:t>pps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Garamond"/>
                <a:ea typeface="標楷體"/>
              </a:rPr>
              <a:t>伍、營造溫馨的家庭氣氛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67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一）情緒管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給自己額外的時間，勿讓生活在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忙中度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輕鬆一下嘛！用優雅的態度回應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活，拒絕完美主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傾聽家人的聲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善待自己，別當一個犧牲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自我成長，給自己一個空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17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隨時清理親子關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56304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Garamond"/>
                <a:ea typeface="標楷體"/>
              </a:rPr>
              <a:t>伍、營造溫馨的家庭氣氛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（二）養成雙向溝通的習慣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改變心念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1"/>
              </a:rPr>
              <a:t>態度改變人生跟著改變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2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處理事情，先處理自己情緒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      </a:t>
            </a:r>
            <a:r>
              <a:rPr b="0" lang="zh-TW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3"/>
              </a:rPr>
              <a:t>別做後悔的事</a:t>
            </a:r>
            <a:r>
              <a:rPr b="0" lang="zh-TW" sz="32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4"/>
              </a:rPr>
              <a:t>.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5"/>
              </a:rPr>
              <a:t>pps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  <a:hlinkClick r:id="rId6"/>
              </a:rPr>
              <a:t>眼見為憑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3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聽比說重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4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家庭會議是平等的溝通方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5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幽默化解衝突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4772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Garamond"/>
                <a:ea typeface="標楷體"/>
              </a:rPr>
              <a:t>伍、營造溫馨的家庭氣氛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（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三）相互尊重，建立親密關係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建立家庭公約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（四）自我成長：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改變教養觀念及態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2</a:t>
            </a:r>
            <a:r>
              <a:rPr b="0" lang="zh-TW" sz="4000" spc="-1" strike="noStrike">
                <a:solidFill>
                  <a:srgbClr val="ffff00"/>
                </a:solidFill>
                <a:latin typeface="標楷體"/>
                <a:ea typeface="標楷體"/>
              </a:rPr>
              <a:t>、身教重於言教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Garamond"/>
                <a:ea typeface="標楷體"/>
              </a:rPr>
              <a:t>陸、結語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1"/>
              </a:rPr>
              <a:t>.</a:t>
            </a:r>
            <a:r>
              <a:rPr b="0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 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2"/>
              </a:rPr>
              <a:t>家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3"/>
              </a:rPr>
              <a:t>.</a:t>
            </a: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ea typeface="標楷體"/>
                <a:hlinkClick r:id="rId4"/>
              </a:rPr>
              <a:t>av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919160"/>
            <a:ext cx="8820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天下無天生的父母，教養子女不是一種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天賦，必須透過不斷的自我成長、學習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以新的思維，破除固著的觀念，不再迷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於學業成就是孩子最重要的生活能力</a:t>
            </a:r>
            <a:r>
              <a:rPr b="0" lang="zh-TW" sz="2800" spc="-1" strike="noStrike">
                <a:solidFill>
                  <a:srgbClr val="ffff00"/>
                </a:solidFill>
                <a:latin typeface="Garamond"/>
              </a:rPr>
              <a:t>。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品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教育應扎根於家庭教育中，相信好的人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養成，將是你給孩子最美的人生禮物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  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演講大綱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4400" y="1701360"/>
            <a:ext cx="81392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壹、前言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貳</a:t>
            </a:r>
            <a:r>
              <a:rPr b="0" lang="zh-TW" sz="4800" spc="-1" strike="noStrike">
                <a:solidFill>
                  <a:srgbClr val="ffff00"/>
                </a:solidFill>
                <a:latin typeface="Garamond"/>
              </a:rPr>
              <a:t>、</a:t>
            </a: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現今品格教育面臨之困境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参、品格教育的內涵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肆</a:t>
            </a: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正確的教育價值觀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伍、</a:t>
            </a:r>
            <a:r>
              <a:rPr b="0" lang="zh-TW" sz="4800" spc="-1" strike="noStrike">
                <a:solidFill>
                  <a:srgbClr val="ffff00"/>
                </a:solidFill>
                <a:latin typeface="Garamond"/>
                <a:ea typeface="標楷體"/>
              </a:rPr>
              <a:t>營造溫馨的家庭氣氛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陸、結語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33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752480" cy="1351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壹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</a:rPr>
              <a:t>、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前言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[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企業用人，先看品格再看能力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卓越的企業對於人格特質看重的程度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遠高於教育背景、實務技能、專業知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或工作經驗。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  ”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&lt;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領導力教育的奇蹟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&gt; 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張忠謀說：學校教育所學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在社會上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用到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20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％，而且只有五年的有效期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壹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</a:rPr>
              <a:t>、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前言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6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我們對於教育應有的認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一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)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教育的顧客是「成長孩子」與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「未來社會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二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)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教育的目標是培育「完整的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人」與「良性的社會成員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三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)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家長是教育的「合夥夥伴」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而非「顧客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壹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</a:rPr>
              <a:t>、</a:t>
            </a:r>
            <a:r>
              <a:rPr b="0" lang="zh-TW" sz="6000" spc="-1" strike="noStrike">
                <a:solidFill>
                  <a:srgbClr val="ffff00"/>
                </a:solidFill>
                <a:latin typeface="Garamond"/>
                <a:ea typeface="標楷體"/>
              </a:rPr>
              <a:t>前言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676160"/>
            <a:ext cx="7796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二十一世紀所需之能力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（一）學業能力：讀寫算、邏輯推理、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           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技應用、資訊處裡、外語知識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（二）個人能力：溝通、獨立思考、解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          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問題、適應、終身學習等能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（三）公民能力：自我管理、尊重他人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          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多元文化之理解與欣賞之能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台灣家長最不能容忍</a:t>
            </a:r>
            <a:br>
              <a:rPr sz="4000"/>
            </a:br>
            <a:r>
              <a:rPr b="1" lang="zh-TW" sz="4000" spc="-1" strike="noStrike">
                <a:solidFill>
                  <a:srgbClr val="ffff00"/>
                </a:solidFill>
                <a:latin typeface="Garamond"/>
                <a:ea typeface="標楷體"/>
              </a:rPr>
              <a:t>                     孩子有哪方面行為？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不誠實：如說謊、作弊、偷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不禮貎：如頂撞長輩、罵髒話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不愛惜身體：如抽煙、嗑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結交壞朋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打架鬧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不用功唸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609300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資料來源：天下雜誌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年專刊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教出品格力</a:t>
            </a:r>
            <a:r>
              <a:rPr b="0" lang="zh-TW" sz="1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2979720" cy="2173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65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貳、現今品格教育面臨之困境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53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一）品格教育基地－家庭，功能式微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二）學校教育強調能力，忽略德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三）新聞媒體、政治人物、電視節目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不良示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四）缺乏核心價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五）缺乏楷模人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六）過度強調人權，忽略群性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（七）教師影響力下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標楷體"/>
                <a:ea typeface="標楷體"/>
              </a:rPr>
              <a:t>貳、現今品格教育面臨之困境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532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據調查臺灣家長的意見</a:t>
            </a: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，品德教育最應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培養的</a:t>
            </a:r>
            <a:r>
              <a:rPr b="0" lang="zh-TW" sz="3600" spc="-1" strike="noStrike">
                <a:solidFill>
                  <a:srgbClr val="ffff00"/>
                </a:solidFill>
                <a:latin typeface="標楷體"/>
                <a:ea typeface="標楷體"/>
              </a:rPr>
              <a:t>依序為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對自己負責任的自律精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為別人著想的同理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挫折容忍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獨立思考的判斷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誠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自信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7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勇敢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Garamond"/>
                <a:ea typeface="標楷體"/>
              </a:rPr>
              <a:t>参、品格教育之內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Garamond"/>
                <a:ea typeface="標楷體"/>
              </a:rPr>
              <a:t>一、品格是什麼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是一種以符合道德規範的方式來回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       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  <a:ea typeface="標楷體"/>
              </a:rPr>
              <a:t>外在情境的一種內在氣質</a:t>
            </a:r>
            <a:r>
              <a:rPr b="0" lang="zh-TW" sz="3200" spc="-1" strike="noStrike">
                <a:solidFill>
                  <a:srgbClr val="ffff00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品格是內在的動機表現，使我們無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處在怎樣的情況下，都能依據最高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標準做正確的事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品格是我們面對困境與壓力時而有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ffff00"/>
                </a:solidFill>
                <a:latin typeface="標楷體"/>
                <a:ea typeface="標楷體"/>
              </a:rPr>
              <a:t>明智反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09:41:44Z</dcterms:created>
  <dc:creator>秋時</dc:creator>
  <dc:description/>
  <dc:language>en-US</dc:language>
  <cp:lastModifiedBy>a</cp:lastModifiedBy>
  <dcterms:modified xsi:type="dcterms:W3CDTF">2010-09-05T15:33:45Z</dcterms:modified>
  <cp:revision>72</cp:revision>
  <dc:subject/>
  <dc:title>犯案少年的家庭系統：都是家庭惹的禍？！ </dc:title>
</cp:coreProperties>
</file>