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29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4.png" ContentType="image/png"/>
  <Override PartName="/ppt/media/image16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1.jpeg" ContentType="image/jpeg"/>
  <Override PartName="/ppt/media/image24.gif" ContentType="image/gif"/>
  <Override PartName="/ppt/media/image32.jpeg" ContentType="image/jpe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1380-08FF-4D1F-ADFB-314EE0CD0E1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並不是每一件可數、可量化的東西，都是可靠的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一件可靠的東西，也並非都是可數、可量化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" spc="-1" strike="noStrike">
                <a:solidFill>
                  <a:srgbClr val="000000"/>
                </a:solidFill>
                <a:latin typeface="Calibri"/>
                <a:ea typeface="新細明體"/>
              </a:rPr>
              <a:t>人類智慧的結構是多元的。美國哈佛大學教授迦納（</a:t>
            </a:r>
            <a:r>
              <a:rPr b="1" lang="en-US" sz="700" spc="-1" strike="noStrike">
                <a:solidFill>
                  <a:srgbClr val="000000"/>
                </a:solidFill>
                <a:latin typeface="Calibri"/>
                <a:ea typeface="新細明體"/>
              </a:rPr>
              <a:t>Howard Gardner</a:t>
            </a:r>
            <a:r>
              <a:rPr b="1" lang="zh-TW" sz="700" spc="-1" strike="noStrike">
                <a:solidFill>
                  <a:srgbClr val="000000"/>
                </a:solidFill>
                <a:latin typeface="Calibri"/>
                <a:ea typeface="新細明體"/>
              </a:rPr>
              <a:t>）認為人類的智慧可分為八大類，每個人在各個智慧方面的表現都不一樣，而不論擁有哪一種智慧或同時擁有多種智慧，都能夠「出頭天」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Calibri"/>
                <a:ea typeface="新細明體"/>
              </a:rPr>
              <a:t>由多元化的評量，發展學生多元智慧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Calibri"/>
                <a:ea typeface="新細明體"/>
              </a:rPr>
              <a:t>       </a:t>
            </a:r>
            <a:r>
              <a:rPr b="1" lang="zh-TW" sz="900" spc="-1" strike="noStrike">
                <a:solidFill>
                  <a:srgbClr val="000000"/>
                </a:solidFill>
                <a:latin typeface="Calibri"/>
                <a:ea typeface="新細明體"/>
              </a:rPr>
              <a:t>讓學生能在潛能開發、創新表現、規劃組織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Calibri"/>
                <a:ea typeface="新細明體"/>
              </a:rPr>
              <a:t>       </a:t>
            </a:r>
            <a:r>
              <a:rPr b="1" lang="zh-TW" sz="900" spc="-1" strike="noStrike">
                <a:solidFill>
                  <a:srgbClr val="000000"/>
                </a:solidFill>
                <a:latin typeface="Calibri"/>
                <a:ea typeface="新細明體"/>
              </a:rPr>
              <a:t>及運用科技等能力都有所表現，使 每位學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Calibri"/>
                <a:ea typeface="新細明體"/>
              </a:rPr>
              <a:t>       </a:t>
            </a:r>
            <a:r>
              <a:rPr b="1" lang="zh-TW" sz="900" spc="-1" strike="noStrike">
                <a:solidFill>
                  <a:srgbClr val="000000"/>
                </a:solidFill>
                <a:latin typeface="Calibri"/>
                <a:ea typeface="新細明體"/>
              </a:rPr>
              <a:t>都能適性的發展，將學習看成是有意義、有用處的活動，讓學生能重視自己的價值，持續的成長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。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----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愛因斯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0B9-FEB4-4EC0-915F-28242C10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5D4-9784-414E-B42D-DAC2ADDB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76B-61E3-4A8A-8012-A8D63CAF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046-4120-412F-8158-006316E8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B0E4-54CA-4AD3-B4F1-89BA4CB1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F922-DC26-4A81-AE58-AECFDEA4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91BE-1A30-4719-9F3F-E75F729C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5646-EE49-47A6-B9A7-E9322FED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7500-5877-4971-A86D-C9D1D055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426600"/>
            <a:ext cx="56386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0857-F640-4FDC-95AF-DBDFACAF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EFE4-6E0B-494F-B920-B7955C65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F34-F6F5-4C88-BB2A-877B41CB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C6BD-97E2-4B18-AFF3-E3192CE1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3E09-7158-4725-87A6-A45DF670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C334-C7C0-43FE-88D9-FE825B83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4813-1BEA-4C4A-B54A-5D08726F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33EF-7D79-44F5-BEE1-ECCC22BA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FB20-A9A9-400F-BA27-AC64D9F1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F132-45B2-4697-8524-04019A5D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FD88C-66FC-4DBB-9092-F9B9F19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1470-60ED-4A1D-A51E-9ABF40C0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47A4-572B-4A7A-B18C-97B00C2B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2C6-EC8F-4EFA-BE4A-4A971C2C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426600"/>
            <a:ext cx="56386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1509-8856-4CBF-B834-FABA5A29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E3952-27BA-4E0A-BE47-7EC3BD66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52E12-2789-4B25-A77B-96FD6B11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2C19-2DBD-4AB2-A5F9-8D49C6D4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01BDA-8F1D-43F7-807C-1E578AEF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1C0A-0514-423A-8B8D-27BDA6F3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6B91-CA8A-4CFC-8C9E-82FE6705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E26-63A8-41EE-96BA-EEDE60DE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57F-CBB6-4F23-A126-A3F67D11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426600"/>
            <a:ext cx="56386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8B7-9A6A-4208-80B8-1C0BE4C5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680-3C68-4A47-8C5C-487C5318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D28-5CE4-4803-82B4-AD7C375A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5C6-89CA-440E-9856-A3DBF8DB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816120"/>
            <a:ext cx="9144000" cy="457200"/>
          </a:xfrm>
          <a:prstGeom prst="rect">
            <a:avLst/>
          </a:prstGeom>
          <a:solidFill>
            <a:srgbClr val="80808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5972040" y="228600"/>
            <a:ext cx="3194280" cy="874800"/>
            <a:chOff x="5972040" y="228600"/>
            <a:chExt cx="3194280" cy="874800"/>
          </a:xfrm>
        </p:grpSpPr>
        <p:sp>
          <p:nvSpPr>
            <p:cNvPr id="2" name="AutoShape 17"/>
            <p:cNvSpPr/>
            <p:nvPr/>
          </p:nvSpPr>
          <p:spPr>
            <a:xfrm>
              <a:off x="5972040" y="231840"/>
              <a:ext cx="1446480" cy="871560"/>
            </a:xfrm>
            <a:prstGeom prst="parallelogram">
              <a:avLst>
                <a:gd name="adj" fmla="val 43320"/>
              </a:avLst>
            </a:prstGeom>
            <a:solidFill>
              <a:srgbClr val="80808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AutoShape 18"/>
            <p:cNvSpPr/>
            <p:nvPr/>
          </p:nvSpPr>
          <p:spPr>
            <a:xfrm rot="10800000">
              <a:off x="7114680" y="231120"/>
              <a:ext cx="1479240" cy="871560"/>
            </a:xfrm>
            <a:custGeom>
              <a:avLst/>
              <a:gdLst>
                <a:gd name="textAreaLeft" fmla="*/ 308160 w 1479240"/>
                <a:gd name="textAreaRight" fmla="*/ 1171080 w 1479240"/>
                <a:gd name="textAreaTop" fmla="*/ 181080 h 871560"/>
                <a:gd name="textAreaBottom" fmla="*/ 690480 h 87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80808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9"/>
            <p:cNvSpPr/>
            <p:nvPr/>
          </p:nvSpPr>
          <p:spPr>
            <a:xfrm>
              <a:off x="8288640" y="228600"/>
              <a:ext cx="877680" cy="87156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254" h="1270">
                  <a:moveTo>
                    <a:pt x="0" y="0"/>
                  </a:moveTo>
                  <a:lnTo>
                    <a:pt x="514" y="1269"/>
                  </a:lnTo>
                  <a:lnTo>
                    <a:pt x="1254" y="1270"/>
                  </a:lnTo>
                  <a:lnTo>
                    <a:pt x="125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7"/>
          <p:cNvSpPr/>
          <p:nvPr/>
        </p:nvSpPr>
        <p:spPr>
          <a:xfrm>
            <a:off x="0" y="384120"/>
            <a:ext cx="9144000" cy="750960"/>
          </a:xfrm>
          <a:prstGeom prst="rect">
            <a:avLst/>
          </a:prstGeom>
          <a:solidFill>
            <a:srgbClr val="cdc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20CB-FFA5-4AA3-A792-9C0F7EA67F5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2"/>
          <p:cNvSpPr/>
          <p:nvPr/>
        </p:nvSpPr>
        <p:spPr>
          <a:xfrm>
            <a:off x="6172200" y="396720"/>
            <a:ext cx="1143000" cy="746280"/>
          </a:xfrm>
          <a:prstGeom prst="parallelogram">
            <a:avLst>
              <a:gd name="adj" fmla="val 4635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3"/>
          <p:cNvSpPr/>
          <p:nvPr/>
        </p:nvSpPr>
        <p:spPr>
          <a:xfrm rot="10800000">
            <a:off x="7086600" y="396360"/>
            <a:ext cx="1324080" cy="746280"/>
          </a:xfrm>
          <a:custGeom>
            <a:avLst/>
            <a:gdLst>
              <a:gd name="textAreaLeft" fmla="*/ 275760 w 1324080"/>
              <a:gd name="textAreaRight" fmla="*/ 1048320 w 1324080"/>
              <a:gd name="textAreaTop" fmla="*/ 155520 h 746280"/>
              <a:gd name="textAreaBottom" fmla="*/ 590760 h 74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4"/>
          <p:cNvSpPr/>
          <p:nvPr/>
        </p:nvSpPr>
        <p:spPr>
          <a:xfrm>
            <a:off x="8150400" y="396720"/>
            <a:ext cx="993600" cy="746280"/>
          </a:xfrm>
          <a:custGeom>
            <a:avLst/>
            <a:gdLst>
              <a:gd name="textAreaLeft" fmla="*/ 0 w 993600"/>
              <a:gd name="textAreaRight" fmla="*/ 993960 w 99360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793" h="672">
                <a:moveTo>
                  <a:pt x="0" y="0"/>
                </a:moveTo>
                <a:lnTo>
                  <a:pt x="265" y="672"/>
                </a:lnTo>
                <a:lnTo>
                  <a:pt x="793" y="672"/>
                </a:lnTo>
                <a:lnTo>
                  <a:pt x="793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5"/>
          <p:cNvSpPr/>
          <p:nvPr/>
        </p:nvSpPr>
        <p:spPr>
          <a:xfrm>
            <a:off x="0" y="2886120"/>
            <a:ext cx="9144000" cy="2008080"/>
          </a:xfrm>
          <a:prstGeom prst="rect">
            <a:avLst/>
          </a:prstGeom>
          <a:solidFill>
            <a:srgbClr val="969696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4"/>
          <p:cNvGrpSpPr/>
          <p:nvPr/>
        </p:nvGrpSpPr>
        <p:grpSpPr>
          <a:xfrm>
            <a:off x="2044800" y="2438280"/>
            <a:ext cx="7108200" cy="2022480"/>
            <a:chOff x="2044800" y="2438280"/>
            <a:chExt cx="7108200" cy="2022480"/>
          </a:xfrm>
        </p:grpSpPr>
        <p:sp>
          <p:nvSpPr>
            <p:cNvPr id="52" name="AutoShape 11"/>
            <p:cNvSpPr/>
            <p:nvPr/>
          </p:nvSpPr>
          <p:spPr>
            <a:xfrm>
              <a:off x="2044800" y="2446200"/>
              <a:ext cx="3217680" cy="2014560"/>
            </a:xfrm>
            <a:prstGeom prst="parallelogram">
              <a:avLst>
                <a:gd name="adj" fmla="val 41712"/>
              </a:avLst>
            </a:prstGeom>
            <a:solidFill>
              <a:srgbClr val="969696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2"/>
            <p:cNvSpPr/>
            <p:nvPr/>
          </p:nvSpPr>
          <p:spPr>
            <a:xfrm rot="10800000">
              <a:off x="4588560" y="2445840"/>
              <a:ext cx="3292200" cy="2014560"/>
            </a:xfrm>
            <a:custGeom>
              <a:avLst/>
              <a:gdLst>
                <a:gd name="textAreaLeft" fmla="*/ 685800 w 3292200"/>
                <a:gd name="textAreaRight" fmla="*/ 2606400 w 3292200"/>
                <a:gd name="textAreaTop" fmla="*/ 419040 h 2014560"/>
                <a:gd name="textAreaBottom" fmla="*/ 159552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969696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7198560" y="2438280"/>
              <a:ext cx="1954440" cy="2016360"/>
            </a:xfrm>
            <a:custGeom>
              <a:avLst/>
              <a:gdLst>
                <a:gd name="textAreaLeft" fmla="*/ 0 w 1954440"/>
                <a:gd name="textAreaRight" fmla="*/ 1954440 w 1954440"/>
                <a:gd name="textAreaTop" fmla="*/ 0 h 2016360"/>
                <a:gd name="textAreaBottom" fmla="*/ 2016720 h 2016360"/>
              </a:gdLst>
              <a:ahLst/>
              <a:rect l="textAreaLeft" t="textAreaTop" r="textAreaRight" b="textAreaBottom"/>
              <a:pathLst>
                <a:path w="1254" h="1270">
                  <a:moveTo>
                    <a:pt x="0" y="0"/>
                  </a:moveTo>
                  <a:lnTo>
                    <a:pt x="514" y="1269"/>
                  </a:lnTo>
                  <a:lnTo>
                    <a:pt x="1254" y="1270"/>
                  </a:lnTo>
                  <a:lnTo>
                    <a:pt x="125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7"/>
          <p:cNvSpPr/>
          <p:nvPr/>
        </p:nvSpPr>
        <p:spPr>
          <a:xfrm>
            <a:off x="0" y="2716200"/>
            <a:ext cx="9144000" cy="2008080"/>
          </a:xfrm>
          <a:prstGeom prst="rect">
            <a:avLst/>
          </a:prstGeom>
          <a:solidFill>
            <a:srgbClr val="cdc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1933560" y="2712960"/>
            <a:ext cx="3233880" cy="2003400"/>
          </a:xfrm>
          <a:prstGeom prst="parallelogram">
            <a:avLst>
              <a:gd name="adj" fmla="val 4215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2"/>
          <p:cNvSpPr/>
          <p:nvPr/>
        </p:nvSpPr>
        <p:spPr>
          <a:xfrm>
            <a:off x="7157880" y="2714760"/>
            <a:ext cx="1986120" cy="2016000"/>
          </a:xfrm>
          <a:custGeom>
            <a:avLst/>
            <a:gdLst>
              <a:gd name="textAreaLeft" fmla="*/ 0 w 1986120"/>
              <a:gd name="textAreaRight" fmla="*/ 1986480 w 19861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1251" h="1274">
                <a:moveTo>
                  <a:pt x="0" y="0"/>
                </a:moveTo>
                <a:lnTo>
                  <a:pt x="530" y="1274"/>
                </a:lnTo>
                <a:lnTo>
                  <a:pt x="1248" y="1274"/>
                </a:lnTo>
                <a:lnTo>
                  <a:pt x="1251" y="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3"/>
          <p:cNvSpPr/>
          <p:nvPr/>
        </p:nvSpPr>
        <p:spPr>
          <a:xfrm>
            <a:off x="4503600" y="2716200"/>
            <a:ext cx="3360960" cy="2017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2097" h="1271">
                <a:moveTo>
                  <a:pt x="503" y="0"/>
                </a:moveTo>
                <a:lnTo>
                  <a:pt x="1566" y="0"/>
                </a:lnTo>
                <a:lnTo>
                  <a:pt x="2097" y="1268"/>
                </a:lnTo>
                <a:lnTo>
                  <a:pt x="0" y="1271"/>
                </a:lnTo>
                <a:lnTo>
                  <a:pt x="503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75DB-B449-4818-A74A-127E6B1D9B3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5"/>
          <p:cNvSpPr/>
          <p:nvPr/>
        </p:nvSpPr>
        <p:spPr>
          <a:xfrm>
            <a:off x="0" y="816120"/>
            <a:ext cx="9144000" cy="457200"/>
          </a:xfrm>
          <a:prstGeom prst="rect">
            <a:avLst/>
          </a:prstGeom>
          <a:solidFill>
            <a:srgbClr val="80808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6"/>
          <p:cNvGrpSpPr/>
          <p:nvPr/>
        </p:nvGrpSpPr>
        <p:grpSpPr>
          <a:xfrm>
            <a:off x="5972040" y="228600"/>
            <a:ext cx="3194280" cy="874800"/>
            <a:chOff x="5972040" y="228600"/>
            <a:chExt cx="3194280" cy="874800"/>
          </a:xfrm>
        </p:grpSpPr>
        <p:sp>
          <p:nvSpPr>
            <p:cNvPr id="102" name="AutoShape 17"/>
            <p:cNvSpPr/>
            <p:nvPr/>
          </p:nvSpPr>
          <p:spPr>
            <a:xfrm>
              <a:off x="5972040" y="231840"/>
              <a:ext cx="1446480" cy="871560"/>
            </a:xfrm>
            <a:prstGeom prst="parallelogram">
              <a:avLst>
                <a:gd name="adj" fmla="val 43320"/>
              </a:avLst>
            </a:prstGeom>
            <a:solidFill>
              <a:srgbClr val="80808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8"/>
            <p:cNvSpPr/>
            <p:nvPr/>
          </p:nvSpPr>
          <p:spPr>
            <a:xfrm rot="10800000">
              <a:off x="7114680" y="231120"/>
              <a:ext cx="1479240" cy="871560"/>
            </a:xfrm>
            <a:custGeom>
              <a:avLst/>
              <a:gdLst>
                <a:gd name="textAreaLeft" fmla="*/ 308160 w 1479240"/>
                <a:gd name="textAreaRight" fmla="*/ 1171080 w 1479240"/>
                <a:gd name="textAreaTop" fmla="*/ 181080 h 871560"/>
                <a:gd name="textAreaBottom" fmla="*/ 690480 h 87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80808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8288640" y="228600"/>
              <a:ext cx="877680" cy="87156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254" h="1270">
                  <a:moveTo>
                    <a:pt x="0" y="0"/>
                  </a:moveTo>
                  <a:lnTo>
                    <a:pt x="514" y="1269"/>
                  </a:lnTo>
                  <a:lnTo>
                    <a:pt x="1254" y="1270"/>
                  </a:lnTo>
                  <a:lnTo>
                    <a:pt x="125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7"/>
          <p:cNvSpPr/>
          <p:nvPr/>
        </p:nvSpPr>
        <p:spPr>
          <a:xfrm>
            <a:off x="0" y="384120"/>
            <a:ext cx="9144000" cy="750960"/>
          </a:xfrm>
          <a:prstGeom prst="rect">
            <a:avLst/>
          </a:prstGeom>
          <a:solidFill>
            <a:srgbClr val="cdc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6172200" y="396720"/>
            <a:ext cx="1143000" cy="746280"/>
          </a:xfrm>
          <a:prstGeom prst="parallelogram">
            <a:avLst>
              <a:gd name="adj" fmla="val 4635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 rot="10800000">
            <a:off x="7086600" y="396360"/>
            <a:ext cx="1324080" cy="746280"/>
          </a:xfrm>
          <a:custGeom>
            <a:avLst/>
            <a:gdLst>
              <a:gd name="textAreaLeft" fmla="*/ 275760 w 1324080"/>
              <a:gd name="textAreaRight" fmla="*/ 1048320 w 1324080"/>
              <a:gd name="textAreaTop" fmla="*/ 155520 h 746280"/>
              <a:gd name="textAreaBottom" fmla="*/ 590760 h 74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4"/>
          <p:cNvSpPr/>
          <p:nvPr/>
        </p:nvSpPr>
        <p:spPr>
          <a:xfrm>
            <a:off x="8150400" y="396720"/>
            <a:ext cx="993600" cy="746280"/>
          </a:xfrm>
          <a:custGeom>
            <a:avLst/>
            <a:gdLst>
              <a:gd name="textAreaLeft" fmla="*/ 0 w 993600"/>
              <a:gd name="textAreaRight" fmla="*/ 993960 w 99360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793" h="672">
                <a:moveTo>
                  <a:pt x="0" y="0"/>
                </a:moveTo>
                <a:lnTo>
                  <a:pt x="265" y="672"/>
                </a:lnTo>
                <a:lnTo>
                  <a:pt x="793" y="672"/>
                </a:lnTo>
                <a:lnTo>
                  <a:pt x="793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555B-F432-49A2-ACD7-967B84FEB7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9.jpeg"/><Relationship Id="rId5" Type="http://schemas.openxmlformats.org/officeDocument/2006/relationships/image" Target="../media/image17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1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2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3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&#25105;&#26352;.mp4" TargetMode="External"/><Relationship Id="rId2" Type="http://schemas.openxmlformats.org/officeDocument/2006/relationships/hyperlink" Target="file:///&#36889;&#37096;&#30701;&#29255;&#30456;&#30070;&#20540;&#24471;&#30465;&#24605;.mp4" TargetMode="External"/><Relationship Id="rId3" Type="http://schemas.openxmlformats.org/officeDocument/2006/relationships/hyperlink" Target="http://mail.tn.edu.tw/cgi-bin/start?m=1333208266&amp;wrap=1" TargetMode="Externa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1052234777ZOOM.ppt" TargetMode="External"/><Relationship Id="rId2" Type="http://schemas.openxmlformats.org/officeDocument/2006/relationships/hyperlink" Target="file:///1052234777ZOOM.ppt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66"/>
                </a:solidFill>
                <a:latin typeface="Arial"/>
                <a:ea typeface="標楷體"/>
              </a:rPr>
              <a:t>綜合活動學習領域</a:t>
            </a:r>
            <a:br>
              <a:rPr sz="4800"/>
            </a:br>
            <a:r>
              <a:rPr b="0" lang="zh-TW" sz="4800" spc="-1" strike="noStrike">
                <a:solidFill>
                  <a:srgbClr val="000066"/>
                </a:solidFill>
                <a:latin typeface="Arial"/>
                <a:ea typeface="標楷體"/>
              </a:rPr>
              <a:t>多元評量理念與實務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民雄國中吳美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428760" y="1285920"/>
            <a:ext cx="8358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上星期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老師退休了，學校為她舉行茶會，許多被她教過的學生都去參加了。大家都抱著一種感恩的心情。因為我們都記得上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老師教學課的日子，那真是快樂的日子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老師老是教我們一些最基本的道理，我們把這些基本道理弄懂了以後，至少會做中等程度的題目，行有餘力以後，我們自己會去找些難題來做做。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老師也會教一些解難題的竅門，可是這絕不是她教書的重點，她教的重點永遠是基本道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611280" y="1484280"/>
            <a:ext cx="7993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茶會開始了不久，就有一位同學首先發問了，他問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老師，為什麼別的老師教他數學時，他都害怕數學，也痛恨數學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但是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老師教的時候，他卻一點都不怕數學。他的問題，也是一大票同學想問的問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785880" y="1285920"/>
            <a:ext cx="7715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姜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老師好像對這個問題有備而來，她沒有立刻回答，卻叫所有的女同學上台，她給每一位女同學一張紙，然後叫我們男生也上台去拿一張，我們拿到的是一張法國菜單，每一樣法國菜都有中文翻譯，旁邊還有價錢，我這個男生看了以後，覺得這些菜不太貴，尤其令我注意到的是咖啡，茶和甜點特別不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395280" y="1077840"/>
            <a:ext cx="8391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然後，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老師問一位女同學對這份菜單的印象如何？這位女同學說這家法國餐館簡直不像話，不僅主菜貴，連咖啡和茶都貴得離譜，當時我就大感困惑，因為我覺得我看到的菜單一點也不貴。我不是唯一感到困惑的人，幾乎所有的男生都感到困惑，有些同學和別的同學比對，最後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老師叫我們坐下，然後每一位男生和一位女生交換菜單看，看了以後我們知道是怎麼一回事了。男生拿到的是一張價值公道的菜單，女生拿到的是一張非常昂貴的菜單，為什麼會有兩種菜單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0" y="1314360"/>
            <a:ext cx="91440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老師告訴我們，當年她的男朋友請她到一家法國餐館去吃飯，她看了菜單以後，覺得每一樣菜都很貴，可是她的男朋友卻一副無所謂的樣子，不但點了主菜，當然還點了飲料和甜點，他要點紅酒，她拚命阻止。飯吃完了以後，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老師感動萬分，認為她的男朋友真是慷慨，就答應了他的求婚。好久以後，她才知道這家餐館有兩種菜單，男士看到的永遠是價錢公道的菜單，女士看到的卻是非常昂貴的菜單；男士點菜的時候面難色，女士一定會對男士感激不已。這家餐館除了招來不少客人，也促成了好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的好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755640" y="1125360"/>
            <a:ext cx="7561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這些菜單又和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姜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老師的教書有何關連呢？答案還是由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姜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老師提供。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姜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老師要我們回想，我們當年考試的時候有什麼特別的情形。我第一個舉手，我說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姜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老師常常小考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每次發考卷的時候，都要親自將考卷發給每一位同學，當時我的確對此覺得奇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500040" y="1077840"/>
            <a:ext cx="8175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老師終於說出了她的祕訣！她說她準備了三份考卷，甲種非常難，乙種中等，丙種非常容易。甲種考卷給程度高的同學； 乙種考卷給中等程度的學生 ；程度不好的同學拿到丙種考卷。這些程度不好的同學每次考試，都拿到至少六十分，對於這些同學來說，六十分已經不容易了。在過去，他們常常在分數上只有個位數，也就是因為他們的分數不錯了，他們開始不再對數學恐懼了，上課的時候，也會注意地聽。通常，到學期結束的時候，丙種考卷不見了，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老師只要準備兩種考卷就可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915840" y="1285920"/>
            <a:ext cx="7561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老師告訴我們，學生最需要的是自信，而自信的來源當然是自尊。古人說我們必須因材施教，因為政府堅持常態分班，班上總有一些程度不好的同學，她想起那家法國餐廳的作法，決定設計不同的考卷。同學們並不知道，對於程度不好的同學而言，他們終於有了足夠的自尊心，也開始有了自信，一旦有了自信，他們就不會放棄數學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000080" y="1071720"/>
            <a:ext cx="7561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茶會結束了以後，我發現坊間有很多書教我們如何建立自信，也有很多的訓練班，繳交了很多學費以後，人們應該就會有自信。而我們真是幸運兒，因為我們沒有看那些書，也沒有去上那些昂貴的訓練班，我們有了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老師，我們就有了自信。如果我們班上那些不會做數學習題的同學，看了那些書，聽了那些課，還是不會做數學習題，他們會有自信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426960"/>
            <a:ext cx="563868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從</a:t>
            </a:r>
            <a:r>
              <a:rPr b="1" lang="zh-TW" sz="3200" spc="-1" strike="noStrike">
                <a:solidFill>
                  <a:srgbClr val="ff3300"/>
                </a:solidFill>
                <a:latin typeface="Arial"/>
                <a:ea typeface="新細明體"/>
              </a:rPr>
              <a:t>故事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看評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1643040"/>
            <a:ext cx="8858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看完文章後，你對評量的真正目有何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文章中，數學考卷分為三種，您認為「公平」嗎？ 「公平」是否阻礙你的評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元評量的真正意義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Let’s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印象深刻的「考試」經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為什麼印象深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我從這次經驗中學到什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620640"/>
          <a:ext cx="8229600" cy="573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4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為什麼</a:t>
                      </a:r>
                      <a:r>
                        <a:rPr b="0" lang="en-US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學生特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能力需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怎麼評</a:t>
                      </a:r>
                      <a:r>
                        <a:rPr b="0" lang="en-US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迷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4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多元評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評什麼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什麼時候評</a:t>
                      </a:r>
                      <a:r>
                        <a:rPr b="0" lang="en-US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評量之後呢</a:t>
                      </a:r>
                      <a:r>
                        <a:rPr b="0" lang="en-US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cc"/>
                          </a:solidFill>
                          <a:latin typeface="標楷體"/>
                          <a:ea typeface="標楷體"/>
                        </a:rPr>
                        <a:t>誰來評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標楷體"/>
                <a:ea typeface="標楷體"/>
              </a:rPr>
              <a:t>為什麼要評量</a:t>
            </a:r>
            <a:r>
              <a:rPr b="1" lang="en-US" sz="4000" spc="-1" strike="noStrike">
                <a:solidFill>
                  <a:srgbClr val="000066"/>
                </a:solidFill>
                <a:latin typeface="標楷體"/>
                <a:ea typeface="標楷體"/>
              </a:rPr>
              <a:t>(WH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pic>
        <p:nvPicPr>
          <p:cNvPr id="253" name="Picture 4" descr="D:\圖庫\13分隔線\發芽.gif"/>
          <p:cNvPicPr/>
          <p:nvPr/>
        </p:nvPicPr>
        <p:blipFill>
          <a:blip r:embed="rId1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評量對教師的回饋功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2960" y="1928880"/>
            <a:ext cx="693432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了解學生起點行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檢視教學的效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瞭解學生的學習困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42600" y="45684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評量對學生的回饋功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85520" y="2314080"/>
            <a:ext cx="69339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增進學生瞭解教學目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激發學生的學習動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增強學生的自我瞭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solidFill>
            <a:srgbClr val="ffff99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一、評量要依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…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教學目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內容版面配置區 5" descr=""/>
          <p:cNvPicPr/>
          <p:nvPr/>
        </p:nvPicPr>
        <p:blipFill>
          <a:blip r:embed="rId1"/>
          <a:stretch/>
        </p:blipFill>
        <p:spPr>
          <a:xfrm>
            <a:off x="407880" y="1390680"/>
            <a:ext cx="8328240" cy="4619520"/>
          </a:xfrm>
          <a:prstGeom prst="rect">
            <a:avLst/>
          </a:prstGeom>
          <a:ln w="0">
            <a:noFill/>
          </a:ln>
        </p:spPr>
      </p:pic>
      <p:grpSp>
        <p:nvGrpSpPr>
          <p:cNvPr id="262" name="群組 19"/>
          <p:cNvGrpSpPr/>
          <p:nvPr/>
        </p:nvGrpSpPr>
        <p:grpSpPr>
          <a:xfrm>
            <a:off x="1331640" y="4941000"/>
            <a:ext cx="6480360" cy="722880"/>
            <a:chOff x="1331640" y="4941000"/>
            <a:chExt cx="6480360" cy="722880"/>
          </a:xfrm>
        </p:grpSpPr>
        <p:sp>
          <p:nvSpPr>
            <p:cNvPr id="263" name="直線接點 5"/>
            <p:cNvSpPr/>
            <p:nvPr/>
          </p:nvSpPr>
          <p:spPr>
            <a:xfrm>
              <a:off x="1332000" y="5662800"/>
              <a:ext cx="64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直線單箭頭接點 6"/>
            <p:cNvCxnSpPr/>
            <p:nvPr/>
          </p:nvCxnSpPr>
          <p:spPr>
            <a:xfrm flipH="1" flipV="1">
              <a:off x="1331640" y="4942440"/>
              <a:ext cx="2160" cy="72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5" name="直線單箭頭接點 7"/>
            <p:cNvCxnSpPr/>
            <p:nvPr/>
          </p:nvCxnSpPr>
          <p:spPr>
            <a:xfrm flipH="1" flipV="1">
              <a:off x="3418920" y="4942440"/>
              <a:ext cx="2160" cy="72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6" name="直線單箭頭接點 8"/>
            <p:cNvCxnSpPr/>
            <p:nvPr/>
          </p:nvCxnSpPr>
          <p:spPr>
            <a:xfrm flipH="1" flipV="1">
              <a:off x="5578200" y="4941000"/>
              <a:ext cx="2160" cy="72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7" name="直線單箭頭接點 9"/>
            <p:cNvCxnSpPr/>
            <p:nvPr/>
          </p:nvCxnSpPr>
          <p:spPr>
            <a:xfrm flipH="1" flipV="1">
              <a:off x="7810200" y="4941000"/>
              <a:ext cx="2160" cy="72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68" name="文字方塊 10"/>
          <p:cNvSpPr/>
          <p:nvPr/>
        </p:nvSpPr>
        <p:spPr>
          <a:xfrm>
            <a:off x="2411280" y="5950080"/>
            <a:ext cx="4753080" cy="520560"/>
          </a:xfrm>
          <a:prstGeom prst="rect">
            <a:avLst/>
          </a:prstGeom>
          <a:solidFill>
            <a:srgbClr val="edea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教學設計與考量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426600"/>
            <a:ext cx="6715080" cy="639720"/>
          </a:xfrm>
          <a:prstGeom prst="rect">
            <a:avLst/>
          </a:prstGeom>
          <a:solidFill>
            <a:srgbClr val="ffff99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二、評量要兼顧認知、情意和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內容版面配置區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271" name="文字方塊 4"/>
          <p:cNvSpPr/>
          <p:nvPr/>
        </p:nvSpPr>
        <p:spPr>
          <a:xfrm>
            <a:off x="4284720" y="3997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Arial"/>
              </a:rPr>
              <a:t>學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627280" y="2852640"/>
            <a:ext cx="1081080" cy="792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684360" y="213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66"/>
                </a:solidFill>
                <a:latin typeface="Arial"/>
              </a:rPr>
              <a:t>認知和情意兼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V="1">
            <a:off x="4572000" y="4941720"/>
            <a:ext cx="0" cy="935280"/>
          </a:xfrm>
          <a:prstGeom prst="line">
            <a:avLst/>
          </a:prstGeom>
          <a:ln w="381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564000" y="5877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情意和技能兼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 flipH="1">
            <a:off x="5292720" y="2852640"/>
            <a:ext cx="1224000" cy="865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6084720" y="2133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Arial"/>
              </a:rPr>
              <a:t>認知和技能兼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428760" y="2286000"/>
          <a:ext cx="8240400" cy="3435480"/>
        </p:xfrm>
        <a:graphic>
          <a:graphicData uri="http://schemas.openxmlformats.org/drawingml/2006/table">
            <a:tbl>
              <a:tblPr/>
              <a:tblGrid>
                <a:gridCol w="1008000"/>
                <a:gridCol w="1412640"/>
                <a:gridCol w="1395720"/>
                <a:gridCol w="1506240"/>
                <a:gridCol w="1378080"/>
                <a:gridCol w="153972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準備度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安置性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形成性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診斷性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總結性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評量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焦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先備的起點技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課程或單元目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先行界定的教學段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大多數共同的學習錯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7faf45"/>
                          </a:solidFill>
                          <a:latin typeface="Comic Sans MS"/>
                        </a:rPr>
                        <a:t>課程或單元目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樣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性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選擇的有限樣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所有目標的廣泛樣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學習作業有限的樣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明確錯誤的有限樣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7faf45"/>
                          </a:solidFill>
                          <a:latin typeface="Comic Sans MS"/>
                        </a:rPr>
                        <a:t>所有目標的廣泛樣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試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難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通常難度較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通常有較廣的難度範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隨著教學段落而變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通常困難度較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7faf45"/>
                          </a:solidFill>
                          <a:latin typeface="Comic Sans MS"/>
                        </a:rPr>
                        <a:t>通常困難度的變化較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結果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補救起點的不足或分派至學習小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教學規劃與高階安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透過持續性的回饋改善與指導學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補救與重要學習困難相關的錯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7faf45"/>
                          </a:solidFill>
                          <a:latin typeface="Comic Sans MS"/>
                        </a:rPr>
                        <a:t>分派等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7faf45"/>
                          </a:solidFill>
                          <a:latin typeface="Comic Sans MS"/>
                        </a:rPr>
                        <a:t>確認成就或評鑑教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Rectangle 46"/>
          <p:cNvSpPr/>
          <p:nvPr/>
        </p:nvSpPr>
        <p:spPr>
          <a:xfrm>
            <a:off x="428760" y="1638360"/>
            <a:ext cx="824040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教學前                           教學中               教學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標題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ff99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標楷體"/>
              </a:rPr>
              <a:t>三、評量是持續不斷地歷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solidFill>
            <a:srgbClr val="ffff99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四、評量要適應個別差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Diagram 44"/>
          <p:cNvGrpSpPr/>
          <p:nvPr/>
        </p:nvGrpSpPr>
        <p:grpSpPr>
          <a:xfrm>
            <a:off x="434520" y="1587960"/>
            <a:ext cx="5982120" cy="4665960"/>
            <a:chOff x="434520" y="1587960"/>
            <a:chExt cx="5982120" cy="4665960"/>
          </a:xfrm>
        </p:grpSpPr>
        <p:sp>
          <p:nvSpPr>
            <p:cNvPr id="284" name="_s1028"/>
            <p:cNvSpPr/>
            <p:nvPr/>
          </p:nvSpPr>
          <p:spPr>
            <a:xfrm flipH="1" flipV="1">
              <a:off x="2366640" y="3094920"/>
              <a:ext cx="531000" cy="41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029"/>
            <p:cNvSpPr/>
            <p:nvPr/>
          </p:nvSpPr>
          <p:spPr>
            <a:xfrm>
              <a:off x="1091160" y="2099880"/>
              <a:ext cx="1495800" cy="116712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ffff00"/>
                  </a:solidFill>
                  <a:latin typeface="微軟正黑體"/>
                  <a:ea typeface="微軟正黑體"/>
                </a:rPr>
                <a:t>自然觀察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030"/>
            <p:cNvSpPr/>
            <p:nvPr/>
          </p:nvSpPr>
          <p:spPr>
            <a:xfrm flipH="1">
              <a:off x="1928160" y="3920040"/>
              <a:ext cx="75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031"/>
            <p:cNvSpPr/>
            <p:nvPr/>
          </p:nvSpPr>
          <p:spPr>
            <a:xfrm>
              <a:off x="434520" y="3337200"/>
              <a:ext cx="1495800" cy="116712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ffff00"/>
                  </a:solidFill>
                  <a:latin typeface="微軟正黑體"/>
                  <a:ea typeface="微軟正黑體"/>
                </a:rPr>
                <a:t>內省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032"/>
            <p:cNvSpPr/>
            <p:nvPr/>
          </p:nvSpPr>
          <p:spPr>
            <a:xfrm flipH="1">
              <a:off x="2366640" y="4330800"/>
              <a:ext cx="531000" cy="41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033"/>
            <p:cNvSpPr/>
            <p:nvPr/>
          </p:nvSpPr>
          <p:spPr>
            <a:xfrm>
              <a:off x="1091160" y="4574520"/>
              <a:ext cx="1495800" cy="11671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ffff00"/>
                  </a:solidFill>
                  <a:latin typeface="微軟正黑體"/>
                  <a:ea typeface="微軟正黑體"/>
                </a:rPr>
                <a:t>人際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034"/>
            <p:cNvSpPr/>
            <p:nvPr/>
          </p:nvSpPr>
          <p:spPr>
            <a:xfrm>
              <a:off x="3424680" y="4501080"/>
              <a:ext cx="0" cy="58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035"/>
            <p:cNvSpPr/>
            <p:nvPr/>
          </p:nvSpPr>
          <p:spPr>
            <a:xfrm>
              <a:off x="2677680" y="5087160"/>
              <a:ext cx="1495800" cy="11667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ffff00"/>
                  </a:solidFill>
                  <a:latin typeface="微軟正黑體"/>
                  <a:ea typeface="微軟正黑體"/>
                </a:rPr>
                <a:t>音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036"/>
            <p:cNvSpPr/>
            <p:nvPr/>
          </p:nvSpPr>
          <p:spPr>
            <a:xfrm>
              <a:off x="3951360" y="4330800"/>
              <a:ext cx="531000" cy="41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037"/>
            <p:cNvSpPr/>
            <p:nvPr/>
          </p:nvSpPr>
          <p:spPr>
            <a:xfrm>
              <a:off x="4264200" y="4574520"/>
              <a:ext cx="1495800" cy="11671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ffff00"/>
                  </a:solidFill>
                  <a:latin typeface="微軟正黑體"/>
                  <a:ea typeface="微軟正黑體"/>
                </a:rPr>
                <a:t>肢體動覺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038"/>
            <p:cNvSpPr/>
            <p:nvPr/>
          </p:nvSpPr>
          <p:spPr>
            <a:xfrm>
              <a:off x="4169880" y="3920040"/>
              <a:ext cx="75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039"/>
            <p:cNvSpPr/>
            <p:nvPr/>
          </p:nvSpPr>
          <p:spPr>
            <a:xfrm>
              <a:off x="4920840" y="3337200"/>
              <a:ext cx="1495800" cy="116712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ffff00"/>
                  </a:solidFill>
                  <a:latin typeface="微軟正黑體"/>
                  <a:ea typeface="微軟正黑體"/>
                </a:rPr>
                <a:t>視覺空間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040"/>
            <p:cNvSpPr/>
            <p:nvPr/>
          </p:nvSpPr>
          <p:spPr>
            <a:xfrm flipV="1">
              <a:off x="3951360" y="3094920"/>
              <a:ext cx="531000" cy="41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041"/>
            <p:cNvSpPr/>
            <p:nvPr/>
          </p:nvSpPr>
          <p:spPr>
            <a:xfrm>
              <a:off x="4264200" y="2099880"/>
              <a:ext cx="1495800" cy="11671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ffff00"/>
                  </a:solidFill>
                  <a:latin typeface="微軟正黑體"/>
                  <a:ea typeface="微軟正黑體"/>
                </a:rPr>
                <a:t>邏輯數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042"/>
            <p:cNvSpPr/>
            <p:nvPr/>
          </p:nvSpPr>
          <p:spPr>
            <a:xfrm flipV="1">
              <a:off x="3424680" y="2753280"/>
              <a:ext cx="0" cy="58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_s1043"/>
            <p:cNvSpPr/>
            <p:nvPr/>
          </p:nvSpPr>
          <p:spPr>
            <a:xfrm>
              <a:off x="2677680" y="1587960"/>
              <a:ext cx="1495800" cy="11671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ffff00"/>
                  </a:solidFill>
                  <a:latin typeface="微軟正黑體"/>
                  <a:ea typeface="微軟正黑體"/>
                </a:rPr>
                <a:t>語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1044"/>
            <p:cNvSpPr/>
            <p:nvPr/>
          </p:nvSpPr>
          <p:spPr>
            <a:xfrm>
              <a:off x="2677680" y="3339360"/>
              <a:ext cx="1495800" cy="1166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6600"/>
                  </a:solidFill>
                  <a:latin typeface="微軟正黑體"/>
                  <a:ea typeface="微軟正黑體"/>
                </a:rPr>
                <a:t>迦納的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6600"/>
                  </a:solidFill>
                  <a:latin typeface="微軟正黑體"/>
                  <a:ea typeface="微軟正黑體"/>
                </a:rPr>
                <a:t>多元智能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群組 8"/>
          <p:cNvGrpSpPr/>
          <p:nvPr/>
        </p:nvGrpSpPr>
        <p:grpSpPr>
          <a:xfrm>
            <a:off x="6985080" y="3573360"/>
            <a:ext cx="1619280" cy="2421000"/>
            <a:chOff x="6985080" y="3573360"/>
            <a:chExt cx="1619280" cy="2421000"/>
          </a:xfrm>
        </p:grpSpPr>
        <p:sp>
          <p:nvSpPr>
            <p:cNvPr id="302" name="Rectangle 6"/>
            <p:cNvSpPr/>
            <p:nvPr/>
          </p:nvSpPr>
          <p:spPr>
            <a:xfrm>
              <a:off x="7397280" y="3624120"/>
              <a:ext cx="235440" cy="348840"/>
            </a:xfrm>
            <a:prstGeom prst="rect">
              <a:avLst/>
            </a:prstGeom>
            <a:solidFill>
              <a:srgbClr val="7fa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Picture 4" descr="F:\圖庫\39小人物集\REORG.WMF"/>
            <p:cNvPicPr/>
            <p:nvPr/>
          </p:nvPicPr>
          <p:blipFill>
            <a:blip r:embed="rId1"/>
            <a:stretch/>
          </p:blipFill>
          <p:spPr>
            <a:xfrm>
              <a:off x="6985080" y="3573360"/>
              <a:ext cx="143532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5"/>
            <p:cNvSpPr/>
            <p:nvPr/>
          </p:nvSpPr>
          <p:spPr>
            <a:xfrm>
              <a:off x="7367760" y="3740400"/>
              <a:ext cx="117720" cy="290520"/>
            </a:xfrm>
            <a:prstGeom prst="rect">
              <a:avLst/>
            </a:prstGeom>
            <a:solidFill>
              <a:srgbClr val="4077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8"/>
            <p:cNvSpPr/>
            <p:nvPr/>
          </p:nvSpPr>
          <p:spPr>
            <a:xfrm>
              <a:off x="7485480" y="3740400"/>
              <a:ext cx="202320" cy="232560"/>
            </a:xfrm>
            <a:prstGeom prst="triangle">
              <a:avLst>
                <a:gd name="adj" fmla="val 5000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7603200" y="3624120"/>
              <a:ext cx="117720" cy="2325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7515000" y="4613400"/>
              <a:ext cx="1089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6600ff"/>
                  </a:solidFill>
                  <a:latin typeface="Arial"/>
                  <a:ea typeface="華康娃娃體"/>
                </a:rPr>
                <a:t>找對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6600ff"/>
                  </a:solidFill>
                  <a:latin typeface="Arial"/>
                  <a:ea typeface="華康娃娃體"/>
                </a:rPr>
                <a:t>  </a:t>
              </a:r>
              <a:r>
                <a:rPr b="1" lang="zh-TW" sz="1800" spc="-1" strike="noStrike">
                  <a:solidFill>
                    <a:srgbClr val="6600ff"/>
                  </a:solidFill>
                  <a:latin typeface="Arial"/>
                  <a:ea typeface="華康娃娃體"/>
                </a:rPr>
                <a:t>人生是</a:t>
              </a:r>
              <a:r>
                <a:rPr b="1" lang="zh-TW" sz="1800" spc="-1" strike="noStrike">
                  <a:solidFill>
                    <a:srgbClr val="7faf45"/>
                  </a:solidFill>
                  <a:latin typeface="Arial"/>
                  <a:ea typeface="華康娃娃體"/>
                </a:rPr>
                <a:t>彩</a:t>
              </a:r>
              <a:r>
                <a:rPr b="1" lang="zh-TW" sz="1800" spc="-1" strike="noStrike">
                  <a:solidFill>
                    <a:srgbClr val="66ff33"/>
                  </a:solidFill>
                  <a:latin typeface="Arial"/>
                  <a:ea typeface="華康娃娃體"/>
                </a:rPr>
                <a:t>色</a:t>
              </a:r>
              <a:r>
                <a:rPr b="1" lang="zh-TW" sz="1800" spc="-1" strike="noStrike">
                  <a:solidFill>
                    <a:srgbClr val="6600ff"/>
                  </a:solidFill>
                  <a:latin typeface="Arial"/>
                  <a:ea typeface="華康娃娃體"/>
                </a:rPr>
                <a:t>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安徒生"/>
          <p:cNvPicPr/>
          <p:nvPr/>
        </p:nvPicPr>
        <p:blipFill>
          <a:blip r:embed="rId1"/>
          <a:stretch/>
        </p:blipFill>
        <p:spPr>
          <a:xfrm>
            <a:off x="5342040" y="0"/>
            <a:ext cx="3801960" cy="47973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324000" y="1052640"/>
            <a:ext cx="2319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成就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324000" y="260280"/>
            <a:ext cx="2133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他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324000" y="1844640"/>
            <a:ext cx="440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學習上的困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2268360" y="260280"/>
            <a:ext cx="194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安徒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2195640" y="981000"/>
            <a:ext cx="331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華康魏碑體(P)"/>
              </a:rPr>
              <a:t>安徒生童話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684360" y="2565360"/>
            <a:ext cx="4679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1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拼音和語法有錯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2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常常被留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3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沒有得到中學的文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684360" y="486900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1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努力不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2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家庭教師教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3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通過考試而進入大學就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250920" y="4221000"/>
            <a:ext cx="4406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轉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395280" y="1052640"/>
            <a:ext cx="2305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成就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95280" y="260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他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95280" y="2349360"/>
            <a:ext cx="4406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學習上的困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268360" y="26028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愛迪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195640" y="1052640"/>
            <a:ext cx="331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發明大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電燈、留聲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826920" y="306864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1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拼字、句子老是出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2. 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老師、同學都叫他笨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3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功課倒數幾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4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被退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愛迪生"/>
          <p:cNvPicPr/>
          <p:nvPr/>
        </p:nvPicPr>
        <p:blipFill>
          <a:blip r:embed="rId4"/>
          <a:stretch/>
        </p:blipFill>
        <p:spPr>
          <a:xfrm>
            <a:off x="5494320" y="0"/>
            <a:ext cx="3649680" cy="49417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9"/>
          <p:cNvSpPr/>
          <p:nvPr/>
        </p:nvSpPr>
        <p:spPr>
          <a:xfrm>
            <a:off x="790560" y="5661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1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母親不放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2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本身的努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324000" y="5157720"/>
            <a:ext cx="4406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轉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585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超研澤新粗黑"/>
              </a:rPr>
              <a:t>價值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2205000"/>
            <a:ext cx="854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超研澤新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超研澤新粗黑"/>
                <a:ea typeface="超研澤新粗黑"/>
              </a:rPr>
              <a:t>你會用多元的價值觀看待自己嗎</a:t>
            </a:r>
            <a:r>
              <a:rPr b="0" lang="en-US" sz="4000" spc="-1" strike="noStrike">
                <a:solidFill>
                  <a:srgbClr val="000000"/>
                </a:solidFill>
                <a:latin typeface="超研澤新粗黑"/>
                <a:ea typeface="超研澤新粗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超研澤新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超研澤新粗黑"/>
                <a:ea typeface="超研澤新粗黑"/>
              </a:rPr>
              <a:t>你會用多元的價值觀看待學生嗎</a:t>
            </a:r>
            <a:r>
              <a:rPr b="0" lang="en-US" sz="4000" spc="-1" strike="noStrike">
                <a:solidFill>
                  <a:srgbClr val="000000"/>
                </a:solidFill>
                <a:latin typeface="超研澤新粗黑"/>
                <a:ea typeface="超研澤新粗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超研澤新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超研澤新粗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投影片編號版面配置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4BBC-BC42-4BE4-B03A-6F7D521AB4B1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0"/>
          <p:cNvGrpSpPr/>
          <p:nvPr/>
        </p:nvGrpSpPr>
        <p:grpSpPr>
          <a:xfrm>
            <a:off x="2169000" y="4343400"/>
            <a:ext cx="6670080" cy="2075400"/>
            <a:chOff x="2169000" y="4343400"/>
            <a:chExt cx="6670080" cy="2075400"/>
          </a:xfrm>
        </p:grpSpPr>
        <p:sp>
          <p:nvSpPr>
            <p:cNvPr id="165" name="Rectangle 12"/>
            <p:cNvSpPr/>
            <p:nvPr/>
          </p:nvSpPr>
          <p:spPr>
            <a:xfrm>
              <a:off x="2169000" y="5546880"/>
              <a:ext cx="57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新細明體"/>
                </a:rPr>
                <a:t>「愛、感謝」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15" descr="http://www.epochtaiwan.info/webpage/special/water/image/japan.jpg"/>
            <p:cNvPicPr/>
            <p:nvPr/>
          </p:nvPicPr>
          <p:blipFill>
            <a:blip r:embed="rId1"/>
            <a:stretch/>
          </p:blipFill>
          <p:spPr>
            <a:xfrm>
              <a:off x="3276720" y="434340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4" descr="http://www.epochtaiwan.info/webpage/special/water/image/english.jpg"/>
            <p:cNvPicPr/>
            <p:nvPr/>
          </p:nvPicPr>
          <p:blipFill>
            <a:blip r:embed="rId2"/>
            <a:stretch/>
          </p:blipFill>
          <p:spPr>
            <a:xfrm>
              <a:off x="7086600" y="4343400"/>
              <a:ext cx="1752480" cy="15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3" descr="http://www.epochtaiwan.info/webpage/special/water/image/german.jpg"/>
            <p:cNvPicPr/>
            <p:nvPr/>
          </p:nvPicPr>
          <p:blipFill>
            <a:blip r:embed="rId3"/>
            <a:stretch/>
          </p:blipFill>
          <p:spPr>
            <a:xfrm>
              <a:off x="5181480" y="4343400"/>
              <a:ext cx="1752840" cy="15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17"/>
            <p:cNvSpPr/>
            <p:nvPr/>
          </p:nvSpPr>
          <p:spPr>
            <a:xfrm>
              <a:off x="3920040" y="600408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新細明體"/>
                </a:rPr>
                <a:t>日語</a:t>
              </a:r>
              <a:r>
                <a:rPr b="0" lang="zh-TW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8"/>
            <p:cNvSpPr/>
            <p:nvPr/>
          </p:nvSpPr>
          <p:spPr>
            <a:xfrm>
              <a:off x="5815800" y="60199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新細明體"/>
                </a:rPr>
                <a:t>英語</a:t>
              </a:r>
              <a:r>
                <a:rPr b="0" lang="zh-TW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7653960" y="601992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新細明體"/>
                </a:rPr>
                <a:t>德語</a:t>
              </a:r>
              <a:r>
                <a:rPr b="0" lang="zh-TW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214200" y="714240"/>
            <a:ext cx="2305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成就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57120" y="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他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285840" y="3786120"/>
            <a:ext cx="4406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學習上的困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571840" y="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達文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971640" y="1268280"/>
            <a:ext cx="4608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科學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藝術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蒙娜麗莎的微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解剖學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179280" y="3213000"/>
            <a:ext cx="5184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8" descr="達文西"/>
          <p:cNvPicPr/>
          <p:nvPr/>
        </p:nvPicPr>
        <p:blipFill>
          <a:blip r:embed="rId4"/>
          <a:stretch/>
        </p:blipFill>
        <p:spPr>
          <a:xfrm>
            <a:off x="5573880" y="0"/>
            <a:ext cx="3570120" cy="54450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1403280" y="4437000"/>
            <a:ext cx="273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華康魏碑體(P)"/>
              </a:rPr>
              <a:t>文字左右顛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285840" y="5072040"/>
            <a:ext cx="440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轉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2286000" y="5143680"/>
            <a:ext cx="2736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華康魏碑體(P)"/>
              </a:rPr>
              <a:t>自我學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2" descr="5-16a"/>
          <p:cNvPicPr/>
          <p:nvPr/>
        </p:nvPicPr>
        <p:blipFill>
          <a:blip r:embed="rId6"/>
          <a:stretch/>
        </p:blipFill>
        <p:spPr>
          <a:xfrm>
            <a:off x="971640" y="5661000"/>
            <a:ext cx="74898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611280" y="1773360"/>
            <a:ext cx="217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Times New Roman"/>
                <a:ea typeface="華康魏碑體(P)"/>
              </a:rPr>
              <a:t>成就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611280" y="981000"/>
            <a:ext cx="2133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Times New Roman"/>
                <a:ea typeface="華康魏碑體(P)"/>
              </a:rPr>
              <a:t>他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611280" y="328464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Times New Roman"/>
                <a:ea typeface="華康魏碑體(P)"/>
              </a:rPr>
              <a:t>學習上的困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2340000" y="98100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貝多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2340000" y="1773360"/>
            <a:ext cx="352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樂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第九號交響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971640" y="4076640"/>
            <a:ext cx="345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1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數學障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2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對乘法一竅不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貝多芬"/>
          <p:cNvPicPr/>
          <p:nvPr/>
        </p:nvPicPr>
        <p:blipFill>
          <a:blip r:embed="rId4"/>
          <a:stretch/>
        </p:blipFill>
        <p:spPr>
          <a:xfrm>
            <a:off x="5697360" y="0"/>
            <a:ext cx="3446640" cy="42210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9"/>
          <p:cNvSpPr/>
          <p:nvPr/>
        </p:nvSpPr>
        <p:spPr>
          <a:xfrm>
            <a:off x="611280" y="5373720"/>
            <a:ext cx="7056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轉機：發展優勢潛能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華康魏碑體(P)"/>
              </a:rPr>
              <a:t>—</a:t>
            </a: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音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95280" y="1052640"/>
            <a:ext cx="2305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成就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95280" y="260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他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468360" y="2708280"/>
            <a:ext cx="440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學習上的困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195640" y="260280"/>
            <a:ext cx="237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愛因斯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2195640" y="1052640"/>
            <a:ext cx="331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科學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諾貝爾獎得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900000" y="3500280"/>
            <a:ext cx="532944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1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語言遲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2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說話不流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3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有誦讀困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4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師長認為他是個低能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8" descr="愛因斯坦"/>
          <p:cNvPicPr/>
          <p:nvPr/>
        </p:nvPicPr>
        <p:blipFill>
          <a:blip r:embed="rId4"/>
          <a:stretch/>
        </p:blipFill>
        <p:spPr>
          <a:xfrm>
            <a:off x="5618160" y="0"/>
            <a:ext cx="3525840" cy="51577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9"/>
          <p:cNvSpPr/>
          <p:nvPr/>
        </p:nvSpPr>
        <p:spPr>
          <a:xfrm>
            <a:off x="468360" y="5589720"/>
            <a:ext cx="7416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轉機：</a:t>
            </a:r>
            <a:r>
              <a:rPr b="1" lang="zh-TW" sz="4000" spc="-1" strike="noStrike">
                <a:solidFill>
                  <a:srgbClr val="000066"/>
                </a:solidFill>
                <a:latin typeface="Times New Roman"/>
                <a:ea typeface="華康魏碑體(P)"/>
              </a:rPr>
              <a:t>發展優勢潛能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華康魏碑體(P)"/>
              </a:rPr>
              <a:t>—</a:t>
            </a:r>
            <a:r>
              <a:rPr b="1" lang="zh-TW" sz="4000" spc="-1" strike="noStrike">
                <a:solidFill>
                  <a:srgbClr val="000066"/>
                </a:solidFill>
                <a:latin typeface="Times New Roman"/>
                <a:ea typeface="華康魏碑體(P)"/>
              </a:rPr>
              <a:t>科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684360" y="2133720"/>
            <a:ext cx="2305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成就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84360" y="1125360"/>
            <a:ext cx="2133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他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684360" y="3141720"/>
            <a:ext cx="440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學習上的困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2484360" y="112536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湯姆克魯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2484360" y="2060640"/>
            <a:ext cx="33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影視名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79280" y="3213000"/>
            <a:ext cx="5184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8" descr="湯姆克魯斯"/>
          <p:cNvPicPr/>
          <p:nvPr/>
        </p:nvPicPr>
        <p:blipFill>
          <a:blip r:embed="rId4"/>
          <a:stretch/>
        </p:blipFill>
        <p:spPr>
          <a:xfrm>
            <a:off x="5378400" y="0"/>
            <a:ext cx="3765600" cy="49417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9"/>
          <p:cNvSpPr/>
          <p:nvPr/>
        </p:nvSpPr>
        <p:spPr>
          <a:xfrm>
            <a:off x="1258920" y="3933720"/>
            <a:ext cx="345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1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閱讀障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2.</a:t>
            </a:r>
            <a:r>
              <a:rPr b="1" lang="zh-TW" sz="3200" spc="-1" strike="noStrike">
                <a:solidFill>
                  <a:srgbClr val="000066"/>
                </a:solidFill>
                <a:latin typeface="華康魏碑體(P)"/>
                <a:ea typeface="華康魏碑體(P)"/>
              </a:rPr>
              <a:t>無法閱讀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611280" y="5157720"/>
            <a:ext cx="2160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Calibri"/>
                <a:ea typeface="華康魏碑體(P)"/>
              </a:rPr>
              <a:t>轉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2484360" y="522936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Times New Roman"/>
                <a:ea typeface="華康魏碑體(P)"/>
              </a:rPr>
              <a:t>請人專門唸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Arial"/>
              <a:ea typeface="微軟正黑體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Arial"/>
                <a:ea typeface="華康隸書體W5(P)"/>
              </a:rPr>
              <a:t>多元智慧給我們的啟示</a:t>
            </a:r>
            <a:br>
              <a:rPr sz="4400"/>
            </a:br>
            <a:r>
              <a:rPr b="1" lang="zh-TW" sz="4400" spc="-1" strike="noStrike">
                <a:solidFill>
                  <a:srgbClr val="006600"/>
                </a:solidFill>
                <a:latin typeface="Arial"/>
                <a:ea typeface="華康隸書體W5(P)"/>
              </a:rPr>
              <a:t>～人不見得樣樣表現的好</a:t>
            </a:r>
            <a:br>
              <a:rPr sz="4400"/>
            </a:br>
            <a:r>
              <a:rPr b="1" lang="zh-TW" sz="4400" spc="-1" strike="noStrike">
                <a:solidFill>
                  <a:srgbClr val="006600"/>
                </a:solidFill>
                <a:latin typeface="Arial"/>
                <a:ea typeface="華康隸書體W5(P)"/>
              </a:rPr>
              <a:t>～人要發現自己的優點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華康隸書體W5(P)"/>
              </a:rPr>
              <a:t>,</a:t>
            </a:r>
            <a:r>
              <a:rPr b="1" lang="zh-TW" sz="4400" spc="-1" strike="noStrike">
                <a:solidFill>
                  <a:srgbClr val="006600"/>
                </a:solidFill>
                <a:latin typeface="Arial"/>
                <a:ea typeface="華康隸書體W5(P)"/>
              </a:rPr>
              <a:t>擁有自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sfhh29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500040"/>
            <a:ext cx="61038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實施多元評量 經營</a:t>
            </a:r>
            <a:r>
              <a:rPr b="0" lang="zh-TW" sz="3200" spc="-1" strike="noStrike" u="sng">
                <a:solidFill>
                  <a:srgbClr val="7faf45"/>
                </a:solidFill>
                <a:uFillTx/>
                <a:latin typeface="標楷體"/>
                <a:ea typeface="標楷體"/>
                <a:hlinkClick r:id="rId1"/>
              </a:rPr>
              <a:t>多元智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500120"/>
            <a:ext cx="9144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蕭煌奇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 u="sng">
                <a:solidFill>
                  <a:srgbClr val="7faf45"/>
                </a:solidFill>
                <a:uFillTx/>
                <a:latin typeface="Arial"/>
                <a:ea typeface="新細明體"/>
                <a:hlinkClick r:id="rId2"/>
              </a:rPr>
              <a:t>每個人都有自己的主題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身為綜合活動教師 我們應該要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由多元化的評量，發展學生多元智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，讓學生能重視自己的價值，持續的成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p_nex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5643720"/>
            <a:ext cx="136836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solidFill>
            <a:srgbClr val="ffff99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五、評量重視歷程與結果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評量包含</a:t>
            </a:r>
            <a:r>
              <a:rPr b="0" lang="zh-TW" sz="3200" spc="-1" strike="noStrike">
                <a:solidFill>
                  <a:srgbClr val="ff0066"/>
                </a:solidFill>
                <a:latin typeface="Arial"/>
                <a:ea typeface="新細明體"/>
              </a:rPr>
              <a:t>形成性評量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與</a:t>
            </a:r>
            <a:r>
              <a:rPr b="0" lang="zh-TW" sz="3200" spc="-1" strike="noStrike">
                <a:solidFill>
                  <a:srgbClr val="7faf45"/>
                </a:solidFill>
                <a:latin typeface="Arial"/>
                <a:ea typeface="新細明體"/>
              </a:rPr>
              <a:t>總結性評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新細明體"/>
              </a:rPr>
              <a:t>形成性評量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關注學生學習過程中的學習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a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faf45"/>
                </a:solidFill>
                <a:latin typeface="Arial"/>
                <a:ea typeface="新細明體"/>
              </a:rPr>
              <a:t>總結性評量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關注學生學習的成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solidFill>
            <a:srgbClr val="ffff99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六、評量可在不同情境中實施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評量可以在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新細明體"/>
              </a:rPr>
              <a:t>段考前後進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評量可以在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新細明體"/>
              </a:rPr>
              <a:t>教學過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中觀察學生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新細明體"/>
              </a:rPr>
              <a:t>口語互動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的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評量可以在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新細明體"/>
              </a:rPr>
              <a:t>戶外活動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中進行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新細明體"/>
              </a:rPr>
              <a:t>技能檢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評量可以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新細明體"/>
              </a:rPr>
              <a:t>在家中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進行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新細明體"/>
              </a:rPr>
              <a:t>實踐活動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，由家人進行評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……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solidFill>
            <a:srgbClr val="ffff99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七、評量的方法有許多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7fa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faf45"/>
                </a:solidFill>
                <a:latin typeface="Arial"/>
                <a:ea typeface="新細明體"/>
              </a:rPr>
              <a:t>實作評量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如成品製作、表演、實作、作業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鑑賞、實踐或其他行為檢核表、態度評量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fa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faf45"/>
                </a:solidFill>
                <a:latin typeface="Arial"/>
                <a:ea typeface="新細明體"/>
              </a:rPr>
              <a:t>口語評量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如口試、口頭報告、晤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fa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faf45"/>
                </a:solidFill>
                <a:latin typeface="Arial"/>
                <a:ea typeface="新細明體"/>
              </a:rPr>
              <a:t>檔案評量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如研究報告、遊記、教學日誌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會議紀錄、軼事紀錄或其他系列資料之評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fa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faf45"/>
                </a:solidFill>
                <a:latin typeface="Arial"/>
                <a:ea typeface="新細明體"/>
              </a:rPr>
              <a:t>高層次紙筆測驗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如活動心得、活動單紀錄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其他文字敘述之評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7faf45"/>
                </a:solidFill>
                <a:latin typeface="Arial"/>
                <a:ea typeface="新細明體"/>
              </a:rPr>
              <a:t>（引自綜合活動領域</a:t>
            </a:r>
            <a:r>
              <a:rPr b="0" lang="en-US" sz="2800" spc="-1" strike="noStrike">
                <a:solidFill>
                  <a:srgbClr val="7faf45"/>
                </a:solidFill>
                <a:latin typeface="Arial"/>
                <a:ea typeface="新細明體"/>
              </a:rPr>
              <a:t>97</a:t>
            </a:r>
            <a:r>
              <a:rPr b="0" lang="zh-TW" sz="2800" spc="-1" strike="noStrike">
                <a:solidFill>
                  <a:srgbClr val="7faf45"/>
                </a:solidFill>
                <a:latin typeface="Arial"/>
                <a:ea typeface="新細明體"/>
              </a:rPr>
              <a:t>課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426960"/>
            <a:ext cx="8072280" cy="1501920"/>
          </a:xfrm>
          <a:prstGeom prst="rect">
            <a:avLst/>
          </a:prstGeom>
          <a:solidFill>
            <a:srgbClr val="ffff99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八、評量是親師生共同合作的過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162864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評量的人員包含教師、學生本人、同儕、家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……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等，從評量中協助學生成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內容版面配置區 3" descr=""/>
          <p:cNvPicPr/>
          <p:nvPr/>
        </p:nvPicPr>
        <p:blipFill>
          <a:blip r:embed="rId1"/>
          <a:stretch/>
        </p:blipFill>
        <p:spPr>
          <a:xfrm>
            <a:off x="4475160" y="1773360"/>
            <a:ext cx="50655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超研澤新粗黑"/>
              </a:rPr>
              <a:t>多元智慧與多元評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元的觀點來至包容與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元的觀點來至寬闊的視野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en-US" sz="3200" spc="-1" strike="noStrike" u="sng">
                <a:solidFill>
                  <a:srgbClr val="7faf45"/>
                </a:solidFill>
                <a:uFillTx/>
                <a:latin typeface="標楷體"/>
                <a:ea typeface="標楷體"/>
                <a:hlinkClick r:id="rId1"/>
              </a:rPr>
              <a:t>ZOOM</a:t>
            </a:r>
            <a:r>
              <a:rPr b="0" lang="en-US" sz="3200" spc="-1" strike="noStrike" u="sng">
                <a:solidFill>
                  <a:srgbClr val="7faf45"/>
                </a:solidFill>
                <a:uFillTx/>
                <a:latin typeface="標楷體"/>
                <a:ea typeface="標楷體"/>
                <a:hlinkClick r:id="rId2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WHERE ARE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元的觀點來至對創意的熱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投影片編號版面配置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9BA5-DB09-496B-838B-035440356D4C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CARTOONI"/>
          <p:cNvPicPr/>
          <p:nvPr/>
        </p:nvPicPr>
        <p:blipFill>
          <a:blip r:embed="rId3"/>
          <a:stretch/>
        </p:blipFill>
        <p:spPr>
          <a:xfrm>
            <a:off x="3929040" y="4062240"/>
            <a:ext cx="2028960" cy="2795760"/>
          </a:xfrm>
          <a:prstGeom prst="rect">
            <a:avLst/>
          </a:prstGeom>
          <a:ln w="0">
            <a:noFill/>
          </a:ln>
        </p:spPr>
      </p:pic>
      <p:grpSp>
        <p:nvGrpSpPr>
          <p:cNvPr id="176" name="群組 5"/>
          <p:cNvGrpSpPr/>
          <p:nvPr/>
        </p:nvGrpSpPr>
        <p:grpSpPr>
          <a:xfrm>
            <a:off x="2460240" y="4071960"/>
            <a:ext cx="4982400" cy="1853640"/>
            <a:chOff x="2460240" y="4071960"/>
            <a:chExt cx="4982400" cy="1853640"/>
          </a:xfrm>
        </p:grpSpPr>
        <p:sp>
          <p:nvSpPr>
            <p:cNvPr id="177" name="AutoShape 10"/>
            <p:cNvSpPr/>
            <p:nvPr/>
          </p:nvSpPr>
          <p:spPr>
            <a:xfrm>
              <a:off x="4913280" y="5367600"/>
              <a:ext cx="304560" cy="380880"/>
            </a:xfrm>
            <a:custGeom>
              <a:avLst/>
              <a:gdLst>
                <a:gd name="textAreaLeft" fmla="*/ 70920 w 304560"/>
                <a:gd name="textAreaRight" fmla="*/ 233640 w 304560"/>
                <a:gd name="textAreaTop" fmla="*/ 39960 h 380880"/>
                <a:gd name="textAreaBottom" fmla="*/ 2412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faf4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2460240" y="5465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2400" spc="-1" strike="noStrike">
                  <a:solidFill>
                    <a:srgbClr val="000000"/>
                  </a:solidFill>
                  <a:latin typeface="標楷體"/>
                </a:rPr>
                <a:t>激發熱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"/>
            <p:cNvSpPr/>
            <p:nvPr/>
          </p:nvSpPr>
          <p:spPr>
            <a:xfrm flipV="1">
              <a:off x="3693960" y="551952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2460240" y="4452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2400" spc="-1" strike="noStrike">
                  <a:solidFill>
                    <a:srgbClr val="000000"/>
                  </a:solidFill>
                  <a:latin typeface="標楷體"/>
                </a:rPr>
                <a:t>吸收知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4"/>
            <p:cNvSpPr/>
            <p:nvPr/>
          </p:nvSpPr>
          <p:spPr>
            <a:xfrm flipV="1">
              <a:off x="3541680" y="437652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6530400" y="4300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2400" spc="-1" strike="noStrike">
                  <a:solidFill>
                    <a:srgbClr val="000000"/>
                  </a:solidFill>
                  <a:latin typeface="標楷體"/>
                </a:rPr>
                <a:t>盡情想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"/>
            <p:cNvSpPr/>
            <p:nvPr/>
          </p:nvSpPr>
          <p:spPr>
            <a:xfrm>
              <a:off x="5065920" y="407196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17160" y="56988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imes New Roman"/>
                <a:ea typeface="中國龍新仿宋"/>
              </a:rPr>
              <a:t>多元評量的參與者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微軟正黑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Wingdings"/>
                <a:ea typeface="Wingdings"/>
              </a:rPr>
              <a:t></a:t>
            </a:r>
            <a:r>
              <a:rPr b="1" lang="zh-TW" sz="4000" spc="-1" strike="noStrike">
                <a:solidFill>
                  <a:srgbClr val="0000cc"/>
                </a:solidFill>
                <a:latin typeface="Arial"/>
                <a:ea typeface="新細明體"/>
              </a:rPr>
              <a:t>教師評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Wingdings"/>
                <a:ea typeface="Wingdings"/>
              </a:rPr>
              <a:t></a:t>
            </a:r>
            <a:r>
              <a:rPr b="1" lang="zh-TW" sz="4000" spc="-1" strike="noStrike">
                <a:solidFill>
                  <a:srgbClr val="0000cc"/>
                </a:solidFill>
                <a:latin typeface="Arial"/>
                <a:ea typeface="新細明體"/>
              </a:rPr>
              <a:t>學生自我評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Wingdings"/>
                <a:ea typeface="Wingdings"/>
              </a:rPr>
              <a:t></a:t>
            </a:r>
            <a:r>
              <a:rPr b="1" lang="zh-TW" sz="4000" spc="-1" strike="noStrike">
                <a:solidFill>
                  <a:srgbClr val="0000cc"/>
                </a:solidFill>
                <a:latin typeface="Arial"/>
                <a:ea typeface="新細明體"/>
              </a:rPr>
              <a:t>學生小組評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Wingdings"/>
                <a:ea typeface="Wingdings"/>
              </a:rPr>
              <a:t></a:t>
            </a:r>
            <a:r>
              <a:rPr b="1" lang="zh-TW" sz="4000" spc="-1" strike="noStrike">
                <a:solidFill>
                  <a:srgbClr val="0000cc"/>
                </a:solidFill>
                <a:latin typeface="Arial"/>
                <a:ea typeface="新細明體"/>
              </a:rPr>
              <a:t>家長評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Wingdings"/>
                <a:ea typeface="Wingdings"/>
              </a:rPr>
              <a:t></a:t>
            </a:r>
            <a:r>
              <a:rPr b="1" lang="zh-TW" sz="4000" spc="-1" strike="noStrike">
                <a:solidFill>
                  <a:srgbClr val="0000cc"/>
                </a:solidFill>
                <a:latin typeface="Arial"/>
                <a:ea typeface="新細明體"/>
              </a:rPr>
              <a:t>綜合評量（師生、親子共評</a:t>
            </a:r>
            <a:r>
              <a:rPr b="1" lang="zh-TW" sz="40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…</a:t>
            </a:r>
            <a:r>
              <a:rPr b="1" lang="zh-TW" sz="4000" spc="-1" strike="noStrike">
                <a:solidFill>
                  <a:srgbClr val="0000cc"/>
                </a:solidFill>
                <a:latin typeface="Arial"/>
                <a:ea typeface="新細明體"/>
              </a:rPr>
              <a:t>.</a:t>
            </a:r>
            <a:r>
              <a:rPr b="1" lang="zh-TW" sz="4000" spc="-1" strike="noStrike">
                <a:solidFill>
                  <a:srgbClr val="0000cc"/>
                </a:solidFill>
                <a:latin typeface="Arial"/>
                <a:ea typeface="新細明體"/>
              </a:rPr>
              <a:t>）</a:t>
            </a:r>
            <a:r>
              <a:rPr b="0" lang="zh-TW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日期版面配置區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E650-8DD9-4605-A065-560C14E3E38D}" type="datetime">
              <a:rPr b="0" lang="zh-TW" sz="1000" spc="-1" strike="noStrike">
                <a:solidFill>
                  <a:srgbClr val="000000"/>
                </a:solidFill>
                <a:latin typeface="Arial"/>
              </a:rPr>
              <a:t>115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投影片編號版面配置區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400A-4477-41F6-A018-45AF05E8EB7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D:\圖庫\13分隔線\發芽.gif"/>
          <p:cNvPicPr/>
          <p:nvPr/>
        </p:nvPicPr>
        <p:blipFill>
          <a:blip r:embed="rId1"/>
          <a:stretch/>
        </p:blipFill>
        <p:spPr>
          <a:xfrm>
            <a:off x="0" y="5486400"/>
            <a:ext cx="8915400" cy="762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28" descr="F:\圖庫\39小人物集\SCORE_LO.WMF"/>
          <p:cNvPicPr/>
          <p:nvPr/>
        </p:nvPicPr>
        <p:blipFill>
          <a:blip r:embed="rId2"/>
          <a:stretch/>
        </p:blipFill>
        <p:spPr>
          <a:xfrm>
            <a:off x="4643280" y="1857240"/>
            <a:ext cx="39466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solidFill>
            <a:srgbClr val="ffff99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TW" sz="3500" spc="-1" strike="noStrike">
                <a:solidFill>
                  <a:srgbClr val="000000"/>
                </a:solidFill>
                <a:latin typeface="Arial"/>
                <a:ea typeface="新細明體"/>
              </a:rPr>
              <a:t>九、教師應提供學生自我評量及同儕評量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教師提供各種評量的情境，讓學生能評估自己成長的情形，並從旁人的評量中，發現自己未看到的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solidFill>
            <a:srgbClr val="ffff99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十、評量與教學相互影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539640" y="1916280"/>
            <a:ext cx="8353080" cy="3744360"/>
            <a:chOff x="539640" y="1916280"/>
            <a:chExt cx="8353080" cy="3744360"/>
          </a:xfrm>
        </p:grpSpPr>
        <p:sp>
          <p:nvSpPr>
            <p:cNvPr id="388" name="Text Box 3"/>
            <p:cNvSpPr/>
            <p:nvPr/>
          </p:nvSpPr>
          <p:spPr>
            <a:xfrm>
              <a:off x="539640" y="3884040"/>
              <a:ext cx="19702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66"/>
                  </a:solidFill>
                  <a:latin typeface="Calibri"/>
                </a:rPr>
                <a:t>教師教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4"/>
            <p:cNvSpPr/>
            <p:nvPr/>
          </p:nvSpPr>
          <p:spPr>
            <a:xfrm>
              <a:off x="6814800" y="2982600"/>
              <a:ext cx="20779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66"/>
                  </a:solidFill>
                  <a:latin typeface="Calibri"/>
                </a:rPr>
                <a:t>教師評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Picture 5" descr="http://www.taoism.org.hk/taoist-beliefs/image/img232.gif"/>
            <p:cNvPicPr/>
            <p:nvPr/>
          </p:nvPicPr>
          <p:blipFill>
            <a:blip r:embed="rId1"/>
            <a:stretch/>
          </p:blipFill>
          <p:spPr>
            <a:xfrm>
              <a:off x="2801160" y="1916280"/>
              <a:ext cx="3429360" cy="37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Line 6"/>
            <p:cNvSpPr/>
            <p:nvPr/>
          </p:nvSpPr>
          <p:spPr>
            <a:xfrm>
              <a:off x="2436120" y="2899440"/>
              <a:ext cx="1996200" cy="1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904680" y="2243160"/>
              <a:ext cx="1531080" cy="12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66"/>
                  </a:solidFill>
                  <a:latin typeface="Calibri"/>
                </a:rPr>
                <a:t>教學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66"/>
                  </a:solidFill>
                  <a:latin typeface="Calibri"/>
                </a:rPr>
                <a:t>有評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8"/>
            <p:cNvSpPr/>
            <p:nvPr/>
          </p:nvSpPr>
          <p:spPr>
            <a:xfrm>
              <a:off x="6886800" y="4129920"/>
              <a:ext cx="1692000" cy="13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66"/>
                  </a:solidFill>
                  <a:latin typeface="Calibri"/>
                </a:rPr>
                <a:t>評量中有教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9"/>
            <p:cNvSpPr/>
            <p:nvPr/>
          </p:nvSpPr>
          <p:spPr>
            <a:xfrm flipH="1">
              <a:off x="4406040" y="4703040"/>
              <a:ext cx="233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0"/>
            <p:cNvSpPr/>
            <p:nvPr/>
          </p:nvSpPr>
          <p:spPr>
            <a:xfrm flipH="1">
              <a:off x="5646240" y="3390840"/>
              <a:ext cx="1021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1"/>
            <p:cNvSpPr/>
            <p:nvPr/>
          </p:nvSpPr>
          <p:spPr>
            <a:xfrm>
              <a:off x="2436120" y="4211280"/>
              <a:ext cx="812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66"/>
                </a:solidFill>
                <a:latin typeface="標楷體"/>
                <a:ea typeface="標楷體"/>
              </a:rPr>
              <a:t>三、</a:t>
            </a: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學期評量</a:t>
            </a:r>
            <a:r>
              <a:rPr b="1" lang="zh-TW" sz="4800" spc="-1" strike="noStrike">
                <a:solidFill>
                  <a:srgbClr val="000066"/>
                </a:solidFill>
                <a:latin typeface="標楷體"/>
                <a:ea typeface="標楷體"/>
              </a:rPr>
              <a:t>簡介</a:t>
            </a:r>
            <a:r>
              <a:rPr b="1" lang="en-US" sz="4800" spc="-1" strike="noStrike">
                <a:solidFill>
                  <a:srgbClr val="000066"/>
                </a:solidFill>
                <a:latin typeface="標楷體"/>
                <a:ea typeface="標楷體"/>
              </a:rPr>
              <a:t>30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57160" y="507168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期評量計畫目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新細明體"/>
              </a:rPr>
              <a:t>為什麼要寫評量計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檢視與教學活動之間的呼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確保任課教師間評量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提示學生、家長達成之目標與成績來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專業的保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新細明體"/>
              </a:rPr>
              <a:t>計畫給誰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任課教師群、學生、家長、學校行政人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學期評量計畫項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新細明體"/>
              </a:rPr>
              <a:t>計畫項目要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評量目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達成能力指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生學習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評量範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評量方式、計分說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補救教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56390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期評量計畫撰寫流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內容版面配置區 3" descr=""/>
          <p:cNvPicPr/>
          <p:nvPr/>
        </p:nvPicPr>
        <p:blipFill>
          <a:blip r:embed="rId1"/>
          <a:stretch/>
        </p:blipFill>
        <p:spPr>
          <a:xfrm>
            <a:off x="0" y="1274760"/>
            <a:ext cx="91566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期評量計畫內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00040" y="142848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新細明體"/>
              </a:rPr>
              <a:t>平時成績評量內涵：個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+</a:t>
            </a: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新細明體"/>
              </a:rPr>
              <a:t>團隊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+</a:t>
            </a: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新細明體"/>
              </a:rPr>
              <a:t>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Arial"/>
                <a:ea typeface="新細明體"/>
              </a:rPr>
              <a:t>1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新細明體"/>
              </a:rPr>
              <a:t>.</a:t>
            </a:r>
            <a:r>
              <a:rPr b="1" lang="zh-TW" sz="2800" spc="-1" strike="noStrike">
                <a:solidFill>
                  <a:srgbClr val="7030a0"/>
                </a:solidFill>
                <a:latin typeface="Arial"/>
                <a:ea typeface="新細明體"/>
              </a:rPr>
              <a:t>個人學習參與成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每次上課利用「團隊與個人上課表現登記表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附件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登記個人上課表現，做為成績評量依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成績計算說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加分優良表現項目每登錄一次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0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分，扣分待改善項目每登錄一次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0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分，每次段考小結一次分數，並公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成績＝基本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教師自訂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8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+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前項之總計加減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期評量計畫內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Arial"/>
                <a:ea typeface="新細明體"/>
              </a:rPr>
              <a:t>2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新細明體"/>
              </a:rPr>
              <a:t>.</a:t>
            </a:r>
            <a:r>
              <a:rPr b="1" lang="zh-TW" sz="2800" spc="-1" strike="noStrike">
                <a:solidFill>
                  <a:srgbClr val="7030a0"/>
                </a:solidFill>
                <a:latin typeface="Arial"/>
                <a:ea typeface="新細明體"/>
              </a:rPr>
              <a:t>團隊表現成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每次上課利用「團隊與個人上課表現登記表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附件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登記團隊上課表現，做為成績評量依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成績計算說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加分優良表現項目每登錄一次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0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分，扣分待改善項目每登錄一次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0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分，每次段考小結一次分數，並公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成績＝基本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教師自訂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8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+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前項之總計加減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期評量計畫內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Arial"/>
                <a:ea typeface="新細明體"/>
              </a:rPr>
              <a:t>3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新細明體"/>
              </a:rPr>
              <a:t>.</a:t>
            </a:r>
            <a:r>
              <a:rPr b="1" lang="zh-TW" sz="2800" spc="-1" strike="noStrike">
                <a:solidFill>
                  <a:srgbClr val="7030a0"/>
                </a:solidFill>
                <a:latin typeface="Arial"/>
                <a:ea typeface="新細明體"/>
              </a:rPr>
              <a:t>學習檔案評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由學生在期末整理全學期之學習檔案，並進行省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利用檔案評量方式評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9"/>
          <p:cNvSpPr/>
          <p:nvPr/>
        </p:nvSpPr>
        <p:spPr>
          <a:xfrm>
            <a:off x="6935040" y="3855960"/>
            <a:ext cx="174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綜合活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指標與多元評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1"/>
          <p:cNvGrpSpPr/>
          <p:nvPr/>
        </p:nvGrpSpPr>
        <p:grpSpPr>
          <a:xfrm>
            <a:off x="2143080" y="1928880"/>
            <a:ext cx="4535280" cy="4392720"/>
            <a:chOff x="2143080" y="1928880"/>
            <a:chExt cx="4535280" cy="4392720"/>
          </a:xfrm>
        </p:grpSpPr>
        <p:sp>
          <p:nvSpPr>
            <p:cNvPr id="186" name="AutoShape 2"/>
            <p:cNvSpPr/>
            <p:nvPr/>
          </p:nvSpPr>
          <p:spPr>
            <a:xfrm rot="17973000">
              <a:off x="4596480" y="2737440"/>
              <a:ext cx="928080" cy="324360"/>
            </a:xfrm>
            <a:prstGeom prst="rightArrow">
              <a:avLst>
                <a:gd name="adj1" fmla="val 35167"/>
                <a:gd name="adj2" fmla="val 115868"/>
              </a:avLst>
            </a:prstGeom>
            <a:solidFill>
              <a:srgbClr val="4077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3"/>
            <p:cNvSpPr/>
            <p:nvPr/>
          </p:nvSpPr>
          <p:spPr>
            <a:xfrm rot="3465600">
              <a:off x="4653720" y="5212080"/>
              <a:ext cx="928080" cy="324360"/>
            </a:xfrm>
            <a:prstGeom prst="rightArrow">
              <a:avLst>
                <a:gd name="adj1" fmla="val 35167"/>
                <a:gd name="adj2" fmla="val 115868"/>
              </a:avLst>
            </a:prstGeom>
            <a:solidFill>
              <a:srgbClr val="4077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4"/>
            <p:cNvSpPr/>
            <p:nvPr/>
          </p:nvSpPr>
          <p:spPr>
            <a:xfrm rot="14368800">
              <a:off x="3283560" y="2763360"/>
              <a:ext cx="929880" cy="324360"/>
            </a:xfrm>
            <a:prstGeom prst="rightArrow">
              <a:avLst>
                <a:gd name="adj1" fmla="val 35167"/>
                <a:gd name="adj2" fmla="val 116093"/>
              </a:avLst>
            </a:prstGeom>
            <a:solidFill>
              <a:srgbClr val="4077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 rot="7534800">
              <a:off x="3240720" y="5172840"/>
              <a:ext cx="928440" cy="324360"/>
            </a:xfrm>
            <a:prstGeom prst="rightArrow">
              <a:avLst>
                <a:gd name="adj1" fmla="val 35167"/>
                <a:gd name="adj2" fmla="val 115913"/>
              </a:avLst>
            </a:prstGeom>
            <a:solidFill>
              <a:srgbClr val="4077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6"/>
            <p:cNvSpPr/>
            <p:nvPr/>
          </p:nvSpPr>
          <p:spPr>
            <a:xfrm>
              <a:off x="5323680" y="3990600"/>
              <a:ext cx="889200" cy="337680"/>
            </a:xfrm>
            <a:prstGeom prst="rightArrow">
              <a:avLst>
                <a:gd name="adj1" fmla="val 35167"/>
                <a:gd name="adj2" fmla="val 106635"/>
              </a:avLst>
            </a:prstGeom>
            <a:solidFill>
              <a:srgbClr val="4077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 rot="10800000">
              <a:off x="2617200" y="3983040"/>
              <a:ext cx="969120" cy="337680"/>
            </a:xfrm>
            <a:prstGeom prst="rightArrow">
              <a:avLst>
                <a:gd name="adj1" fmla="val 35167"/>
                <a:gd name="adj2" fmla="val 116219"/>
              </a:avLst>
            </a:prstGeom>
            <a:solidFill>
              <a:srgbClr val="4077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8"/>
            <p:cNvSpPr/>
            <p:nvPr/>
          </p:nvSpPr>
          <p:spPr>
            <a:xfrm>
              <a:off x="2302920" y="1928880"/>
              <a:ext cx="4203360" cy="43927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2143080" y="4014360"/>
              <a:ext cx="342360" cy="356760"/>
            </a:xfrm>
            <a:prstGeom prst="ellipse">
              <a:avLst/>
            </a:prstGeom>
            <a:gradFill rotWithShape="0">
              <a:gsLst>
                <a:gs pos="0">
                  <a:srgbClr val="e7e397"/>
                </a:gs>
                <a:gs pos="100000">
                  <a:srgbClr val="c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3170160" y="2078280"/>
              <a:ext cx="342360" cy="357120"/>
            </a:xfrm>
            <a:prstGeom prst="ellipse">
              <a:avLst/>
            </a:prstGeom>
            <a:gradFill rotWithShape="0">
              <a:gsLst>
                <a:gs pos="0">
                  <a:srgbClr val="e7e397"/>
                </a:gs>
                <a:gs pos="100000">
                  <a:srgbClr val="c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5308920" y="2078280"/>
              <a:ext cx="342360" cy="357120"/>
            </a:xfrm>
            <a:prstGeom prst="ellipse">
              <a:avLst/>
            </a:prstGeom>
            <a:gradFill rotWithShape="0">
              <a:gsLst>
                <a:gs pos="0">
                  <a:srgbClr val="e7e397"/>
                </a:gs>
                <a:gs pos="100000">
                  <a:srgbClr val="c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>
              <a:off x="3084120" y="5830920"/>
              <a:ext cx="342360" cy="358920"/>
            </a:xfrm>
            <a:prstGeom prst="ellipse">
              <a:avLst/>
            </a:prstGeom>
            <a:gradFill rotWithShape="0">
              <a:gsLst>
                <a:gs pos="0">
                  <a:srgbClr val="e7e397"/>
                </a:gs>
                <a:gs pos="100000">
                  <a:srgbClr val="c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4"/>
            <p:cNvSpPr/>
            <p:nvPr/>
          </p:nvSpPr>
          <p:spPr>
            <a:xfrm>
              <a:off x="5308920" y="5830920"/>
              <a:ext cx="342360" cy="358920"/>
            </a:xfrm>
            <a:prstGeom prst="ellipse">
              <a:avLst/>
            </a:prstGeom>
            <a:gradFill rotWithShape="0">
              <a:gsLst>
                <a:gs pos="0">
                  <a:srgbClr val="e7e397"/>
                </a:gs>
                <a:gs pos="100000">
                  <a:srgbClr val="c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"/>
            <p:cNvSpPr/>
            <p:nvPr/>
          </p:nvSpPr>
          <p:spPr>
            <a:xfrm>
              <a:off x="6336000" y="3999240"/>
              <a:ext cx="342360" cy="357120"/>
            </a:xfrm>
            <a:prstGeom prst="ellipse">
              <a:avLst/>
            </a:prstGeom>
            <a:gradFill rotWithShape="0">
              <a:gsLst>
                <a:gs pos="0">
                  <a:srgbClr val="e7e397"/>
                </a:gs>
                <a:gs pos="100000">
                  <a:srgbClr val="c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"/>
            <p:cNvSpPr/>
            <p:nvPr/>
          </p:nvSpPr>
          <p:spPr>
            <a:xfrm>
              <a:off x="3470760" y="3136680"/>
              <a:ext cx="1913400" cy="19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7863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7"/>
            <p:cNvSpPr/>
            <p:nvPr/>
          </p:nvSpPr>
          <p:spPr>
            <a:xfrm>
              <a:off x="3470760" y="3136680"/>
              <a:ext cx="1913400" cy="1979640"/>
            </a:xfrm>
            <a:prstGeom prst="ellipse">
              <a:avLst/>
            </a:prstGeom>
            <a:gradFill rotWithShape="0">
              <a:gsLst>
                <a:gs pos="0">
                  <a:srgbClr val="7faf4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8"/>
            <p:cNvSpPr/>
            <p:nvPr/>
          </p:nvSpPr>
          <p:spPr>
            <a:xfrm>
              <a:off x="3595680" y="3265200"/>
              <a:ext cx="1662480" cy="1720800"/>
            </a:xfrm>
            <a:prstGeom prst="ellipse">
              <a:avLst/>
            </a:prstGeom>
            <a:gradFill rotWithShape="0">
              <a:gsLst>
                <a:gs pos="0">
                  <a:srgbClr val="455f25"/>
                </a:gs>
                <a:gs pos="50000">
                  <a:srgbClr val="7faf45"/>
                </a:gs>
                <a:gs pos="100000">
                  <a:srgbClr val="455f2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9"/>
            <p:cNvSpPr/>
            <p:nvPr/>
          </p:nvSpPr>
          <p:spPr>
            <a:xfrm>
              <a:off x="3646080" y="3307320"/>
              <a:ext cx="1657080" cy="1719000"/>
            </a:xfrm>
            <a:prstGeom prst="ellipse">
              <a:avLst/>
            </a:prstGeom>
            <a:gradFill rotWithShape="0">
              <a:gsLst>
                <a:gs pos="0">
                  <a:srgbClr val="516f2c"/>
                </a:gs>
                <a:gs pos="100000">
                  <a:srgbClr val="7faf4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"/>
            <p:cNvSpPr/>
            <p:nvPr/>
          </p:nvSpPr>
          <p:spPr>
            <a:xfrm>
              <a:off x="3679920" y="3353400"/>
              <a:ext cx="1496880" cy="15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1"/>
            <p:cNvGrpSpPr/>
            <p:nvPr/>
          </p:nvGrpSpPr>
          <p:grpSpPr>
            <a:xfrm>
              <a:off x="3702240" y="3376080"/>
              <a:ext cx="1449360" cy="1497600"/>
              <a:chOff x="3702240" y="3376080"/>
              <a:chExt cx="1449360" cy="1497600"/>
            </a:xfrm>
          </p:grpSpPr>
          <p:sp>
            <p:nvSpPr>
              <p:cNvPr id="205" name="Oval 22"/>
              <p:cNvSpPr/>
              <p:nvPr/>
            </p:nvSpPr>
            <p:spPr>
              <a:xfrm>
                <a:off x="3702240" y="3376080"/>
                <a:ext cx="1449360" cy="1497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3"/>
              <p:cNvSpPr/>
              <p:nvPr/>
            </p:nvSpPr>
            <p:spPr>
              <a:xfrm>
                <a:off x="3720600" y="3384360"/>
                <a:ext cx="1414800" cy="1460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4"/>
              <p:cNvSpPr/>
              <p:nvPr/>
            </p:nvSpPr>
            <p:spPr>
              <a:xfrm>
                <a:off x="3735720" y="3398760"/>
                <a:ext cx="1344960" cy="1364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5"/>
              <p:cNvSpPr/>
              <p:nvPr/>
            </p:nvSpPr>
            <p:spPr>
              <a:xfrm>
                <a:off x="3814560" y="3436920"/>
                <a:ext cx="1195560" cy="1107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26"/>
            <p:cNvSpPr/>
            <p:nvPr/>
          </p:nvSpPr>
          <p:spPr>
            <a:xfrm>
              <a:off x="4021560" y="35269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ff0000"/>
                  </a:solidFill>
                  <a:latin typeface="Arial"/>
                  <a:ea typeface="標楷體"/>
                </a:rPr>
                <a:t>課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ff0000"/>
                  </a:solidFill>
                  <a:latin typeface="Arial"/>
                  <a:ea typeface="標楷體"/>
                </a:rPr>
                <a:t>綱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27"/>
          <p:cNvSpPr/>
          <p:nvPr/>
        </p:nvSpPr>
        <p:spPr>
          <a:xfrm>
            <a:off x="357120" y="0"/>
            <a:ext cx="61437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a0aff"/>
                </a:solidFill>
                <a:latin typeface="Arial"/>
                <a:ea typeface="標楷體"/>
              </a:rPr>
              <a:t>綜合活動多元評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a0aff"/>
                </a:solidFill>
                <a:latin typeface="Arial"/>
                <a:ea typeface="標楷體"/>
              </a:rPr>
              <a:t>理論與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0" y="5661000"/>
            <a:ext cx="31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綜合活動多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評量四大類型示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779040" y="1557360"/>
            <a:ext cx="21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多元評量迷思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5508720" y="5661000"/>
            <a:ext cx="33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綜合活動多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評量學期計畫示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7"/>
          <p:cNvSpPr/>
          <p:nvPr/>
        </p:nvSpPr>
        <p:spPr>
          <a:xfrm>
            <a:off x="5364000" y="1357200"/>
            <a:ext cx="32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多元評量基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概念與課程介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42"/>
          <p:cNvGrpSpPr/>
          <p:nvPr/>
        </p:nvGrpSpPr>
        <p:grpSpPr>
          <a:xfrm>
            <a:off x="324000" y="3063960"/>
            <a:ext cx="1979640" cy="2325600"/>
            <a:chOff x="324000" y="3063960"/>
            <a:chExt cx="1979640" cy="2325600"/>
          </a:xfrm>
        </p:grpSpPr>
        <p:sp>
          <p:nvSpPr>
            <p:cNvPr id="216" name="Text Box 28"/>
            <p:cNvSpPr/>
            <p:nvPr/>
          </p:nvSpPr>
          <p:spPr>
            <a:xfrm>
              <a:off x="659160" y="3932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6600"/>
                  </a:solidFill>
                  <a:latin typeface="Arial"/>
                </a:rPr>
                <a:t>口語評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324000" y="4869000"/>
              <a:ext cx="19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6600"/>
                  </a:solidFill>
                  <a:latin typeface="Arial"/>
                </a:rPr>
                <a:t>高層次測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33"/>
            <p:cNvSpPr/>
            <p:nvPr/>
          </p:nvSpPr>
          <p:spPr>
            <a:xfrm>
              <a:off x="324000" y="3500280"/>
              <a:ext cx="16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6600"/>
                  </a:solidFill>
                  <a:latin typeface="Arial"/>
                </a:rPr>
                <a:t>實作評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34"/>
            <p:cNvSpPr/>
            <p:nvPr/>
          </p:nvSpPr>
          <p:spPr>
            <a:xfrm>
              <a:off x="609840" y="436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6600"/>
                  </a:solidFill>
                  <a:latin typeface="Arial"/>
                </a:rPr>
                <a:t>檔案評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9"/>
            <p:cNvSpPr/>
            <p:nvPr/>
          </p:nvSpPr>
          <p:spPr>
            <a:xfrm>
              <a:off x="385920" y="3063960"/>
              <a:ext cx="174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TW" sz="2800" spc="-1" strike="noStrike">
                  <a:solidFill>
                    <a:srgbClr val="000000"/>
                  </a:solidFill>
                  <a:latin typeface="Arial"/>
                </a:rPr>
                <a:t>多元評量實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期評量計畫內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00040" y="1428840"/>
            <a:ext cx="822960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新細明體"/>
              </a:rPr>
              <a:t>學習單或作業之評分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需列出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評量規準項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符合教學目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等第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配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84360" y="3357720"/>
          <a:ext cx="7643520" cy="2592360"/>
        </p:xfrm>
        <a:graphic>
          <a:graphicData uri="http://schemas.openxmlformats.org/drawingml/2006/table">
            <a:tbl>
              <a:tblPr/>
              <a:tblGrid>
                <a:gridCol w="1676160"/>
                <a:gridCol w="1192320"/>
                <a:gridCol w="1193760"/>
                <a:gridCol w="1193760"/>
                <a:gridCol w="1193760"/>
                <a:gridCol w="1193760"/>
              </a:tblGrid>
              <a:tr h="45756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規準項目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符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很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不錯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普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改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細明體"/>
                          <a:ea typeface="標楷體"/>
                        </a:rPr>
                        <a:t>補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細明體"/>
                          <a:ea typeface="標楷體"/>
                        </a:rPr>
                        <a:t>(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細明體"/>
                          <a:ea typeface="標楷體"/>
                        </a:rPr>
                        <a:t>基本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480"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 gridSpan="6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特別加分項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,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加分理由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          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加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,2,1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直接圈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 gridSpan="6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539640"/>
                          <a:tab algn="l" pos="1619280"/>
                          <a:tab algn="l" pos="270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享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期評量計畫內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00040" y="14288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習單評量等級說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習單的評量等級都分成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」五個等級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可斟酌減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3500280"/>
          <a:ext cx="8424720" cy="2781360"/>
        </p:xfrm>
        <a:graphic>
          <a:graphicData uri="http://schemas.openxmlformats.org/drawingml/2006/table">
            <a:tbl>
              <a:tblPr/>
              <a:tblGrid>
                <a:gridCol w="863640"/>
                <a:gridCol w="1460520"/>
                <a:gridCol w="1523880"/>
                <a:gridCol w="1525680"/>
                <a:gridCol w="1523880"/>
                <a:gridCol w="1527120"/>
              </a:tblGrid>
              <a:tr h="64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等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說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完全達到標準或做得非常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10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多數達到標準或做得不錯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7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少數達到標準或做得普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4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完全沒達標準或做得不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2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沒有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期評量計畫內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4040" indent="-28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習單計分說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所有學習單</a:t>
            </a:r>
            <a:r>
              <a:rPr b="0" lang="zh-TW" sz="2800" spc="-1" strike="noStrike">
                <a:solidFill>
                  <a:srgbClr val="ff0066"/>
                </a:solidFill>
                <a:latin typeface="Arial"/>
                <a:ea typeface="新細明體"/>
              </a:rPr>
              <a:t>基本分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均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4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分，有交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4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學習單「每項配分」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60/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評量項目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學習單的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」＝每項的配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」＝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0.7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，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」＝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0.4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」＝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0.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若學生於「期限內」補交，且半數達到標準以上，給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6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學期評量計畫內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新細明體"/>
              </a:rPr>
              <a:t>補救教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對表現欠佳或未達其應有水準者，施予必要之補救教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可邀請表現優秀者協助需要補救教學者，以發揮合作關懷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185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Arial"/>
              </a:rPr>
              <a:t>綜合活動學習領域之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內涵</a:t>
            </a:r>
            <a:r>
              <a:rPr b="1" lang="zh-TW" sz="2800" spc="-1" strike="noStrike">
                <a:solidFill>
                  <a:srgbClr val="0000cc"/>
                </a:solidFill>
                <a:latin typeface="Arial"/>
              </a:rPr>
              <a:t>架構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zh-TW" sz="2800" spc="-1" strike="noStrike">
                <a:solidFill>
                  <a:srgbClr val="0000cc"/>
                </a:solidFill>
                <a:latin typeface="Arial"/>
              </a:rPr>
              <a:t>基本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理念</a:t>
            </a:r>
            <a:r>
              <a:rPr b="1" lang="zh-TW" sz="2800" spc="-1" strike="noStrike">
                <a:solidFill>
                  <a:srgbClr val="0000cc"/>
                </a:solidFill>
                <a:latin typeface="Arial"/>
              </a:rPr>
              <a:t>的評量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79280" y="836640"/>
          <a:ext cx="8785440" cy="5626080"/>
        </p:xfrm>
        <a:graphic>
          <a:graphicData uri="http://schemas.openxmlformats.org/drawingml/2006/table">
            <a:tbl>
              <a:tblPr/>
              <a:tblGrid>
                <a:gridCol w="360360"/>
                <a:gridCol w="1209960"/>
                <a:gridCol w="512640"/>
                <a:gridCol w="507960"/>
                <a:gridCol w="511200"/>
                <a:gridCol w="507960"/>
                <a:gridCol w="730080"/>
                <a:gridCol w="729000"/>
                <a:gridCol w="509400"/>
                <a:gridCol w="728640"/>
                <a:gridCol w="730440"/>
                <a:gridCol w="736560"/>
                <a:gridCol w="504720"/>
                <a:gridCol w="506520"/>
              </a:tblGrid>
              <a:tr h="58140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內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架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實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基本     分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理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自我發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生活經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社會參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保護自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與環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自我探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自我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尊重生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生活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生活適應與創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資源運用與開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人際互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社會關懷與服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尊重多元文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危機辨識與處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戶外生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環境保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體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活動參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心得分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省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口語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檔案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實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實作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檢核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真實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高層測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創意作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Rectangle 196"/>
          <p:cNvSpPr/>
          <p:nvPr/>
        </p:nvSpPr>
        <p:spPr>
          <a:xfrm>
            <a:off x="0" y="6415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97"/>
          <p:cNvSpPr/>
          <p:nvPr/>
        </p:nvSpPr>
        <p:spPr>
          <a:xfrm>
            <a:off x="179280" y="836640"/>
            <a:ext cx="86364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98"/>
          <p:cNvSpPr/>
          <p:nvPr/>
        </p:nvSpPr>
        <p:spPr>
          <a:xfrm>
            <a:off x="179280" y="83664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66"/>
                </a:solidFill>
                <a:latin typeface="標楷體"/>
                <a:ea typeface="標楷體"/>
              </a:rPr>
              <a:t>評量實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857160" y="5072040"/>
            <a:ext cx="74296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  <a:ea typeface="華康隸書體W7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針對帶來的教案，您認為可做的評量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原有的評量需要修正嗎？如何修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是否符應能力指標和教學目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分鐘後，請小組找出一個主題評量加以整理討論，內容包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個主題評量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含主題目標、能力指標、評量方式、評量說明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張學習單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含評量規準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建立評量的信度與效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以</a:t>
            </a:r>
            <a:r>
              <a:rPr b="0" lang="zh-TW" sz="3200" spc="-1" strike="noStrike">
                <a:solidFill>
                  <a:srgbClr val="00b050"/>
                </a:solidFill>
                <a:latin typeface="Arial"/>
                <a:ea typeface="新細明體"/>
              </a:rPr>
              <a:t>評分規準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增加  </a:t>
            </a:r>
            <a:r>
              <a:rPr b="0" lang="zh-TW" sz="3200" spc="-1" strike="noStrike">
                <a:solidFill>
                  <a:srgbClr val="00b050"/>
                </a:solidFill>
                <a:latin typeface="Arial"/>
                <a:ea typeface="新細明體"/>
              </a:rPr>
              <a:t>效度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（正確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以</a:t>
            </a:r>
            <a:r>
              <a:rPr b="0" lang="zh-TW" sz="3200" spc="-1" strike="noStrike">
                <a:solidFill>
                  <a:srgbClr val="9a941f"/>
                </a:solidFill>
                <a:latin typeface="Arial"/>
                <a:ea typeface="新細明體"/>
              </a:rPr>
              <a:t>評分者訓練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增進</a:t>
            </a:r>
            <a:r>
              <a:rPr b="0" lang="zh-TW" sz="3200" spc="-1" strike="noStrike">
                <a:solidFill>
                  <a:srgbClr val="9a941f"/>
                </a:solidFill>
                <a:latin typeface="Arial"/>
                <a:ea typeface="新細明體"/>
              </a:rPr>
              <a:t>信度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（穩定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字方塊 6"/>
          <p:cNvSpPr/>
          <p:nvPr/>
        </p:nvSpPr>
        <p:spPr>
          <a:xfrm>
            <a:off x="755640" y="2852640"/>
            <a:ext cx="7920000" cy="2288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告知評量目標與重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告知且共同討論評量標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評量者對檔案範本進行評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與評量者討論結果的差異與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再分別就不同範本練習計分，比較評量結果並討論改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重複練習直到評量者與教師評量相似為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雲朵形 7"/>
          <p:cNvSpPr/>
          <p:nvPr/>
        </p:nvSpPr>
        <p:spPr>
          <a:xfrm>
            <a:off x="4211640" y="5214960"/>
            <a:ext cx="4321080" cy="1454040"/>
          </a:xfrm>
          <a:prstGeom prst="pie">
            <a:avLst/>
          </a:prstGeom>
          <a:solidFill>
            <a:srgbClr val="407790"/>
          </a:solidFill>
          <a:ln w="25560">
            <a:solidFill>
              <a:srgbClr val="2c5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領域夥伴的溝通討論、與練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66"/>
                </a:solidFill>
                <a:latin typeface="標楷體"/>
                <a:ea typeface="標楷體"/>
              </a:rPr>
              <a:t>小組分享與回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82868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  <a:ea typeface="華康隸書體W7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新細明體"/>
              </a:rPr>
              <a:t>實施多元評量注意事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一）培養學生</a:t>
            </a:r>
            <a:r>
              <a:rPr b="0" lang="zh-TW" sz="2800" spc="-1" strike="noStrike">
                <a:solidFill>
                  <a:srgbClr val="bd6403"/>
                </a:solidFill>
                <a:latin typeface="Arial"/>
                <a:ea typeface="新細明體"/>
              </a:rPr>
              <a:t>自我管理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的能力：多元評量方法中，有許多是屬於活動的情境，要使學習有效果，必須注意學生的秩序與安全。因此，多元評量項目中，學生的自我管理能力是評量的重點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二）訓練學生的</a:t>
            </a:r>
            <a:r>
              <a:rPr b="0" lang="zh-TW" sz="2800" spc="-1" strike="noStrike">
                <a:solidFill>
                  <a:srgbClr val="bd6403"/>
                </a:solidFill>
                <a:latin typeface="Arial"/>
                <a:ea typeface="新細明體"/>
              </a:rPr>
              <a:t>思考能力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：採用多元評量的方法，應加強訓練學生的思考能力。評量會遭人詬病的原因，主要是教法採用傳統講述式教學，評量時測量學生高層次的認知能力。這種教和評不一致的結果，容易造成學生的挫折感，因此，思考能力的訓練是進行多元評量方法時要多注意的問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5738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a0aff"/>
                </a:solidFill>
                <a:latin typeface="標楷體"/>
                <a:ea typeface="標楷體"/>
              </a:rPr>
              <a:t>重溫考試舊夢 </a:t>
            </a:r>
            <a:r>
              <a:rPr b="1" lang="en-US" sz="4000" spc="-1" strike="noStrike">
                <a:solidFill>
                  <a:srgbClr val="0a0aff"/>
                </a:solidFill>
                <a:latin typeface="標楷體"/>
                <a:ea typeface="標楷體"/>
              </a:rPr>
              <a:t>o o x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1268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、是非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元評量並非廢除紙筆測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元評量能兼顧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形成性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和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總結性評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成品製作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和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行為檢核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屬於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檔案評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軼事記錄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可以說是一種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實作評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、申論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為何綜合活動領域有時候</a:t>
            </a: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在教學中有評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在評量中有教學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？請舉例說明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新細明體"/>
              </a:rPr>
              <a:t>實施多元評量注意事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（三）教導學生</a:t>
            </a:r>
            <a:r>
              <a:rPr b="0" lang="zh-TW" sz="2800" spc="-1" strike="noStrike">
                <a:solidFill>
                  <a:srgbClr val="bd6403"/>
                </a:solidFill>
                <a:latin typeface="Arial"/>
                <a:ea typeface="新細明體"/>
              </a:rPr>
              <a:t>口頭發表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的能力：進行多元評量時，經常要以口頭報告的方式將自己的作品介紹給大家，因此，教師要訓練學生了解口頭報告的技巧，包括個人的儀態和語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（四）建立學生</a:t>
            </a:r>
            <a:r>
              <a:rPr b="0" lang="zh-TW" sz="2800" spc="-1" strike="noStrike">
                <a:solidFill>
                  <a:srgbClr val="bd6403"/>
                </a:solidFill>
                <a:latin typeface="Arial"/>
                <a:ea typeface="新細明體"/>
              </a:rPr>
              <a:t>合作學習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的觀念：在實作評量或真實性評量中，經常會需要整組通力合作完成一項任務，因此團隊合作的能力也是評量的重要項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（五）養成學生</a:t>
            </a:r>
            <a:r>
              <a:rPr b="0" lang="zh-TW" sz="2800" spc="-1" strike="noStrike">
                <a:solidFill>
                  <a:srgbClr val="bd6403"/>
                </a:solidFill>
                <a:latin typeface="Arial"/>
                <a:ea typeface="新細明體"/>
              </a:rPr>
              <a:t>反省思考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的習慣：評量的目的不只了解目前學習的情形，也要針對目前的缺失提出改進的策略。因此，多元評量的重要目的之一是訓練學生省思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新細明體"/>
              </a:rPr>
              <a:t>實施多元評量注意事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（六）教師要設計</a:t>
            </a:r>
            <a:r>
              <a:rPr b="0" lang="zh-TW" sz="2800" spc="-1" strike="noStrike">
                <a:solidFill>
                  <a:srgbClr val="bd6403"/>
                </a:solidFill>
                <a:latin typeface="Arial"/>
                <a:ea typeface="新細明體"/>
              </a:rPr>
              <a:t>各種的檢核表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：多元評量的方法除了紙筆測驗外，需要設計許多學習單或檢核表，在學習單上清楚列出所要進行的工作有哪些，在檢核表中明定評量的項目有哪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（七）教師要能秉持</a:t>
            </a:r>
            <a:r>
              <a:rPr b="0" lang="zh-TW" sz="2800" spc="-1" strike="noStrike">
                <a:solidFill>
                  <a:srgbClr val="bd6403"/>
                </a:solidFill>
                <a:latin typeface="Arial"/>
                <a:ea typeface="新細明體"/>
              </a:rPr>
              <a:t>客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的立場：多元評量因常使用檢核表，所以教師個人的印象會影響評量的公平性，教師要能時時注意個人的想法，讓評量能維持公平客觀的狀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新細明體"/>
              </a:rPr>
              <a:t>實施多元評量注意事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（八）教師要給予學生</a:t>
            </a:r>
            <a:r>
              <a:rPr b="0" lang="zh-TW" sz="2800" spc="-1" strike="noStrike">
                <a:solidFill>
                  <a:srgbClr val="bd6403"/>
                </a:solidFill>
                <a:latin typeface="Arial"/>
                <a:ea typeface="新細明體"/>
              </a:rPr>
              <a:t>適切的回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：評量後的處置往往比評量更具意義，教師要藉著評量結果來引導學生改善目前的缺失或發展個人的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（九）教師要能發現學生學習</a:t>
            </a:r>
            <a:r>
              <a:rPr b="0" lang="zh-TW" sz="2800" spc="-1" strike="noStrike">
                <a:solidFill>
                  <a:srgbClr val="bd6403"/>
                </a:solidFill>
                <a:latin typeface="Arial"/>
                <a:ea typeface="新細明體"/>
              </a:rPr>
              <a:t>進步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的情形：教師在評量後要讓學生知道教師看到了他的努力，因為孩子很在意自己的怒力是否被父母和教師所發現。這樣的作法也能引導學生欣賞自己的能力，感受自己是有價值、有能力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920000" cy="844560"/>
          </a:xfrm>
          <a:prstGeom prst="rect">
            <a:avLst/>
          </a:prstGeom>
          <a:solidFill>
            <a:srgbClr val="33cccc">
              <a:alpha val="5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新細明體"/>
              </a:rPr>
              <a:t>結語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新細明體"/>
              </a:rPr>
              <a:t>~</a:t>
            </a: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新細明體"/>
              </a:rPr>
              <a:t>評量專業的努力空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我們要教什麼？評量什麼？怎麼評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突破點：同年級教師的評量標準演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什麼才是公平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專業的回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cc00"/>
                </a:solidFill>
                <a:latin typeface="Arial"/>
                <a:ea typeface="超研澤中隸"/>
              </a:rPr>
              <a:t>故事開始</a:t>
            </a:r>
            <a:r>
              <a:rPr b="1" lang="en-US" sz="3200" spc="-1" strike="noStrike">
                <a:solidFill>
                  <a:srgbClr val="00cc00"/>
                </a:solidFill>
                <a:latin typeface="標楷體"/>
                <a:ea typeface="超研澤中隸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WordArt 8"/>
          <p:cNvSpPr txBox="1"/>
          <p:nvPr/>
        </p:nvSpPr>
        <p:spPr>
          <a:xfrm>
            <a:off x="1403280" y="2421000"/>
            <a:ext cx="19605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標楷體"/>
              </a:rPr>
              <a:t>點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3708360" y="3860640"/>
            <a:ext cx="43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資料來源：參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彼得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雷諾茲之作品，和英出版社出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4" descr="page--2"/>
          <p:cNvPicPr/>
          <p:nvPr/>
        </p:nvPicPr>
        <p:blipFill>
          <a:blip r:embed="rId1"/>
          <a:stretch/>
        </p:blipFill>
        <p:spPr>
          <a:xfrm>
            <a:off x="6769080" y="4654440"/>
            <a:ext cx="2374920" cy="220356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7"/>
          <p:cNvSpPr/>
          <p:nvPr/>
        </p:nvSpPr>
        <p:spPr>
          <a:xfrm>
            <a:off x="539640" y="1268280"/>
            <a:ext cx="7920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畫圖課結束了，</a:t>
            </a:r>
            <a:r>
              <a:rPr b="1" lang="zh-TW" sz="2800" spc="-1" strike="noStrike" u="sng">
                <a:solidFill>
                  <a:srgbClr val="333300"/>
                </a:solidFill>
                <a:uFillTx/>
                <a:latin typeface="標楷體"/>
                <a:ea typeface="標楷體"/>
              </a:rPr>
              <a:t>小威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卻無法離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因為他的圖畫紙依舊空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老師低頭認真的瞧著</a:t>
            </a:r>
            <a:r>
              <a:rPr b="1" lang="zh-TW" sz="2800" spc="-1" strike="noStrike" u="sng">
                <a:solidFill>
                  <a:srgbClr val="333300"/>
                </a:solidFill>
                <a:uFillTx/>
                <a:latin typeface="標楷體"/>
                <a:ea typeface="標楷體"/>
              </a:rPr>
              <a:t>小威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那張白紙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她說</a:t>
            </a:r>
            <a:r>
              <a:rPr b="1" lang="en-US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「哇！暴風雪裡有一隻北極熊！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333300"/>
                </a:solidFill>
                <a:uFillTx/>
                <a:latin typeface="標楷體"/>
                <a:ea typeface="標楷體"/>
              </a:rPr>
              <a:t>小葳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說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TW" sz="2800" spc="-1" strike="noStrike">
                <a:solidFill>
                  <a:srgbClr val="333300"/>
                </a:solidFill>
                <a:latin typeface="標楷體"/>
                <a:ea typeface="標楷體"/>
              </a:rPr>
              <a:t>「我就是不會畫圖呀！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7"/>
          <p:cNvSpPr/>
          <p:nvPr/>
        </p:nvSpPr>
        <p:spPr>
          <a:xfrm>
            <a:off x="395280" y="1557360"/>
            <a:ext cx="8569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老師笑著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「你就試試畫個幾筆，看它最後會變成什麼。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小威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抓起一枝筆，用力在紙上點了一下。然後交給老師。她把紙推到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小葳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面前輕輕地說：「請簽名。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468360" y="4149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小威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想了想，然後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好吧，雖然我不會畫圖，但是我會簽名 。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7"/>
          <p:cNvSpPr/>
          <p:nvPr/>
        </p:nvSpPr>
        <p:spPr>
          <a:xfrm>
            <a:off x="468360" y="1197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過了一個星期，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小威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走進美術教室她大吃ㄧ驚，因為老師的座位上方掛著她畫的小點點，而且還配了一個美麗的金色畫框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468360" y="270828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小威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心裡想「我應該可以畫得更好！」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468360" y="357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於是，她打開從來沒有用過的水彩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開始不停地畫呀！畫呀！畫了好多的點點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468360" y="472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畫著畫著，她發現把紅色加上藍色，可以畫出紫色的點點。於是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小威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不停地實驗，畫出各顏各色的小點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9"/>
          <p:cNvSpPr/>
          <p:nvPr/>
        </p:nvSpPr>
        <p:spPr>
          <a:xfrm>
            <a:off x="179280" y="2276640"/>
            <a:ext cx="89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小威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想：「我既然畫得出小點點，一定也可以畫得出大點點。」於是她用更大的畫筆，在更大的畫紙上揮灑色彩，畫出了許多的大點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395280" y="4292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最後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她還用留白的方式變出一個大點點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" descr="16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3750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8"/>
          <p:cNvSpPr/>
          <p:nvPr/>
        </p:nvSpPr>
        <p:spPr>
          <a:xfrm>
            <a:off x="2050920" y="515772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幾個星期後，學校的畫展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小葳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的點點畫非常轟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200" spc="-1" strike="noStrike">
              <a:solidFill>
                <a:srgbClr val="0000cc"/>
              </a:solidFill>
              <a:latin typeface="Arial"/>
              <a:ea typeface="標楷體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Arial"/>
                <a:ea typeface="新細明體"/>
              </a:rPr>
              <a:t>評量與教學相互影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395280" y="2394000"/>
            <a:ext cx="8497440" cy="4464000"/>
            <a:chOff x="395280" y="2394000"/>
            <a:chExt cx="8497440" cy="4464000"/>
          </a:xfrm>
        </p:grpSpPr>
        <p:sp>
          <p:nvSpPr>
            <p:cNvPr id="226" name="Text Box 5"/>
            <p:cNvSpPr/>
            <p:nvPr/>
          </p:nvSpPr>
          <p:spPr>
            <a:xfrm>
              <a:off x="395280" y="5489640"/>
              <a:ext cx="1888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66"/>
                  </a:solidFill>
                  <a:latin typeface="Arial"/>
                  <a:ea typeface="華康隸書體W7"/>
                </a:rPr>
                <a:t>教師教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6900840" y="2897280"/>
              <a:ext cx="1991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66"/>
                  </a:solidFill>
                  <a:latin typeface="Arial"/>
                  <a:ea typeface="華康隸書體W7"/>
                </a:rPr>
                <a:t>教師評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"/>
            <p:cNvSpPr/>
            <p:nvPr/>
          </p:nvSpPr>
          <p:spPr>
            <a:xfrm flipV="1">
              <a:off x="1864440" y="4582800"/>
              <a:ext cx="1267560" cy="76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8"/>
            <p:cNvSpPr/>
            <p:nvPr/>
          </p:nvSpPr>
          <p:spPr>
            <a:xfrm flipH="1">
              <a:off x="5640840" y="3329280"/>
              <a:ext cx="1188720" cy="64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9" descr="http://www.taoism.org.hk/taoist-beliefs/image/img232.gif"/>
            <p:cNvPicPr/>
            <p:nvPr/>
          </p:nvPicPr>
          <p:blipFill>
            <a:blip r:embed="rId1"/>
            <a:stretch/>
          </p:blipFill>
          <p:spPr>
            <a:xfrm>
              <a:off x="2563200" y="2754360"/>
              <a:ext cx="328752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Line 10"/>
            <p:cNvSpPr/>
            <p:nvPr/>
          </p:nvSpPr>
          <p:spPr>
            <a:xfrm>
              <a:off x="2563200" y="2826000"/>
              <a:ext cx="1703880" cy="87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1024200" y="2394000"/>
              <a:ext cx="14677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66"/>
                  </a:solidFill>
                  <a:latin typeface="Arial"/>
                  <a:ea typeface="華康隸書體W7"/>
                </a:rPr>
                <a:t>教學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66"/>
                  </a:solidFill>
                  <a:latin typeface="Arial"/>
                  <a:ea typeface="華康隸書體W7"/>
                </a:rPr>
                <a:t>有評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6060240" y="5705640"/>
              <a:ext cx="16218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66"/>
                  </a:solidFill>
                  <a:latin typeface="Arial"/>
                  <a:ea typeface="華康隸書體W7"/>
                </a:rPr>
                <a:t>評量中有教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 flipH="1" flipV="1">
              <a:off x="4101480" y="5202360"/>
              <a:ext cx="1819080" cy="10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7"/>
          <p:cNvSpPr/>
          <p:nvPr/>
        </p:nvSpPr>
        <p:spPr>
          <a:xfrm>
            <a:off x="250920" y="141300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在畫展上，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小葳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發現一個小男生抬頭盯著她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他說：「你真是一個偉大的畫家！希望我也會畫圖。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小葳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說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你絕對沒問題！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小男生說：「我？不可能！我連用尺畫直線都不會！ 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49417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小威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笑了笑，然後遞給小男生一張白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畫給我看看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小男生畫線的時候，不停的發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7"/>
          <p:cNvSpPr/>
          <p:nvPr/>
        </p:nvSpPr>
        <p:spPr>
          <a:xfrm>
            <a:off x="539640" y="1413000"/>
            <a:ext cx="633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336600"/>
                </a:solidFill>
                <a:uFillTx/>
                <a:latin typeface="Arial"/>
                <a:ea typeface="標楷體"/>
              </a:rPr>
              <a:t>小威</a:t>
            </a:r>
            <a:r>
              <a:rPr b="1" lang="zh-TW" sz="3200" spc="-1" strike="noStrike">
                <a:solidFill>
                  <a:srgbClr val="336600"/>
                </a:solidFill>
                <a:latin typeface="Arial"/>
                <a:ea typeface="標楷體"/>
              </a:rPr>
              <a:t>仔細瞧著那條歪歪扭扭的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6600"/>
                </a:solidFill>
                <a:latin typeface="Arial"/>
                <a:ea typeface="標楷體"/>
              </a:rPr>
              <a:t>然後說</a:t>
            </a:r>
            <a:r>
              <a:rPr b="1" lang="en-US" sz="3200" spc="-1" strike="noStrike">
                <a:solidFill>
                  <a:srgbClr val="336600"/>
                </a:solidFill>
                <a:latin typeface="標楷體"/>
                <a:ea typeface="標楷體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826920" y="515772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ff"/>
                </a:solidFill>
                <a:latin typeface="超研澤中隸"/>
                <a:ea typeface="超研澤中隸"/>
              </a:rPr>
              <a:t>「請 簽 名！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page--21"/>
          <p:cNvPicPr/>
          <p:nvPr/>
        </p:nvPicPr>
        <p:blipFill>
          <a:blip r:embed="rId1"/>
          <a:stretch/>
        </p:blipFill>
        <p:spPr>
          <a:xfrm>
            <a:off x="2411280" y="2492280"/>
            <a:ext cx="25210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期待以後當我們在評量時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500040" y="25714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a0a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a0aff"/>
                </a:solidFill>
                <a:latin typeface="標楷體"/>
                <a:ea typeface="標楷體"/>
              </a:rPr>
              <a:t>用不同的角度看學生表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a0a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a0aff"/>
                </a:solidFill>
                <a:latin typeface="標楷體"/>
                <a:ea typeface="標楷體"/>
              </a:rPr>
              <a:t>請用耐心等待學生的成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a0a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a0aff"/>
                </a:solidFill>
                <a:latin typeface="標楷體"/>
                <a:ea typeface="標楷體"/>
              </a:rPr>
              <a:t>給孩子各種機會培養信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1" descr="http://www.yejs.cn/Article/UploadFiles/200709/200792682915882.jpg"/>
          <p:cNvPicPr/>
          <p:nvPr/>
        </p:nvPicPr>
        <p:blipFill>
          <a:blip r:embed="rId1"/>
          <a:stretch/>
        </p:blipFill>
        <p:spPr>
          <a:xfrm>
            <a:off x="-181080" y="0"/>
            <a:ext cx="988236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5"/>
          <p:cNvSpPr/>
          <p:nvPr/>
        </p:nvSpPr>
        <p:spPr>
          <a:xfrm>
            <a:off x="0" y="214200"/>
            <a:ext cx="6781680" cy="64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種子的信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雖然我不相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沒有植物的地方會有種子出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但是我對種子懷有大信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若能讓我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你有一粒種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我就期待奇蹟出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---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子利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‧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梭羅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604368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從</a:t>
            </a:r>
            <a:r>
              <a:rPr b="1" lang="zh-TW" sz="3200" spc="-1" strike="noStrike">
                <a:solidFill>
                  <a:srgbClr val="ff3300"/>
                </a:solidFill>
                <a:latin typeface="Arial"/>
                <a:ea typeface="新細明體"/>
              </a:rPr>
              <a:t>故事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看評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故事名稱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：</a:t>
            </a:r>
            <a:r>
              <a:rPr b="0" lang="zh-TW" sz="3200" spc="-1" strike="noStrike">
                <a:solidFill>
                  <a:srgbClr val="ff3300"/>
                </a:solidFill>
                <a:latin typeface="Arial"/>
                <a:ea typeface="標楷體"/>
              </a:rPr>
              <a:t>法國菜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作者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李家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06/10/24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聯合報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571680" y="1000080"/>
            <a:ext cx="8030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老師是我的國中數學老師，很少數學老師能受全班同學的愛戴的，大多數班上總有幾位同學對數學有恐懼症，考試時經常交回白卷，但是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老師是個例外，她教我們數學長達三年之久，在這個期間內，每個同學都不怕數學，我們的數學當然有好有壞，但是沒有人害怕數學。在我這一輩子中，就只有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老師有這個本領。說實在話，我一直好奇，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姜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老師的祕訣在哪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23:58:46Z</dcterms:created>
  <dc:creator>k</dc:creator>
  <dc:description/>
  <dc:language>en-US</dc:language>
  <cp:lastModifiedBy>TIGER-XP</cp:lastModifiedBy>
  <dcterms:modified xsi:type="dcterms:W3CDTF">2011-10-26T03:57:11Z</dcterms:modified>
  <cp:revision>197</cp:revision>
  <dc:subject/>
  <dc:title>PowerPoint Template</dc:title>
</cp:coreProperties>
</file>