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F60E-B568-4CC6-A7CE-4F81E1B9CED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7A8B-3CDC-44AC-A20E-7C277EB6423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8487-AF22-48EB-85B5-2AD89C6FC38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13F9-C833-410C-BDAE-BD7565C7CAF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64BE-6FAB-4F49-96DC-A76704F99E2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097D-E714-453E-9A67-BE51944A55F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D515-5DEA-4871-BA5A-E8A55C72B11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A308-6550-4481-9D55-CC74697C73E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5C6-48DE-41CA-ADA6-050301AE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88360"/>
            <a:ext cx="777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852-AFD1-418D-A8D8-C13E487A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88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888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EED-D9A5-4D5A-8E89-66004E3B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57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57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88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888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888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6E6-ABA5-4430-AE7C-068AEAE3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2DE7-341D-4F78-8E7F-FC2EF58F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A890-F5C2-4880-BED3-929D5F27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380C-A99B-4B81-BDFE-EA58A359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95B4-2871-45DE-822D-BFA75ED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46D5-D5F2-4C77-B5D1-8A456BD5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ABC1-2EE6-43E7-9918-5B6874D8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88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7B8B-590B-4EF0-8D79-8604549E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73E-8BE5-4834-AE96-01B26A17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88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BB54-AC71-4906-8D52-5182D1C3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88360"/>
            <a:ext cx="777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A094-111A-4692-9651-33FBF0C8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88360"/>
            <a:ext cx="777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8F42-FDFF-43E8-B3A0-79979FE9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88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88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18CB-DA85-4D0E-80BF-2743046E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557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557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88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88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88360"/>
            <a:ext cx="25023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A6FD-F2CD-4881-8593-C9FBE6FA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668-37F5-4603-B1A1-20FBF9E9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D14-82A3-4155-A8A4-3E108302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68F-A6A8-46FE-BFFE-39A0507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CF7-A6A9-486A-9838-E4124B1D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88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E29-51B7-4230-9211-00E92B4D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888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29F-7A8A-40B6-B416-AF36A692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57360"/>
            <a:ext cx="37926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88360"/>
            <a:ext cx="777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272-ED3F-4E7F-8E97-F355B6A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ADD7-3B83-47AB-826B-870C93C31D0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D0D1-7A6A-4D48-8987-D3B5D5BEBD7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4686480"/>
            <a:ext cx="7062840" cy="110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雲林縣綜合活動領域輔導團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棋山國小 章文欽主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49016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綜合活動領域課程規劃與發展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實例分享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溫故知新</a:t>
            </a:r>
            <a:r>
              <a:rPr b="0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~</a:t>
            </a: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線上課程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課程規劃歷程與具體作法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1557360"/>
            <a:ext cx="165744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課發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356000" y="171288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484360" y="1569960"/>
            <a:ext cx="187344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領域會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2197080" y="171288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714920" y="1569960"/>
            <a:ext cx="187308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進行規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946920" y="1557360"/>
            <a:ext cx="165744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課發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6589800" y="171288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395280" y="2362320"/>
            <a:ext cx="1800360" cy="44956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99"/>
                </a:solidFill>
                <a:uFillTx/>
                <a:latin typeface="Calibri"/>
                <a:ea typeface="標楷體"/>
              </a:rPr>
              <a:t>任務交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掌握</a:t>
            </a:r>
            <a:r>
              <a:rPr b="0" lang="zh-TW" sz="2400" spc="-1" strike="noStrike">
                <a:solidFill>
                  <a:srgbClr val="ff3300"/>
                </a:solidFill>
                <a:latin typeface="Calibri"/>
                <a:ea typeface="標楷體"/>
              </a:rPr>
              <a:t>學校願景發展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、學習節數、提出綜合活動領域需配合的</a:t>
            </a:r>
            <a:r>
              <a:rPr b="0" lang="zh-TW" sz="2400" spc="-1" strike="noStrike">
                <a:solidFill>
                  <a:srgbClr val="ff3300"/>
                </a:solidFill>
                <a:latin typeface="Calibri"/>
                <a:ea typeface="標楷體"/>
              </a:rPr>
              <a:t>議題、學校行事、主題教學</a:t>
            </a:r>
            <a:r>
              <a:rPr b="0" lang="zh-TW" sz="2400" spc="-1" strike="noStrike">
                <a:solidFill>
                  <a:srgbClr val="9b2d1f"/>
                </a:solidFill>
                <a:latin typeface="Calibri"/>
                <a:ea typeface="標楷體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340000" y="2362320"/>
            <a:ext cx="2089080" cy="44956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99"/>
                </a:solidFill>
                <a:uFillTx/>
                <a:latin typeface="Calibri"/>
                <a:ea typeface="標楷體"/>
              </a:rPr>
              <a:t>任務討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針對課發會交付需配合項目進行討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找到適當的</a:t>
            </a:r>
            <a:r>
              <a:rPr b="0" lang="zh-TW" sz="2400" spc="-1" strike="noStrike">
                <a:solidFill>
                  <a:srgbClr val="ff3300"/>
                </a:solidFill>
                <a:latin typeface="Calibri"/>
                <a:ea typeface="標楷體"/>
              </a:rPr>
              <a:t>能力指標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教學目標或</a:t>
            </a:r>
            <a:r>
              <a:rPr b="0" lang="zh-TW" sz="2400" spc="-1" strike="noStrike">
                <a:solidFill>
                  <a:srgbClr val="ff3300"/>
                </a:solidFill>
                <a:latin typeface="Calibri"/>
                <a:ea typeface="標楷體"/>
              </a:rPr>
              <a:t>單元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，及決定教材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教科書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572000" y="2362320"/>
            <a:ext cx="2160720" cy="44956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99"/>
                </a:solidFill>
                <a:uFillTx/>
                <a:latin typeface="Calibri"/>
                <a:ea typeface="標楷體"/>
              </a:rPr>
              <a:t>進行規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3300"/>
                </a:solidFill>
                <a:uFillTx/>
                <a:latin typeface="Calibri"/>
                <a:ea typeface="標楷體"/>
              </a:rPr>
              <a:t>編寫課程計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使用教科書者，檢視教科書是否符合學校需求，有沒有要換的單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自編的學校留意是否兼顧各能力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877080" y="2349360"/>
            <a:ext cx="1798560" cy="45086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99"/>
                </a:solidFill>
                <a:uFillTx/>
                <a:latin typeface="Calibri"/>
                <a:ea typeface="標楷體"/>
              </a:rPr>
              <a:t>通過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標楷體"/>
              </a:rPr>
              <a:t>1.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檢視綜合活動領域小組提出之課程規劃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計畫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是否恰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99"/>
                </a:solidFill>
                <a:latin typeface="Calibri"/>
                <a:ea typeface="標楷體"/>
              </a:rPr>
              <a:t>期末進行課程評鑑，修正課程計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溫故知新</a:t>
            </a:r>
            <a:r>
              <a:rPr b="0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~</a:t>
            </a: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線上課程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課程評鑑的意義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有系統的蒐集及分析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課程發展的</a:t>
            </a:r>
            <a:r>
              <a:rPr b="1" lang="zh-TW" sz="30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過程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與</a:t>
            </a:r>
            <a:r>
              <a:rPr b="1" lang="zh-TW" sz="30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結果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現行課程</a:t>
            </a:r>
            <a:r>
              <a:rPr b="1" lang="zh-TW" sz="30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實施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的相關資料</a:t>
            </a:r>
            <a:r>
              <a:rPr b="0" lang="zh-TW" sz="3000" spc="-1" strike="noStrike">
                <a:solidFill>
                  <a:srgbClr val="96a9a9"/>
                </a:solidFill>
                <a:latin typeface="標楷體"/>
                <a:ea typeface="標楷體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並據之以評斷課程發展過程、結果，或現存課程的優劣的一種歷程。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目的在於提高課程決定以及課程內容的</a:t>
            </a:r>
            <a:r>
              <a:rPr b="1" lang="zh-TW" sz="30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合理性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與</a:t>
            </a:r>
            <a:r>
              <a:rPr b="1" lang="zh-TW" sz="30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適切性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溫故知新</a:t>
            </a:r>
            <a:r>
              <a:rPr b="0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~</a:t>
            </a: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線上課程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評鑑目的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主要目的：透過</a:t>
            </a:r>
            <a:r>
              <a:rPr b="0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評鑑規準建構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，思考學校層級課程發展過程及相關機制的的</a:t>
            </a:r>
            <a:r>
              <a:rPr b="0" lang="zh-TW" sz="2600" spc="-1" strike="noStrike">
                <a:solidFill>
                  <a:srgbClr val="696464"/>
                </a:solidFill>
                <a:latin typeface="標楷體"/>
                <a:ea typeface="標楷體"/>
              </a:rPr>
              <a:t>影響因素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、支援系統或問題，以求自我改進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次要目的：引導進行</a:t>
            </a:r>
            <a:r>
              <a:rPr b="0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校務省思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，促進專業成長，增益課程的發展與實施成效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54" name="WordArt 4"/>
          <p:cNvGrpSpPr/>
          <p:nvPr/>
        </p:nvGrpSpPr>
        <p:grpSpPr>
          <a:xfrm>
            <a:off x="1755720" y="4932360"/>
            <a:ext cx="5638680" cy="1297080"/>
            <a:chOff x="1755720" y="4932360"/>
            <a:chExt cx="5638680" cy="1297080"/>
          </a:xfrm>
        </p:grpSpPr>
        <p:pic>
          <p:nvPicPr>
            <p:cNvPr id="155" name="WordArt 4" descr=""/>
            <p:cNvPicPr/>
            <p:nvPr/>
          </p:nvPicPr>
          <p:blipFill>
            <a:blip r:embed="rId1"/>
            <a:stretch/>
          </p:blipFill>
          <p:spPr>
            <a:xfrm>
              <a:off x="1755720" y="4932360"/>
              <a:ext cx="56386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908000" y="5084640"/>
              <a:ext cx="5334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目的在於改善，不在證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複習過線上課程，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們馬上試試看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校的課程可以怎麼規劃吧！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4076640"/>
            <a:ext cx="4970520" cy="2205000"/>
          </a:xfrm>
          <a:prstGeom prst="cloudCallout">
            <a:avLst>
              <a:gd name="adj1" fmla="val -52620"/>
              <a:gd name="adj2" fmla="val 421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下面說明有點複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大家要注意聽，小心看喔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我也可以做做看－分組實作、</a:t>
            </a:r>
            <a:br>
              <a:rPr sz="3200"/>
            </a:b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	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	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	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	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拼拼看貼貼看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7559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每組選用一個版本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檢視教科書內的單元是否可用，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如果可用，直接使用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如果沒有合適的，再自編或修改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995640" y="3933720"/>
            <a:ext cx="5545080" cy="2924280"/>
          </a:xfrm>
          <a:prstGeom prst="cloudCallout">
            <a:avLst>
              <a:gd name="adj1" fmla="val -41986"/>
              <a:gd name="adj2" fmla="val 44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．不是每條能力指標在每個學期都需要上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．每條能力指標安排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8~14</a:t>
            </a: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節課較合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43280" y="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5050"/>
                </a:solidFill>
                <a:latin typeface="新細明體"/>
              </a:rPr>
              <a:t>綜合活動領域教師關鍵能力</a:t>
            </a:r>
            <a:r>
              <a:rPr b="0" lang="en-US" sz="1800" spc="-1" strike="noStrike">
                <a:solidFill>
                  <a:srgbClr val="ff5050"/>
                </a:solidFill>
                <a:latin typeface="新細明體"/>
              </a:rPr>
              <a:t>36</a:t>
            </a:r>
            <a:r>
              <a:rPr b="0" lang="zh-TW" sz="1800" spc="-1" strike="noStrike">
                <a:solidFill>
                  <a:srgbClr val="ff5050"/>
                </a:solidFill>
                <a:latin typeface="新細明體"/>
              </a:rPr>
              <a:t>小時研習</a:t>
            </a:r>
            <a:r>
              <a:rPr b="0" lang="en-US" sz="1800" spc="-1" strike="noStrike">
                <a:solidFill>
                  <a:srgbClr val="ff5050"/>
                </a:solidFill>
                <a:latin typeface="新細明體"/>
              </a:rPr>
              <a:t>-</a:t>
            </a:r>
            <a:r>
              <a:rPr b="0" lang="zh-TW" sz="1800" spc="-1" strike="noStrike">
                <a:solidFill>
                  <a:srgbClr val="ff5050"/>
                </a:solidFill>
                <a:latin typeface="新細明體"/>
              </a:rPr>
              <a:t>課程規劃與發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c9900"/>
                </a:solidFill>
                <a:latin typeface="Franklin Gothic Book"/>
                <a:ea typeface="標楷體"/>
              </a:rPr>
              <a:t>小小提醒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基本觀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選用教科書是好的作法，但教科書還有可以修正和補強的空間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用教科書，而以自編方式進行教學，一定要進行整體的檢視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實作中注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否有哪條能力指標被遺漏，在我們規劃的課程中是否對哪條能力指標有所偏好或偏廢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選用教科書、部份修改補強的方式進行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ff"/>
                </a:solidFill>
                <a:latin typeface="Franklin Gothic Book"/>
                <a:ea typeface="標楷體"/>
              </a:rPr>
              <a:t>找找看</a:t>
            </a:r>
            <a:br>
              <a:rPr sz="2800"/>
            </a:br>
            <a:r>
              <a:rPr b="1" lang="zh-TW" sz="2800" spc="-1" strike="noStrike">
                <a:solidFill>
                  <a:srgbClr val="9900ff"/>
                </a:solidFill>
                <a:latin typeface="Franklin Gothic Book"/>
                <a:ea typeface="標楷體"/>
              </a:rPr>
              <a:t>建議一年級與二年級實施的能力指標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課綱建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自我發展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1-1-1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1-1-3 (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一年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生活經營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2-1-1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2-1-2(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一年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社會參與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3-1-1(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一年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3-1-2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3-1-4(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二年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保護自我與環境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4-1-1 (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一年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4-1-4(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二年級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標楷體"/>
                <a:ea typeface="標楷體"/>
              </a:rPr>
              <a:t>1.</a:t>
            </a:r>
            <a:r>
              <a:rPr b="1" lang="zh-TW" sz="3400" spc="-1" strike="noStrike">
                <a:solidFill>
                  <a:srgbClr val="000099"/>
                </a:solidFill>
                <a:latin typeface="標楷體"/>
                <a:ea typeface="標楷體"/>
              </a:rPr>
              <a:t>課發會模擬</a:t>
            </a:r>
            <a:r>
              <a:rPr b="1" lang="zh-TW" sz="2700" spc="-1" strike="noStrike">
                <a:solidFill>
                  <a:srgbClr val="000099"/>
                </a:solidFill>
                <a:latin typeface="標楷體"/>
                <a:ea typeface="標楷體"/>
              </a:rPr>
              <a:t>　              　（</a:t>
            </a:r>
            <a:r>
              <a:rPr b="1" lang="en-US" sz="2700" spc="-1" strike="noStrike">
                <a:solidFill>
                  <a:srgbClr val="000099"/>
                </a:solidFill>
                <a:latin typeface="標楷體"/>
                <a:ea typeface="標楷體"/>
              </a:rPr>
              <a:t>20</a:t>
            </a:r>
            <a:r>
              <a:rPr b="1" lang="zh-TW" sz="2700" spc="-1" strike="noStrike">
                <a:solidFill>
                  <a:srgbClr val="000099"/>
                </a:solidFill>
                <a:latin typeface="標楷體"/>
                <a:ea typeface="標楷體"/>
              </a:rPr>
              <a:t>分鐘）</a:t>
            </a:r>
            <a:endParaRPr b="0" lang="en-US" sz="27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77724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各組抽籤決定每個小組成員在課發會中扮演的角色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各人以自己所扮演的角色思考進行思考及討論，提出給領域小組的建議及希望綜合活動課程配合的部份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將決議加入綜合活動的主題活動或議題寫在便利貼上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尋找能配合的能力指標，將便利貼貼在「學校行事」欄內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"/>
          <p:cNvSpPr/>
          <p:nvPr/>
        </p:nvSpPr>
        <p:spPr>
          <a:xfrm>
            <a:off x="3311640" y="5516640"/>
            <a:ext cx="5832360" cy="1008000"/>
          </a:xfrm>
          <a:prstGeom prst="cloudCallout">
            <a:avLst>
              <a:gd name="adj1" fmla="val 40555"/>
              <a:gd name="adj2" fmla="val 646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課程規劃是誰的業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5950080"/>
            <a:ext cx="1944720" cy="71748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家庭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661000"/>
            <a:ext cx="1944720" cy="717480"/>
          </a:xfrm>
          <a:prstGeom prst="rect">
            <a:avLst/>
          </a:prstGeom>
          <a:solidFill>
            <a:srgbClr val="ff99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議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行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5520" y="500040"/>
            <a:ext cx="74674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標楷體"/>
                <a:ea typeface="標楷體"/>
              </a:rPr>
              <a:t>1.</a:t>
            </a:r>
            <a:r>
              <a:rPr b="1" lang="zh-TW" sz="3400" spc="-1" strike="noStrike">
                <a:solidFill>
                  <a:srgbClr val="000099"/>
                </a:solidFill>
                <a:latin typeface="標楷體"/>
                <a:ea typeface="標楷體"/>
              </a:rPr>
              <a:t>課發會模擬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00000" y="1413000"/>
            <a:ext cx="7632360" cy="4997160"/>
            <a:chOff x="900000" y="1413000"/>
            <a:chExt cx="7632360" cy="49971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061280" y="1413000"/>
              <a:ext cx="7471080" cy="49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900000" y="3028680"/>
              <a:ext cx="5218920" cy="105984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標楷體"/>
                <a:ea typeface="標楷體"/>
              </a:rPr>
              <a:t>2.</a:t>
            </a:r>
            <a:r>
              <a:rPr b="1" lang="zh-TW" sz="3400" spc="-1" strike="noStrike">
                <a:solidFill>
                  <a:srgbClr val="000099"/>
                </a:solidFill>
                <a:latin typeface="標楷體"/>
                <a:ea typeface="標楷體"/>
              </a:rPr>
              <a:t>分小組進行課程規劃</a:t>
            </a:r>
            <a:r>
              <a:rPr b="1" lang="zh-TW" sz="23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    （</a:t>
            </a:r>
            <a:r>
              <a:rPr b="1" lang="en-US" sz="2300" spc="-1" strike="noStrike">
                <a:solidFill>
                  <a:srgbClr val="000099"/>
                </a:solidFill>
                <a:latin typeface="標楷體"/>
                <a:ea typeface="標楷體"/>
              </a:rPr>
              <a:t>20</a:t>
            </a:r>
            <a:r>
              <a:rPr b="1" lang="zh-TW" sz="2300" spc="-1" strike="noStrike">
                <a:solidFill>
                  <a:srgbClr val="000099"/>
                </a:solidFill>
                <a:latin typeface="標楷體"/>
                <a:ea typeface="標楷體"/>
              </a:rPr>
              <a:t>分鐘）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59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每組分四小組，每小組負責一主題軸的能力指標（每組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標楷體"/>
              </a:rPr>
              <a:t>3~4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條）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檢視教科書內的單元是否合用，如果合用，直接抄在便利貼上貼在能力指標檢核表裡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4508640"/>
            <a:ext cx="4970520" cy="2205000"/>
          </a:xfrm>
          <a:prstGeom prst="cloudCallout">
            <a:avLst>
              <a:gd name="adj1" fmla="val -52620"/>
              <a:gd name="adj2" fmla="val 421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想想看，每條能力指標在每個學期都有必要出現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5445000"/>
            <a:ext cx="2808360" cy="719280"/>
          </a:xfrm>
          <a:prstGeom prst="rect">
            <a:avLst/>
          </a:prstGeom>
          <a:solidFill>
            <a:srgbClr val="d34817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整潔與我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4797360"/>
            <a:ext cx="2808000" cy="719280"/>
          </a:xfrm>
          <a:prstGeom prst="rect">
            <a:avLst/>
          </a:prstGeom>
          <a:solidFill>
            <a:srgbClr val="d34817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單元名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節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進行綜合活動領域課程規劃的幾個問題</a:t>
            </a:r>
            <a:br>
              <a:rPr sz="3600"/>
            </a:br>
            <a:r>
              <a:rPr b="1" lang="en-US" sz="2300" spc="-1" strike="noStrike">
                <a:solidFill>
                  <a:srgbClr val="000099"/>
                </a:solidFill>
                <a:latin typeface="標楷體"/>
                <a:ea typeface="標楷體"/>
              </a:rPr>
              <a:t>PART 1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6720" y="1441080"/>
            <a:ext cx="792036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標楷體"/>
                <a:ea typeface="標楷體"/>
              </a:rPr>
              <a:t>課程 </a:t>
            </a:r>
            <a:r>
              <a:rPr b="1" lang="en-US" sz="2800" spc="-1" strike="noStrike">
                <a:solidFill>
                  <a:srgbClr val="006600"/>
                </a:solidFill>
                <a:latin typeface="標楷體"/>
                <a:ea typeface="標楷體"/>
              </a:rPr>
              <a:t>○○ </a:t>
            </a:r>
            <a:r>
              <a:rPr b="1" lang="zh-TW" sz="2800" spc="-1" strike="noStrike">
                <a:solidFill>
                  <a:srgbClr val="006600"/>
                </a:solidFill>
                <a:latin typeface="標楷體"/>
                <a:ea typeface="標楷體"/>
              </a:rPr>
              <a:t>╳ ╳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我清楚我們學校的綜合活動領域課程是怎麼規劃的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我清楚我們學校的綜合活動領域課程內容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我對我們學校的綜合活動領域課程感到滿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我覺得我們學校的綜合活動領域課程還有調整的空間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關於我們學校的綜合活動課程，我可以說出兩個以上需要調整的地方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268280"/>
            <a:ext cx="3311280" cy="6494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標楷體"/>
                <a:ea typeface="標楷體"/>
              </a:rPr>
              <a:t>2.</a:t>
            </a:r>
            <a:r>
              <a:rPr b="1" lang="zh-TW" sz="3800" spc="-1" strike="noStrike">
                <a:solidFill>
                  <a:srgbClr val="000099"/>
                </a:solidFill>
                <a:latin typeface="標楷體"/>
                <a:ea typeface="標楷體"/>
              </a:rPr>
              <a:t>分小組進行課程規劃</a:t>
            </a:r>
            <a:endParaRPr b="0" lang="en-US" sz="38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71640" y="1557360"/>
          <a:ext cx="7359480" cy="1685880"/>
        </p:xfrm>
        <a:graphic>
          <a:graphicData uri="http://schemas.openxmlformats.org/drawingml/2006/table">
            <a:tbl>
              <a:tblPr/>
              <a:tblGrid>
                <a:gridCol w="1162080"/>
                <a:gridCol w="2592360"/>
                <a:gridCol w="1439640"/>
                <a:gridCol w="216540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1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年級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1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單元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1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節數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1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能力指標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一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1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二、整潔與我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-1-3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-1-1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4" name=""/>
          <p:cNvGrpSpPr/>
          <p:nvPr/>
        </p:nvGrpSpPr>
        <p:grpSpPr>
          <a:xfrm>
            <a:off x="515880" y="3645000"/>
            <a:ext cx="2822760" cy="1942920"/>
            <a:chOff x="515880" y="3645000"/>
            <a:chExt cx="2822760" cy="1942920"/>
          </a:xfrm>
        </p:grpSpPr>
        <p:sp>
          <p:nvSpPr>
            <p:cNvPr id="185" name=""/>
            <p:cNvSpPr/>
            <p:nvPr/>
          </p:nvSpPr>
          <p:spPr>
            <a:xfrm>
              <a:off x="515880" y="3645000"/>
              <a:ext cx="2808360" cy="71892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</a:rPr>
                <a:t>整潔與我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0280" y="4869000"/>
              <a:ext cx="2808360" cy="718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</a:rPr>
                <a:t>整潔與我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635280" y="3284640"/>
            <a:ext cx="4200480" cy="3151080"/>
            <a:chOff x="3635280" y="3284640"/>
            <a:chExt cx="4200480" cy="315108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3635280" y="3284640"/>
              <a:ext cx="420048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635280" y="3789360"/>
              <a:ext cx="4176720" cy="792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5280" y="5084640"/>
              <a:ext cx="4176720" cy="792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867280" y="0"/>
            <a:ext cx="3276720" cy="1628640"/>
          </a:xfrm>
          <a:prstGeom prst="cloudCallout">
            <a:avLst>
              <a:gd name="adj1" fmla="val 23643"/>
              <a:gd name="adj2" fmla="val 552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節數記得「分攤」才不會超過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777080" cy="5832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24360" y="1197000"/>
            <a:ext cx="3816360" cy="30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24360" y="4292640"/>
            <a:ext cx="3887640" cy="1873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標楷體"/>
                <a:ea typeface="標楷體"/>
              </a:rPr>
              <a:t>3.</a:t>
            </a:r>
            <a:r>
              <a:rPr b="1" lang="zh-TW" sz="3400" spc="-1" strike="noStrike">
                <a:solidFill>
                  <a:srgbClr val="000099"/>
                </a:solidFill>
                <a:latin typeface="標楷體"/>
                <a:ea typeface="標楷體"/>
              </a:rPr>
              <a:t>檢視規劃情形與節數</a:t>
            </a:r>
            <a:r>
              <a:rPr b="1" lang="zh-TW" sz="2400" spc="-1" strike="noStrike">
                <a:solidFill>
                  <a:srgbClr val="000099"/>
                </a:solidFill>
                <a:latin typeface="標楷體"/>
                <a:ea typeface="標楷體"/>
              </a:rPr>
              <a:t>　      （</a:t>
            </a:r>
            <a:r>
              <a:rPr b="1" lang="en-US" sz="2400" spc="-1" strike="noStrike">
                <a:solidFill>
                  <a:srgbClr val="000099"/>
                </a:solidFill>
                <a:latin typeface="標楷體"/>
                <a:ea typeface="標楷體"/>
              </a:rPr>
              <a:t>30</a:t>
            </a:r>
            <a:r>
              <a:rPr b="1" lang="zh-TW" sz="2400" spc="-1" strike="noStrike">
                <a:solidFill>
                  <a:srgbClr val="000099"/>
                </a:solidFill>
                <a:latin typeface="標楷體"/>
                <a:ea typeface="標楷體"/>
              </a:rPr>
              <a:t>分鐘）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59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將四小組規劃內容整合為同一份，檢視每學期節數是否合理（</a:t>
            </a:r>
            <a:r>
              <a:rPr b="1" lang="zh-TW" sz="2800" spc="-1" strike="noStrike">
                <a:solidFill>
                  <a:srgbClr val="ff6600"/>
                </a:solidFill>
                <a:latin typeface="Perpetua"/>
                <a:ea typeface="標楷體"/>
              </a:rPr>
              <a:t>根據課綱規定，每學期</a:t>
            </a:r>
            <a:r>
              <a:rPr b="1" lang="en-US" sz="2800" spc="-1" strike="noStrike">
                <a:solidFill>
                  <a:srgbClr val="ff6600"/>
                </a:solidFill>
                <a:latin typeface="Perpetua"/>
                <a:ea typeface="標楷體"/>
              </a:rPr>
              <a:t>20</a:t>
            </a:r>
            <a:r>
              <a:rPr b="1" lang="zh-TW" sz="2800" spc="-1" strike="noStrike">
                <a:solidFill>
                  <a:srgbClr val="ff6600"/>
                </a:solidFill>
                <a:latin typeface="Perpetua"/>
                <a:ea typeface="標楷體"/>
              </a:rPr>
              <a:t>週，一般學校安排低年級每週</a:t>
            </a:r>
            <a:r>
              <a:rPr b="1" lang="en-US" sz="2800" spc="-1" strike="noStrike">
                <a:solidFill>
                  <a:srgbClr val="ff6600"/>
                </a:solidFill>
                <a:latin typeface="Perpetua"/>
                <a:ea typeface="標楷體"/>
              </a:rPr>
              <a:t>2</a:t>
            </a:r>
            <a:r>
              <a:rPr b="1" lang="zh-TW" sz="2800" spc="-1" strike="noStrike">
                <a:solidFill>
                  <a:srgbClr val="ff6600"/>
                </a:solidFill>
                <a:latin typeface="Perpetua"/>
                <a:ea typeface="標楷體"/>
              </a:rPr>
              <a:t>節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檢視各能力指標佔用節數，討論這樣的分配是否合理。是不是有些能力指標使用的節數特別少或特別多？為什麼有這樣的情形？這樣的安排合理嗎？為什麼？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"/>
          <p:cNvSpPr/>
          <p:nvPr/>
        </p:nvSpPr>
        <p:spPr>
          <a:xfrm>
            <a:off x="2735280" y="4653000"/>
            <a:ext cx="6408720" cy="2016000"/>
          </a:xfrm>
          <a:prstGeom prst="cloudCallout">
            <a:avLst>
              <a:gd name="adj1" fmla="val -44300"/>
              <a:gd name="adj2" fmla="val 455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注意綜合活動「從容」的原則 ，大家可以把節數安排得寬鬆一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完成品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4753080" cy="6337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076720" y="981000"/>
            <a:ext cx="4427640" cy="2952720"/>
          </a:xfrm>
          <a:prstGeom prst="cloudCallout">
            <a:avLst>
              <a:gd name="adj1" fmla="val -43976"/>
              <a:gd name="adj2" fmla="val -532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計算各能力指標佔用的節數，討論看看，為什麼有多有少？這樣的設計合理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4221000"/>
            <a:ext cx="2987640" cy="2016360"/>
          </a:xfrm>
          <a:prstGeom prst="cloudCallout">
            <a:avLst>
              <a:gd name="adj1" fmla="val -68171"/>
              <a:gd name="adj2" fmla="val 414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計算各學期選用教科書的節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4753080" cy="6337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84720" y="1413000"/>
            <a:ext cx="4572000" cy="3024000"/>
          </a:xfrm>
          <a:prstGeom prst="cloudCallout">
            <a:avLst>
              <a:gd name="adj1" fmla="val -71111"/>
              <a:gd name="adj2" fmla="val -37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再重新考慮議題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.</a:t>
            </a: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特色與學校行事是不是需要更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配合不同的能力指標設計教學單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7640" y="4221000"/>
            <a:ext cx="3203640" cy="2376720"/>
          </a:xfrm>
          <a:prstGeom prst="cloudCallout">
            <a:avLst>
              <a:gd name="adj1" fmla="val -69722"/>
              <a:gd name="adj2" fmla="val 514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這些新單元的節數要放在「自編」那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99"/>
                </a:solidFill>
                <a:latin typeface="標楷體"/>
                <a:ea typeface="標楷體"/>
              </a:rPr>
              <a:t>各組分享規劃成果</a:t>
            </a:r>
            <a:r>
              <a:rPr b="1" lang="zh-TW" sz="27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   　（</a:t>
            </a:r>
            <a:r>
              <a:rPr b="1" lang="en-US" sz="2700" spc="-1" strike="noStrike">
                <a:solidFill>
                  <a:srgbClr val="000099"/>
                </a:solidFill>
                <a:latin typeface="標楷體"/>
                <a:ea typeface="標楷體"/>
              </a:rPr>
              <a:t>30</a:t>
            </a:r>
            <a:r>
              <a:rPr b="1" lang="zh-TW" sz="2700" spc="-1" strike="noStrike">
                <a:solidFill>
                  <a:srgbClr val="000099"/>
                </a:solidFill>
                <a:latin typeface="標楷體"/>
                <a:ea typeface="標楷體"/>
              </a:rPr>
              <a:t>分鐘）</a:t>
            </a:r>
            <a:endParaRPr b="0" lang="en-US" sz="27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59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各組展示並簡述課程規劃成果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  <a:ea typeface="標楷體"/>
              </a:rPr>
              <a:t>各組簡單呈現規劃中值得與大家分享的討論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141720"/>
            <a:ext cx="6048360" cy="2590920"/>
          </a:xfrm>
          <a:prstGeom prst="cloudCallout">
            <a:avLst>
              <a:gd name="adj1" fmla="val 47402"/>
              <a:gd name="adj2" fmla="val 594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各組規劃的課程類似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華康娃娃體"/>
              </a:rPr>
              <a:t>還是很不一樣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600" spc="-1" strike="noStrike">
              <a:solidFill>
                <a:srgbClr val="000099"/>
              </a:solidFill>
              <a:latin typeface="標楷體"/>
              <a:ea typeface="標楷體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14400" y="1557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10680" indent="-310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742217"/>
                </a:solidFill>
                <a:latin typeface="標楷體"/>
                <a:ea typeface="標楷體"/>
              </a:rPr>
              <a:t>課程規劃是教師專業自主之表現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10680" indent="-310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742217"/>
                </a:solidFill>
                <a:latin typeface="標楷體"/>
                <a:ea typeface="標楷體"/>
              </a:rPr>
              <a:t>透過課程評鑑與發展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310680" indent="-3106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742217"/>
                </a:solidFill>
                <a:latin typeface="標楷體"/>
                <a:ea typeface="標楷體"/>
              </a:rPr>
              <a:t>能確保課程品質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4148280"/>
            <a:ext cx="8064360" cy="1657080"/>
          </a:xfrm>
          <a:prstGeom prst="wedgeRoundRectCallout">
            <a:avLst>
              <a:gd name="adj1" fmla="val 14212"/>
              <a:gd name="adj2" fmla="val 54212"/>
              <a:gd name="adj3" fmla="val 16667"/>
            </a:avLst>
          </a:prstGeom>
          <a:solidFill>
            <a:srgbClr val="ffff99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b2d1f"/>
                </a:solidFill>
                <a:latin typeface="Arial"/>
                <a:ea typeface="標楷體"/>
              </a:rPr>
              <a:t>綜合活動學習領域課程規劃的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b2d1f"/>
                </a:solidFill>
                <a:latin typeface="Arial"/>
                <a:ea typeface="標楷體"/>
              </a:rPr>
              <a:t>完整而全面的達成「培養學生生活實踐能力」的目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進行綜合活動領域課程規劃的幾個問題</a:t>
            </a:r>
            <a:br>
              <a:rPr sz="3600"/>
            </a:br>
            <a:r>
              <a:rPr b="1" lang="en-US" sz="2400" spc="-1" strike="noStrike">
                <a:solidFill>
                  <a:srgbClr val="000099"/>
                </a:solidFill>
                <a:latin typeface="標楷體"/>
                <a:ea typeface="標楷體"/>
              </a:rPr>
              <a:t>PART 2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55640" y="1298520"/>
            <a:ext cx="75722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標楷體"/>
                <a:ea typeface="標楷體"/>
              </a:rPr>
              <a:t>課程規劃 </a:t>
            </a:r>
            <a:r>
              <a:rPr b="1" lang="en-US" sz="2800" spc="-1" strike="noStrike">
                <a:solidFill>
                  <a:srgbClr val="006600"/>
                </a:solidFill>
                <a:latin typeface="標楷體"/>
                <a:ea typeface="標楷體"/>
              </a:rPr>
              <a:t>○○ </a:t>
            </a:r>
            <a:r>
              <a:rPr b="1" lang="zh-TW" sz="2800" spc="-1" strike="noStrike">
                <a:solidFill>
                  <a:srgbClr val="006600"/>
                </a:solidFill>
                <a:latin typeface="標楷體"/>
                <a:ea typeface="標楷體"/>
              </a:rPr>
              <a:t>╳ ╳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我知道「課程」是什麼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我知道「課程規劃」是怎麼一回事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課程規劃是一種歷程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課程規劃是一種結果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學校課程是可以修改的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學校課程是不可以修改的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課程規劃應該是行政人員的工作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課程規劃是每個老師都可以，也應該參與的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"/>
          <p:cNvSpPr/>
          <p:nvPr/>
        </p:nvSpPr>
        <p:spPr>
          <a:xfrm>
            <a:off x="811080" y="1125360"/>
            <a:ext cx="3673440" cy="6494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綜合活動領域課程規劃與發展</a:t>
            </a: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1916280"/>
          <a:ext cx="8496000" cy="3457440"/>
        </p:xfrm>
        <a:graphic>
          <a:graphicData uri="http://schemas.openxmlformats.org/drawingml/2006/table">
            <a:tbl>
              <a:tblPr/>
              <a:tblGrid>
                <a:gridCol w="4176720"/>
                <a:gridCol w="4319280"/>
              </a:tblGrid>
              <a:tr h="12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9900"/>
                          </a:solidFill>
                          <a:latin typeface="Perpetua"/>
                          <a:ea typeface="標楷體"/>
                        </a:rPr>
                        <a:t>[</a:t>
                      </a:r>
                      <a:r>
                        <a:rPr b="0" lang="zh-TW" sz="2400" spc="-1" strike="noStrike">
                          <a:solidFill>
                            <a:srgbClr val="669900"/>
                          </a:solidFill>
                          <a:latin typeface="Perpetua"/>
                          <a:ea typeface="標楷體"/>
                        </a:rPr>
                        <a:t>線上課程</a:t>
                      </a:r>
                      <a:r>
                        <a:rPr b="0" lang="en-US" sz="2400" spc="-1" strike="noStrike">
                          <a:solidFill>
                            <a:srgbClr val="669900"/>
                          </a:solidFill>
                          <a:latin typeface="Perpetua"/>
                          <a:ea typeface="標楷體"/>
                        </a:rPr>
                        <a:t>3hr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99"/>
                          </a:solidFill>
                          <a:latin typeface="Perpetua"/>
                          <a:ea typeface="標楷體"/>
                        </a:rPr>
                        <a:t>綜合活動領域課程規劃與發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9900"/>
                          </a:solidFill>
                          <a:latin typeface="Perpetua"/>
                          <a:ea typeface="標楷體"/>
                        </a:rPr>
                        <a:t>[</a:t>
                      </a:r>
                      <a:r>
                        <a:rPr b="0" lang="zh-TW" sz="2400" spc="-1" strike="noStrike">
                          <a:solidFill>
                            <a:srgbClr val="669900"/>
                          </a:solidFill>
                          <a:latin typeface="Perpetua"/>
                          <a:ea typeface="標楷體"/>
                        </a:rPr>
                        <a:t>實體課程</a:t>
                      </a:r>
                      <a:r>
                        <a:rPr b="0" lang="en-US" sz="2400" spc="-1" strike="noStrike">
                          <a:solidFill>
                            <a:srgbClr val="669900"/>
                          </a:solidFill>
                          <a:latin typeface="Perpetua"/>
                          <a:ea typeface="標楷體"/>
                        </a:rPr>
                        <a:t>3hr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99"/>
                          </a:solidFill>
                          <a:latin typeface="Perpetua"/>
                          <a:ea typeface="標楷體"/>
                        </a:rPr>
                        <a:t>綜合活動領域課程規劃與發展實例分享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1.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課程規畫的理念與實施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2.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綜合活動學習領域課程要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3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綜合活動學習領域課程評鑑的內涵與規準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綜合活動學習領域課程計畫與示例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Perpetua"/>
                          <a:ea typeface="標楷體"/>
                        </a:rPr>
                        <a:t>綜合活動學習領域課程評鑑案例分享與運用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5094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課程為什麼需要規劃？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5341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  <a:ea typeface="標楷體"/>
              </a:rPr>
              <a:t>就像是一場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Perpetua"/>
                <a:ea typeface="標楷體"/>
              </a:rPr>
              <a:t>自助旅行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10" name="Picture 4" descr="PD-246"/>
          <p:cNvPicPr/>
          <p:nvPr/>
        </p:nvPicPr>
        <p:blipFill>
          <a:blip r:embed="rId1"/>
          <a:stretch/>
        </p:blipFill>
        <p:spPr>
          <a:xfrm>
            <a:off x="3059280" y="3645000"/>
            <a:ext cx="3300120" cy="28731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>
            <a:off x="6372360" y="3068640"/>
            <a:ext cx="2447640" cy="1512720"/>
          </a:xfrm>
          <a:prstGeom prst="cloudCallout">
            <a:avLst>
              <a:gd name="adj1" fmla="val -45199"/>
              <a:gd name="adj2" fmla="val 59444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Calibri"/>
                <a:ea typeface="標楷體"/>
              </a:rPr>
              <a:t>交通工具？要買什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771640" y="2276640"/>
            <a:ext cx="2952720" cy="1439640"/>
          </a:xfrm>
          <a:prstGeom prst="cloudCallout">
            <a:avLst>
              <a:gd name="adj1" fmla="val 11773"/>
              <a:gd name="adj2" fmla="val 8043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Calibri"/>
                <a:ea typeface="標楷體"/>
              </a:rPr>
              <a:t>每天的行程？路程？花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324000" y="3860640"/>
            <a:ext cx="2447640" cy="1440000"/>
          </a:xfrm>
          <a:prstGeom prst="cloudCallout">
            <a:avLst>
              <a:gd name="adj1" fmla="val 60180"/>
              <a:gd name="adj2" fmla="val 49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Calibri"/>
                <a:ea typeface="標楷體"/>
              </a:rPr>
              <a:t>去哪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Calibri"/>
                <a:ea typeface="標楷體"/>
              </a:rPr>
              <a:t>做什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Franklin Gothic Book"/>
                <a:ea typeface="標楷體"/>
              </a:rPr>
              <a:t>課程規劃 </a:t>
            </a:r>
            <a:r>
              <a:rPr b="0" lang="en-US" sz="3200" spc="-1" strike="noStrike">
                <a:solidFill>
                  <a:srgbClr val="333399"/>
                </a:solidFill>
                <a:latin typeface="Franklin Gothic Book"/>
                <a:ea typeface="標楷體"/>
              </a:rPr>
              <a:t>v.s </a:t>
            </a:r>
            <a:r>
              <a:rPr b="0" lang="zh-TW" sz="3200" spc="-1" strike="noStrike">
                <a:solidFill>
                  <a:srgbClr val="333399"/>
                </a:solidFill>
                <a:latin typeface="Franklin Gothic Book"/>
                <a:ea typeface="標楷體"/>
              </a:rPr>
              <a:t>自助旅行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3645000"/>
            <a:ext cx="8820000" cy="25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Perpetua"/>
                <a:ea typeface="標楷體"/>
              </a:rPr>
              <a:t>旅行的天數有限，如何安排觀光景點？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Perpetua"/>
                <a:ea typeface="標楷體"/>
              </a:rPr>
              <a:t>行程的安排有考慮到時間、財力與腳力嗎？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Perpetua"/>
                <a:ea typeface="標楷體"/>
              </a:rPr>
              <a:t>旅行途中遇到書上沒介紹的新事物，要進行或捨棄？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Perpetua"/>
                <a:ea typeface="標楷體"/>
              </a:rPr>
              <a:t>事先行程需求未規劃，導致有人不開心</a:t>
            </a:r>
            <a:r>
              <a:rPr b="0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Perpetua"/>
                <a:ea typeface="標楷體"/>
              </a:rPr>
              <a:t>旅行回來發現不太盡興？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16" name="Group 34"/>
          <p:cNvGrpSpPr/>
          <p:nvPr/>
        </p:nvGrpSpPr>
        <p:grpSpPr>
          <a:xfrm>
            <a:off x="468360" y="1628640"/>
            <a:ext cx="8147160" cy="1800360"/>
            <a:chOff x="468360" y="1628640"/>
            <a:chExt cx="8147160" cy="1800360"/>
          </a:xfrm>
        </p:grpSpPr>
        <p:sp>
          <p:nvSpPr>
            <p:cNvPr id="117" name="Rectangle 4"/>
            <p:cNvSpPr/>
            <p:nvPr/>
          </p:nvSpPr>
          <p:spPr>
            <a:xfrm>
              <a:off x="468360" y="1628640"/>
              <a:ext cx="3673440" cy="180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82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300" spc="-1" strike="noStrike">
                  <a:solidFill>
                    <a:srgbClr val="000000"/>
                  </a:solidFill>
                  <a:latin typeface="Georgia"/>
                  <a:ea typeface="標楷體"/>
                </a:rPr>
                <a:t>課綱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82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300" spc="-1" strike="noStrike">
                  <a:solidFill>
                    <a:srgbClr val="000000"/>
                  </a:solidFill>
                  <a:latin typeface="Georgia"/>
                  <a:ea typeface="標楷體"/>
                </a:rPr>
                <a:t>精彩的單元教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82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300" spc="-1" strike="noStrike">
                  <a:solidFill>
                    <a:srgbClr val="000000"/>
                  </a:solidFill>
                  <a:latin typeface="Georgia"/>
                  <a:ea typeface="標楷體"/>
                </a:rPr>
                <a:t>課程規畫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4932360" y="1628640"/>
              <a:ext cx="3683160" cy="180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旅行的目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觀光、遊玩重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  <a:ea typeface="標楷體"/>
                </a:rPr>
                <a:t>路線圖、行程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>
              <a:off x="4356000" y="2492280"/>
              <a:ext cx="432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7"/>
          <p:cNvSpPr/>
          <p:nvPr/>
        </p:nvSpPr>
        <p:spPr>
          <a:xfrm>
            <a:off x="6948360" y="3573360"/>
            <a:ext cx="1800360" cy="432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99"/>
                </a:solidFill>
                <a:latin typeface="標楷體"/>
                <a:ea typeface="標楷體"/>
              </a:rPr>
              <a:t>單元主題活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6948360" y="4076640"/>
            <a:ext cx="1800360" cy="433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99"/>
                </a:solidFill>
                <a:latin typeface="標楷體"/>
                <a:ea typeface="標楷體"/>
              </a:rPr>
              <a:t>時間、資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6948360" y="4581360"/>
            <a:ext cx="1800360" cy="432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99"/>
                </a:solidFill>
                <a:latin typeface="標楷體"/>
                <a:ea typeface="標楷體"/>
              </a:rPr>
              <a:t>新興議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6948360" y="5084640"/>
            <a:ext cx="1800360" cy="433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99"/>
                </a:solidFill>
                <a:latin typeface="標楷體"/>
                <a:ea typeface="標楷體"/>
              </a:rPr>
              <a:t>缺漏部分指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6948360" y="5589720"/>
            <a:ext cx="1800360" cy="431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99"/>
                </a:solidFill>
                <a:latin typeface="標楷體"/>
                <a:ea typeface="標楷體"/>
              </a:rPr>
              <a:t>目標未達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溫故知新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~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線上課程裡的重要概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699920"/>
            <a:ext cx="85345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Perpetua"/>
                <a:ea typeface="標楷體"/>
              </a:rPr>
              <a:t>課程的界定與課程計畫內涵詮釋。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Perpetua"/>
                <a:ea typeface="標楷體"/>
              </a:rPr>
              <a:t>微調課綱對課程計畫之要求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Perpetua"/>
                <a:ea typeface="標楷體"/>
              </a:rPr>
              <a:t>課程規畫歷程與具體作法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Perpetua"/>
                <a:ea typeface="標楷體"/>
              </a:rPr>
              <a:t>課程評鑑意義與作法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溫故知新</a:t>
            </a:r>
            <a:r>
              <a:rPr b="0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~</a:t>
            </a: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線上課程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「課程」是什麼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/>
          <p:nvPr/>
        </p:nvSpPr>
        <p:spPr>
          <a:xfrm>
            <a:off x="631800" y="1701720"/>
            <a:ext cx="170820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課程是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1800" y="2638440"/>
            <a:ext cx="170820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課程是教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1800" y="3573360"/>
            <a:ext cx="170820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課程是計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1800" y="4437000"/>
            <a:ext cx="170820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課程是經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1700280"/>
            <a:ext cx="6316920" cy="8269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課程規劃是課程目標與能力指標的規劃與分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亦可要求教學目標的規劃與分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602080"/>
            <a:ext cx="6316920" cy="8269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課程規劃是完成課程教材內容的規劃與分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3440" y="4437000"/>
            <a:ext cx="6316560" cy="827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課程規劃是規劃課程與教學可能的發展構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3440" y="3538440"/>
            <a:ext cx="6316560" cy="827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課程規劃是完成教學實施前的各項書面計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包含課程、教學與評量規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溫故知新</a:t>
            </a:r>
            <a:r>
              <a:rPr b="0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~</a:t>
            </a:r>
            <a:r>
              <a:rPr b="0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線上課程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97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課綱對於課程計畫的要求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8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3300"/>
                </a:solidFill>
                <a:latin typeface="Perpetua"/>
                <a:ea typeface="標楷體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學校課程計畫應含各領域課程計畫及彈性學    習節數課程計畫，內容包含</a:t>
            </a:r>
            <a:r>
              <a:rPr b="1" lang="zh-TW" sz="2600" spc="-1" strike="noStrike">
                <a:solidFill>
                  <a:srgbClr val="cc3300"/>
                </a:solidFill>
                <a:latin typeface="標楷體"/>
                <a:ea typeface="標楷體"/>
              </a:rPr>
              <a:t>「學年／學期</a:t>
            </a:r>
            <a:r>
              <a:rPr b="1" lang="zh-TW" sz="2600" spc="-1" strike="noStrike" u="sng">
                <a:solidFill>
                  <a:srgbClr val="cc3300"/>
                </a:solidFill>
                <a:uFillTx/>
                <a:latin typeface="標楷體"/>
                <a:ea typeface="標楷體"/>
              </a:rPr>
              <a:t>學習目標</a:t>
            </a:r>
            <a:r>
              <a:rPr b="1" lang="zh-TW" sz="2600" spc="-1" strike="noStrike">
                <a:solidFill>
                  <a:srgbClr val="cc3300"/>
                </a:solidFill>
                <a:latin typeface="標楷體"/>
                <a:ea typeface="標楷體"/>
              </a:rPr>
              <a:t>、能力指標、對應能力指標之單元名稱、節數、</a:t>
            </a:r>
            <a:r>
              <a:rPr b="1" lang="zh-TW" sz="2600" spc="-1" strike="noStrike" u="sng">
                <a:solidFill>
                  <a:srgbClr val="cc3300"/>
                </a:solidFill>
                <a:uFillTx/>
                <a:latin typeface="標楷體"/>
                <a:ea typeface="標楷體"/>
              </a:rPr>
              <a:t>評量方式</a:t>
            </a:r>
            <a:r>
              <a:rPr b="1" lang="zh-TW" sz="2600" spc="-1" strike="noStrike">
                <a:solidFill>
                  <a:srgbClr val="cc3300"/>
                </a:solidFill>
                <a:latin typeface="標楷體"/>
                <a:ea typeface="標楷體"/>
              </a:rPr>
              <a:t>、備註」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等相關項目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600" spc="-1" strike="noStrike">
                <a:solidFill>
                  <a:srgbClr val="2e9642"/>
                </a:solidFill>
                <a:latin typeface="標楷體"/>
                <a:ea typeface="標楷體"/>
              </a:rPr>
              <a:t>各校應於學年度</a:t>
            </a:r>
            <a:r>
              <a:rPr b="1" lang="zh-TW" sz="2600" spc="-1" strike="noStrike" u="sng">
                <a:solidFill>
                  <a:srgbClr val="2e9642"/>
                </a:solidFill>
                <a:uFillTx/>
                <a:latin typeface="標楷體"/>
                <a:ea typeface="標楷體"/>
              </a:rPr>
              <a:t>開學前</a:t>
            </a:r>
            <a:r>
              <a:rPr b="1" lang="zh-TW" sz="2600" spc="-1" strike="noStrike">
                <a:solidFill>
                  <a:srgbClr val="2e9642"/>
                </a:solidFill>
                <a:latin typeface="標楷體"/>
                <a:ea typeface="標楷體"/>
              </a:rPr>
              <a:t>，將學校課程計畫送所屬主管教育行政機關備查，若學校確有需要，得於第二學期開學前</a:t>
            </a:r>
            <a:r>
              <a:rPr b="1" lang="zh-TW" sz="2600" spc="-1" strike="noStrike" u="sng">
                <a:solidFill>
                  <a:srgbClr val="2e9642"/>
                </a:solidFill>
                <a:uFillTx/>
                <a:latin typeface="標楷體"/>
                <a:ea typeface="標楷體"/>
              </a:rPr>
              <a:t>報請修正調整</a:t>
            </a:r>
            <a:r>
              <a:rPr b="1" lang="zh-TW" sz="2600" spc="-1" strike="noStrike">
                <a:solidFill>
                  <a:srgbClr val="2e9642"/>
                </a:solidFill>
                <a:latin typeface="標楷體"/>
                <a:ea typeface="標楷體"/>
              </a:rPr>
              <a:t>。</a:t>
            </a:r>
            <a:r>
              <a:rPr b="0" lang="zh-TW" sz="2600" spc="-1" strike="noStrike">
                <a:solidFill>
                  <a:srgbClr val="2e9642"/>
                </a:solidFill>
                <a:latin typeface="標楷體"/>
                <a:ea typeface="標楷體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開學</a:t>
            </a:r>
            <a:r>
              <a:rPr b="1" lang="zh-TW" sz="26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二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週內將</a:t>
            </a:r>
            <a:r>
              <a:rPr b="1" lang="zh-TW" sz="2600" spc="-1" strike="noStrike" u="sng">
                <a:solidFill>
                  <a:srgbClr val="cc3300"/>
                </a:solidFill>
                <a:uFillTx/>
                <a:latin typeface="標楷體"/>
                <a:ea typeface="標楷體"/>
              </a:rPr>
              <a:t>班級教學活動</a:t>
            </a:r>
            <a:r>
              <a:rPr b="1" lang="zh-TW" sz="26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之內容與規劃</a:t>
            </a:r>
            <a:r>
              <a:rPr b="1" lang="zh-TW" sz="2600" spc="-1" strike="noStrike">
                <a:solidFill>
                  <a:srgbClr val="cc0000"/>
                </a:solidFill>
                <a:latin typeface="標楷體"/>
                <a:ea typeface="標楷體"/>
              </a:rPr>
              <a:t>告知家長</a:t>
            </a:r>
            <a:r>
              <a:rPr b="0" lang="zh-TW" sz="2600" spc="-1" strike="noStrike">
                <a:solidFill>
                  <a:srgbClr val="cc0000"/>
                </a:solidFill>
                <a:latin typeface="標楷體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5:31:33Z</dcterms:created>
  <dc:creator>Alice</dc:creator>
  <dc:description/>
  <dc:language>en-US</dc:language>
  <cp:lastModifiedBy>雲林縣</cp:lastModifiedBy>
  <dcterms:modified xsi:type="dcterms:W3CDTF">2011-10-26T02:32:53Z</dcterms:modified>
  <cp:revision>371</cp:revision>
  <dc:subject/>
  <dc:title>選用、評鑑綜合活動學習領域教材</dc:title>
</cp:coreProperties>
</file>