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7192-187F-420D-A213-2B401820615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瞎子摸項的成語我們都知道？但是面對綜合活動領域，我們還在摸索嗎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當老師有什麼給什麼？ 缺什麼給什麼？喜歡什麼給什麼？會什麼給什麼？ 會造不會造成偏食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瞎子摸項的成語我們都知道？但是面對綜合活動領域，我們還在摸索嗎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當老師有什麼給什麼？ 缺什麼給什麼？喜歡什麼給什麼？會什麼給什麼？ 會造不會造成偏食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瞎子摸項的成語我們都知道？但是面對綜合活動領域，我們還在摸索嗎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當老師有什麼給什麼？ 缺什麼給什麼？喜歡什麼給什麼？會什麼給什麼？ 會造不會造成偏食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瞎子摸項的成語我們都知道？但是面對綜合活動領域，我們還在摸索嗎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當老師有什麼給什麼？ 缺什麼給什麼？喜歡什麼給什麼？會什麼給什麼？ 會造不會造成偏食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瞎子摸項的成語我們都知道？但是面對綜合活動領域，我們還在摸索嗎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當老師有什麼給什麼？ 缺什麼給什麼？喜歡什麼給什麼？會什麼給什麼？ 會造不會造成偏食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瞎子摸項的成語我們都知道？但是面對綜合活動領域，我們還在摸索嗎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當老師有什麼給什麼？ 缺什麼給什麼？喜歡什麼給什麼？會什麼給什麼？ 會造不會造成偏食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BC01-1D2A-4D66-84BA-E088D06EFE8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6BE4-CEE6-4705-8F3C-04540E12759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DF1-9D81-486B-800A-9441EAEA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8C4-D68C-420E-89AA-CFF26323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D09-6E75-4591-9B17-CF16B9AB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A61-F26E-4E79-AEEA-1EABFBF2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6F1-D6BD-4365-8B7F-A63DF1E7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5EF-8D2E-4CFD-8499-84785F65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F55-E2DF-4567-97D4-270C9F87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1C1-A908-48E4-B5ED-B562FD3D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8F9-CBE6-46C0-A516-8213B4F8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293-22A7-4649-8D44-3995E4C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FC5-334D-4662-BCD6-DCD13F13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2CA-B0ED-4631-B1D2-DB790B1D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D80B-DC14-4971-AC04-B1704D18BCC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file:///&#38283;&#22580;-&#25913;&#32232;&#24460;.wm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57781" b="0"/>
          <a:stretch/>
        </p:blipFill>
        <p:spPr>
          <a:xfrm>
            <a:off x="0" y="0"/>
            <a:ext cx="2050920" cy="382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68960" y="4005360"/>
            <a:ext cx="2075040" cy="2852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1116000" y="404640"/>
            <a:ext cx="74167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6600"/>
                </a:solidFill>
                <a:latin typeface="標楷體"/>
                <a:ea typeface="標楷體"/>
              </a:rPr>
              <a:t>從教學實例談綜合活動領域</a:t>
            </a:r>
            <a:br>
              <a:rPr sz="4400"/>
            </a:br>
            <a:r>
              <a:rPr b="1" lang="zh-TW" sz="4400" spc="-1" strike="noStrike">
                <a:solidFill>
                  <a:srgbClr val="336600"/>
                </a:solidFill>
                <a:latin typeface="標楷體"/>
                <a:ea typeface="標楷體"/>
              </a:rPr>
              <a:t>課綱解讀與轉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11280" y="3716280"/>
            <a:ext cx="78483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3"/>
              </a:rPr>
              <a:t>雲林縣綜合活動輔導團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棋山國小   章文欽</a:t>
            </a:r>
            <a:r>
              <a:rPr b="0" lang="zh-TW" sz="6000" spc="-1" strike="noStrike">
                <a:solidFill>
                  <a:srgbClr val="0066ff"/>
                </a:solidFill>
                <a:latin typeface="標楷體"/>
              </a:rPr>
              <a:t>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955280" y="6549840"/>
            <a:ext cx="97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HY헤드라인M"/>
                <a:ea typeface="HY헤드라인M"/>
              </a:rPr>
              <a:t>Company</a:t>
            </a:r>
            <a:r>
              <a:rPr b="0" lang="en-US" sz="10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4640"/>
            <a:ext cx="7772400" cy="865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什麼是綜合活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019680" cy="301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955280" y="6549840"/>
            <a:ext cx="97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HY헤드라인M"/>
                <a:ea typeface="HY헤드라인M"/>
              </a:rPr>
              <a:t>Company</a:t>
            </a:r>
            <a:r>
              <a:rPr b="0" lang="en-US" sz="10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404640"/>
            <a:ext cx="7772400" cy="865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什麼是綜合活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4292640"/>
            <a:ext cx="33242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11640" y="4437000"/>
            <a:ext cx="3009960" cy="1828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955280" y="6549840"/>
            <a:ext cx="97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HY헤드라인M"/>
                <a:ea typeface="HY헤드라인M"/>
              </a:rPr>
              <a:t>Company</a:t>
            </a:r>
            <a:r>
              <a:rPr b="0" lang="en-US" sz="10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404640"/>
            <a:ext cx="7772400" cy="865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什麼是綜合活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955280" y="6549840"/>
            <a:ext cx="97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HY헤드라인M"/>
                <a:ea typeface="HY헤드라인M"/>
              </a:rPr>
              <a:t>Company</a:t>
            </a:r>
            <a:r>
              <a:rPr b="0" lang="en-US" sz="10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04640"/>
            <a:ext cx="7772400" cy="865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什麼是綜合活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08360" y="1916280"/>
            <a:ext cx="168588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955280" y="6549840"/>
            <a:ext cx="97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HY헤드라인M"/>
                <a:ea typeface="HY헤드라인M"/>
              </a:rPr>
              <a:t>Company</a:t>
            </a:r>
            <a:r>
              <a:rPr b="0" lang="en-US" sz="10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04640"/>
            <a:ext cx="7772400" cy="865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什麼是綜合活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4760" cy="297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48000" y="1413000"/>
            <a:ext cx="360036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211640" y="4437000"/>
            <a:ext cx="3009960" cy="1828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955280" y="6549840"/>
            <a:ext cx="97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HY헤드라인M"/>
                <a:ea typeface="HY헤드라인M"/>
              </a:rPr>
              <a:t>Company</a:t>
            </a:r>
            <a:r>
              <a:rPr b="0" lang="en-US" sz="10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HY헤드라인M"/>
                <a:ea typeface="HY헤드라인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04640"/>
            <a:ext cx="7772400" cy="865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什麼是綜合活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3019680" cy="3019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3324240" cy="2209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708360" y="1916280"/>
            <a:ext cx="1685880" cy="2819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435640" y="1413000"/>
            <a:ext cx="271476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41560" y="1700280"/>
            <a:ext cx="3089520" cy="424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250920" y="189000"/>
            <a:ext cx="3025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還是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826920" y="4005360"/>
            <a:ext cx="1800360" cy="703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66"/>
                </a:solidFill>
                <a:latin typeface="Arial"/>
                <a:ea typeface="標楷體"/>
              </a:rPr>
              <a:t>統整</a:t>
            </a:r>
            <a:r>
              <a:rPr b="0" lang="zh-TW" sz="4000" spc="-1" strike="noStrike">
                <a:solidFill>
                  <a:srgbClr val="000066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292720" y="907920"/>
            <a:ext cx="309564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66"/>
                </a:solidFill>
                <a:latin typeface="標楷體"/>
                <a:ea typeface="標楷體"/>
              </a:rPr>
              <a:t>校本課程</a:t>
            </a:r>
            <a:r>
              <a:rPr b="0" lang="zh-TW" sz="4400" spc="-1" strike="noStrike">
                <a:solidFill>
                  <a:srgbClr val="000066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940360" y="4581360"/>
            <a:ext cx="1800360" cy="703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66"/>
                </a:solidFill>
                <a:latin typeface="Arial"/>
                <a:ea typeface="標楷體"/>
              </a:rPr>
              <a:t>活動</a:t>
            </a:r>
            <a:r>
              <a:rPr b="0" lang="zh-TW" sz="4000" spc="-1" strike="noStrike">
                <a:solidFill>
                  <a:srgbClr val="000066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300720" y="2781360"/>
            <a:ext cx="1871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66"/>
                </a:solidFill>
                <a:latin typeface="Arial"/>
                <a:ea typeface="標楷體"/>
              </a:rPr>
              <a:t>遊戲</a:t>
            </a:r>
            <a:r>
              <a:rPr b="0" lang="zh-TW" sz="4000" spc="-1" strike="noStrike">
                <a:solidFill>
                  <a:srgbClr val="000066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66560" y="1989000"/>
            <a:ext cx="2376720" cy="703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66"/>
                </a:solidFill>
                <a:latin typeface="Arial"/>
                <a:ea typeface="標楷體"/>
              </a:rPr>
              <a:t>跨領域</a:t>
            </a:r>
            <a:r>
              <a:rPr b="0" lang="zh-TW" sz="4000" spc="-1" strike="noStrike">
                <a:solidFill>
                  <a:srgbClr val="000066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31040" y="4221000"/>
            <a:ext cx="1812960" cy="249264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430200" y="187200"/>
            <a:ext cx="828720" cy="3311280"/>
            <a:chOff x="430200" y="187200"/>
            <a:chExt cx="828720" cy="3311280"/>
          </a:xfrm>
        </p:grpSpPr>
        <p:grpSp>
          <p:nvGrpSpPr>
            <p:cNvPr id="165" name=""/>
            <p:cNvGrpSpPr/>
            <p:nvPr/>
          </p:nvGrpSpPr>
          <p:grpSpPr>
            <a:xfrm>
              <a:off x="430200" y="187200"/>
              <a:ext cx="828720" cy="3311280"/>
              <a:chOff x="430200" y="187200"/>
              <a:chExt cx="828720" cy="3311280"/>
            </a:xfrm>
          </p:grpSpPr>
          <p:sp>
            <p:nvSpPr>
              <p:cNvPr id="166" name=""/>
              <p:cNvSpPr/>
              <p:nvPr/>
            </p:nvSpPr>
            <p:spPr>
              <a:xfrm>
                <a:off x="430200" y="187200"/>
                <a:ext cx="828720" cy="3311280"/>
              </a:xfrm>
              <a:custGeom>
                <a:avLst/>
                <a:gdLst>
                  <a:gd name="textAreaLeft" fmla="*/ 121320 w 828720"/>
                  <a:gd name="textAreaRight" fmla="*/ 707400 w 828720"/>
                  <a:gd name="textAreaTop" fmla="*/ 121320 h 3311280"/>
                  <a:gd name="textAreaBottom" fmla="*/ 3189960 h 3311280"/>
                </a:gdLst>
                <a:ahLst/>
                <a:rect l="textAreaLeft" t="textAreaTop" r="textAreaRight" b="textAreaBottom"/>
                <a:pathLst>
                  <a:path w="21600" h="86278">
                    <a:moveTo>
                      <a:pt x="10800" y="0"/>
                    </a:moveTo>
                    <a:arcTo wR="10800" hR="10800" stAng="16200000" swAng="-5400000"/>
                    <a:lnTo>
                      <a:pt x="0" y="75478"/>
                    </a:lnTo>
                    <a:arcTo wR="10800" hR="10800" stAng="10800000" swAng="-5400000"/>
                    <a:lnTo>
                      <a:pt x="10800" y="8627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8440" y="380880"/>
                <a:ext cx="732600" cy="2925360"/>
              </a:xfrm>
              <a:custGeom>
                <a:avLst/>
                <a:gdLst>
                  <a:gd name="textAreaLeft" fmla="*/ 107280 w 732600"/>
                  <a:gd name="textAreaRight" fmla="*/ 625320 w 732600"/>
                  <a:gd name="textAreaTop" fmla="*/ 107280 h 2925360"/>
                  <a:gd name="textAreaBottom" fmla="*/ 2818080 h 2925360"/>
                </a:gdLst>
                <a:ahLst/>
                <a:rect l="textAreaLeft" t="textAreaTop" r="textAreaRight" b="textAreaBottom"/>
                <a:pathLst>
                  <a:path w="21600" h="86220">
                    <a:moveTo>
                      <a:pt x="10800" y="0"/>
                    </a:moveTo>
                    <a:arcTo wR="10800" hR="10800" stAng="16200000" swAng="-5400000"/>
                    <a:lnTo>
                      <a:pt x="0" y="75420"/>
                    </a:lnTo>
                    <a:arcTo wR="10800" hR="10800" stAng="10800000" swAng="-5400000"/>
                    <a:lnTo>
                      <a:pt x="10800" y="8622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2"/>
            <p:cNvSpPr/>
            <p:nvPr/>
          </p:nvSpPr>
          <p:spPr>
            <a:xfrm>
              <a:off x="465120" y="834840"/>
              <a:ext cx="68580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喚起記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2"/>
          <p:cNvSpPr/>
          <p:nvPr/>
        </p:nvSpPr>
        <p:spPr>
          <a:xfrm>
            <a:off x="3419640" y="1268280"/>
            <a:ext cx="230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4800" spc="-1" strike="noStrike">
                <a:solidFill>
                  <a:srgbClr val="cc00cc"/>
                </a:solidFill>
                <a:latin typeface="Arial"/>
              </a:rPr>
              <a:t>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>
            <a:hlinkClick r:id="rId2" action="ppaction://hlinksldjump"/>
          </p:cNvPr>
          <p:cNvSpPr/>
          <p:nvPr/>
        </p:nvSpPr>
        <p:spPr>
          <a:xfrm>
            <a:off x="1835280" y="260280"/>
            <a:ext cx="5616360" cy="86508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綜合活動的終極密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4068720" y="2060640"/>
            <a:ext cx="93492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92360" y="2781360"/>
            <a:ext cx="718920" cy="2936160"/>
            <a:chOff x="3492360" y="2781360"/>
            <a:chExt cx="718920" cy="2936160"/>
          </a:xfrm>
        </p:grpSpPr>
        <p:sp>
          <p:nvSpPr>
            <p:cNvPr id="173" name="Text Box 4"/>
            <p:cNvSpPr/>
            <p:nvPr/>
          </p:nvSpPr>
          <p:spPr>
            <a:xfrm>
              <a:off x="3563640" y="278136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8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3492360" y="3429000"/>
              <a:ext cx="718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008000"/>
                  </a:solidFill>
                  <a:latin typeface="Arial"/>
                  <a:ea typeface="標楷體"/>
                </a:rPr>
                <a:t>大主題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268360" y="2781360"/>
            <a:ext cx="574560" cy="2430360"/>
            <a:chOff x="2268360" y="2781360"/>
            <a:chExt cx="574560" cy="2430360"/>
          </a:xfrm>
        </p:grpSpPr>
        <p:sp>
          <p:nvSpPr>
            <p:cNvPr id="176" name="Text Box 6"/>
            <p:cNvSpPr/>
            <p:nvPr/>
          </p:nvSpPr>
          <p:spPr>
            <a:xfrm>
              <a:off x="2268360" y="3471840"/>
              <a:ext cx="502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333399"/>
                  </a:solidFill>
                  <a:latin typeface="Arial"/>
                  <a:ea typeface="標楷體"/>
                </a:rPr>
                <a:t>總目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"/>
            <p:cNvSpPr/>
            <p:nvPr/>
          </p:nvSpPr>
          <p:spPr>
            <a:xfrm>
              <a:off x="2268360" y="2781360"/>
              <a:ext cx="5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643280" y="2781360"/>
            <a:ext cx="1008360" cy="2387520"/>
            <a:chOff x="4643280" y="2781360"/>
            <a:chExt cx="1008360" cy="2387520"/>
          </a:xfrm>
        </p:grpSpPr>
        <p:sp>
          <p:nvSpPr>
            <p:cNvPr id="179" name="Text Box 8"/>
            <p:cNvSpPr/>
            <p:nvPr/>
          </p:nvSpPr>
          <p:spPr>
            <a:xfrm>
              <a:off x="4789440" y="3429000"/>
              <a:ext cx="862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ff0066"/>
                  </a:solidFill>
                  <a:latin typeface="標楷體"/>
                  <a:ea typeface="標楷體"/>
                </a:rPr>
                <a:t>項核心素養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"/>
            <p:cNvSpPr/>
            <p:nvPr/>
          </p:nvSpPr>
          <p:spPr>
            <a:xfrm>
              <a:off x="4643280" y="27813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083280" y="2781360"/>
            <a:ext cx="936360" cy="3484800"/>
            <a:chOff x="6083280" y="2781360"/>
            <a:chExt cx="936360" cy="3484800"/>
          </a:xfrm>
        </p:grpSpPr>
        <p:sp>
          <p:nvSpPr>
            <p:cNvPr id="182" name="Text Box 9"/>
            <p:cNvSpPr/>
            <p:nvPr/>
          </p:nvSpPr>
          <p:spPr>
            <a:xfrm>
              <a:off x="6156360" y="3429000"/>
              <a:ext cx="7189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cc00cc"/>
                  </a:solidFill>
                  <a:latin typeface="Arial"/>
                  <a:ea typeface="標楷體"/>
                </a:rPr>
                <a:t>項能力指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4"/>
            <p:cNvSpPr/>
            <p:nvPr/>
          </p:nvSpPr>
          <p:spPr>
            <a:xfrm>
              <a:off x="6083280" y="2781360"/>
              <a:ext cx="93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cc"/>
                  </a:solidFill>
                  <a:latin typeface="Arial"/>
                </a:rPr>
                <a:t>6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57781" b="0"/>
          <a:stretch/>
        </p:blipFill>
        <p:spPr>
          <a:xfrm>
            <a:off x="0" y="0"/>
            <a:ext cx="2050920" cy="38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042920" y="860400"/>
          <a:ext cx="7777080" cy="5006880"/>
        </p:xfrm>
        <a:graphic>
          <a:graphicData uri="http://schemas.openxmlformats.org/drawingml/2006/table">
            <a:tbl>
              <a:tblPr/>
              <a:tblGrid>
                <a:gridCol w="878040"/>
                <a:gridCol w="1758960"/>
                <a:gridCol w="1692360"/>
                <a:gridCol w="1757160"/>
                <a:gridCol w="1690560"/>
              </a:tblGrid>
              <a:tr h="49680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綜合活動學習領域之內涵架構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333399"/>
                          </a:solidFill>
                          <a:latin typeface="標楷體"/>
                          <a:ea typeface="標楷體"/>
                        </a:rPr>
                        <a:t>課程總目標：培養學生具備生活實踐能力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8000"/>
                          </a:solidFill>
                          <a:latin typeface="華康海報體W9"/>
                          <a:ea typeface="標楷體"/>
                        </a:rPr>
                        <a:t>四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8000"/>
                          </a:solidFill>
                          <a:latin typeface="華康海報體W9"/>
                          <a:ea typeface="標楷體"/>
                        </a:rPr>
                        <a:t>主題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fffff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自我發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fffff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生活經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fffff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社會參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fffff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保護自我與環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fffff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9414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自我探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生活管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人際互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危機辨識與處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</a:tr>
              <a:tr h="93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自我管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生活適應與創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社會關懷與服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戶外生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</a:tr>
              <a:tr h="10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尊重生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資源運用與開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尊重多元文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環境保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d2d2"/>
                        </a:gs>
                        <a:gs pos="50000">
                          <a:srgbClr val="ffffff"/>
                        </a:gs>
                        <a:gs pos="100000">
                          <a:srgbClr val="fad2d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綜合活動領域綱要修訂後之基本理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標楷體"/>
                <a:ea typeface="標楷體"/>
              </a:rPr>
              <a:t>綜合</a:t>
            </a:r>
            <a:r>
              <a:rPr b="1" lang="zh-TW" sz="2800" spc="-1" strike="noStrike">
                <a:solidFill>
                  <a:srgbClr val="2d2db9"/>
                </a:solidFill>
                <a:latin typeface="標楷體"/>
                <a:ea typeface="標楷體"/>
              </a:rPr>
              <a:t>活動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習領域旨在</a:t>
            </a:r>
            <a:r>
              <a:rPr b="1" lang="zh-TW" sz="2800" spc="-1" strike="noStrike">
                <a:solidFill>
                  <a:srgbClr val="7030a0"/>
                </a:solidFill>
                <a:latin typeface="標楷體"/>
                <a:ea typeface="標楷體"/>
              </a:rPr>
              <a:t>善用知識統整與協同教學</a:t>
            </a:r>
            <a:r>
              <a:rPr b="1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綜合</a:t>
            </a:r>
            <a:r>
              <a:rPr b="1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引導學習者</a:t>
            </a:r>
            <a:r>
              <a:rPr b="1" lang="zh-TW" sz="2800" spc="-1" strike="noStrike">
                <a:solidFill>
                  <a:srgbClr val="2d2db9"/>
                </a:solidFill>
                <a:latin typeface="標楷體"/>
                <a:ea typeface="標楷體"/>
              </a:rPr>
              <a:t>透過</a:t>
            </a:r>
            <a:r>
              <a:rPr b="1" lang="zh-TW" sz="2800" spc="-1" strike="noStrike">
                <a:solidFill>
                  <a:srgbClr val="7030a0"/>
                </a:solidFill>
                <a:latin typeface="標楷體"/>
                <a:ea typeface="標楷體"/>
              </a:rPr>
              <a:t>體驗、省思與實踐</a:t>
            </a:r>
            <a:r>
              <a:rPr b="1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行知行</a:t>
            </a:r>
            <a:r>
              <a:rPr b="1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2d2db9"/>
                </a:solidFill>
                <a:latin typeface="標楷體"/>
                <a:ea typeface="標楷體"/>
              </a:rPr>
              <a:t>的心智與行為運作活動</a:t>
            </a:r>
            <a:r>
              <a:rPr b="1" lang="zh-TW" sz="1800" spc="-1" strike="noStrike">
                <a:solidFill>
                  <a:srgbClr val="2d2db9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2d2db9"/>
                </a:solidFill>
                <a:latin typeface="標楷體"/>
                <a:ea typeface="標楷體"/>
              </a:rPr>
              <a:t>活動</a:t>
            </a:r>
            <a:r>
              <a:rPr b="1" lang="zh-TW" sz="1800" spc="-1" strike="noStrike">
                <a:solidFill>
                  <a:srgbClr val="2d2db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2d2db9"/>
                </a:solidFill>
                <a:latin typeface="標楷體"/>
                <a:ea typeface="標楷體"/>
              </a:rPr>
              <a:t>，建構內化意義</a:t>
            </a:r>
            <a:r>
              <a:rPr b="1" lang="zh-TW" sz="2800" spc="-1" strike="noStrike" u="sng">
                <a:solidFill>
                  <a:srgbClr val="2d2db9"/>
                </a:solidFill>
                <a:uFillTx/>
                <a:latin typeface="標楷體"/>
                <a:ea typeface="標楷體"/>
              </a:rPr>
              <a:t>與涵養利他情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提升學習者</a:t>
            </a:r>
            <a:r>
              <a:rPr b="0" lang="zh-TW" sz="2800" spc="-1" strike="noStrike" u="sng">
                <a:solidFill>
                  <a:srgbClr val="339b3a"/>
                </a:solidFill>
                <a:uFillTx/>
                <a:latin typeface="標楷體"/>
                <a:ea typeface="標楷體"/>
              </a:rPr>
              <a:t>自我發展、生活經營、社會參與、保護自我與環境</a:t>
            </a:r>
            <a:r>
              <a:rPr b="1" lang="zh-TW" sz="18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18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延續四主題軸</a:t>
            </a:r>
            <a:r>
              <a:rPr b="1" lang="zh-TW" sz="18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)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的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生活實踐能力</a:t>
            </a:r>
            <a:r>
              <a:rPr b="1" lang="zh-TW" sz="18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18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宣示總目標</a:t>
            </a:r>
            <a:r>
              <a:rPr b="1" lang="zh-TW" sz="18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3573360"/>
            <a:ext cx="842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教育部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(2003) 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綜合活動領域綱要意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「綜合活動」學習領域之</a:t>
            </a:r>
            <a:r>
              <a:rPr b="1" lang="zh-TW" sz="2800" spc="-1" strike="noStrike">
                <a:solidFill>
                  <a:srgbClr val="7030a0"/>
                </a:solidFill>
                <a:latin typeface="Arial"/>
              </a:rPr>
              <a:t>「綜合」是指萬事萬物中自然涵融的各類知識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2d2db9"/>
                </a:solidFill>
                <a:latin typeface="Arial"/>
              </a:rPr>
              <a:t>「活動」是指兼具心智與行為運作的活動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一個人對所知的萬事萬物要產生更深入的認識，需透過</a:t>
            </a:r>
            <a:r>
              <a:rPr b="1" lang="zh-TW" sz="2800" spc="-1" strike="noStrike">
                <a:solidFill>
                  <a:srgbClr val="7030a0"/>
                </a:solidFill>
                <a:latin typeface="Arial"/>
              </a:rPr>
              <a:t>實踐、體驗與省思</a:t>
            </a:r>
            <a:r>
              <a:rPr b="1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行行知</a:t>
            </a:r>
            <a:r>
              <a:rPr b="1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建構內化的意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2700360" y="6308640"/>
            <a:ext cx="64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993300"/>
                </a:solidFill>
                <a:latin typeface="標楷體"/>
                <a:ea typeface="標楷體"/>
              </a:rPr>
              <a:t>引用自李坤崇教授</a:t>
            </a:r>
            <a:r>
              <a:rPr b="0" lang="zh-TW" sz="1800" spc="-1" strike="noStrike">
                <a:solidFill>
                  <a:srgbClr val="993300"/>
                </a:solidFill>
                <a:latin typeface="標楷體"/>
                <a:ea typeface="標楷體"/>
              </a:rPr>
              <a:t>99.12 </a:t>
            </a:r>
            <a:r>
              <a:rPr b="1" lang="zh-TW" sz="1800" spc="-1" strike="noStrike">
                <a:solidFill>
                  <a:srgbClr val="993300"/>
                </a:solidFill>
                <a:latin typeface="標楷體"/>
                <a:ea typeface="標楷體"/>
              </a:rPr>
              <a:t>綜合活動學習領域綱要內涵轉化</a:t>
            </a:r>
            <a:r>
              <a:rPr b="0" lang="zh-TW" sz="1800" spc="-1" strike="noStrike">
                <a:solidFill>
                  <a:srgbClr val="993300"/>
                </a:solidFill>
                <a:latin typeface="標楷體"/>
                <a:ea typeface="標楷體"/>
              </a:rPr>
              <a:t>講義</a:t>
            </a:r>
            <a:r>
              <a:rPr b="0" lang="zh-TW" sz="2000" spc="-1" strike="noStrike">
                <a:solidFill>
                  <a:srgbClr val="9933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57781" b="0"/>
          <a:stretch/>
        </p:blipFill>
        <p:spPr>
          <a:xfrm>
            <a:off x="0" y="0"/>
            <a:ext cx="2050920" cy="382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068960" y="4005360"/>
            <a:ext cx="2075040" cy="2852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1116000" y="620640"/>
            <a:ext cx="3960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336600"/>
                </a:solidFill>
                <a:latin typeface="標楷體"/>
                <a:ea typeface="標楷體"/>
              </a:rPr>
              <a:t>走進教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3141720"/>
            <a:ext cx="7848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333399"/>
                </a:solidFill>
                <a:latin typeface="標楷體"/>
                <a:ea typeface="標楷體"/>
              </a:rPr>
              <a:t>期待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333399"/>
                </a:solidFill>
                <a:latin typeface="標楷體"/>
                <a:ea typeface="標楷體"/>
              </a:rPr>
              <a:t>看到什麼樣的老師</a:t>
            </a:r>
            <a:r>
              <a:rPr b="0" lang="zh-TW" sz="6000" spc="-1" strike="noStrike">
                <a:solidFill>
                  <a:srgbClr val="0066ff"/>
                </a:solidFill>
                <a:latin typeface="標楷體"/>
              </a:rPr>
              <a:t>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0" t="0" r="57781" b="0"/>
          <a:stretch/>
        </p:blipFill>
        <p:spPr>
          <a:xfrm>
            <a:off x="0" y="0"/>
            <a:ext cx="2050920" cy="38289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2"/>
          <p:cNvSpPr/>
          <p:nvPr/>
        </p:nvSpPr>
        <p:spPr>
          <a:xfrm>
            <a:off x="1908000" y="333360"/>
            <a:ext cx="662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綜合活動的八大教學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1689120" y="1844640"/>
            <a:ext cx="309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以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___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為中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1689120" y="2709720"/>
            <a:ext cx="3095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強化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___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學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689120" y="3573360"/>
            <a:ext cx="309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著重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___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分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689120" y="4437000"/>
            <a:ext cx="309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強調生活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5146560" y="1844640"/>
            <a:ext cx="30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建構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___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意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146560" y="2709720"/>
            <a:ext cx="3095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善用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___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策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5146560" y="3573360"/>
            <a:ext cx="30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落實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___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教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5146560" y="4437000"/>
            <a:ext cx="30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結合學校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0" t="0" r="57781" b="0"/>
          <a:stretch/>
        </p:blipFill>
        <p:spPr>
          <a:xfrm>
            <a:off x="0" y="0"/>
            <a:ext cx="2050920" cy="38289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2050920" y="476280"/>
            <a:ext cx="547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綜合活動的教學循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2747520" y="1641240"/>
            <a:ext cx="4075200" cy="4313160"/>
          </a:xfrm>
          <a:custGeom>
            <a:avLst/>
            <a:gdLst>
              <a:gd name="textAreaLeft" fmla="*/ 0 w 4075200"/>
              <a:gd name="textAreaRight" fmla="*/ 4075560 w 4075200"/>
              <a:gd name="textAreaTop" fmla="*/ 0 h 4313160"/>
              <a:gd name="textAreaBottom" fmla="*/ 4313520 h 4313160"/>
            </a:gdLst>
            <a:ahLst/>
            <a:rect l="textAreaLeft" t="textAreaTop" r="textAreaRight" b="textAreaBottom"/>
            <a:pathLst>
              <a:path w="21600" h="21600">
                <a:moveTo>
                  <a:pt x="15416" y="7421"/>
                </a:moveTo>
                <a:arcTo wR="-5721" hR="-5721" stAng="-2172421" swAng="-19427579"/>
                <a:lnTo>
                  <a:pt x="0" y="10800"/>
                </a:lnTo>
                <a:arcTo wR="10800" hR="10800" stAng="10800000" swAng="19427579"/>
                <a:lnTo>
                  <a:pt x="-93" y="18775"/>
                </a:lnTo>
                <a:lnTo>
                  <a:pt x="1040" y="11452"/>
                </a:lnTo>
                <a:lnTo>
                  <a:pt x="8362" y="12585"/>
                </a:lnTo>
                <a:close/>
              </a:path>
            </a:pathLst>
          </a:custGeom>
          <a:gradFill rotWithShape="0">
            <a:gsLst>
              <a:gs pos="0">
                <a:srgbClr val="e4b4b4"/>
              </a:gs>
              <a:gs pos="100000">
                <a:srgbClr val="69525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25800" y="3489480"/>
            <a:ext cx="1727280" cy="703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學習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726160" y="2276640"/>
            <a:ext cx="2187360" cy="1581120"/>
            <a:chOff x="5726160" y="2276640"/>
            <a:chExt cx="2187360" cy="1581120"/>
          </a:xfrm>
        </p:grpSpPr>
        <p:sp>
          <p:nvSpPr>
            <p:cNvPr id="205" name=""/>
            <p:cNvSpPr/>
            <p:nvPr/>
          </p:nvSpPr>
          <p:spPr>
            <a:xfrm>
              <a:off x="5726160" y="2276640"/>
              <a:ext cx="2187360" cy="15811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a77d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體  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28880" y="3268800"/>
              <a:ext cx="89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(</a:t>
              </a: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行</a:t>
              </a: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565440" y="4722840"/>
            <a:ext cx="2187720" cy="1602360"/>
            <a:chOff x="3565440" y="4722840"/>
            <a:chExt cx="2187720" cy="1602360"/>
          </a:xfrm>
        </p:grpSpPr>
        <p:sp>
          <p:nvSpPr>
            <p:cNvPr id="208" name=""/>
            <p:cNvSpPr/>
            <p:nvPr/>
          </p:nvSpPr>
          <p:spPr>
            <a:xfrm>
              <a:off x="3565440" y="4722840"/>
              <a:ext cx="2187720" cy="15955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a77d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省  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96880" y="5743800"/>
              <a:ext cx="89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(</a:t>
              </a: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知</a:t>
              </a: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476360" y="2346480"/>
            <a:ext cx="2187720" cy="1602360"/>
            <a:chOff x="1476360" y="2346480"/>
            <a:chExt cx="2187720" cy="1602360"/>
          </a:xfrm>
        </p:grpSpPr>
        <p:sp>
          <p:nvSpPr>
            <p:cNvPr id="211" name=""/>
            <p:cNvSpPr/>
            <p:nvPr/>
          </p:nvSpPr>
          <p:spPr>
            <a:xfrm>
              <a:off x="1476360" y="2346480"/>
              <a:ext cx="2187720" cy="15937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a77d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實  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12480" y="3367440"/>
              <a:ext cx="89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(</a:t>
              </a: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行</a:t>
              </a: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692360" y="404640"/>
            <a:ext cx="6449400" cy="792000"/>
            <a:chOff x="1692360" y="404640"/>
            <a:chExt cx="6449400" cy="792000"/>
          </a:xfrm>
        </p:grpSpPr>
        <p:grpSp>
          <p:nvGrpSpPr>
            <p:cNvPr id="214" name=""/>
            <p:cNvGrpSpPr/>
            <p:nvPr/>
          </p:nvGrpSpPr>
          <p:grpSpPr>
            <a:xfrm>
              <a:off x="1692360" y="404640"/>
              <a:ext cx="6449400" cy="792000"/>
              <a:chOff x="1692360" y="404640"/>
              <a:chExt cx="6449400" cy="792000"/>
            </a:xfrm>
          </p:grpSpPr>
          <p:sp>
            <p:nvSpPr>
              <p:cNvPr id="215" name=""/>
              <p:cNvSpPr/>
              <p:nvPr/>
            </p:nvSpPr>
            <p:spPr>
              <a:xfrm>
                <a:off x="1692360" y="404640"/>
                <a:ext cx="6449400" cy="792000"/>
              </a:xfrm>
              <a:prstGeom prst="roundRect">
                <a:avLst>
                  <a:gd name="adj" fmla="val 50000"/>
                </a:avLst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068200" y="450720"/>
                <a:ext cx="5700240" cy="69984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Rectangle 2"/>
            <p:cNvSpPr/>
            <p:nvPr/>
          </p:nvSpPr>
          <p:spPr>
            <a:xfrm>
              <a:off x="2100240" y="404640"/>
              <a:ext cx="556848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能力指標的解讀與轉化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524720" y="4724280"/>
            <a:ext cx="1446120" cy="1989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900000" y="1844640"/>
            <a:ext cx="784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教學設計多半是有教學活動後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再尋找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對應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的能力指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898560" y="3860640"/>
            <a:ext cx="79214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依據能力指標概念分析或細分的結果研擬學習目標、設計學習活動～</a:t>
            </a:r>
            <a:r>
              <a:rPr b="0" lang="zh-TW" sz="4000" spc="-1" strike="noStrike">
                <a:solidFill>
                  <a:srgbClr val="008080"/>
                </a:solidFill>
                <a:latin typeface="標楷體"/>
                <a:ea typeface="標楷體"/>
              </a:rPr>
              <a:t>動詞的變革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 rot="20859600">
            <a:off x="108000" y="1341000"/>
            <a:ext cx="1511280" cy="703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過 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 rot="20859600">
            <a:off x="252360" y="3374640"/>
            <a:ext cx="1511280" cy="703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微 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468360" y="763560"/>
            <a:ext cx="8281800" cy="1440000"/>
            <a:chOff x="468360" y="763560"/>
            <a:chExt cx="8281800" cy="1440000"/>
          </a:xfrm>
        </p:grpSpPr>
        <p:sp>
          <p:nvSpPr>
            <p:cNvPr id="224" name=""/>
            <p:cNvSpPr/>
            <p:nvPr/>
          </p:nvSpPr>
          <p:spPr>
            <a:xfrm rot="5400000">
              <a:off x="1260360" y="-28440"/>
              <a:ext cx="1440000" cy="3024000"/>
            </a:xfrm>
            <a:custGeom>
              <a:avLst/>
              <a:gdLst>
                <a:gd name="textAreaLeft" fmla="*/ 0 w 1440000"/>
                <a:gd name="textAreaRight" fmla="*/ 1440000 w 1440000"/>
                <a:gd name="textAreaTop" fmla="*/ 0 h 3024000"/>
                <a:gd name="textAreaBottom" fmla="*/ 3024360 h 30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7c1c1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尋找能力指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核心概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24360" y="763560"/>
              <a:ext cx="4825800" cy="865440"/>
            </a:xfrm>
            <a:prstGeom prst="roundRect">
              <a:avLst>
                <a:gd name="adj" fmla="val 16667"/>
              </a:avLst>
            </a:prstGeom>
            <a:solidFill>
              <a:srgbClr val="fad2d2"/>
            </a:solidFill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動詞、名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492360" y="126864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68360" y="1773360"/>
            <a:ext cx="8281800" cy="2519280"/>
            <a:chOff x="468360" y="1773360"/>
            <a:chExt cx="8281800" cy="2519280"/>
          </a:xfrm>
        </p:grpSpPr>
        <p:sp>
          <p:nvSpPr>
            <p:cNvPr id="228" name=""/>
            <p:cNvSpPr/>
            <p:nvPr/>
          </p:nvSpPr>
          <p:spPr>
            <a:xfrm>
              <a:off x="3924360" y="2997360"/>
              <a:ext cx="4825800" cy="1081080"/>
            </a:xfrm>
            <a:prstGeom prst="roundRect">
              <a:avLst>
                <a:gd name="adj" fmla="val 16667"/>
              </a:avLst>
            </a:prstGeom>
            <a:solidFill>
              <a:srgbClr val="f4a2a2"/>
            </a:solidFill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評析動詞層次</a:t>
              </a: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--</a:t>
              </a: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記憶、了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、應用、分析、評鑑、創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827640" y="1627920"/>
              <a:ext cx="2305080" cy="3024000"/>
            </a:xfrm>
            <a:custGeom>
              <a:avLst/>
              <a:gdLst>
                <a:gd name="textAreaLeft" fmla="*/ 0 w 2305080"/>
                <a:gd name="textAreaRight" fmla="*/ 2305080 w 2305080"/>
                <a:gd name="textAreaTop" fmla="*/ 0 h 3024000"/>
                <a:gd name="textAreaBottom" fmla="*/ 3024360 h 30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4a2a2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深度擴展或剖析能力指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核心概念</a:t>
              </a: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(</a:t>
              </a: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動詞</a:t>
              </a: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24360" y="1773360"/>
              <a:ext cx="4825800" cy="1081080"/>
            </a:xfrm>
            <a:prstGeom prst="roundRect">
              <a:avLst>
                <a:gd name="adj" fmla="val 16667"/>
              </a:avLst>
            </a:prstGeom>
            <a:solidFill>
              <a:srgbClr val="f4a2a2"/>
            </a:solidFill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剖析動詞</a:t>
              </a: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---</a:t>
              </a: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達成動詞的學習策略或教學策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484080" y="2536560"/>
              <a:ext cx="414360" cy="29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488040" y="3127680"/>
              <a:ext cx="443160" cy="37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68360" y="3932280"/>
            <a:ext cx="8281800" cy="2736720"/>
            <a:chOff x="468360" y="3932280"/>
            <a:chExt cx="8281800" cy="2736720"/>
          </a:xfrm>
        </p:grpSpPr>
        <p:sp>
          <p:nvSpPr>
            <p:cNvPr id="234" name=""/>
            <p:cNvSpPr/>
            <p:nvPr/>
          </p:nvSpPr>
          <p:spPr>
            <a:xfrm>
              <a:off x="3924360" y="4292640"/>
              <a:ext cx="4825800" cy="1081080"/>
            </a:xfrm>
            <a:prstGeom prst="roundRect">
              <a:avLst>
                <a:gd name="adj" fmla="val 16667"/>
              </a:avLst>
            </a:prstGeom>
            <a:solidFill>
              <a:srgbClr val="be4e69"/>
            </a:solidFill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剖析名詞</a:t>
              </a: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--</a:t>
              </a: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剖析名詞的學習內涵</a:t>
              </a: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(</a:t>
              </a: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意義與內涵</a:t>
              </a: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827640" y="3572640"/>
              <a:ext cx="2305080" cy="3024000"/>
            </a:xfrm>
            <a:custGeom>
              <a:avLst/>
              <a:gdLst>
                <a:gd name="textAreaLeft" fmla="*/ 0 w 2305080"/>
                <a:gd name="textAreaRight" fmla="*/ 2305080 w 2305080"/>
                <a:gd name="textAreaTop" fmla="*/ 0 h 3024000"/>
                <a:gd name="textAreaBottom" fmla="*/ 3024360 h 30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e4e69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深度擴展或剖析能力指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核心概念</a:t>
              </a: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(</a:t>
              </a: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名詞</a:t>
              </a: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24360" y="5587920"/>
              <a:ext cx="4825800" cy="1081080"/>
            </a:xfrm>
            <a:prstGeom prst="roundRect">
              <a:avLst>
                <a:gd name="adj" fmla="val 16667"/>
              </a:avLst>
            </a:prstGeom>
            <a:solidFill>
              <a:srgbClr val="be4e69"/>
            </a:solidFill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評析名詞類別：事實、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、程序、後設認知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472200" y="4829760"/>
              <a:ext cx="479880" cy="32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3463920" y="5247720"/>
              <a:ext cx="45864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4920" y="17640"/>
            <a:ext cx="4824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能力指標解讀轉化三部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731880"/>
            <a:ext cx="727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100200"/>
                </a:solidFill>
                <a:latin typeface="標楷體"/>
                <a:ea typeface="標楷體"/>
              </a:rPr>
              <a:t>綜合</a:t>
            </a:r>
            <a:r>
              <a:rPr b="1" lang="zh-TW" sz="3600" spc="-1" strike="noStrike">
                <a:solidFill>
                  <a:srgbClr val="090807"/>
                </a:solidFill>
                <a:latin typeface="標楷體"/>
                <a:ea typeface="標楷體"/>
              </a:rPr>
              <a:t>2-1-3</a:t>
            </a:r>
            <a:r>
              <a:rPr b="1" lang="zh-TW" sz="3600" spc="-1" strike="noStrike" u="sng">
                <a:solidFill>
                  <a:srgbClr val="ff0066"/>
                </a:solidFill>
                <a:uFillTx/>
                <a:latin typeface="標楷體"/>
                <a:ea typeface="標楷體"/>
              </a:rPr>
              <a:t>覺察</a:t>
            </a:r>
            <a:r>
              <a:rPr b="1" lang="zh-TW" sz="3600" spc="-1" strike="noStrike">
                <a:solidFill>
                  <a:srgbClr val="008000"/>
                </a:solidFill>
                <a:latin typeface="標楷體"/>
                <a:ea typeface="標楷體"/>
              </a:rPr>
              <a:t>社區機構與資源</a:t>
            </a:r>
            <a:br>
              <a:rPr sz="3600"/>
            </a:br>
            <a:r>
              <a:rPr b="1" lang="zh-TW" sz="3600" spc="-1" strike="noStrike">
                <a:solidFill>
                  <a:srgbClr val="008000"/>
                </a:solidFill>
                <a:latin typeface="標楷體"/>
                <a:ea typeface="標楷體"/>
              </a:rPr>
              <a:t>           及其與日常生活的關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5280" y="1341360"/>
            <a:ext cx="705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3300"/>
                </a:solidFill>
                <a:latin typeface="標楷體"/>
                <a:ea typeface="標楷體"/>
              </a:rPr>
              <a:t>一、核心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一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動詞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學習策略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：覺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二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名詞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學習內容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：社區機構與資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30560" y="0"/>
            <a:ext cx="51134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d090f"/>
                </a:solidFill>
                <a:latin typeface="Arial"/>
                <a:ea typeface="標楷體"/>
              </a:rPr>
              <a:t>「解讀轉化整合模式」實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95280" y="2781360"/>
            <a:ext cx="8424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3300"/>
                </a:solidFill>
                <a:latin typeface="標楷體"/>
                <a:ea typeface="標楷體"/>
              </a:rPr>
              <a:t>二、核心概念剖析或擴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一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覺察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：發現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認識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) 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、說明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介紹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、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二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社區機構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       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警察局、消防局、郵局、農會、鄉鎮公所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       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學校、鐵路局、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醫院診所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三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90807"/>
                </a:solidFill>
                <a:latin typeface="標楷體"/>
                <a:ea typeface="標楷體"/>
              </a:rPr>
              <a:t>社區資源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       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圖書館、活動中心、公園、對外交通工具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       </a:t>
            </a:r>
            <a:r>
              <a:rPr b="1" lang="zh-TW" sz="2800" spc="-1" strike="noStrike">
                <a:solidFill>
                  <a:srgbClr val="100200"/>
                </a:solidFill>
                <a:latin typeface="標楷體"/>
                <a:ea typeface="標楷體"/>
              </a:rPr>
              <a:t>遊樂場、商店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4920" y="17640"/>
            <a:ext cx="5184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形成剖析圖，擬定教學構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50920" y="1341360"/>
            <a:ext cx="8476920" cy="4749840"/>
            <a:chOff x="250920" y="1341360"/>
            <a:chExt cx="8476920" cy="4749840"/>
          </a:xfrm>
        </p:grpSpPr>
        <p:grpSp>
          <p:nvGrpSpPr>
            <p:cNvPr id="246" name=""/>
            <p:cNvGrpSpPr/>
            <p:nvPr/>
          </p:nvGrpSpPr>
          <p:grpSpPr>
            <a:xfrm>
              <a:off x="3903480" y="1341360"/>
              <a:ext cx="2133720" cy="4749840"/>
              <a:chOff x="3903480" y="1341360"/>
              <a:chExt cx="2133720" cy="4749840"/>
            </a:xfrm>
          </p:grpSpPr>
          <p:sp>
            <p:nvSpPr>
              <p:cNvPr id="247" name="Text Box 7"/>
              <p:cNvSpPr/>
              <p:nvPr/>
            </p:nvSpPr>
            <p:spPr>
              <a:xfrm>
                <a:off x="3924360" y="1341360"/>
                <a:ext cx="2112840" cy="365040"/>
              </a:xfrm>
              <a:prstGeom prst="rect">
                <a:avLst/>
              </a:prstGeom>
              <a:solidFill>
                <a:srgbClr val="cc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鄉鎮公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8"/>
              <p:cNvSpPr/>
              <p:nvPr/>
            </p:nvSpPr>
            <p:spPr>
              <a:xfrm>
                <a:off x="3924360" y="1889280"/>
                <a:ext cx="2112840" cy="366480"/>
              </a:xfrm>
              <a:prstGeom prst="rect">
                <a:avLst/>
              </a:prstGeom>
              <a:solidFill>
                <a:srgbClr val="cc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警察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9"/>
              <p:cNvSpPr/>
              <p:nvPr/>
            </p:nvSpPr>
            <p:spPr>
              <a:xfrm>
                <a:off x="3924360" y="2438280"/>
                <a:ext cx="2112840" cy="365400"/>
              </a:xfrm>
              <a:prstGeom prst="rect">
                <a:avLst/>
              </a:prstGeom>
              <a:solidFill>
                <a:srgbClr val="cc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學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10"/>
              <p:cNvSpPr/>
              <p:nvPr/>
            </p:nvSpPr>
            <p:spPr>
              <a:xfrm>
                <a:off x="3924360" y="2986200"/>
                <a:ext cx="2112840" cy="363600"/>
              </a:xfrm>
              <a:prstGeom prst="rect">
                <a:avLst/>
              </a:prstGeom>
              <a:solidFill>
                <a:srgbClr val="cc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醫院診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1"/>
              <p:cNvSpPr/>
              <p:nvPr/>
            </p:nvSpPr>
            <p:spPr>
              <a:xfrm>
                <a:off x="3924360" y="3532320"/>
                <a:ext cx="2112840" cy="366480"/>
              </a:xfrm>
              <a:prstGeom prst="rect">
                <a:avLst/>
              </a:prstGeom>
              <a:solidFill>
                <a:srgbClr val="cc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郵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2"/>
              <p:cNvSpPr/>
              <p:nvPr/>
            </p:nvSpPr>
            <p:spPr>
              <a:xfrm>
                <a:off x="3903480" y="4076640"/>
                <a:ext cx="2113200" cy="36504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對外交通方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3"/>
              <p:cNvSpPr/>
              <p:nvPr/>
            </p:nvSpPr>
            <p:spPr>
              <a:xfrm>
                <a:off x="3924360" y="4629240"/>
                <a:ext cx="2112840" cy="36504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公園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"/>
              <p:cNvSpPr/>
              <p:nvPr/>
            </p:nvSpPr>
            <p:spPr>
              <a:xfrm>
                <a:off x="3924360" y="5178600"/>
                <a:ext cx="2112840" cy="36504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圖書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5"/>
              <p:cNvSpPr/>
              <p:nvPr/>
            </p:nvSpPr>
            <p:spPr>
              <a:xfrm>
                <a:off x="3924360" y="5726160"/>
                <a:ext cx="2112840" cy="36504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活動中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20"/>
            <p:cNvSpPr/>
            <p:nvPr/>
          </p:nvSpPr>
          <p:spPr>
            <a:xfrm>
              <a:off x="7648560" y="1341360"/>
              <a:ext cx="1079280" cy="66348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d090f"/>
                  </a:solidFill>
                  <a:latin typeface="標楷體"/>
                  <a:ea typeface="標楷體"/>
                </a:rPr>
                <a:t>名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100200"/>
                  </a:solidFill>
                  <a:latin typeface="標楷體"/>
                  <a:ea typeface="標楷體"/>
                </a:rPr>
                <a:t>學習內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508520" y="2437920"/>
              <a:ext cx="1148040" cy="3007080"/>
              <a:chOff x="7508520" y="2437920"/>
              <a:chExt cx="1148040" cy="3007080"/>
            </a:xfrm>
          </p:grpSpPr>
          <p:sp>
            <p:nvSpPr>
              <p:cNvPr id="258" name="Text Box 3"/>
              <p:cNvSpPr/>
              <p:nvPr/>
            </p:nvSpPr>
            <p:spPr>
              <a:xfrm>
                <a:off x="8148600" y="2781360"/>
                <a:ext cx="507960" cy="266364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社區機構與資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34"/>
              <p:cNvSpPr/>
              <p:nvPr/>
            </p:nvSpPr>
            <p:spPr>
              <a:xfrm flipH="1" flipV="1">
                <a:off x="7508520" y="2437920"/>
                <a:ext cx="639720" cy="14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35"/>
              <p:cNvSpPr/>
              <p:nvPr/>
            </p:nvSpPr>
            <p:spPr>
              <a:xfrm flipH="1">
                <a:off x="7508520" y="3898800"/>
                <a:ext cx="639720" cy="14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19"/>
            <p:cNvSpPr/>
            <p:nvPr/>
          </p:nvSpPr>
          <p:spPr>
            <a:xfrm>
              <a:off x="250920" y="1378080"/>
              <a:ext cx="1091880" cy="637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d090f"/>
                  </a:solidFill>
                  <a:latin typeface="標楷體"/>
                  <a:ea typeface="標楷體"/>
                </a:rPr>
                <a:t>動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864090"/>
                  </a:solidFill>
                  <a:latin typeface="標楷體"/>
                  <a:ea typeface="標楷體"/>
                </a:rPr>
                <a:t>學習策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600200" y="1523520"/>
              <a:ext cx="2324160" cy="2194560"/>
              <a:chOff x="1600200" y="1523520"/>
              <a:chExt cx="2324160" cy="219456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535120" y="1523520"/>
                <a:ext cx="1389240" cy="2194560"/>
                <a:chOff x="2535120" y="1523520"/>
                <a:chExt cx="1389240" cy="2194560"/>
              </a:xfrm>
            </p:grpSpPr>
            <p:sp>
              <p:nvSpPr>
                <p:cNvPr id="264" name="Line 46"/>
                <p:cNvSpPr/>
                <p:nvPr/>
              </p:nvSpPr>
              <p:spPr>
                <a:xfrm>
                  <a:off x="2535120" y="2421000"/>
                  <a:ext cx="1368360" cy="12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49"/>
                <p:cNvSpPr/>
                <p:nvPr/>
              </p:nvSpPr>
              <p:spPr>
                <a:xfrm flipV="1">
                  <a:off x="2535120" y="2071800"/>
                  <a:ext cx="1389240" cy="349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51"/>
                <p:cNvSpPr/>
                <p:nvPr/>
              </p:nvSpPr>
              <p:spPr>
                <a:xfrm flipV="1">
                  <a:off x="2535120" y="1523520"/>
                  <a:ext cx="1389240" cy="82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52"/>
                <p:cNvSpPr/>
                <p:nvPr/>
              </p:nvSpPr>
              <p:spPr>
                <a:xfrm>
                  <a:off x="2535120" y="2421000"/>
                  <a:ext cx="136836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53"/>
                <p:cNvSpPr/>
                <p:nvPr/>
              </p:nvSpPr>
              <p:spPr>
                <a:xfrm>
                  <a:off x="2608200" y="2494080"/>
                  <a:ext cx="1224000" cy="71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Text Box 21"/>
              <p:cNvSpPr/>
              <p:nvPr/>
            </p:nvSpPr>
            <p:spPr>
              <a:xfrm>
                <a:off x="1600200" y="2205000"/>
                <a:ext cx="944640" cy="4320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認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03120" y="2637000"/>
              <a:ext cx="1512720" cy="2304720"/>
              <a:chOff x="303120" y="2637000"/>
              <a:chExt cx="1512720" cy="2304720"/>
            </a:xfrm>
          </p:grpSpPr>
          <p:sp>
            <p:nvSpPr>
              <p:cNvPr id="271" name="Line 30"/>
              <p:cNvSpPr/>
              <p:nvPr/>
            </p:nvSpPr>
            <p:spPr>
              <a:xfrm>
                <a:off x="1239840" y="378936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8"/>
              <p:cNvSpPr/>
              <p:nvPr/>
            </p:nvSpPr>
            <p:spPr>
              <a:xfrm>
                <a:off x="303120" y="3502080"/>
                <a:ext cx="905040" cy="4316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覺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31"/>
              <p:cNvSpPr/>
              <p:nvPr/>
            </p:nvSpPr>
            <p:spPr>
              <a:xfrm>
                <a:off x="1239840" y="3789360"/>
                <a:ext cx="576000" cy="115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32"/>
              <p:cNvSpPr/>
              <p:nvPr/>
            </p:nvSpPr>
            <p:spPr>
              <a:xfrm flipV="1">
                <a:off x="1239840" y="2637000"/>
                <a:ext cx="431640" cy="105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063840" y="4221000"/>
              <a:ext cx="1454400" cy="1687680"/>
              <a:chOff x="6063840" y="4221000"/>
              <a:chExt cx="1454400" cy="1687680"/>
            </a:xfrm>
          </p:grpSpPr>
          <p:sp>
            <p:nvSpPr>
              <p:cNvPr id="276" name="Text Box 6"/>
              <p:cNvSpPr/>
              <p:nvPr/>
            </p:nvSpPr>
            <p:spPr>
              <a:xfrm>
                <a:off x="6613560" y="5321160"/>
                <a:ext cx="904680" cy="41292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資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39"/>
              <p:cNvSpPr/>
              <p:nvPr/>
            </p:nvSpPr>
            <p:spPr>
              <a:xfrm flipH="1" flipV="1">
                <a:off x="6064200" y="5373720"/>
                <a:ext cx="54936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40"/>
              <p:cNvSpPr/>
              <p:nvPr/>
            </p:nvSpPr>
            <p:spPr>
              <a:xfrm flipH="1" flipV="1">
                <a:off x="6064200" y="4221000"/>
                <a:ext cx="549360" cy="132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41"/>
              <p:cNvSpPr/>
              <p:nvPr/>
            </p:nvSpPr>
            <p:spPr>
              <a:xfrm flipH="1">
                <a:off x="6100200" y="5543640"/>
                <a:ext cx="513000" cy="36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40"/>
              <p:cNvSpPr/>
              <p:nvPr/>
            </p:nvSpPr>
            <p:spPr>
              <a:xfrm flipH="1" flipV="1">
                <a:off x="6063840" y="4868640"/>
                <a:ext cx="576360" cy="64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64200" y="1557360"/>
              <a:ext cx="1454040" cy="2160720"/>
              <a:chOff x="6064200" y="1557360"/>
              <a:chExt cx="1454040" cy="2160720"/>
            </a:xfrm>
          </p:grpSpPr>
          <p:sp>
            <p:nvSpPr>
              <p:cNvPr id="282" name="Text Box 4"/>
              <p:cNvSpPr/>
              <p:nvPr/>
            </p:nvSpPr>
            <p:spPr>
              <a:xfrm>
                <a:off x="6613560" y="2030400"/>
                <a:ext cx="904680" cy="390600"/>
              </a:xfrm>
              <a:prstGeom prst="rect">
                <a:avLst/>
              </a:prstGeom>
              <a:solidFill>
                <a:srgbClr val="cc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機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 flipH="1" flipV="1">
                <a:off x="6064200" y="2060640"/>
                <a:ext cx="549360" cy="19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43"/>
              <p:cNvSpPr/>
              <p:nvPr/>
            </p:nvSpPr>
            <p:spPr>
              <a:xfrm flipH="1">
                <a:off x="6064200" y="2255760"/>
                <a:ext cx="549360" cy="14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44"/>
              <p:cNvSpPr/>
              <p:nvPr/>
            </p:nvSpPr>
            <p:spPr>
              <a:xfrm flipH="1" flipV="1">
                <a:off x="6064200" y="1557360"/>
                <a:ext cx="549360" cy="69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43"/>
              <p:cNvSpPr/>
              <p:nvPr/>
            </p:nvSpPr>
            <p:spPr>
              <a:xfrm flipH="1">
                <a:off x="6064200" y="2276640"/>
                <a:ext cx="503280" cy="86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42"/>
              <p:cNvSpPr/>
              <p:nvPr/>
            </p:nvSpPr>
            <p:spPr>
              <a:xfrm flipH="1">
                <a:off x="6064200" y="2276640"/>
                <a:ext cx="50328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671480" y="1701360"/>
              <a:ext cx="2232000" cy="2338920"/>
              <a:chOff x="1671480" y="1701360"/>
              <a:chExt cx="2232000" cy="2338920"/>
            </a:xfrm>
          </p:grpSpPr>
          <p:sp>
            <p:nvSpPr>
              <p:cNvPr id="289" name="Text Box 24"/>
              <p:cNvSpPr/>
              <p:nvPr/>
            </p:nvSpPr>
            <p:spPr>
              <a:xfrm>
                <a:off x="1671480" y="3573360"/>
                <a:ext cx="944640" cy="46692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介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2608200" y="1701360"/>
                <a:ext cx="1295280" cy="2159280"/>
                <a:chOff x="2608200" y="1701360"/>
                <a:chExt cx="1295280" cy="2159280"/>
              </a:xfrm>
            </p:grpSpPr>
            <p:sp>
              <p:nvSpPr>
                <p:cNvPr id="291" name="Line 47"/>
                <p:cNvSpPr/>
                <p:nvPr/>
              </p:nvSpPr>
              <p:spPr>
                <a:xfrm flipV="1">
                  <a:off x="2608200" y="3789360"/>
                  <a:ext cx="1295280" cy="7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48"/>
                <p:cNvSpPr/>
                <p:nvPr/>
              </p:nvSpPr>
              <p:spPr>
                <a:xfrm flipV="1">
                  <a:off x="2679480" y="2133360"/>
                  <a:ext cx="1224000" cy="165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50"/>
                <p:cNvSpPr/>
                <p:nvPr/>
              </p:nvSpPr>
              <p:spPr>
                <a:xfrm flipV="1">
                  <a:off x="2608200" y="1701360"/>
                  <a:ext cx="1295280" cy="208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48"/>
                <p:cNvSpPr/>
                <p:nvPr/>
              </p:nvSpPr>
              <p:spPr>
                <a:xfrm flipV="1">
                  <a:off x="2679480" y="2709360"/>
                  <a:ext cx="1152720" cy="10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48"/>
                <p:cNvSpPr/>
                <p:nvPr/>
              </p:nvSpPr>
              <p:spPr>
                <a:xfrm flipV="1">
                  <a:off x="2608200" y="3284640"/>
                  <a:ext cx="1295280" cy="57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1743120" y="4221000"/>
              <a:ext cx="2160360" cy="1656000"/>
              <a:chOff x="1743120" y="4221000"/>
              <a:chExt cx="2160360" cy="1656000"/>
            </a:xfrm>
          </p:grpSpPr>
          <p:sp>
            <p:nvSpPr>
              <p:cNvPr id="297" name="Text Box 22"/>
              <p:cNvSpPr/>
              <p:nvPr/>
            </p:nvSpPr>
            <p:spPr>
              <a:xfrm>
                <a:off x="1743120" y="5013360"/>
                <a:ext cx="904680" cy="41436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100200"/>
                    </a:solidFill>
                    <a:latin typeface="標楷體"/>
                    <a:ea typeface="標楷體"/>
                  </a:rPr>
                  <a:t>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2608200" y="4221000"/>
                <a:ext cx="1295280" cy="1656000"/>
                <a:chOff x="2608200" y="4221000"/>
                <a:chExt cx="1295280" cy="1656000"/>
              </a:xfrm>
            </p:grpSpPr>
            <p:sp>
              <p:nvSpPr>
                <p:cNvPr id="299" name="Line 45"/>
                <p:cNvSpPr/>
                <p:nvPr/>
              </p:nvSpPr>
              <p:spPr>
                <a:xfrm flipV="1">
                  <a:off x="2608200" y="4221000"/>
                  <a:ext cx="1295280" cy="93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45"/>
                <p:cNvSpPr/>
                <p:nvPr/>
              </p:nvSpPr>
              <p:spPr>
                <a:xfrm flipV="1">
                  <a:off x="2679480" y="4797000"/>
                  <a:ext cx="122400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45"/>
                <p:cNvSpPr/>
                <p:nvPr/>
              </p:nvSpPr>
              <p:spPr>
                <a:xfrm>
                  <a:off x="2608200" y="5229360"/>
                  <a:ext cx="1295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45"/>
                <p:cNvSpPr/>
                <p:nvPr/>
              </p:nvSpPr>
              <p:spPr>
                <a:xfrm>
                  <a:off x="2608200" y="5302080"/>
                  <a:ext cx="1224000" cy="57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08000" y="115920"/>
          <a:ext cx="1319040" cy="6553080"/>
        </p:xfrm>
        <a:graphic>
          <a:graphicData uri="http://schemas.openxmlformats.org/drawingml/2006/table">
            <a:tbl>
              <a:tblPr/>
              <a:tblGrid>
                <a:gridCol w="1319040"/>
              </a:tblGrid>
              <a:tr h="38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能力指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1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探索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並</a:t>
                      </a:r>
                      <a:r>
                        <a:rPr b="1" lang="zh-TW" sz="2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對</a:t>
                      </a:r>
                      <a:r>
                        <a:rPr b="1" lang="zh-TW" sz="2200" spc="-1" strike="noStrike">
                          <a:solidFill>
                            <a:srgbClr val="33cc33"/>
                          </a:solidFill>
                          <a:latin typeface="標楷體"/>
                          <a:ea typeface="標楷體"/>
                        </a:rPr>
                        <a:t>自己以及與自己相關人事物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的感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1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區辨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自己</a:t>
                      </a:r>
                      <a:r>
                        <a:rPr b="1" lang="zh-TW" sz="2200" spc="-1" strike="noStrike">
                          <a:solidFill>
                            <a:srgbClr val="33cc33"/>
                          </a:solidFill>
                          <a:latin typeface="標楷體"/>
                          <a:ea typeface="標楷體"/>
                        </a:rPr>
                        <a:t>在班級與家庭中的行為表現</a:t>
                      </a:r>
                      <a:r>
                        <a:rPr b="1" lang="zh-TW" sz="2200" spc="-1" strike="noStrike">
                          <a:solidFill>
                            <a:srgbClr val="006600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447920" y="115920"/>
          <a:ext cx="3186000" cy="6564240"/>
        </p:xfrm>
        <a:graphic>
          <a:graphicData uri="http://schemas.openxmlformats.org/drawingml/2006/table">
            <a:tbl>
              <a:tblPr/>
              <a:tblGrid>
                <a:gridCol w="318600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參考細目</a:t>
                      </a:r>
                      <a:r>
                        <a:rPr b="1" lang="zh-TW" sz="2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1" lang="zh-TW" sz="2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教學目標</a:t>
                      </a:r>
                      <a:r>
                        <a:rPr b="1" lang="zh-TW" sz="2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1-1-1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探索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並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對</a:t>
                      </a:r>
                      <a:r>
                        <a:rPr b="1" lang="zh-TW" sz="2200" spc="-1" strike="noStrike">
                          <a:solidFill>
                            <a:srgbClr val="33cc33"/>
                          </a:solidFill>
                          <a:latin typeface="標楷體"/>
                          <a:ea typeface="標楷體"/>
                        </a:rPr>
                        <a:t>自己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的感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1-1-2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探索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並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與</a:t>
                      </a:r>
                      <a:r>
                        <a:rPr b="1" lang="zh-TW" sz="2200" spc="-1" strike="noStrike">
                          <a:solidFill>
                            <a:srgbClr val="33cc33"/>
                          </a:solidFill>
                          <a:latin typeface="標楷體"/>
                          <a:ea typeface="標楷體"/>
                        </a:rPr>
                        <a:t>自己相關人士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的感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1-1-3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探索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並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與</a:t>
                      </a:r>
                      <a:r>
                        <a:rPr b="1" lang="zh-TW" sz="2200" spc="-1" strike="noStrike">
                          <a:solidFill>
                            <a:srgbClr val="33cc33"/>
                          </a:solidFill>
                          <a:latin typeface="標楷體"/>
                          <a:ea typeface="標楷體"/>
                        </a:rPr>
                        <a:t>自己相關事物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的感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9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1-2-1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覺察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自己</a:t>
                      </a:r>
                      <a:r>
                        <a:rPr b="1" lang="zh-TW" sz="2200" spc="-1" strike="noStrike">
                          <a:solidFill>
                            <a:srgbClr val="33cc33"/>
                          </a:solidFill>
                          <a:latin typeface="標楷體"/>
                          <a:ea typeface="標楷體"/>
                        </a:rPr>
                        <a:t>在班級中的行為表現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1-2-2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覺察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自己</a:t>
                      </a:r>
                      <a:r>
                        <a:rPr b="1" lang="zh-TW" sz="2200" spc="-1" strike="noStrike">
                          <a:solidFill>
                            <a:srgbClr val="33cc33"/>
                          </a:solidFill>
                          <a:latin typeface="標楷體"/>
                          <a:ea typeface="標楷體"/>
                        </a:rPr>
                        <a:t>在家庭中的行為表現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1-2-3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比較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自己</a:t>
                      </a:r>
                      <a:r>
                        <a:rPr b="1" lang="zh-TW" sz="2200" spc="-1" strike="noStrike">
                          <a:solidFill>
                            <a:srgbClr val="33cc33"/>
                          </a:solidFill>
                          <a:latin typeface="標楷體"/>
                          <a:ea typeface="標楷體"/>
                        </a:rPr>
                        <a:t>在班級與家庭中行為表現的異同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1-2-4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探討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自己</a:t>
                      </a:r>
                      <a:r>
                        <a:rPr b="1" lang="zh-TW" sz="2200" spc="-1" strike="noStrike">
                          <a:solidFill>
                            <a:srgbClr val="33cc33"/>
                          </a:solidFill>
                          <a:latin typeface="標楷體"/>
                          <a:ea typeface="標楷體"/>
                        </a:rPr>
                        <a:t>在班級與家庭生活中的適當行為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614840" y="115920"/>
          <a:ext cx="4422600" cy="6553080"/>
        </p:xfrm>
        <a:graphic>
          <a:graphicData uri="http://schemas.openxmlformats.org/drawingml/2006/table">
            <a:tbl>
              <a:tblPr/>
              <a:tblGrid>
                <a:gridCol w="4422600"/>
              </a:tblGrid>
              <a:tr h="38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補充說明</a:t>
                      </a:r>
                      <a:r>
                        <a:rPr b="1" lang="zh-TW" sz="2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1" lang="zh-TW" sz="2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教學內容</a:t>
                      </a:r>
                      <a:r>
                        <a:rPr b="1" lang="zh-TW" sz="2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從各種經驗中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發現並表達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自己可能產生的感覺與想法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各種經驗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指的是參與班級各領域學習活動、進行探索活動、下課時與同儕活動、在家庭中與家人互動、在課後才藝班與他人互動、在社區與他人互動的感覺與想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建議於國小一年級實施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可從在班級與家庭的各種表現中，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發現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什麼是適當的行為表現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各種</a:t>
                      </a:r>
                      <a:r>
                        <a:rPr b="1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表現</a:t>
                      </a:r>
                      <a:r>
                        <a:rPr b="1" lang="zh-TW" sz="2200" spc="-1" strike="noStrike">
                          <a:solidFill>
                            <a:srgbClr val="000066"/>
                          </a:solidFill>
                          <a:latin typeface="標楷體"/>
                          <a:ea typeface="標楷體"/>
                        </a:rPr>
                        <a:t>指的是聽講上課、整潔、用餐、團體遊戲、與師長同學家人的互動、做作業、看電視等的行為表現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0" r="57781" b="0"/>
          <a:stretch/>
        </p:blipFill>
        <p:spPr>
          <a:xfrm>
            <a:off x="0" y="0"/>
            <a:ext cx="2050920" cy="382896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2411280" y="476280"/>
            <a:ext cx="4608360" cy="791640"/>
            <a:chOff x="2411280" y="476280"/>
            <a:chExt cx="4608360" cy="791640"/>
          </a:xfrm>
        </p:grpSpPr>
        <p:grpSp>
          <p:nvGrpSpPr>
            <p:cNvPr id="308" name=""/>
            <p:cNvGrpSpPr/>
            <p:nvPr/>
          </p:nvGrpSpPr>
          <p:grpSpPr>
            <a:xfrm>
              <a:off x="2411280" y="476280"/>
              <a:ext cx="4608360" cy="791640"/>
              <a:chOff x="2411280" y="476280"/>
              <a:chExt cx="4608360" cy="791640"/>
            </a:xfrm>
          </p:grpSpPr>
          <p:sp>
            <p:nvSpPr>
              <p:cNvPr id="309" name=""/>
              <p:cNvSpPr/>
              <p:nvPr/>
            </p:nvSpPr>
            <p:spPr>
              <a:xfrm>
                <a:off x="2411280" y="476280"/>
                <a:ext cx="4608360" cy="791640"/>
              </a:xfrm>
              <a:prstGeom prst="roundRect">
                <a:avLst>
                  <a:gd name="adj" fmla="val 50000"/>
                </a:avLst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679840" y="522360"/>
                <a:ext cx="4073400" cy="69948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Rectangle 2"/>
            <p:cNvSpPr/>
            <p:nvPr/>
          </p:nvSpPr>
          <p:spPr>
            <a:xfrm>
              <a:off x="2725200" y="476280"/>
              <a:ext cx="39805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教學實例分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 txBox="1"/>
          <p:nvPr/>
        </p:nvSpPr>
        <p:spPr>
          <a:xfrm>
            <a:off x="1332000" y="1989000"/>
            <a:ext cx="6840360" cy="15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標楷體"/>
              </a:rPr>
              <a:t>綠野仙蹤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2340000" y="4149720"/>
            <a:ext cx="496872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050920" y="3213000"/>
            <a:ext cx="2664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"/>
                <a:ea typeface="標楷體"/>
              </a:rPr>
              <a:t>體驗與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95640" y="4221000"/>
            <a:ext cx="3240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社區巡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0360" y="5230800"/>
            <a:ext cx="302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省思與心得分享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4000" y="2205000"/>
            <a:ext cx="2663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啟動戶外教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619280" y="333360"/>
            <a:ext cx="5687640" cy="791640"/>
            <a:chOff x="1619280" y="333360"/>
            <a:chExt cx="5687640" cy="791640"/>
          </a:xfrm>
        </p:grpSpPr>
        <p:grpSp>
          <p:nvGrpSpPr>
            <p:cNvPr id="319" name=""/>
            <p:cNvGrpSpPr/>
            <p:nvPr/>
          </p:nvGrpSpPr>
          <p:grpSpPr>
            <a:xfrm>
              <a:off x="1619280" y="333360"/>
              <a:ext cx="5687640" cy="791640"/>
              <a:chOff x="1619280" y="333360"/>
              <a:chExt cx="5687640" cy="791640"/>
            </a:xfrm>
          </p:grpSpPr>
          <p:sp>
            <p:nvSpPr>
              <p:cNvPr id="320" name=""/>
              <p:cNvSpPr/>
              <p:nvPr/>
            </p:nvSpPr>
            <p:spPr>
              <a:xfrm>
                <a:off x="1619280" y="333360"/>
                <a:ext cx="5687640" cy="791640"/>
              </a:xfrm>
              <a:prstGeom prst="roundRect">
                <a:avLst>
                  <a:gd name="adj" fmla="val 50000"/>
                </a:avLst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50840" y="379440"/>
                <a:ext cx="5027040" cy="69948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40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課程設計流程</a:t>
                </a:r>
                <a:r>
                  <a:rPr b="0" lang="zh-TW" sz="40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~</a:t>
                </a:r>
                <a:r>
                  <a:rPr b="0" lang="zh-TW" sz="40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對應版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Rectangle 2"/>
            <p:cNvSpPr/>
            <p:nvPr/>
          </p:nvSpPr>
          <p:spPr>
            <a:xfrm>
              <a:off x="2006640" y="333360"/>
              <a:ext cx="49129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258920" y="3213000"/>
            <a:ext cx="647640" cy="649440"/>
          </a:xfrm>
          <a:prstGeom prst="rightArrow">
            <a:avLst>
              <a:gd name="adj1" fmla="val 58926"/>
              <a:gd name="adj2" fmla="val 54167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3640" y="4221000"/>
            <a:ext cx="647640" cy="644760"/>
          </a:xfrm>
          <a:prstGeom prst="rightArrow">
            <a:avLst>
              <a:gd name="adj1" fmla="val 58926"/>
              <a:gd name="adj2" fmla="val 54408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1520" y="1268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主題：</a:t>
            </a:r>
            <a:r>
              <a:rPr b="0" lang="zh-TW" sz="3600" spc="-1" strike="noStrike">
                <a:solidFill>
                  <a:srgbClr val="333399"/>
                </a:solidFill>
                <a:latin typeface="Arial"/>
                <a:ea typeface="標楷體"/>
              </a:rPr>
              <a:t>綠野仙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52720" y="1916280"/>
            <a:ext cx="5040360" cy="122544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79720 h 1225440"/>
              <a:gd name="textAreaBottom" fmla="*/ 94572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教學活動先出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48360" y="5450040"/>
            <a:ext cx="647640" cy="644400"/>
          </a:xfrm>
          <a:prstGeom prst="rightArrow">
            <a:avLst>
              <a:gd name="adj1" fmla="val 58926"/>
              <a:gd name="adj2" fmla="val 54439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16360" y="260280"/>
            <a:ext cx="2735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教學目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4000" y="2852640"/>
            <a:ext cx="266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"/>
                <a:ea typeface="標楷體"/>
              </a:rPr>
              <a:t>體驗與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4219560"/>
            <a:ext cx="3168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社區巡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5564160"/>
            <a:ext cx="302436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省思與心得分享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1484280"/>
            <a:ext cx="26636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啟動戶外教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1294200" y="2311920"/>
            <a:ext cx="574560" cy="360360"/>
          </a:xfrm>
          <a:prstGeom prst="rightArrow">
            <a:avLst>
              <a:gd name="adj1" fmla="val 58926"/>
              <a:gd name="adj2" fmla="val 86363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295640" y="3680640"/>
            <a:ext cx="574920" cy="360360"/>
          </a:xfrm>
          <a:prstGeom prst="rightArrow">
            <a:avLst>
              <a:gd name="adj1" fmla="val 58926"/>
              <a:gd name="adj2" fmla="val 86418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5400000">
            <a:off x="1295640" y="5049000"/>
            <a:ext cx="574920" cy="360360"/>
          </a:xfrm>
          <a:prstGeom prst="rightArrow">
            <a:avLst>
              <a:gd name="adj1" fmla="val 58926"/>
              <a:gd name="adj2" fmla="val 86418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37560" y="1254240"/>
            <a:ext cx="7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了解戶外教學的實際意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184464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2.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認識不同地區的特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68760" y="2874960"/>
            <a:ext cx="8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體驗居住社區之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64000" y="4292640"/>
            <a:ext cx="5111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4.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進行社區服務，並分享服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心得與感想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95640" y="5373720"/>
            <a:ext cx="4897440" cy="1225440"/>
          </a:xfrm>
          <a:custGeom>
            <a:avLst/>
            <a:gdLst>
              <a:gd name="textAreaLeft" fmla="*/ 1117800 w 4897440"/>
              <a:gd name="textAreaRight" fmla="*/ 3779640 w 4897440"/>
              <a:gd name="textAreaTop" fmla="*/ 279720 h 1225440"/>
              <a:gd name="textAreaBottom" fmla="*/ 94572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再設計教學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000"/>
                            </p:stCondLst>
                            <p:childTnLst>
                              <p:par>
                                <p:cTn id="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8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57781" b="0"/>
          <a:stretch/>
        </p:blipFill>
        <p:spPr>
          <a:xfrm>
            <a:off x="0" y="0"/>
            <a:ext cx="2050920" cy="3828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068960" y="4005360"/>
            <a:ext cx="2075040" cy="2852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1116000" y="620640"/>
            <a:ext cx="3960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336600"/>
                </a:solidFill>
                <a:latin typeface="標楷體"/>
                <a:ea typeface="標楷體"/>
              </a:rPr>
              <a:t>走出教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3141720"/>
            <a:ext cx="7848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333399"/>
                </a:solidFill>
                <a:latin typeface="標楷體"/>
                <a:ea typeface="標楷體"/>
              </a:rPr>
              <a:t>期待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333399"/>
                </a:solidFill>
                <a:latin typeface="標楷體"/>
                <a:ea typeface="標楷體"/>
              </a:rPr>
              <a:t>看見什麼樣的學生</a:t>
            </a:r>
            <a:r>
              <a:rPr b="0" lang="zh-TW" sz="6000" spc="-1" strike="noStrike">
                <a:solidFill>
                  <a:srgbClr val="0066ff"/>
                </a:solidFill>
                <a:latin typeface="標楷體"/>
              </a:rPr>
              <a:t>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8000" y="1600200"/>
            <a:ext cx="86756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綜合</a:t>
            </a:r>
            <a:r>
              <a:rPr b="0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4-2-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運用簡易知能參與戶外活動，體驗自然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600640" y="378360"/>
            <a:ext cx="3726360" cy="8323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能力指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3789360"/>
            <a:ext cx="8820000" cy="1944720"/>
          </a:xfrm>
          <a:custGeom>
            <a:avLst/>
            <a:gdLst>
              <a:gd name="textAreaLeft" fmla="*/ 2013480 w 8820000"/>
              <a:gd name="textAreaRight" fmla="*/ 6806520 w 882000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最後搜尋符合之能力指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250920" y="189000"/>
            <a:ext cx="5184360" cy="576000"/>
            <a:chOff x="250920" y="189000"/>
            <a:chExt cx="5184360" cy="576000"/>
          </a:xfrm>
        </p:grpSpPr>
        <p:grpSp>
          <p:nvGrpSpPr>
            <p:cNvPr id="345" name=""/>
            <p:cNvGrpSpPr/>
            <p:nvPr/>
          </p:nvGrpSpPr>
          <p:grpSpPr>
            <a:xfrm>
              <a:off x="250920" y="189000"/>
              <a:ext cx="5184360" cy="576000"/>
              <a:chOff x="250920" y="189000"/>
              <a:chExt cx="5184360" cy="576000"/>
            </a:xfrm>
          </p:grpSpPr>
          <p:sp>
            <p:nvSpPr>
              <p:cNvPr id="346" name=""/>
              <p:cNvSpPr/>
              <p:nvPr/>
            </p:nvSpPr>
            <p:spPr>
              <a:xfrm>
                <a:off x="250920" y="189000"/>
                <a:ext cx="5184360" cy="576000"/>
              </a:xfrm>
              <a:prstGeom prst="roundRect">
                <a:avLst>
                  <a:gd name="adj" fmla="val 50000"/>
                </a:avLst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52960" y="222480"/>
                <a:ext cx="4582440" cy="50868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課程設計流程</a:t>
                </a:r>
                <a:r>
                  <a:rPr b="0" lang="zh-TW" sz="36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~</a:t>
                </a:r>
                <a:r>
                  <a:rPr b="0" lang="zh-TW" sz="36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轉化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Rectangle 2"/>
            <p:cNvSpPr/>
            <p:nvPr/>
          </p:nvSpPr>
          <p:spPr>
            <a:xfrm>
              <a:off x="604080" y="189000"/>
              <a:ext cx="447804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539640" y="1197000"/>
            <a:ext cx="8209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66"/>
                </a:solidFill>
                <a:latin typeface="標楷體"/>
                <a:ea typeface="標楷體"/>
              </a:rPr>
              <a:t>4-2-2</a:t>
            </a:r>
            <a:r>
              <a:rPr b="1" lang="zh-TW" sz="2800" spc="-1" strike="noStrike">
                <a:solidFill>
                  <a:srgbClr val="ff0066"/>
                </a:solidFill>
                <a:latin typeface="標楷體"/>
                <a:ea typeface="標楷體"/>
              </a:rPr>
              <a:t>運用簡易的知能</a:t>
            </a:r>
            <a:r>
              <a:rPr b="0" lang="zh-TW" sz="2800" spc="-1" strike="noStrike">
                <a:solidFill>
                  <a:srgbClr val="800080"/>
                </a:solidFill>
                <a:latin typeface="標楷體"/>
                <a:ea typeface="標楷體"/>
              </a:rPr>
              <a:t>參與活動</a:t>
            </a: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，體驗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3211560"/>
            <a:ext cx="792000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蒐集參與戶外活動所需的資訊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認知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計畫戶外活動流程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技能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以多元方式具體描述觀察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技能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以具體行動表達對自然的友善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情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9280" y="1411200"/>
            <a:ext cx="64764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7280" y="1413000"/>
            <a:ext cx="64800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10160" y="2203560"/>
            <a:ext cx="136656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10160" y="5877000"/>
            <a:ext cx="136656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97120" y="2637000"/>
            <a:ext cx="1034280" cy="520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教學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67280" y="1413000"/>
            <a:ext cx="64764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4360" y="1125360"/>
            <a:ext cx="7848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-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社區自然景點大搜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-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環境拼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-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規劃高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-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知識大富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-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浣熊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-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社區環境之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-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行故我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35280" y="0"/>
            <a:ext cx="1366920" cy="1125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73480" y="549360"/>
            <a:ext cx="1034280" cy="520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教學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95640" y="2637000"/>
            <a:ext cx="4464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1.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蒐集參與戶外活動所需的資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2.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計畫戶外活動流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3.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以多元方式具體描述觀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4.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以具體行動表達對自然的友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68360" y="479736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感謝聆聽 敬請指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88000" y="1052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文鼎海報體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80000" y="1916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文鼎海報體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51640" y="404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文鼎海報體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00720" y="112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文鼎海報體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72360" y="249228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文鼎海報體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9280" y="476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文鼎海報體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80360" y="2133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文鼎海報體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1916280"/>
            <a:ext cx="4896000" cy="23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沒有最完美的課綱或教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只有尊敬謙卑的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不斷的學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面對孩子與教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負起教師的責任持續學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5805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雲林綜合活動領域輔導團與你同行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KTMHTN_2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文字方塊 4"/>
          <p:cNvSpPr/>
          <p:nvPr/>
        </p:nvSpPr>
        <p:spPr>
          <a:xfrm>
            <a:off x="4356000" y="1052640"/>
            <a:ext cx="478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66"/>
                </a:solidFill>
                <a:latin typeface="標楷體"/>
                <a:ea typeface="標楷體"/>
              </a:rPr>
              <a:t>報告結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66"/>
                </a:solidFill>
                <a:latin typeface="標楷體"/>
                <a:ea typeface="標楷體"/>
              </a:rPr>
              <a:t>感謝大家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66"/>
                </a:solidFill>
                <a:latin typeface="標楷體"/>
                <a:ea typeface="標楷體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119700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6600ff"/>
                </a:solidFill>
                <a:latin typeface="Times New Roman"/>
                <a:ea typeface="標楷體"/>
              </a:rPr>
              <a:t>為何要上綜合活動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105440" cy="32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726480"/>
            <a:ext cx="770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教學不是為了獲得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PISA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的高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而是讓孩子學到能力和技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做好面對人生的準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47840" y="4098960"/>
            <a:ext cx="318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436572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約翰‧德容博士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John DeJong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IS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專家團隊主持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43640" y="4724280"/>
            <a:ext cx="2305080" cy="18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9320" y="475560"/>
            <a:ext cx="580968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雷夫老師說：「我們教孩子可以通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紙筆測驗，但他們通不過人生的測驗。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教育裡還有很多事情可以教孩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而不是光問他，第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23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題的答案是什麼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588000" y="4724280"/>
            <a:ext cx="2305080" cy="1851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5013360"/>
            <a:ext cx="144648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 rot="5400000">
            <a:off x="4530960" y="1483200"/>
            <a:ext cx="147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278840" y="4292640"/>
            <a:ext cx="1865160" cy="256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16000" y="33336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「綜合活動」是專業嗎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84360" y="1916280"/>
            <a:ext cx="7488000" cy="703440"/>
            <a:chOff x="684360" y="1916280"/>
            <a:chExt cx="7488000" cy="703440"/>
          </a:xfrm>
        </p:grpSpPr>
        <p:sp>
          <p:nvSpPr>
            <p:cNvPr id="73" name=""/>
            <p:cNvSpPr/>
            <p:nvPr/>
          </p:nvSpPr>
          <p:spPr>
            <a:xfrm>
              <a:off x="684360" y="1916280"/>
              <a:ext cx="2376360" cy="703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參加研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11640" y="1916280"/>
              <a:ext cx="3960720" cy="703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專業認同的表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03640" y="20606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84360" y="3375000"/>
            <a:ext cx="7488000" cy="703440"/>
            <a:chOff x="684360" y="3375000"/>
            <a:chExt cx="7488000" cy="703440"/>
          </a:xfrm>
        </p:grpSpPr>
        <p:sp>
          <p:nvSpPr>
            <p:cNvPr id="77" name=""/>
            <p:cNvSpPr/>
            <p:nvPr/>
          </p:nvSpPr>
          <p:spPr>
            <a:xfrm>
              <a:off x="684360" y="3375000"/>
              <a:ext cx="2376360" cy="703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用心投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11640" y="3375000"/>
              <a:ext cx="3960720" cy="703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專業知能的學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03640" y="351936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84360" y="4888080"/>
            <a:ext cx="6408720" cy="703440"/>
            <a:chOff x="684360" y="4888080"/>
            <a:chExt cx="6408720" cy="703440"/>
          </a:xfrm>
        </p:grpSpPr>
        <p:sp>
          <p:nvSpPr>
            <p:cNvPr id="81" name=""/>
            <p:cNvSpPr/>
            <p:nvPr/>
          </p:nvSpPr>
          <p:spPr>
            <a:xfrm>
              <a:off x="684360" y="4888080"/>
              <a:ext cx="2376360" cy="703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教學實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11640" y="4888080"/>
              <a:ext cx="2881440" cy="703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專業的表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3640" y="50324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5"/>
          <p:cNvSpPr/>
          <p:nvPr/>
        </p:nvSpPr>
        <p:spPr>
          <a:xfrm rot="20433000">
            <a:off x="165240" y="1387080"/>
            <a:ext cx="102852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"/>
                <a:ea typeface="標楷體"/>
              </a:rPr>
              <a:t>體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 rot="20433000">
            <a:off x="179280" y="2852640"/>
            <a:ext cx="102888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"/>
                <a:ea typeface="標楷體"/>
              </a:rPr>
              <a:t>省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 rot="20433000">
            <a:off x="179640" y="4365720"/>
            <a:ext cx="102888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"/>
                <a:ea typeface="標楷體"/>
              </a:rPr>
              <a:t>實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 rot="5400000">
            <a:off x="4530960" y="1483200"/>
            <a:ext cx="147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78840" y="4292640"/>
            <a:ext cx="1865160" cy="2565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33336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36</a:t>
            </a: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小時關鍵能力中的關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1268280"/>
          <a:ext cx="6664320" cy="4524480"/>
        </p:xfrm>
        <a:graphic>
          <a:graphicData uri="http://schemas.openxmlformats.org/drawingml/2006/table">
            <a:tbl>
              <a:tblPr/>
              <a:tblGrid>
                <a:gridCol w="4680000"/>
                <a:gridCol w="1984320"/>
              </a:tblGrid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關 鍵 能 力 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線上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h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實體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h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3300"/>
                          </a:solidFill>
                          <a:latin typeface="Arial"/>
                          <a:ea typeface="標楷體"/>
                        </a:rPr>
                        <a:t>能力指標解讀與轉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3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課程規劃與發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多元教學與實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多元評量理念與實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0" r="57781" b="0"/>
          <a:stretch/>
        </p:blipFill>
        <p:spPr>
          <a:xfrm>
            <a:off x="0" y="0"/>
            <a:ext cx="2050920" cy="38289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2916360" y="333360"/>
            <a:ext cx="3384360" cy="627120"/>
            <a:chOff x="2916360" y="333360"/>
            <a:chExt cx="3384360" cy="627120"/>
          </a:xfrm>
        </p:grpSpPr>
        <p:grpSp>
          <p:nvGrpSpPr>
            <p:cNvPr id="93" name=""/>
            <p:cNvGrpSpPr/>
            <p:nvPr/>
          </p:nvGrpSpPr>
          <p:grpSpPr>
            <a:xfrm>
              <a:off x="2916360" y="333360"/>
              <a:ext cx="3384360" cy="627120"/>
              <a:chOff x="2916360" y="333360"/>
              <a:chExt cx="3384360" cy="627120"/>
            </a:xfrm>
          </p:grpSpPr>
          <p:sp>
            <p:nvSpPr>
              <p:cNvPr id="94" name=""/>
              <p:cNvSpPr/>
              <p:nvPr/>
            </p:nvSpPr>
            <p:spPr>
              <a:xfrm>
                <a:off x="2916360" y="333360"/>
                <a:ext cx="3384360" cy="627120"/>
              </a:xfrm>
              <a:prstGeom prst="roundRect">
                <a:avLst>
                  <a:gd name="adj" fmla="val 50000"/>
                </a:avLst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13640" y="370080"/>
                <a:ext cx="2991240" cy="55404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2"/>
            <p:cNvSpPr/>
            <p:nvPr/>
          </p:nvSpPr>
          <p:spPr>
            <a:xfrm>
              <a:off x="3779640" y="333360"/>
              <a:ext cx="16552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流   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906560" y="1096920"/>
            <a:ext cx="5544720" cy="5070240"/>
            <a:chOff x="1906560" y="1096920"/>
            <a:chExt cx="5544720" cy="5070240"/>
          </a:xfrm>
        </p:grpSpPr>
        <p:grpSp>
          <p:nvGrpSpPr>
            <p:cNvPr id="98" name=""/>
            <p:cNvGrpSpPr/>
            <p:nvPr/>
          </p:nvGrpSpPr>
          <p:grpSpPr>
            <a:xfrm>
              <a:off x="1906560" y="1096920"/>
              <a:ext cx="5544720" cy="603360"/>
              <a:chOff x="1906560" y="1096920"/>
              <a:chExt cx="5544720" cy="60336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1906560" y="1096920"/>
                <a:ext cx="5544720" cy="603360"/>
                <a:chOff x="1906560" y="1096920"/>
                <a:chExt cx="5544720" cy="6033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906560" y="1096920"/>
                  <a:ext cx="566280" cy="603360"/>
                </a:xfrm>
                <a:prstGeom prst="rect">
                  <a:avLst/>
                </a:prstGeom>
                <a:solidFill>
                  <a:srgbClr val="643c64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3200" spc="-1" strike="noStrike">
                      <a:solidFill>
                        <a:srgbClr val="ffffff"/>
                      </a:solidFill>
                      <a:latin typeface="Arial"/>
                      <a:ea typeface="標楷體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472840" y="1096920"/>
                  <a:ext cx="4978440" cy="603360"/>
                </a:xfrm>
                <a:prstGeom prst="rect">
                  <a:avLst/>
                </a:prstGeom>
                <a:solidFill>
                  <a:srgbClr val="f7c1f7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2411280" y="1125360"/>
                <a:ext cx="30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暖身活動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(10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分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906560" y="1830240"/>
              <a:ext cx="5544720" cy="590760"/>
              <a:chOff x="1906560" y="1830240"/>
              <a:chExt cx="5544720" cy="5907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1906560" y="1844640"/>
                <a:ext cx="5544720" cy="576360"/>
                <a:chOff x="1906560" y="1844640"/>
                <a:chExt cx="5544720" cy="5763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906560" y="1844640"/>
                  <a:ext cx="566280" cy="576360"/>
                </a:xfrm>
                <a:prstGeom prst="rect">
                  <a:avLst/>
                </a:prstGeom>
                <a:solidFill>
                  <a:srgbClr val="643c64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3200" spc="-1" strike="noStrike">
                      <a:solidFill>
                        <a:srgbClr val="ffffff"/>
                      </a:solidFill>
                      <a:latin typeface="Arial"/>
                      <a:ea typeface="標楷體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72840" y="1844640"/>
                  <a:ext cx="4978440" cy="576360"/>
                </a:xfrm>
                <a:prstGeom prst="rect">
                  <a:avLst/>
                </a:prstGeom>
                <a:solidFill>
                  <a:srgbClr val="f7c1f7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2411280" y="1830240"/>
                <a:ext cx="30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喚起記憶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(20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分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906560" y="2563920"/>
              <a:ext cx="5544720" cy="576000"/>
              <a:chOff x="1906560" y="2563920"/>
              <a:chExt cx="5544720" cy="5760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906560" y="2563920"/>
                <a:ext cx="5544720" cy="576000"/>
                <a:chOff x="1906560" y="2563920"/>
                <a:chExt cx="5544720" cy="576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906560" y="2563920"/>
                  <a:ext cx="566280" cy="576000"/>
                </a:xfrm>
                <a:prstGeom prst="rect">
                  <a:avLst/>
                </a:prstGeom>
                <a:solidFill>
                  <a:srgbClr val="643c64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3200" spc="-1" strike="noStrike">
                      <a:solidFill>
                        <a:srgbClr val="ffffff"/>
                      </a:solidFill>
                      <a:latin typeface="Arial"/>
                      <a:ea typeface="標楷體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472840" y="2563920"/>
                  <a:ext cx="4978440" cy="576000"/>
                </a:xfrm>
                <a:prstGeom prst="rect">
                  <a:avLst/>
                </a:prstGeom>
                <a:solidFill>
                  <a:srgbClr val="f7c1f7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>
                <a:off x="2411280" y="2565360"/>
                <a:ext cx="482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能力指標的解讀與轉化 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(25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分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906560" y="3270240"/>
              <a:ext cx="5544720" cy="603360"/>
              <a:chOff x="1906560" y="3270240"/>
              <a:chExt cx="5544720" cy="60336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1906560" y="3284640"/>
                <a:ext cx="5544720" cy="588960"/>
                <a:chOff x="1906560" y="3284640"/>
                <a:chExt cx="5544720" cy="5889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906560" y="3284640"/>
                  <a:ext cx="566280" cy="588960"/>
                </a:xfrm>
                <a:prstGeom prst="rect">
                  <a:avLst/>
                </a:prstGeom>
                <a:solidFill>
                  <a:srgbClr val="643c64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3200" spc="-1" strike="noStrike">
                      <a:solidFill>
                        <a:srgbClr val="ffffff"/>
                      </a:solidFill>
                      <a:latin typeface="Arial"/>
                      <a:ea typeface="標楷體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472840" y="3284640"/>
                  <a:ext cx="4978440" cy="588960"/>
                </a:xfrm>
                <a:prstGeom prst="rect">
                  <a:avLst/>
                </a:prstGeom>
                <a:solidFill>
                  <a:srgbClr val="f7c1f7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2411280" y="3270240"/>
                <a:ext cx="403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教學實例分享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(20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分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906560" y="4044960"/>
              <a:ext cx="5544720" cy="608040"/>
              <a:chOff x="1906560" y="4044960"/>
              <a:chExt cx="5544720" cy="6080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1906560" y="4044960"/>
                <a:ext cx="5544720" cy="608040"/>
                <a:chOff x="1906560" y="4044960"/>
                <a:chExt cx="5544720" cy="6080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906560" y="4044960"/>
                  <a:ext cx="566280" cy="608040"/>
                </a:xfrm>
                <a:prstGeom prst="rect">
                  <a:avLst/>
                </a:prstGeom>
                <a:solidFill>
                  <a:srgbClr val="643c64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3200" spc="-1" strike="noStrike">
                      <a:solidFill>
                        <a:srgbClr val="ffffff"/>
                      </a:solidFill>
                      <a:latin typeface="Arial"/>
                      <a:ea typeface="標楷體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472840" y="4044960"/>
                  <a:ext cx="4978440" cy="608040"/>
                </a:xfrm>
                <a:prstGeom prst="rect">
                  <a:avLst/>
                </a:prstGeom>
                <a:solidFill>
                  <a:srgbClr val="f7c1f7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411280" y="4076640"/>
                <a:ext cx="482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小試身手～分組實作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(60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分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06560" y="4781520"/>
              <a:ext cx="5544720" cy="617400"/>
              <a:chOff x="1906560" y="4781520"/>
              <a:chExt cx="5544720" cy="61740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906560" y="4797360"/>
                <a:ext cx="5544720" cy="601560"/>
                <a:chOff x="1906560" y="4797360"/>
                <a:chExt cx="5544720" cy="6015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906560" y="4797360"/>
                  <a:ext cx="566280" cy="601560"/>
                </a:xfrm>
                <a:prstGeom prst="rect">
                  <a:avLst/>
                </a:prstGeom>
                <a:solidFill>
                  <a:srgbClr val="643c64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3200" spc="-1" strike="noStrike">
                      <a:solidFill>
                        <a:srgbClr val="ffffff"/>
                      </a:solidFill>
                      <a:latin typeface="Arial"/>
                      <a:ea typeface="標楷體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472840" y="4797360"/>
                  <a:ext cx="4978440" cy="601560"/>
                </a:xfrm>
                <a:prstGeom prst="rect">
                  <a:avLst/>
                </a:prstGeom>
                <a:solidFill>
                  <a:srgbClr val="f7c1f7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2411280" y="4781520"/>
                <a:ext cx="30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成果發表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(35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分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1906560" y="5587920"/>
              <a:ext cx="5544720" cy="579240"/>
              <a:chOff x="1906560" y="5587920"/>
              <a:chExt cx="5544720" cy="57924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906560" y="5587920"/>
                <a:ext cx="5544720" cy="577800"/>
                <a:chOff x="1906560" y="5587920"/>
                <a:chExt cx="5544720" cy="5778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906560" y="5587920"/>
                  <a:ext cx="566280" cy="577800"/>
                </a:xfrm>
                <a:prstGeom prst="rect">
                  <a:avLst/>
                </a:prstGeom>
                <a:solidFill>
                  <a:srgbClr val="643c64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3200" spc="-1" strike="noStrike">
                      <a:solidFill>
                        <a:srgbClr val="ffffff"/>
                      </a:solidFill>
                      <a:latin typeface="Arial"/>
                      <a:ea typeface="標楷體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472840" y="5587920"/>
                  <a:ext cx="4978440" cy="577800"/>
                </a:xfrm>
                <a:prstGeom prst="rect">
                  <a:avLst/>
                </a:prstGeom>
                <a:solidFill>
                  <a:srgbClr val="f7c1f7"/>
                </a:solidFill>
                <a:ln w="0">
                  <a:noFill/>
                </a:ln>
                <a:effectLst>
                  <a:outerShdw dist="71785" dir="2700000" blurRad="0" rotWithShape="0">
                    <a:srgbClr val="66006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2411280" y="5646600"/>
                <a:ext cx="30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綜合座談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(10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分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22:17:02Z</dcterms:created>
  <dc:creator>Testing</dc:creator>
  <dc:description/>
  <dc:language>en-US</dc:language>
  <cp:lastModifiedBy>lion</cp:lastModifiedBy>
  <dcterms:modified xsi:type="dcterms:W3CDTF">2011-08-13T13:12:09Z</dcterms:modified>
  <cp:revision>272</cp:revision>
  <dc:subject/>
  <dc:title>投影片 1</dc:title>
</cp:coreProperties>
</file>