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9292-F9F8-4DB5-BF31-2A296D56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4E650-42F1-47BF-A6E5-7B99368D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EEAB8-400B-416F-B82F-B0C20347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951CE-0FDF-44AB-B8EB-4579B4BA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33F1-FB98-477B-8988-8737FD6A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29A0-41D4-4BC9-A388-59AAB73B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CE0B-2AC5-4E6E-9647-6492958E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D0F3-9607-4793-B3AC-6862FA7E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9D6B-C3D2-4EAA-B574-BEB7EFFF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C85E-EFE5-408F-A962-216CDAB3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AB6B-C17C-4305-9191-3EEB526E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AC228-7909-4BC1-8A43-0A8B6906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C58B-7AC6-434E-9B0C-47EF7A3C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AE3D-2A83-488D-B636-DF6B47A0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8D93-3CA5-421A-B80D-21646AB4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1773-643B-457C-B4BF-DBBD0995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AFDF-B617-4444-8009-DBF369AD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2AE4F-F295-478C-B045-615DCEEF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F2824-B4BD-4A2F-B30B-64B9A87C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5A748-6C84-40A5-B8BB-3D70A46E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62E77-8054-432D-A6C4-4FA8F783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D429F-48F1-4850-8B10-4B378118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C4AE6-658B-448B-B75D-04F857EA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A4AD9-14BB-40BC-A384-D139EF3C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014F-4D9B-46C9-86A2-A51E94E1BFC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B00C-7BA2-46EA-BD3C-0C774362617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00ff"/>
                </a:solidFill>
                <a:latin typeface="Times New Roman"/>
              </a:rPr>
              <a:t>故事引導：小兔</a:t>
            </a:r>
            <a:r>
              <a:rPr b="0" lang="zh-TW" sz="4400" spc="-1" strike="noStrike" u="sng">
                <a:solidFill>
                  <a:srgbClr val="cc00ff"/>
                </a:solidFill>
                <a:uFillTx/>
                <a:latin typeface="Times New Roman"/>
              </a:rPr>
              <a:t>傑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1989000"/>
            <a:ext cx="77724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99"/>
                </a:solidFill>
                <a:latin typeface="Times New Roman"/>
              </a:rPr>
              <a:t>原來我擁有好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230328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【憂鬱的小兔</a:t>
            </a:r>
            <a:r>
              <a:rPr b="0" lang="zh-TW" sz="4400" spc="-1" strike="noStrike" u="sng">
                <a:solidFill>
                  <a:srgbClr val="000000"/>
                </a:solidFill>
                <a:uFillTx/>
                <a:latin typeface="Times New Roman"/>
              </a:rPr>
              <a:t>傑比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】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99640" y="2050560"/>
            <a:ext cx="7340760" cy="37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在快樂森林裡，有一隻小兔名叫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</a:rPr>
              <a:t>傑比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ree"/>
          <p:cNvSpPr/>
          <p:nvPr/>
        </p:nvSpPr>
        <p:spPr>
          <a:xfrm>
            <a:off x="1187280" y="3789360"/>
            <a:ext cx="181008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ree"/>
          <p:cNvSpPr/>
          <p:nvPr/>
        </p:nvSpPr>
        <p:spPr>
          <a:xfrm>
            <a:off x="3132000" y="3860640"/>
            <a:ext cx="1809720" cy="1810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ree"/>
          <p:cNvSpPr/>
          <p:nvPr/>
        </p:nvSpPr>
        <p:spPr>
          <a:xfrm>
            <a:off x="2195640" y="299736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ree"/>
          <p:cNvSpPr/>
          <p:nvPr/>
        </p:nvSpPr>
        <p:spPr>
          <a:xfrm>
            <a:off x="3666960" y="2523960"/>
            <a:ext cx="1810080" cy="1810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ree"/>
          <p:cNvSpPr/>
          <p:nvPr/>
        </p:nvSpPr>
        <p:spPr>
          <a:xfrm>
            <a:off x="4572000" y="378936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ree"/>
          <p:cNvSpPr/>
          <p:nvPr/>
        </p:nvSpPr>
        <p:spPr>
          <a:xfrm>
            <a:off x="5435640" y="263700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ree"/>
          <p:cNvSpPr/>
          <p:nvPr/>
        </p:nvSpPr>
        <p:spPr>
          <a:xfrm>
            <a:off x="6443640" y="3860640"/>
            <a:ext cx="1809720" cy="1810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他有潔白的身體，長長的耳朵，水汪汪的大眼，還有超級靈活的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627280" y="2852640"/>
            <a:ext cx="40338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每次賽跑，都沒有人贏得了他，是許多人心目中的偶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56360" y="3429000"/>
            <a:ext cx="1758960" cy="250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68360" y="4221000"/>
            <a:ext cx="1544760" cy="1917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995640" y="3716280"/>
            <a:ext cx="1425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5564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除此之外，他還有疼愛他的爺爺奶奶，會陪他運動的爸爸，超級會烹飪的媽媽，還有一群要好的玩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300720" y="4292640"/>
            <a:ext cx="2087640" cy="2014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2305080" cy="227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195640" y="4076640"/>
            <a:ext cx="3671640" cy="2517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859280" y="2637000"/>
            <a:ext cx="161280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有一天，班上來的一位從隔壁森林轉來的同學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</a:rPr>
              <a:t>瑞克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，是各方面的高材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而且臉上總是笑咪咪的，馬上就成了班上的人氣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92720" y="3213000"/>
            <a:ext cx="1563840" cy="2806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19280" y="3789360"/>
            <a:ext cx="223056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這些情況看在小兔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</a:rPr>
              <a:t>傑比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的眼裡，心裡非常不是滋味，他開始天天愁眉苦臉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348000" y="3429000"/>
            <a:ext cx="23875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7:30:38Z</dcterms:created>
  <dc:creator>嘉義</dc:creator>
  <dc:description/>
  <dc:language>en-US</dc:language>
  <cp:lastModifiedBy>nawen</cp:lastModifiedBy>
  <dcterms:modified xsi:type="dcterms:W3CDTF">2011-02-09T06:41:24Z</dcterms:modified>
  <cp:revision>6</cp:revision>
  <dc:subject/>
  <dc:title>藝術課程</dc:title>
</cp:coreProperties>
</file>