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1F1-2316-409C-9F57-7376EBDE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E88-5E47-4C37-8281-FF0DEC2A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834-B045-410E-B49B-18FA9D79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833-8903-49E3-BBE0-428F6417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CC02-B1D2-41B8-B4E3-C38C8B9D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73F0-9302-4FFA-A7DF-CB7759CB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6E66-2DCB-407B-9F81-F80F0BC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1995-9E9C-4D69-B390-5D06D8A6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5960-AF3A-43B1-BE9F-8EAA37F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BB5C-7A48-41DF-8EEE-44833768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1158-D806-4E0C-BDBD-41F971F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0E7-0F96-4CCC-A0C9-72E5309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4DCF-BE83-440B-9676-3B3CB96E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41AD-753F-4D81-AE8C-CC5853E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8CBF-BE2E-4834-8D95-A7A8FDDB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30AA-6A01-4CBF-97E5-AAA41951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B958-7A76-46AC-AC45-96073BB2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BEB-4791-4093-8BB8-88FAC98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73A-735F-4710-87A8-B081A1B0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B9B-2CCD-4044-80AD-25CB6859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E1F-F8E9-4F09-8585-614BB450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0A1-A94C-4333-B1BA-487DBC5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A43-CAEE-4120-9EFB-B9CEA85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301-2372-4CCD-AABC-462DB67D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w.wrs.yahoo.com/_ylt=A3eg8_i_QcpMSqUA2mRt1gt.;_ylu=X3oDMTByM2p2bTVnBHBvcwM0BHNlYwNzcgR2dGlkA1RXQzAwMV82OQ--/SIG=1jblg6s69/EXP=1288409919/**http%3A//tw.image.search.yahoo.com/images/view%3Fback=http%253A%252F%252Ftw.image.search.yahoo.com%252Fsearch%252Fimages%253Fp%253D%2525E6%2525B0%2525B4%2525E6%252599%2525B6%2525E7%252590%252583%2526ei%253DUTF-8%2526fr%253Dyfp%2526fr2%253Dtab-web%26w=406%26h=458%26imgurl=www.sjspf.com%252Fimages%252Fupfile%252F2007042816565221619.jpg%26rurl=http%253A%252F%252Fwww.sjspf.com%252Fproduct.asp%253Fid%253D3479%26size=32k%26name=2007042816565221...%26p=%25E6%25B0%25B4%25E6%2599%25B6%25E7%2590%2583%26oid=df01b599b40a4b56%26fr2=tab-web%26no=4%26tt=54610%26sigr=1180flst3%26sigi=11jratljd%26sigb=138c6djr5&amp;type=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w.wrs.yahoo.com/_ylt=A3eg8_i_QcpMSqUA2mRt1gt.;_ylu=X3oDMTByM2p2bTVnBHBvcwM0BHNlYwNzcgR2dGlkA1RXQzAwMV82OQ--/SIG=1jblg6s69/EXP=1288409919/**http%3A//tw.image.search.yahoo.com/images/view%3Fback=http%253A%252F%252Ftw.image.search.yahoo.com%252Fsearch%252Fimages%253Fp%253D%2525E6%2525B0%2525B4%2525E6%252599%2525B6%2525E7%252590%252583%2526ei%253DUTF-8%2526fr%253Dyfp%2526fr2%253Dtab-web%26w=406%26h=458%26imgurl=www.sjspf.com%252Fimages%252Fupfile%252F2007042816565221619.jpg%26rurl=http%253A%252F%252Fwww.sjspf.com%252Fproduct.asp%253Fid%253D3479%26size=32k%26name=2007042816565221...%26p=%25E6%25B0%25B4%25E6%2599%25B6%25E7%2590%2583%26oid=df01b599b40a4b56%26fr2=tab-web%26no=4%26tt=54610%26sigr=1180flst3%26sigi=11jratljd%26sigb=138c6djr5&amp;type=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66"/>
                </a:solidFill>
                <a:latin typeface="Times New Roman"/>
              </a:rPr>
              <a:t>神奇水晶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故事引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有一個古老的傳說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傳說，有法力的巫婆，總是可以利用咒語在水晶球上顯現，並能預知未來的事情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進入標準尺寸的圖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3645000"/>
            <a:ext cx="2455920" cy="2773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32000" y="3860640"/>
            <a:ext cx="273528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06472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人類儘管科技再進步，還是無法了解到未來的事情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因此，人們對於神奇的水晶球，好奇得不得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56000" y="3500280"/>
            <a:ext cx="35287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今天，我們獲得了兩顆神奇水晶球，這兩顆水晶球很特別，他們是雙胞胎卻有不一樣的個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進入標準尺寸的圖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221000"/>
            <a:ext cx="2022480" cy="2125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進入標準尺寸的圖片"/>
          <p:cNvPicPr/>
          <p:nvPr/>
        </p:nvPicPr>
        <p:blipFill>
          <a:blip r:embed="rId4"/>
          <a:stretch/>
        </p:blipFill>
        <p:spPr>
          <a:xfrm>
            <a:off x="5219640" y="4076640"/>
            <a:ext cx="1951200" cy="2052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755640" y="3141720"/>
            <a:ext cx="1822320" cy="1722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6732720" y="2997360"/>
            <a:ext cx="1720800" cy="1877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95640" y="33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993300"/>
                </a:solidFill>
                <a:latin typeface="Verdana"/>
              </a:rPr>
              <a:t>來自悲觀水晶球的悲觀小天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342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66"/>
                </a:solidFill>
                <a:latin typeface="Verdana"/>
              </a:rPr>
              <a:t>來自樂觀水晶球的樂觀小天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他們遇到相同的一件事情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很努力念書，這次考試卻還是考不及格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1297080" cy="122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732720" y="4869000"/>
            <a:ext cx="1392120" cy="1519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71640" y="335772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悲觀小天使會說：</a:t>
            </a:r>
            <a:r>
              <a:rPr b="0" lang="zh-TW" sz="2400" spc="-1" strike="noStrike">
                <a:solidFill>
                  <a:srgbClr val="993300"/>
                </a:solidFill>
                <a:latin typeface="Verdana"/>
              </a:rPr>
              <a:t>「我就是這樣笨，不管我再怎樣努力，也改變不了這個事實！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4869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樂觀小天使會說：</a:t>
            </a:r>
            <a:r>
              <a:rPr b="0" lang="zh-TW" sz="2400" spc="-1" strike="noStrike">
                <a:solidFill>
                  <a:srgbClr val="ff0066"/>
                </a:solidFill>
                <a:latin typeface="Verdana"/>
              </a:rPr>
              <a:t>「一定是我努力不夠，我應該要更努力才行！我相信我是聰明的！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要交營養午餐的錢不見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1297080" cy="1225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659640" y="4292640"/>
            <a:ext cx="1392120" cy="1519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627280" y="2708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悲觀小天使會說：</a:t>
            </a:r>
            <a:r>
              <a:rPr b="0" lang="zh-TW" sz="2400" spc="-1" strike="noStrike">
                <a:solidFill>
                  <a:srgbClr val="993300"/>
                </a:solidFill>
                <a:latin typeface="Verdana"/>
              </a:rPr>
              <a:t>「完蛋了！我回家一定會被媽媽罵死，我真想逃家，不要回家好了！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437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樂觀小天使會說：</a:t>
            </a:r>
            <a:r>
              <a:rPr b="0" lang="zh-TW" sz="2400" spc="-1" strike="noStrike">
                <a:solidFill>
                  <a:srgbClr val="ff0066"/>
                </a:solidFill>
                <a:latin typeface="Verdana"/>
              </a:rPr>
              <a:t>「我的錢是不是放在家裡面沒有拿出來呢？就算真的不見了，我還是要勇敢面對我的錯誤，拿零用錢來補囉！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接下來就要請你們發揮創造力演出來了喔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!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5:28:31Z</dcterms:created>
  <dc:creator>nawen</dc:creator>
  <dc:description/>
  <dc:language>en-US</dc:language>
  <cp:lastModifiedBy>nawen</cp:lastModifiedBy>
  <dcterms:modified xsi:type="dcterms:W3CDTF">2011-02-09T05:27:32Z</dcterms:modified>
  <cp:revision>6</cp:revision>
  <dc:subject/>
  <dc:title>神奇水晶球</dc:title>
</cp:coreProperties>
</file>