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2D8-FB49-4E96-BE8C-F059C07D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42E-DB15-461B-966D-F86121CE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C5C-15D2-4CC7-AEDA-6DCC4442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1C6-C2F0-417B-8CCE-00E32625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1EE8-0CC0-45D5-A122-D5FC5467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573D-8DD7-4986-A009-8522D5C7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9746-51B1-435B-97E8-F45267B1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011C-6EC6-471C-89AC-64C0B44A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E76B-68BF-4372-9E8E-6B434D5D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164E-7E33-4B95-B7A1-6B42BC10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3CE6-E1D0-4871-86DD-A1DF7F19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46D-40F0-4120-A9A6-407F2C0A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CEF3-ECA4-4C43-A8D1-204DF548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743C-C725-45D8-8266-8D9C7601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B4AE-3D08-4711-BB54-48806184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1C92-8511-4969-B65E-F74A8A4E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67B3-CE6C-4C90-87BE-ABD38FCB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6F4-5424-4A7C-90A7-22392560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432-158D-4024-AD15-2A0400C8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1F4-568B-46B4-AE46-37A8CC6C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D31-270A-4540-881B-F7C30BD4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BBD-59C1-450F-BF43-C3A2B9FB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D2D-1F02-418B-A622-EDF97A96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F53-CBE4-4172-85DE-BA7B61A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92F3-F9DC-43FC-9183-AACB5F15A1C8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567A-1E0A-457F-94BC-DC1D8C9A5BEE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0920" y="2276280"/>
            <a:ext cx="818028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300" spc="-1" strike="noStrike">
                <a:solidFill>
                  <a:srgbClr val="006666"/>
                </a:solidFill>
                <a:latin typeface="Verdana"/>
                <a:ea typeface="文鼎標楷注音"/>
              </a:rPr>
              <a:t>來拼城堡囉</a:t>
            </a:r>
            <a:endParaRPr b="1" lang="en-US" sz="83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2362" t="33253" r="76461" b="19951"/>
          <a:stretch/>
        </p:blipFill>
        <p:spPr>
          <a:xfrm>
            <a:off x="1116000" y="0"/>
            <a:ext cx="61815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26295" t="20339" r="49654" b="19951"/>
          <a:stretch/>
        </p:blipFill>
        <p:spPr>
          <a:xfrm>
            <a:off x="1619280" y="0"/>
            <a:ext cx="578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52407" t="33253" r="26401" b="19951"/>
          <a:stretch/>
        </p:blipFill>
        <p:spPr>
          <a:xfrm>
            <a:off x="1042920" y="0"/>
            <a:ext cx="649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77499" t="33253" r="1027" b="23312"/>
          <a:stretch/>
        </p:blipFill>
        <p:spPr>
          <a:xfrm>
            <a:off x="1403280" y="0"/>
            <a:ext cx="67518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36:54Z</dcterms:created>
  <dc:creator>MC SYSTEM</dc:creator>
  <dc:description/>
  <dc:language>en-US</dc:language>
  <cp:lastModifiedBy>MC SYSTEM</cp:lastModifiedBy>
  <dcterms:modified xsi:type="dcterms:W3CDTF">2011-11-20T09:05:58Z</dcterms:modified>
  <cp:revision>2</cp:revision>
  <dc:subject/>
  <dc:title>來拼城堡囉</dc:title>
</cp:coreProperties>
</file>