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D1B-60BC-4646-A361-770FBE98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6BD-9E7F-48AB-AFF9-B90B0E5C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85B-5014-4F44-868A-74061990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E65-43B0-4DB6-8917-82A0805F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829B-9C0C-432E-BF55-4CA095DC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19C3-AB7B-463D-AC1F-D72026E5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8144-2471-4ED4-BE03-38BE5DCA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028A-1FC4-4A9B-8BCC-D2D472B0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8AB8-00B0-43A5-BC60-754C0375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529D-5AD6-44A1-B411-D3623D86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6D6A-FE4F-4683-AC4D-9C757CBE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C8D-5C4D-4C71-8EE5-819F5217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EC5E-5984-4D16-82C5-05414DF2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52B3-DC1F-46BF-8E01-D9E19395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28B5-B235-4A81-BEB1-D7AD7835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E3C0-4E18-4AF1-8DBF-6472C561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E588-69EB-47E3-9845-95648A38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146-95E2-4971-86B6-83A69F16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06A-1D31-4E0D-A008-7CED287D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EDF-2EA2-4EA5-830E-356FCE7A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335-3C9E-4678-A77D-4A24A1F0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72E-15A8-4FC8-9B33-DDD1159A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9AD-D5A9-4DEB-A3AF-23CE879A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338-B88C-495E-BBFE-44192D4F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8B6A-3F66-43A9-AF72-5B98324A5D1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66C9-6645-4999-A92E-808EC833094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336666"/>
                </a:solidFill>
                <a:latin typeface="Arial Black"/>
                <a:ea typeface="文鼎標楷注音"/>
              </a:rPr>
              <a:t>找</a:t>
            </a:r>
            <a:r>
              <a:rPr b="0" lang="zh-TW" sz="7000" spc="-1" strike="noStrike">
                <a:solidFill>
                  <a:srgbClr val="336666"/>
                </a:solidFill>
                <a:latin typeface="Arial Black"/>
                <a:ea typeface="文鼎標楷注音破音二"/>
              </a:rPr>
              <a:t>一</a:t>
            </a:r>
            <a:r>
              <a:rPr b="0" lang="zh-TW" sz="7000" spc="-1" strike="noStrike">
                <a:solidFill>
                  <a:srgbClr val="336666"/>
                </a:solidFill>
                <a:latin typeface="Arial Black"/>
                <a:ea typeface="文鼎標楷注音"/>
              </a:rPr>
              <a:t>找</a:t>
            </a:r>
            <a:br>
              <a:rPr sz="7000"/>
            </a:br>
            <a:r>
              <a:rPr b="0" lang="zh-TW" sz="7000" spc="-1" strike="noStrike">
                <a:solidFill>
                  <a:srgbClr val="336666"/>
                </a:solidFill>
                <a:latin typeface="Arial Black"/>
                <a:ea typeface="文鼎標楷注音"/>
              </a:rPr>
              <a:t>誰跑錯家了</a:t>
            </a:r>
            <a:endParaRPr b="0" i="1" lang="en-US" sz="7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e91f5e"/>
                </a:solidFill>
                <a:latin typeface="Arial"/>
              </a:rPr>
              <a:t>要仔細看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二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下圖中哪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個圖形的</a:t>
            </a:r>
            <a:r>
              <a:rPr b="0" lang="zh-TW" sz="3300" spc="-1" strike="noStrike">
                <a:solidFill>
                  <a:srgbClr val="e91f5e"/>
                </a:solidFill>
                <a:latin typeface="Arial Black"/>
              </a:rPr>
              <a:t>大小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和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其他圖形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不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18872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3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980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7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3440" y="42210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344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2108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016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9708200">
            <a:off x="971640" y="2708280"/>
            <a:ext cx="1224000" cy="1224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2924280"/>
            <a:ext cx="863640" cy="863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712200">
            <a:off x="4859280" y="2852280"/>
            <a:ext cx="863640" cy="863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3329400">
            <a:off x="7019640" y="2924280"/>
            <a:ext cx="863640" cy="863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2744400">
            <a:off x="1042560" y="4868640"/>
            <a:ext cx="863640" cy="863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9848000">
            <a:off x="2916000" y="4797000"/>
            <a:ext cx="863640" cy="863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859400">
            <a:off x="4932000" y="4941720"/>
            <a:ext cx="863640" cy="863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20186400">
            <a:off x="7093080" y="4941360"/>
            <a:ext cx="863640" cy="863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1989000"/>
            <a:ext cx="2376360" cy="22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二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下圖中哪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個圖形的</a:t>
            </a:r>
            <a:r>
              <a:rPr b="0" lang="zh-TW" sz="3300" spc="-1" strike="noStrike">
                <a:solidFill>
                  <a:srgbClr val="e91f5e"/>
                </a:solidFill>
                <a:latin typeface="Arial Black"/>
              </a:rPr>
              <a:t>大小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和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其他圖形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不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18872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33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37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33440" y="42210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344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2108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1016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9677600">
            <a:off x="1115640" y="2852640"/>
            <a:ext cx="576360" cy="115272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87640" y="2781360"/>
            <a:ext cx="576360" cy="115236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2528400">
            <a:off x="5076360" y="2781360"/>
            <a:ext cx="576360" cy="115236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786800">
            <a:off x="7092720" y="2707920"/>
            <a:ext cx="576000" cy="115236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535400">
            <a:off x="1258560" y="4797360"/>
            <a:ext cx="576360" cy="115272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20179800">
            <a:off x="2987640" y="4797000"/>
            <a:ext cx="576360" cy="115272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2581800">
            <a:off x="5003640" y="4797360"/>
            <a:ext cx="576360" cy="115272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80360" y="5157720"/>
            <a:ext cx="360360" cy="72072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4149720"/>
            <a:ext cx="1655640" cy="208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二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下圖中哪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個圖形的形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和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其他圖形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不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2637000"/>
            <a:ext cx="360360" cy="1223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084640"/>
            <a:ext cx="1728720" cy="57636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5084640"/>
            <a:ext cx="1224000" cy="648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2637000"/>
            <a:ext cx="576360" cy="1512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4869000"/>
            <a:ext cx="863640" cy="288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724280"/>
            <a:ext cx="576360" cy="1440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2852640"/>
            <a:ext cx="863640" cy="863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872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3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980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7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3440" y="42210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344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2108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016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2997360"/>
            <a:ext cx="1441440" cy="1008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0" y="1916280"/>
            <a:ext cx="1511280" cy="22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二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下圖中哪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個圖形的形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和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其他圖形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不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4941720"/>
            <a:ext cx="863640" cy="863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872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3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980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7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3440" y="42210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344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2108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016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5084640"/>
            <a:ext cx="719280" cy="719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2708280"/>
            <a:ext cx="1008000" cy="1008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2781360"/>
            <a:ext cx="719280" cy="71892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4797360"/>
            <a:ext cx="1079640" cy="1079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869000"/>
            <a:ext cx="936360" cy="93636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852640"/>
            <a:ext cx="1152360" cy="115272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0000" y="2781360"/>
            <a:ext cx="1008000" cy="1008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1844640"/>
            <a:ext cx="1657440" cy="23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二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下圖中哪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個圖形的形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和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其他圖形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不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118872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3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980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7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3440" y="42210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344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2108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016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2637000"/>
            <a:ext cx="936360" cy="136656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5084640"/>
            <a:ext cx="1368360" cy="64620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2924280"/>
            <a:ext cx="936720" cy="86364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5013360"/>
            <a:ext cx="1512720" cy="71748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3068640"/>
            <a:ext cx="936720" cy="64764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20000" y="3141720"/>
            <a:ext cx="936720" cy="50148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4360" y="4869000"/>
            <a:ext cx="936720" cy="936360"/>
          </a:xfrm>
          <a:prstGeom prst="triangle">
            <a:avLst>
              <a:gd name="adj" fmla="val 50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941720"/>
            <a:ext cx="505080" cy="1079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076640"/>
            <a:ext cx="1511280" cy="216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二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下圖中哪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個圖形的形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和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其他圖形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不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118872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3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980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7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3440" y="42210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344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2108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016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797360"/>
            <a:ext cx="1081080" cy="1081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5013360"/>
            <a:ext cx="576360" cy="57636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2708280"/>
            <a:ext cx="792000" cy="792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2852640"/>
            <a:ext cx="720720" cy="720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2565360"/>
            <a:ext cx="1081080" cy="1081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08720" y="4869000"/>
            <a:ext cx="935280" cy="9349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2852640"/>
            <a:ext cx="720720" cy="720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5084640"/>
            <a:ext cx="1441440" cy="432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933720"/>
            <a:ext cx="1944720" cy="22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二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下圖中哪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個圖形的形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和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其他圖形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不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18872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33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980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7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3440" y="42210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344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2108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016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659600">
            <a:off x="1258920" y="2781000"/>
            <a:ext cx="504720" cy="1008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1051600">
            <a:off x="5003280" y="2781000"/>
            <a:ext cx="1152720" cy="57636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684400">
            <a:off x="826920" y="5084640"/>
            <a:ext cx="1441440" cy="216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729400">
            <a:off x="7524360" y="4869000"/>
            <a:ext cx="287280" cy="10792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982600">
            <a:off x="7236000" y="2852640"/>
            <a:ext cx="792000" cy="1081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10400">
            <a:off x="2987640" y="4869000"/>
            <a:ext cx="720720" cy="720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359000">
            <a:off x="2916000" y="2708280"/>
            <a:ext cx="792000" cy="12254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381800">
            <a:off x="5003640" y="4868640"/>
            <a:ext cx="863640" cy="115236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4149720"/>
            <a:ext cx="1584360" cy="187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二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下圖中哪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個圖形的</a:t>
            </a:r>
            <a:r>
              <a:rPr b="0" lang="zh-TW" sz="3300" spc="-1" strike="noStrike">
                <a:solidFill>
                  <a:srgbClr val="e91f5e"/>
                </a:solidFill>
                <a:latin typeface="Arial Black"/>
              </a:rPr>
              <a:t>大小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和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其他圖形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不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18872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3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980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7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3440" y="42210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44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2108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016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2781360"/>
            <a:ext cx="792360" cy="792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3280" y="2781360"/>
            <a:ext cx="792000" cy="792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6360" y="4941720"/>
            <a:ext cx="792000" cy="79236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2781360"/>
            <a:ext cx="792000" cy="792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5013360"/>
            <a:ext cx="792000" cy="792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852640"/>
            <a:ext cx="792000" cy="79236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64360" y="4941720"/>
            <a:ext cx="792360" cy="79236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4724280"/>
            <a:ext cx="1368360" cy="136872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4076640"/>
            <a:ext cx="2016360" cy="216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二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下圖中哪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個圖形的</a:t>
            </a:r>
            <a:r>
              <a:rPr b="0" lang="zh-TW" sz="3300" spc="-1" strike="noStrike">
                <a:solidFill>
                  <a:srgbClr val="e91f5e"/>
                </a:solidFill>
                <a:latin typeface="Arial Black"/>
              </a:rPr>
              <a:t>大小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和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其他圖形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不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118872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33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980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37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3440" y="42210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344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2108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1016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88000">
            <a:off x="1186920" y="2781360"/>
            <a:ext cx="863640" cy="863640"/>
          </a:xfrm>
          <a:prstGeom prst="rtTriangl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7266200">
            <a:off x="3058920" y="2923920"/>
            <a:ext cx="863640" cy="863280"/>
          </a:xfrm>
          <a:prstGeom prst="rtTriangl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8085800">
            <a:off x="1187280" y="4797000"/>
            <a:ext cx="863640" cy="863640"/>
          </a:xfrm>
          <a:prstGeom prst="rtTriangl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7008000">
            <a:off x="3058920" y="4869000"/>
            <a:ext cx="863640" cy="863280"/>
          </a:xfrm>
          <a:prstGeom prst="rtTriangl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646600">
            <a:off x="5076360" y="4797360"/>
            <a:ext cx="863640" cy="863640"/>
          </a:xfrm>
          <a:prstGeom prst="rtTriangl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9060800">
            <a:off x="7092720" y="2707920"/>
            <a:ext cx="863640" cy="863640"/>
          </a:xfrm>
          <a:prstGeom prst="rtTriangl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310400">
            <a:off x="7164000" y="4869000"/>
            <a:ext cx="863640" cy="863640"/>
          </a:xfrm>
          <a:prstGeom prst="rtTriangl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3141720"/>
            <a:ext cx="503280" cy="503280"/>
          </a:xfrm>
          <a:prstGeom prst="rtTriangl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7640" y="1916280"/>
            <a:ext cx="1728720" cy="2089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二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找下圖中哪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一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個圖形的</a:t>
            </a:r>
            <a:r>
              <a:rPr b="0" lang="zh-TW" sz="3300" spc="-1" strike="noStrike">
                <a:solidFill>
                  <a:srgbClr val="e91f5e"/>
                </a:solidFill>
                <a:latin typeface="Arial Black"/>
              </a:rPr>
              <a:t>大小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和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其他圖形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  <a:ea typeface="文鼎標楷注音破音一"/>
              </a:rPr>
              <a:t>不</a:t>
            </a:r>
            <a:r>
              <a:rPr b="0" lang="zh-TW" sz="3300" spc="-1" strike="noStrike">
                <a:solidFill>
                  <a:srgbClr val="336666"/>
                </a:solidFill>
                <a:latin typeface="Arial Black"/>
              </a:rPr>
              <a:t>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118872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3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980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7440" y="2060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3440" y="42210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3344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2108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10160" y="4149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973200">
            <a:off x="1187280" y="2707920"/>
            <a:ext cx="505080" cy="115236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686200">
            <a:off x="5148000" y="2707920"/>
            <a:ext cx="504720" cy="115236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4760400">
            <a:off x="3131640" y="4868640"/>
            <a:ext cx="504720" cy="115236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9798800">
            <a:off x="5219280" y="4723920"/>
            <a:ext cx="504720" cy="1152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1134400">
            <a:off x="7164000" y="4868640"/>
            <a:ext cx="504720" cy="115236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7164000" y="2781000"/>
            <a:ext cx="505080" cy="1152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58920" y="4797360"/>
            <a:ext cx="504720" cy="1152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021840" y="2315160"/>
            <a:ext cx="725400" cy="1657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2060640"/>
            <a:ext cx="2519280" cy="2160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3:34:57Z</dcterms:created>
  <dc:creator>MC SYSTEM</dc:creator>
  <dc:description/>
  <dc:language>en-US</dc:language>
  <cp:lastModifiedBy>MC SYSTEM</cp:lastModifiedBy>
  <dcterms:modified xsi:type="dcterms:W3CDTF">2011-11-19T23:31:10Z</dcterms:modified>
  <cp:revision>12</cp:revision>
  <dc:subject/>
  <dc:title>找一找 誰跑錯家了</dc:title>
</cp:coreProperties>
</file>