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CB2-91CC-47C4-938D-75A34F08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805-FC92-483D-819D-FCB1F603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171-C831-4A9E-81F7-1116FCF8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0A4-FE07-4621-BCA9-31A81F1D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2873-5CE5-4B2F-B848-DA3D5FC8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47CD-1891-4190-86D2-F38F39E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10E3-6336-4C0E-B93A-E952AF6A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CE73-5E8A-41A7-B90E-C2F9FB1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5586-7829-4D05-846D-786AC899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3B85-3783-4415-8C77-10BA6267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96B0-E513-406D-964D-742E7AEC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3CC-DBB7-4AFE-9978-F2B8EF73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09FE-1686-436E-929E-77E30D8A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5CDF-38F5-4434-84D7-43499BA9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DA8B-6B91-45DB-AE2B-46872014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B00F-BAE5-46E8-9A09-2C387BBC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633C-D1B6-417E-BF1F-8BE23355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3CD-8000-4E01-95F7-A6B39D6C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D2A-EF41-4A37-B62C-78C4DC04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D09-CC61-4550-8231-5D735588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93C-842C-4A48-A2F3-EBC649D2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3A2-0159-44A0-9690-D36B86FC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24B-AF1D-49FD-A0FB-FEC64784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FBC-FF4C-4B41-8B21-9AE2E1C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5961-E412-4E91-BEEB-E5B4FCC7A527}" type="slidenum"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0671-E6D4-4302-B06E-9A81F4C9B37F}" type="slidenum"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6966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7d47d"/>
                </a:solidFill>
                <a:latin typeface="Arial"/>
                <a:ea typeface="文鼎標楷注音"/>
              </a:rPr>
              <a:t>   </a:t>
            </a:r>
            <a:r>
              <a:rPr b="0" lang="zh-TW" sz="8000" spc="-1" strike="noStrike">
                <a:solidFill>
                  <a:srgbClr val="f7d47d"/>
                </a:solidFill>
                <a:latin typeface="Arial"/>
                <a:ea typeface="文鼎標楷注音"/>
              </a:rPr>
              <a:t>數</a:t>
            </a:r>
            <a:r>
              <a:rPr b="0" lang="zh-TW" sz="8000" spc="-1" strike="noStrike">
                <a:solidFill>
                  <a:srgbClr val="f7d47d"/>
                </a:solidFill>
                <a:latin typeface="Arial"/>
                <a:ea typeface="文鼎標楷注音破音二"/>
              </a:rPr>
              <a:t>一</a:t>
            </a:r>
            <a:r>
              <a:rPr b="0" lang="zh-TW" sz="8000" spc="-1" strike="noStrike">
                <a:solidFill>
                  <a:srgbClr val="f7d47d"/>
                </a:solidFill>
                <a:latin typeface="Arial"/>
                <a:ea typeface="文鼎標楷注音"/>
              </a:rPr>
              <a:t>數，</a:t>
            </a:r>
            <a:br>
              <a:rPr sz="8000"/>
            </a:br>
            <a:r>
              <a:rPr b="0" lang="zh-TW" sz="8000" spc="-1" strike="noStrike">
                <a:solidFill>
                  <a:srgbClr val="f7d47d"/>
                </a:solidFill>
                <a:latin typeface="Arial"/>
                <a:ea typeface="文鼎標楷注音"/>
              </a:rPr>
              <a:t>每種圖形</a:t>
            </a:r>
            <a:br>
              <a:rPr sz="8000"/>
            </a:br>
            <a:r>
              <a:rPr b="0" lang="zh-TW" sz="8000" spc="-1" strike="noStrike">
                <a:solidFill>
                  <a:srgbClr val="f7d47d"/>
                </a:solidFill>
                <a:latin typeface="Arial"/>
                <a:ea typeface="文鼎標楷注音"/>
              </a:rPr>
              <a:t> 有幾個</a:t>
            </a:r>
            <a:r>
              <a:rPr b="0" lang="zh-TW" sz="8000" spc="-1" strike="noStrike">
                <a:solidFill>
                  <a:srgbClr val="f7d47d"/>
                </a:solidFill>
                <a:latin typeface="Arial"/>
              </a:rPr>
              <a:t>？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rot="20730600">
            <a:off x="610920" y="549360"/>
            <a:ext cx="936360" cy="13669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0653200">
            <a:off x="2700360" y="980640"/>
            <a:ext cx="2448000" cy="43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670000">
            <a:off x="4140000" y="3428640"/>
            <a:ext cx="431640" cy="1152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4797360"/>
            <a:ext cx="1150920" cy="11509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315200">
            <a:off x="468000" y="5013000"/>
            <a:ext cx="790560" cy="790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3716280"/>
            <a:ext cx="1224000" cy="1058760"/>
          </a:xfrm>
          <a:prstGeom prst="triangle">
            <a:avLst>
              <a:gd name="adj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96000" y="2781360"/>
            <a:ext cx="1150920" cy="1008000"/>
          </a:xfrm>
          <a:prstGeom prst="rtTriangl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5661000"/>
            <a:ext cx="576360" cy="576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4360" y="5013360"/>
            <a:ext cx="1368360" cy="1368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620640"/>
            <a:ext cx="1800360" cy="1800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133720"/>
            <a:ext cx="718920" cy="627120"/>
          </a:xfrm>
          <a:prstGeom prst="triangle">
            <a:avLst>
              <a:gd name="adj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9141800">
            <a:off x="394920" y="2204640"/>
            <a:ext cx="2089080" cy="1081080"/>
          </a:xfrm>
          <a:prstGeom prst="rtTriangl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133800" y="582480"/>
            <a:ext cx="1334880" cy="133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27440" y="1917720"/>
            <a:ext cx="1476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560" y="2668680"/>
            <a:ext cx="1484280" cy="133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319000">
            <a:off x="3874680" y="2214720"/>
            <a:ext cx="74304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488200">
            <a:off x="4618080" y="2214720"/>
            <a:ext cx="74124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59320" y="2066760"/>
            <a:ext cx="149400" cy="14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898000">
            <a:off x="2844720" y="2070000"/>
            <a:ext cx="74304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777200">
            <a:off x="2101320" y="1922400"/>
            <a:ext cx="74304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1670040"/>
            <a:ext cx="149040" cy="149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30440" y="1176480"/>
            <a:ext cx="147960" cy="14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5040" y="1176480"/>
            <a:ext cx="149400" cy="14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56160" y="1327320"/>
            <a:ext cx="147600" cy="147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78400" y="1622520"/>
            <a:ext cx="296640" cy="1476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4025880"/>
            <a:ext cx="14760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7760" y="4025880"/>
            <a:ext cx="1490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73280" y="4497480"/>
            <a:ext cx="297000" cy="296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90800" y="4500720"/>
            <a:ext cx="297000" cy="296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4320" y="3489480"/>
            <a:ext cx="1476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08600" y="3494160"/>
            <a:ext cx="14904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30880" y="641520"/>
            <a:ext cx="2966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89360" y="631800"/>
            <a:ext cx="29664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65680" y="582480"/>
            <a:ext cx="149400" cy="1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65840" y="453960"/>
            <a:ext cx="147600" cy="1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5040" y="480960"/>
            <a:ext cx="147600" cy="1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25760" y="333360"/>
            <a:ext cx="1476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73560" y="654120"/>
            <a:ext cx="1494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6240" y="474840"/>
            <a:ext cx="1476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9280" y="5157720"/>
          <a:ext cx="7417080" cy="1295640"/>
        </p:xfrm>
        <a:graphic>
          <a:graphicData uri="http://schemas.openxmlformats.org/drawingml/2006/table">
            <a:tbl>
              <a:tblPr/>
              <a:tblGrid>
                <a:gridCol w="1482840"/>
                <a:gridCol w="1484280"/>
                <a:gridCol w="1482840"/>
                <a:gridCol w="1484280"/>
                <a:gridCol w="14828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形狀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三角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圓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正方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長方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破音一"/>
                        </a:rPr>
                        <a:t>個數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195640" y="5805360"/>
            <a:ext cx="64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5805360"/>
            <a:ext cx="64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580536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59640" y="5805360"/>
            <a:ext cx="64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d47d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d47d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d47d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d47d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d47d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79280" y="5157720"/>
          <a:ext cx="7417080" cy="1295640"/>
        </p:xfrm>
        <a:graphic>
          <a:graphicData uri="http://schemas.openxmlformats.org/drawingml/2006/table">
            <a:tbl>
              <a:tblPr/>
              <a:tblGrid>
                <a:gridCol w="1482840"/>
                <a:gridCol w="1484280"/>
                <a:gridCol w="1482840"/>
                <a:gridCol w="1484280"/>
                <a:gridCol w="14828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形狀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三角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圓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正方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長方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破音一"/>
                        </a:rPr>
                        <a:t>個數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2195640" y="5805360"/>
            <a:ext cx="64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580536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5805360"/>
            <a:ext cx="79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59640" y="5805360"/>
            <a:ext cx="64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73720" y="1757520"/>
            <a:ext cx="84276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1120" y="3262320"/>
            <a:ext cx="842760" cy="843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368440"/>
            <a:ext cx="2360880" cy="16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43280" y="4287960"/>
            <a:ext cx="506160" cy="50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89280" y="4290840"/>
            <a:ext cx="504720" cy="50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2040" y="4290840"/>
            <a:ext cx="506520" cy="50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1840" y="4287960"/>
            <a:ext cx="506520" cy="50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12840" y="2602080"/>
            <a:ext cx="33660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87480" y="2602080"/>
            <a:ext cx="33660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0600" y="2602080"/>
            <a:ext cx="336600" cy="11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12840" y="3613320"/>
            <a:ext cx="168480" cy="168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49440" y="3613320"/>
            <a:ext cx="168480" cy="168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87480" y="3613320"/>
            <a:ext cx="168480" cy="168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3613320"/>
            <a:ext cx="168480" cy="168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84960" y="2095560"/>
            <a:ext cx="338040" cy="10112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0800000">
            <a:off x="4641480" y="2095200"/>
            <a:ext cx="506520" cy="8427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1840" y="3106800"/>
            <a:ext cx="506520" cy="8427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79880" y="1082520"/>
            <a:ext cx="168480" cy="50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27320" y="573120"/>
            <a:ext cx="336600" cy="338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4560" y="404640"/>
            <a:ext cx="5029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7040" y="741240"/>
            <a:ext cx="169560" cy="16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13200" y="911160"/>
            <a:ext cx="168480" cy="168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95840" y="406440"/>
            <a:ext cx="338040" cy="338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79280" y="5157720"/>
          <a:ext cx="7417080" cy="1295640"/>
        </p:xfrm>
        <a:graphic>
          <a:graphicData uri="http://schemas.openxmlformats.org/drawingml/2006/table">
            <a:tbl>
              <a:tblPr/>
              <a:tblGrid>
                <a:gridCol w="1482840"/>
                <a:gridCol w="1484280"/>
                <a:gridCol w="1482840"/>
                <a:gridCol w="1484280"/>
                <a:gridCol w="14828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形狀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三角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圓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正方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長方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破音一"/>
                        </a:rPr>
                        <a:t>個數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2195640" y="5805360"/>
            <a:ext cx="64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580536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48360" y="5805360"/>
            <a:ext cx="79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59640" y="5805360"/>
            <a:ext cx="64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2028960"/>
            <a:ext cx="649080" cy="16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1640" y="1216080"/>
            <a:ext cx="973080" cy="81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65640" y="892080"/>
            <a:ext cx="315720" cy="31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14720" y="2514600"/>
            <a:ext cx="487440" cy="11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24360" y="2030400"/>
            <a:ext cx="649080" cy="48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95440" y="1865160"/>
            <a:ext cx="487440" cy="17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33440" y="1389240"/>
            <a:ext cx="808200" cy="48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873000">
            <a:off x="3365640" y="404280"/>
            <a:ext cx="3254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3660840"/>
            <a:ext cx="4059360" cy="11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89600" y="3002040"/>
            <a:ext cx="649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89600" y="2352600"/>
            <a:ext cx="64908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51600" y="1541520"/>
            <a:ext cx="32544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51600" y="1216080"/>
            <a:ext cx="325440" cy="32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873000">
            <a:off x="5236920" y="934920"/>
            <a:ext cx="162000" cy="16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25960" y="1754280"/>
            <a:ext cx="245880" cy="244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1146240"/>
            <a:ext cx="210960" cy="210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66760" y="397656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19440" y="3986280"/>
            <a:ext cx="16344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70320" y="398628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19400" y="398628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68840" y="398628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18280" y="3986280"/>
            <a:ext cx="16164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2225520"/>
            <a:ext cx="162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81400" y="3011400"/>
            <a:ext cx="162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4200" y="2840040"/>
            <a:ext cx="162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27200" y="806400"/>
            <a:ext cx="162000" cy="32544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87800" y="1389240"/>
            <a:ext cx="324000" cy="32364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5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79280" y="5157720"/>
          <a:ext cx="7417080" cy="1295640"/>
        </p:xfrm>
        <a:graphic>
          <a:graphicData uri="http://schemas.openxmlformats.org/drawingml/2006/table">
            <a:tbl>
              <a:tblPr/>
              <a:tblGrid>
                <a:gridCol w="1482840"/>
                <a:gridCol w="1484280"/>
                <a:gridCol w="1482840"/>
                <a:gridCol w="1484280"/>
                <a:gridCol w="14828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形狀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三角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圓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正方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"/>
                        </a:rPr>
                        <a:t>長方形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2f1311"/>
                          </a:solidFill>
                          <a:latin typeface="Times New Roman"/>
                          <a:ea typeface="文鼎標楷注音破音一"/>
                        </a:rPr>
                        <a:t>個數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195640" y="5805360"/>
            <a:ext cx="64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580536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48360" y="5805360"/>
            <a:ext cx="79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5805360"/>
            <a:ext cx="64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43440" y="1654200"/>
            <a:ext cx="441360" cy="206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33840" y="1946160"/>
            <a:ext cx="1179720" cy="73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33840" y="2830680"/>
            <a:ext cx="73836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16120" y="1947960"/>
            <a:ext cx="1179720" cy="73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60720" y="2830680"/>
            <a:ext cx="73656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09880" y="2095560"/>
            <a:ext cx="442800" cy="44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75200" y="2095560"/>
            <a:ext cx="441360" cy="44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8320" y="2975040"/>
            <a:ext cx="442800" cy="15084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1440" y="2978280"/>
            <a:ext cx="443160" cy="14904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20182800">
            <a:off x="3796920" y="618840"/>
            <a:ext cx="147600" cy="88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rot="1417200">
            <a:off x="4384800" y="620640"/>
            <a:ext cx="147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68960" y="3276720"/>
            <a:ext cx="2952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63720" y="3276720"/>
            <a:ext cx="29376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84120" y="3348000"/>
            <a:ext cx="574920" cy="57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66800" y="2963880"/>
            <a:ext cx="574920" cy="57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2963880"/>
            <a:ext cx="576360" cy="57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3730680"/>
            <a:ext cx="576360" cy="57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66800" y="3730680"/>
            <a:ext cx="574920" cy="57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3120" y="4118040"/>
            <a:ext cx="1922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95960" y="871560"/>
            <a:ext cx="382680" cy="38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421320" y="1325520"/>
            <a:ext cx="1904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629800">
            <a:off x="5830560" y="836280"/>
            <a:ext cx="191880" cy="382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0064400">
            <a:off x="6230160" y="404640"/>
            <a:ext cx="190440" cy="384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5510000">
            <a:off x="6732720" y="883800"/>
            <a:ext cx="191880" cy="382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334000">
            <a:off x="5976720" y="1223640"/>
            <a:ext cx="190440" cy="384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3459200">
            <a:off x="6615000" y="545760"/>
            <a:ext cx="192240" cy="384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5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93d8"/>
                                      </p:to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23:32:55Z</dcterms:created>
  <dc:creator>MC SYSTEM</dc:creator>
  <dc:description/>
  <dc:language>en-US</dc:language>
  <cp:lastModifiedBy>MC SYSTEM</cp:lastModifiedBy>
  <dcterms:modified xsi:type="dcterms:W3CDTF">2011-11-20T08:33:48Z</dcterms:modified>
  <cp:revision>5</cp:revision>
  <dc:subject/>
  <dc:title>說一說， 你知道這是什麼形狀嗎？</dc:title>
</cp:coreProperties>
</file>