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10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4.png" ContentType="image/png"/>
  <Override PartName="/ppt/media/image8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E12B-B8F6-4684-9B3E-8C6E69086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F55D-DCEC-469A-8941-B40E2E59D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8745-4A84-4A7F-A22A-B0661B220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7CDF-44D2-494A-B9E3-53036AF15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E96B1-227E-45AA-99F3-9DAA6DA7D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FC666-3B78-44E6-B933-021567521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E13B5-93BB-49F2-997C-DE8C23E47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36584-7C19-4AFA-B413-D1D544FB0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ABEE3-2C33-4F9C-A7D3-074AF8E58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700DE-6962-46FB-83CB-182C65AFB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93AE9-88EF-40C2-9FD3-66944351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0781-255F-4C5A-865C-5C7F3C33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A6C67-770B-464D-A849-B8244C75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7A35E-3F00-4A9E-87B6-67F62F0D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E017B-564D-43D2-9521-741DC27F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9030A-CFD0-455F-AA62-FB3B96001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43010-1DF0-4671-B80E-CB5F3E778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675FE-D71A-43E2-B8BD-31DC68AB0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FE786-1ED2-4D85-8478-FD2DF8377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EB96C-B7A5-4A31-8930-18F5077C3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B0A3F-7054-4A5F-984D-67897BAEE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10747-C18A-4B1E-B82B-EF42BF700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CEC4-1BEF-4930-B972-6713F6D4B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2F7B9-B7E4-454B-B27D-B4BADA42C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ECE89-63F9-4D0F-AE6A-A434BACE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5747E-9E95-4564-B887-0CF6E49C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9EFA1-A9E3-43ED-A450-04CE4DC1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A101F-6BD5-404C-B71D-E96BEE864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E3BA5-A383-470A-9EA4-63E1401DD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F1B80-F275-47C2-974C-D75ADDCB6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F46EE-97FB-4ABE-99E7-8A7A6142F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E6149-289D-4A79-BBDA-74674EBB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8E332-325E-424C-B328-A6130D59A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A786-FB1F-44F9-8EE0-A4E0B7833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81677-F507-416E-B740-F5BA3839A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643B9-4D1E-499D-9340-EF03FF78D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F9251-9BF5-465F-AEDD-AF190AF55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C823F-FCC9-4AC3-BDF9-FE5F1F9D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3A2D0-2FBE-434B-BDAF-7BA7B57A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36BC2-20C3-44A0-BF53-9D4DB14D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21E1C-E6B1-4100-A744-1D0C155FA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BFFC2-EC57-4A91-9504-BE5B02DC4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5B342-5E1D-41AA-9E32-F16265665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206A1-E1F9-4589-9E7E-DA16137EE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41D6-5CEF-41EE-BA23-CA9A405DC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12AB7-0A66-4028-8775-F98FF9897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0EAAA-9586-4DA8-BFA1-9CA1EF921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51949-E9D6-4A8C-AC65-D55CE1DB8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11243-8AC8-467E-9ED4-C53F6D4E8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2E512-B557-4BF4-8B26-7FE11E841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4655C-824E-49D7-9735-E94BCC1A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6B62B-E3B9-4D84-A03D-69D72C7B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1D53D-E9AB-4B4C-AF07-A2A1FB8B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C9C3D-85F4-4DED-B68D-22CF01F7F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A2CA2-E86B-4EB3-924A-2510D73D8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E2E2-FCA7-41EE-A6FE-3CDA71CDC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65647-29DE-451D-9322-8D76B89D0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01ABF-80E9-44F3-8B0B-9B5826325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AAAFB-1482-4737-8B4D-A768A9E22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7DDC9-562D-4A17-BE5D-E5EF732A0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12817A-A594-4224-A9DA-D3B8EC8DE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B5C666-F4AC-4163-9612-3459C6A8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1DB4D-98B2-44FA-A395-D0388B2C8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ADF17-75C3-42C0-8058-CA24955E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D5C69-6A0D-47FC-A4EB-4485C248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FC256-9D06-4B55-A2BC-04DD5437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1ADC-5F90-4F31-A742-708944D4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92FB2-5381-4EA4-98F0-54E264A61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342DB-EE68-4C19-9569-3AE7D4146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A3CA7-2231-4857-B995-836858B45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4B55AE-DCAC-47E0-A2F1-F90B601E5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4C8BB-EB00-419D-A9A9-CB50F2C85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97AED-5015-4CBD-ADC6-85B1C0935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EAEB3-9829-490C-8FB2-E2309AB37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0D6DF-7045-4D72-9F06-02DAB96AC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681BA9-9FCC-44AF-92B3-443CD2BE1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27B0C-9DFE-45F8-B88F-BFAB9A60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4C9F-2026-4563-98EF-55F070FE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68D60A-FD49-42C9-898D-F0FD81F6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FFDAB-8F71-42D8-9E8F-CF00BAC9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5C4D2-CE38-4566-8CD0-5730DACCC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F8660-423F-4C41-B58B-4C116C576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FB06B-9796-4F8D-9A8A-F49652B46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02A5-704A-4209-A253-07A17317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67270-8023-4526-8B4A-ADD3AAB7C08B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8ACFB-69D5-437D-98C9-B4C17E66C9B1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05F88-C9B9-49B6-958C-F2E29EDE7FC2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CBBAE-5FF5-4900-BA41-D3003A8E89A1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2FAA5-BB91-480B-B893-0C06F16AC74C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499DB-8A44-4380-BEA7-BDB5739368D9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B3FBF-7D2D-4116-86A1-F4865EECCB3D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表格 1" descr=""/>
          <p:cNvPicPr/>
          <p:nvPr/>
        </p:nvPicPr>
        <p:blipFill>
          <a:blip r:embed="rId1"/>
          <a:stretch/>
        </p:blipFill>
        <p:spPr>
          <a:xfrm>
            <a:off x="1420920" y="2176560"/>
            <a:ext cx="6205320" cy="235260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3" descr="檢視詳細資料"/>
          <p:cNvPicPr/>
          <p:nvPr/>
        </p:nvPicPr>
        <p:blipFill>
          <a:blip r:embed="rId2"/>
          <a:stretch/>
        </p:blipFill>
        <p:spPr>
          <a:xfrm>
            <a:off x="1425600" y="5661000"/>
            <a:ext cx="1036440" cy="10368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表格 4" descr=""/>
          <p:cNvPicPr/>
          <p:nvPr/>
        </p:nvPicPr>
        <p:blipFill>
          <a:blip r:embed="rId1"/>
          <a:stretch/>
        </p:blipFill>
        <p:spPr>
          <a:xfrm>
            <a:off x="3511440" y="487440"/>
            <a:ext cx="2627280" cy="1176120"/>
          </a:xfrm>
          <a:prstGeom prst="rect">
            <a:avLst/>
          </a:prstGeom>
          <a:ln w="0">
            <a:noFill/>
          </a:ln>
        </p:spPr>
      </p:pic>
      <p:pic>
        <p:nvPicPr>
          <p:cNvPr id="338" name="資料庫圖表 2" descr=""/>
          <p:cNvPicPr/>
          <p:nvPr/>
        </p:nvPicPr>
        <p:blipFill>
          <a:blip r:embed="rId2"/>
          <a:stretch/>
        </p:blipFill>
        <p:spPr>
          <a:xfrm>
            <a:off x="1663560" y="2567160"/>
            <a:ext cx="6201000" cy="40590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5" descr="檢視詳細資料"/>
          <p:cNvPicPr/>
          <p:nvPr/>
        </p:nvPicPr>
        <p:blipFill>
          <a:blip r:embed="rId3"/>
          <a:stretch/>
        </p:blipFill>
        <p:spPr>
          <a:xfrm>
            <a:off x="7875720" y="5300640"/>
            <a:ext cx="1252440" cy="12524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資料庫圖表 2" descr=""/>
          <p:cNvPicPr/>
          <p:nvPr/>
        </p:nvPicPr>
        <p:blipFill>
          <a:blip r:embed="rId1"/>
          <a:stretch/>
        </p:blipFill>
        <p:spPr>
          <a:xfrm>
            <a:off x="1676520" y="2620800"/>
            <a:ext cx="6126120" cy="4097520"/>
          </a:xfrm>
          <a:prstGeom prst="rect">
            <a:avLst/>
          </a:prstGeom>
          <a:ln w="0">
            <a:noFill/>
          </a:ln>
        </p:spPr>
      </p:pic>
      <p:pic>
        <p:nvPicPr>
          <p:cNvPr id="341" name="表格 1" descr=""/>
          <p:cNvPicPr/>
          <p:nvPr/>
        </p:nvPicPr>
        <p:blipFill>
          <a:blip r:embed="rId2"/>
          <a:stretch/>
        </p:blipFill>
        <p:spPr>
          <a:xfrm>
            <a:off x="2719440" y="487440"/>
            <a:ext cx="3992400" cy="11761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3" descr="檢視詳細資料"/>
          <p:cNvPicPr/>
          <p:nvPr/>
        </p:nvPicPr>
        <p:blipFill>
          <a:blip r:embed="rId3"/>
          <a:stretch/>
        </p:blipFill>
        <p:spPr>
          <a:xfrm>
            <a:off x="7819920" y="5157720"/>
            <a:ext cx="1324080" cy="13240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</a:rPr>
              <a:t>網路上的網友到底是？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44" name="資料庫圖表 5" descr=""/>
          <p:cNvPicPr/>
          <p:nvPr/>
        </p:nvPicPr>
        <p:blipFill>
          <a:blip r:embed="rId1"/>
          <a:stretch/>
        </p:blipFill>
        <p:spPr>
          <a:xfrm>
            <a:off x="1779480" y="2567160"/>
            <a:ext cx="6291360" cy="4059000"/>
          </a:xfrm>
          <a:prstGeom prst="rect">
            <a:avLst/>
          </a:prstGeom>
          <a:ln w="0">
            <a:noFill/>
          </a:ln>
        </p:spPr>
      </p:pic>
      <p:pic>
        <p:nvPicPr>
          <p:cNvPr id="345" name="表格 6" descr=""/>
          <p:cNvPicPr/>
          <p:nvPr/>
        </p:nvPicPr>
        <p:blipFill>
          <a:blip r:embed="rId2"/>
          <a:stretch/>
        </p:blipFill>
        <p:spPr>
          <a:xfrm>
            <a:off x="3511440" y="487440"/>
            <a:ext cx="2644920" cy="11761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3" descr="檢視詳細資料"/>
          <p:cNvPicPr/>
          <p:nvPr/>
        </p:nvPicPr>
        <p:blipFill>
          <a:blip r:embed="rId3"/>
          <a:stretch/>
        </p:blipFill>
        <p:spPr>
          <a:xfrm>
            <a:off x="0" y="50356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資料庫圖表 3" descr=""/>
          <p:cNvPicPr/>
          <p:nvPr/>
        </p:nvPicPr>
        <p:blipFill>
          <a:blip r:embed="rId1"/>
          <a:stretch/>
        </p:blipFill>
        <p:spPr>
          <a:xfrm>
            <a:off x="1523880" y="1395360"/>
            <a:ext cx="6162840" cy="4194360"/>
          </a:xfrm>
          <a:prstGeom prst="rect">
            <a:avLst/>
          </a:prstGeom>
          <a:ln w="0">
            <a:noFill/>
          </a:ln>
        </p:spPr>
      </p:pic>
      <p:pic>
        <p:nvPicPr>
          <p:cNvPr id="348" name="表格 4" descr=""/>
          <p:cNvPicPr/>
          <p:nvPr/>
        </p:nvPicPr>
        <p:blipFill>
          <a:blip r:embed="rId2"/>
          <a:stretch/>
        </p:blipFill>
        <p:spPr>
          <a:xfrm>
            <a:off x="3511440" y="487440"/>
            <a:ext cx="2627280" cy="1176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3" descr="朋友"/>
          <p:cNvPicPr/>
          <p:nvPr/>
        </p:nvPicPr>
        <p:blipFill>
          <a:blip r:embed="rId3"/>
          <a:stretch/>
        </p:blipFill>
        <p:spPr>
          <a:xfrm>
            <a:off x="3851280" y="501804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資料庫圖表 1" descr=""/>
          <p:cNvPicPr/>
          <p:nvPr/>
        </p:nvPicPr>
        <p:blipFill>
          <a:blip r:embed="rId1"/>
          <a:stretch/>
        </p:blipFill>
        <p:spPr>
          <a:xfrm>
            <a:off x="1401840" y="2444760"/>
            <a:ext cx="6102360" cy="4254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1" name=""/>
          <p:cNvGraphicFramePr/>
          <p:nvPr/>
        </p:nvGraphicFramePr>
        <p:xfrm>
          <a:off x="2195640" y="549360"/>
          <a:ext cx="5424480" cy="718920"/>
        </p:xfrm>
        <a:graphic>
          <a:graphicData uri="http://schemas.openxmlformats.org/drawingml/2006/table">
            <a:tbl>
              <a:tblPr/>
              <a:tblGrid>
                <a:gridCol w="5424480"/>
              </a:tblGrid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4000" spc="-1" strike="noStrike">
                          <a:solidFill>
                            <a:srgbClr val="ffffff"/>
                          </a:solidFill>
                          <a:latin typeface="Candara"/>
                          <a:ea typeface="標楷體"/>
                        </a:rPr>
                        <a:t>網路交友如何自我保護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584d3"/>
                    </a:solidFill>
                  </a:tcPr>
                </a:tc>
              </a:tr>
            </a:tbl>
          </a:graphicData>
        </a:graphic>
      </p:graphicFrame>
      <p:pic>
        <p:nvPicPr>
          <p:cNvPr id="352" name="Picture 3" descr="檢視詳細資料"/>
          <p:cNvPicPr/>
          <p:nvPr/>
        </p:nvPicPr>
        <p:blipFill>
          <a:blip r:embed="rId2"/>
          <a:stretch/>
        </p:blipFill>
        <p:spPr>
          <a:xfrm>
            <a:off x="7164360" y="46530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資料庫圖表 1" descr=""/>
          <p:cNvPicPr/>
          <p:nvPr/>
        </p:nvPicPr>
        <p:blipFill>
          <a:blip r:embed="rId1"/>
          <a:stretch/>
        </p:blipFill>
        <p:spPr>
          <a:xfrm>
            <a:off x="1474920" y="2163600"/>
            <a:ext cx="6602400" cy="4664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4" name=""/>
          <p:cNvGraphicFramePr/>
          <p:nvPr/>
        </p:nvGraphicFramePr>
        <p:xfrm>
          <a:off x="611280" y="2492280"/>
          <a:ext cx="647640" cy="3017880"/>
        </p:xfrm>
        <a:graphic>
          <a:graphicData uri="http://schemas.openxmlformats.org/drawingml/2006/table">
            <a:tbl>
              <a:tblPr/>
              <a:tblGrid>
                <a:gridCol w="647640"/>
              </a:tblGrid>
              <a:tr h="301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ffff"/>
                          </a:solidFill>
                          <a:latin typeface="Candara"/>
                          <a:ea typeface="標楷體"/>
                        </a:rPr>
                        <a:t>何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ffff"/>
                          </a:solidFill>
                          <a:latin typeface="Candara"/>
                          <a:ea typeface="標楷體"/>
                        </a:rPr>
                        <a:t>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ffff"/>
                          </a:solidFill>
                          <a:latin typeface="Candara"/>
                          <a:ea typeface="標楷體"/>
                        </a:rPr>
                        <a:t>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ffff"/>
                          </a:solidFill>
                          <a:latin typeface="Candara"/>
                          <a:ea typeface="標楷體"/>
                        </a:rPr>
                        <a:t>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ffff"/>
                          </a:solidFill>
                          <a:latin typeface="Candara"/>
                          <a:ea typeface="標楷體"/>
                        </a:rPr>
                        <a:t>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ffff"/>
                          </a:solidFill>
                          <a:latin typeface="Candara"/>
                          <a:ea typeface="標楷體"/>
                        </a:rPr>
                        <a:t>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c04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3059280" y="549360"/>
          <a:ext cx="3313080" cy="699840"/>
        </p:xfrm>
        <a:graphic>
          <a:graphicData uri="http://schemas.openxmlformats.org/drawingml/2006/table">
            <a:tbl>
              <a:tblPr/>
              <a:tblGrid>
                <a:gridCol w="331308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4000" spc="-1" strike="noStrike">
                          <a:solidFill>
                            <a:srgbClr val="ffffff"/>
                          </a:solidFill>
                          <a:latin typeface="Candara"/>
                          <a:ea typeface="標楷體"/>
                        </a:rPr>
                        <a:t>個人資料外洩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pic>
        <p:nvPicPr>
          <p:cNvPr id="356" name="Picture 3" descr="檢視詳細資料"/>
          <p:cNvPicPr/>
          <p:nvPr/>
        </p:nvPicPr>
        <p:blipFill>
          <a:blip r:embed="rId2"/>
          <a:stretch/>
        </p:blipFill>
        <p:spPr>
          <a:xfrm>
            <a:off x="7164360" y="48690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資料庫圖表 3" descr=""/>
          <p:cNvPicPr/>
          <p:nvPr/>
        </p:nvPicPr>
        <p:blipFill>
          <a:blip r:embed="rId1"/>
          <a:stretch/>
        </p:blipFill>
        <p:spPr>
          <a:xfrm>
            <a:off x="1762200" y="2060640"/>
            <a:ext cx="6192720" cy="458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8" name=""/>
          <p:cNvGraphicFramePr/>
          <p:nvPr/>
        </p:nvGraphicFramePr>
        <p:xfrm>
          <a:off x="2556000" y="620640"/>
          <a:ext cx="4271760" cy="701640"/>
        </p:xfrm>
        <a:graphic>
          <a:graphicData uri="http://schemas.openxmlformats.org/drawingml/2006/table">
            <a:tbl>
              <a:tblPr/>
              <a:tblGrid>
                <a:gridCol w="427176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4000" spc="-1" strike="noStrike">
                          <a:solidFill>
                            <a:srgbClr val="ffffff"/>
                          </a:solidFill>
                          <a:latin typeface="Candara"/>
                          <a:ea typeface="標楷體"/>
                        </a:rPr>
                        <a:t>個人資料保護事項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d078"/>
                    </a:solidFill>
                  </a:tcPr>
                </a:tc>
              </a:tr>
            </a:tbl>
          </a:graphicData>
        </a:graphic>
      </p:graphicFrame>
      <p:pic>
        <p:nvPicPr>
          <p:cNvPr id="359" name="Picture 3" descr="兩個人圖像中間有箭頭"/>
          <p:cNvPicPr/>
          <p:nvPr/>
        </p:nvPicPr>
        <p:blipFill>
          <a:blip r:embed="rId2"/>
          <a:stretch/>
        </p:blipFill>
        <p:spPr>
          <a:xfrm>
            <a:off x="324000" y="309096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0" name=""/>
          <p:cNvGraphicFramePr/>
          <p:nvPr/>
        </p:nvGraphicFramePr>
        <p:xfrm>
          <a:off x="3635280" y="692280"/>
          <a:ext cx="2040120" cy="641160"/>
        </p:xfrm>
        <a:graphic>
          <a:graphicData uri="http://schemas.openxmlformats.org/drawingml/2006/table">
            <a:tbl>
              <a:tblPr/>
              <a:tblGrid>
                <a:gridCol w="2040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600" spc="-1" strike="noStrike">
                          <a:solidFill>
                            <a:srgbClr val="ffffff"/>
                          </a:solidFill>
                          <a:latin typeface="Candara"/>
                          <a:ea typeface="標楷體"/>
                        </a:rPr>
                        <a:t>參考網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d078"/>
                    </a:solidFill>
                  </a:tcPr>
                </a:tc>
              </a:tr>
            </a:tbl>
          </a:graphicData>
        </a:graphic>
      </p:graphicFrame>
      <p:pic>
        <p:nvPicPr>
          <p:cNvPr id="361" name="表格 2" descr=""/>
          <p:cNvPicPr/>
          <p:nvPr/>
        </p:nvPicPr>
        <p:blipFill>
          <a:blip r:embed="rId1"/>
          <a:stretch/>
        </p:blipFill>
        <p:spPr>
          <a:xfrm>
            <a:off x="2212920" y="3419640"/>
            <a:ext cx="5315040" cy="15001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3" descr="電腦滑鼠"/>
          <p:cNvPicPr/>
          <p:nvPr/>
        </p:nvPicPr>
        <p:blipFill>
          <a:blip r:embed="rId2"/>
          <a:stretch/>
        </p:blipFill>
        <p:spPr>
          <a:xfrm>
            <a:off x="4265640" y="49816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4T05:54:14Z</dcterms:created>
  <dc:creator>acer-2</dc:creator>
  <dc:description/>
  <dc:language>en-US</dc:language>
  <cp:lastModifiedBy>user</cp:lastModifiedBy>
  <dcterms:modified xsi:type="dcterms:W3CDTF">2011-11-12T11:52:50Z</dcterms:modified>
  <cp:revision>18</cp:revision>
  <dc:subject/>
  <dc:title>資安防護</dc:title>
</cp:coreProperties>
</file>