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03E-5B19-4A47-9451-73E42596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3D1-455C-42C7-B160-612C086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E8A-AA57-4CE4-9B1B-A6FC49C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E93-2E17-4F0E-88EE-B45FAF2E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280-FEDF-462E-9033-C2B54E62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95A1-DE4E-4A9A-99CF-DF20258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6DD-5482-481C-AF4F-E4255A2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4EB-92A5-4D3E-80ED-53EF35C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496B-369A-4CDB-A9D3-202219C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54A8-B1D2-4C50-AB5D-C65587FA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923E-5BFE-4837-B014-1604BB9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929-4645-464C-9609-881DCF6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851-E2ED-4903-851D-6C47DCA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5B13-2C82-419B-BA05-3FD1F38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BDC-C382-4FFE-9868-8B8D8F6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719-C7DC-4862-9EAC-76BA37CD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0989-586E-4067-9925-89559CA9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46A-D68F-4BDC-98CF-A4026737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E76-457C-4860-AF36-ECEFC19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D35-C729-4B47-93EE-05F32E4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172-5268-4400-9DF0-664F425F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F9B-E4E5-4E51-8661-4AC6584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28E-0928-4A0A-BCD7-D74DEB3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42C-3188-4A1E-B4DE-96EABA4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588-987B-4C92-A89E-3C652746F0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1E4-BE3B-46E8-8259-A657777046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33"/>
                </a:solidFill>
                <a:latin typeface="Garamond"/>
              </a:rPr>
              <a:t>古蹟巡禮—配天宮</a:t>
            </a:r>
            <a:r>
              <a:rPr b="0" lang="zh-TW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cc"/>
                </a:solidFill>
                <a:latin typeface="Arial"/>
              </a:rPr>
              <a:t>關於配天宮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33"/>
                </a:solidFill>
                <a:latin typeface="Garamond"/>
              </a:rPr>
              <a:t>緣起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明朝永曆三十五年—林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清朝康熙二十六年— 「樸樹宮」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清朝乾隆五十四年—「配天宮」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33"/>
                </a:solidFill>
                <a:latin typeface="Garamond"/>
              </a:rPr>
              <a:t>傳說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媽祖婆自備建廟泥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大耳香爐謝神恩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媽祖托夢要回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福至心靈得御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33"/>
                </a:solidFill>
                <a:latin typeface="Garamond"/>
              </a:rPr>
              <a:t>傳說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靈樹四季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元宵節燈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32:00Z</dcterms:created>
  <dc:creator>PC</dc:creator>
  <dc:description/>
  <dc:language>en-US</dc:language>
  <cp:lastModifiedBy>PC</cp:lastModifiedBy>
  <dcterms:modified xsi:type="dcterms:W3CDTF">2011-11-19T18:48:43Z</dcterms:modified>
  <cp:revision>3</cp:revision>
  <dc:subject/>
  <dc:title>古蹟巡禮—配天宮 </dc:title>
</cp:coreProperties>
</file>