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1BE2-C5A0-4CA1-A5D9-7C8FC2234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5AE4-3647-4C9E-966F-73E7B084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9ACC-9FC5-48BA-954E-6B2467E2E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5ED0-87AE-4CA1-AEBA-9F1A29E53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EF18-779D-44EF-BF44-093AF5B75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5113-B8ED-4D55-941D-139051C5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5344-E5C3-4562-8D00-4A05E921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70D4-612E-4D89-A3F6-1C8C4B5D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DE4A-B6A0-417E-A8FB-2E973C0D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F75E-DF4F-4C10-833D-6755B2A1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C75D-A25B-40FF-A01D-F2959D9B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93C8-D85E-484C-B87B-5953B185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7ECB-3119-441B-AFE8-C62B1BAE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6965-E69D-4126-994C-78195E9F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944F-AC8C-4D43-95A5-E266D50C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D30B-116C-4814-ADE8-C3BA7B19C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3A1D-BDAE-477D-BBB3-76C6043BB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5931-6D3E-4081-B0D2-E2E4871A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505E-BFE0-46F5-A46B-57FC88AD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06AC-C3EC-4271-9C19-80AC738E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4989-574F-4355-AB64-83401588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394E-63E7-4B0B-892B-3FF4331F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A570-E0F8-4F52-AB1E-5FCBC892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DE59-D5AA-490B-ADEF-E1FC2216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2E57-B5F1-48B8-B754-6957B5D27CF9}" type="slidenum">
              <a:rPr b="0" lang="zh-TW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FFB8-3926-44E8-97F4-3EDA6ED767BE}" type="slidenum">
              <a:rPr b="0" lang="zh-TW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23640" y="1484280"/>
            <a:ext cx="61930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000000"/>
                </a:solidFill>
                <a:latin typeface="Verdana"/>
              </a:rPr>
              <a:t>詩說樸子腳</a:t>
            </a:r>
            <a:endParaRPr b="1" lang="en-US" sz="7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866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0000ff"/>
                </a:solidFill>
                <a:latin typeface="Verdana"/>
              </a:rPr>
              <a:t>樸子腳十景</a:t>
            </a:r>
            <a:endParaRPr b="1" lang="en-US" sz="6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ff"/>
                </a:solidFill>
                <a:latin typeface="Verdana"/>
              </a:rPr>
              <a:t>配天宮</a:t>
            </a: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Verdana"/>
              </a:rPr>
              <a:t>信仰中心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Verdana"/>
              </a:rPr>
              <a:t>靈樹—四季蘭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ff"/>
                </a:solidFill>
                <a:latin typeface="Verdana"/>
              </a:rPr>
              <a:t>水道頭</a:t>
            </a: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Verdana"/>
              </a:rPr>
              <a:t>街長</a:t>
            </a:r>
            <a:r>
              <a:rPr b="1" lang="zh-TW" sz="3200" spc="-1" strike="noStrike">
                <a:solidFill>
                  <a:srgbClr val="006699"/>
                </a:solidFill>
                <a:latin typeface="Verdana"/>
              </a:rPr>
              <a:t>—</a:t>
            </a:r>
            <a:r>
              <a:rPr b="1" lang="zh-TW" sz="4400" spc="-1" strike="noStrike">
                <a:solidFill>
                  <a:srgbClr val="000000"/>
                </a:solidFill>
                <a:latin typeface="Verdana"/>
              </a:rPr>
              <a:t>黃媽典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Verdana"/>
              </a:rPr>
              <a:t>樸子市的地標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Verdana"/>
              </a:rPr>
              <a:t>市徽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ff"/>
                </a:solidFill>
                <a:latin typeface="Verdana"/>
              </a:rPr>
              <a:t>朴子市的地標—水道頭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207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ff"/>
                </a:solidFill>
                <a:latin typeface="Verdana"/>
              </a:rPr>
              <a:t>牛挑灣</a:t>
            </a: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Verdana"/>
              </a:rPr>
              <a:t>牛挑灣埤—自然生態園區</a:t>
            </a:r>
            <a:r>
              <a:rPr b="0" lang="zh-TW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ff"/>
                </a:solidFill>
                <a:latin typeface="Verdana"/>
              </a:rPr>
              <a:t>牛挑灣埤—自然生態園區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1692360" y="6021360"/>
            <a:ext cx="60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Times New Roman"/>
                <a:ea typeface="標楷體"/>
              </a:rPr>
              <a:t>資料來源：本張圖片取自朴子市公所全球資訊網</a:t>
            </a:r>
            <a:r>
              <a:rPr b="1" lang="zh-TW" sz="1600" spc="-1" strike="noStrike">
                <a:solidFill>
                  <a:srgbClr val="006699"/>
                </a:solidFill>
                <a:latin typeface="Times New Roman"/>
                <a:ea typeface="標楷體"/>
              </a:rPr>
              <a:t>http://puzih.cyhg.gov.tw/html/sec_16_5.html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3534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ff"/>
                </a:solidFill>
                <a:latin typeface="Verdana"/>
              </a:rPr>
              <a:t>朴子鐵枝路公園</a:t>
            </a: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Verdana"/>
              </a:rPr>
              <a:t>五分仔小火車鐵道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Verdana"/>
              </a:rPr>
              <a:t>民</a:t>
            </a:r>
            <a:r>
              <a:rPr b="1" lang="zh-TW" sz="4400" spc="-1" strike="noStrike">
                <a:solidFill>
                  <a:srgbClr val="000000"/>
                </a:solidFill>
                <a:latin typeface="Verdana"/>
              </a:rPr>
              <a:t>93</a:t>
            </a:r>
            <a:r>
              <a:rPr b="1" lang="zh-TW" sz="4400" spc="-1" strike="noStrike">
                <a:solidFill>
                  <a:srgbClr val="000000"/>
                </a:solidFill>
                <a:latin typeface="Verdana"/>
              </a:rPr>
              <a:t>年</a:t>
            </a:r>
            <a:r>
              <a:rPr b="1" lang="zh-TW" sz="44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1" lang="zh-TW" sz="4400" spc="-1" strike="noStrike">
                <a:solidFill>
                  <a:srgbClr val="000000"/>
                </a:solidFill>
                <a:latin typeface="Verdana"/>
              </a:rPr>
              <a:t>月完工—命名「鐵枝路公園」</a:t>
            </a:r>
            <a:r>
              <a:rPr b="0" lang="zh-TW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ff"/>
                </a:solidFill>
                <a:latin typeface="Verdana"/>
              </a:rPr>
              <a:t>美麗新天地</a:t>
            </a:r>
            <a:r>
              <a:rPr b="1" lang="zh-TW" sz="4400" spc="-1" strike="noStrike">
                <a:solidFill>
                  <a:srgbClr val="006666"/>
                </a:solidFill>
                <a:latin typeface="Verdana"/>
              </a:rPr>
              <a:t>—</a:t>
            </a:r>
            <a:r>
              <a:rPr b="1" lang="zh-TW" sz="5400" spc="-1" strike="noStrike">
                <a:solidFill>
                  <a:srgbClr val="0000ff"/>
                </a:solidFill>
                <a:latin typeface="Verdana"/>
              </a:rPr>
              <a:t>鐵枝路公園</a:t>
            </a: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ff"/>
                </a:solidFill>
                <a:latin typeface="Verdana"/>
              </a:rPr>
              <a:t>梅嶺美術館</a:t>
            </a: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Verdana"/>
              </a:rPr>
              <a:t>吳梅嶺老師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Verdana"/>
              </a:rPr>
              <a:t>薪火傳承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ff"/>
                </a:solidFill>
                <a:latin typeface="Verdana"/>
              </a:rPr>
              <a:t>薪火傳承</a:t>
            </a:r>
            <a:r>
              <a:rPr b="1" lang="zh-TW" sz="4400" spc="-1" strike="noStrike">
                <a:solidFill>
                  <a:srgbClr val="006666"/>
                </a:solidFill>
                <a:latin typeface="Verdana"/>
              </a:rPr>
              <a:t>—</a:t>
            </a:r>
            <a:r>
              <a:rPr b="1" lang="zh-TW" sz="5400" spc="-1" strike="noStrike">
                <a:solidFill>
                  <a:srgbClr val="0000ff"/>
                </a:solidFill>
                <a:latin typeface="Verdana"/>
              </a:rPr>
              <a:t>梅嶺美術館</a:t>
            </a: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353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ff"/>
                </a:solidFill>
                <a:latin typeface="Verdana"/>
              </a:rPr>
              <a:t>刺繡文化館</a:t>
            </a: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Verdana"/>
              </a:rPr>
              <a:t>昔日為鹽館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Verdana"/>
              </a:rPr>
              <a:t>戰後—「嘉義縣警察局船舶大隊」辦公室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Verdana"/>
              </a:rPr>
              <a:t>民國</a:t>
            </a:r>
            <a:r>
              <a:rPr b="1" lang="zh-TW" sz="4400" spc="-1" strike="noStrike">
                <a:solidFill>
                  <a:srgbClr val="000000"/>
                </a:solidFill>
                <a:latin typeface="Verdana"/>
              </a:rPr>
              <a:t>92</a:t>
            </a:r>
            <a:r>
              <a:rPr b="1" lang="zh-TW" sz="4400" spc="-1" strike="noStrike">
                <a:solidFill>
                  <a:srgbClr val="000000"/>
                </a:solidFill>
                <a:latin typeface="Verdana"/>
              </a:rPr>
              <a:t>年—朴子刺繡文化館 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Verdana"/>
              </a:rPr>
              <a:t>傳統產業永續經營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ff"/>
                </a:solidFill>
                <a:latin typeface="Verdana"/>
              </a:rPr>
              <a:t>詩說樸子腳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Verdana"/>
              </a:rPr>
              <a:t>德興棋盤三合院，槺榔掃帚新容顏。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Verdana"/>
              </a:rPr>
              <a:t>南竹古井傳百年，清澈甘甜命脈衍。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Verdana"/>
              </a:rPr>
              <a:t>林金臻妻好恩典，圖書館捐善舉先。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Verdana"/>
              </a:rPr>
              <a:t>朴子車站鐵道沿，汽笛穿梭時空間。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Verdana"/>
              </a:rPr>
              <a:t>郡役所型名帝冠，設計堅固震難撼。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Verdana"/>
              </a:rPr>
              <a:t>水道頭肇除鼠患，歷經風霜猶彌堅。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ff"/>
                </a:solidFill>
                <a:latin typeface="Verdana"/>
              </a:rPr>
              <a:t>刺繡文化館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ff"/>
                </a:solidFill>
                <a:latin typeface="Verdana"/>
              </a:rPr>
              <a:t>結論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Verdana"/>
              </a:rPr>
              <a:t>魅力商圈人氣攀，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Verdana"/>
              </a:rPr>
              <a:t>濃厚人情在其間。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Verdana"/>
              </a:rPr>
              <a:t>亮麗朴子面貌繁，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Verdana"/>
              </a:rPr>
              <a:t>幸福工程飛揚讚。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ff"/>
                </a:solidFill>
                <a:latin typeface="Verdana"/>
              </a:rPr>
              <a:t>詩說樸子腳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Verdana"/>
              </a:rPr>
              <a:t>牛挑灣溪水流潺，優質營造好景觀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Verdana"/>
              </a:rPr>
              <a:t>向日葵綻田園現，蝶蜂飛舞人作伴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Verdana"/>
              </a:rPr>
              <a:t>自行車道伴田園，節能減碳好休閒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Verdana"/>
              </a:rPr>
              <a:t>鐵道公園暮色伴，健走活力一整年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Verdana"/>
              </a:rPr>
              <a:t>梅嶺美術作品展，藝文生活好風範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Verdana"/>
              </a:rPr>
              <a:t>刺繡館成地標現，地方文化永綿延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Verdana"/>
              </a:rPr>
              <a:t>魅力商圈人氣攀，濃厚人情在其間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Verdana"/>
              </a:rPr>
              <a:t>亮麗朴子面貌繁，幸福工程飛揚讚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ff"/>
                </a:solidFill>
                <a:latin typeface="Verdana"/>
              </a:rPr>
              <a:t>德興里</a:t>
            </a:r>
            <a:r>
              <a:rPr b="0" lang="zh-TW" sz="5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Verdana"/>
              </a:rPr>
              <a:t>棋盤式格局</a:t>
            </a:r>
            <a:r>
              <a:rPr b="0" lang="zh-TW" sz="4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Verdana"/>
              </a:rPr>
              <a:t>槺榔掃帚</a:t>
            </a:r>
            <a:r>
              <a:rPr b="0" lang="zh-TW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ff"/>
                </a:solidFill>
                <a:latin typeface="Verdana"/>
              </a:rPr>
              <a:t>南竹社區（南勢竹）</a:t>
            </a: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Verdana"/>
              </a:rPr>
              <a:t>百年古井—水質清澈甘甜</a:t>
            </a:r>
            <a:r>
              <a:rPr b="0" lang="zh-TW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ff"/>
                </a:solidFill>
                <a:latin typeface="Verdana"/>
              </a:rPr>
              <a:t>金臻圖書館</a:t>
            </a: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Verdana"/>
              </a:rPr>
              <a:t>紀念林金臻先生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Verdana"/>
              </a:rPr>
              <a:t>首開私人捐建圖書館之先河</a:t>
            </a:r>
            <a:r>
              <a:rPr b="0" lang="zh-TW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ff"/>
                </a:solidFill>
                <a:latin typeface="Verdana"/>
              </a:rPr>
              <a:t>文化傳承—金臻圖書館</a:t>
            </a: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ff"/>
                </a:solidFill>
                <a:latin typeface="Verdana"/>
              </a:rPr>
              <a:t>郡役所</a:t>
            </a: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Verdana"/>
              </a:rPr>
              <a:t>今朴子分局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ff"/>
                </a:solidFill>
                <a:latin typeface="Verdana"/>
              </a:rPr>
              <a:t>打擊犯罪</a:t>
            </a:r>
            <a:r>
              <a:rPr b="1" lang="zh-TW" sz="5400" spc="-1" strike="noStrike">
                <a:solidFill>
                  <a:srgbClr val="006666"/>
                </a:solidFill>
                <a:latin typeface="Verdana"/>
              </a:rPr>
              <a:t>—</a:t>
            </a:r>
            <a:r>
              <a:rPr b="1" lang="zh-TW" sz="5400" spc="-1" strike="noStrike">
                <a:solidFill>
                  <a:srgbClr val="0000ff"/>
                </a:solidFill>
                <a:latin typeface="Verdana"/>
              </a:rPr>
              <a:t>郡役所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9T15:54:58Z</dcterms:created>
  <dc:creator>PC</dc:creator>
  <dc:description/>
  <dc:language>en-US</dc:language>
  <cp:lastModifiedBy>PC</cp:lastModifiedBy>
  <dcterms:modified xsi:type="dcterms:W3CDTF">2011-11-20T15:38:14Z</dcterms:modified>
  <cp:revision>28</cp:revision>
  <dc:subject/>
  <dc:title>詩說樸子腳</dc:title>
</cp:coreProperties>
</file>