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820-E54A-47AC-9F62-68DDEE1F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0C6-C907-423E-AA18-35207EC7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423-B245-446C-93E4-43D8EB3D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D47-BA0A-4FC9-83AF-564B2FB2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77CF-3AA5-456C-9910-D360E811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69A2-8AC5-40BC-B63F-DAB57B51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40F3-4D89-4989-A84C-210DA350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5633-CB89-46DC-BCAD-1FE8E4C9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B2AD-C70D-417F-8423-53129C02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6393-4516-459F-9B19-E1863DC2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E8F3-FEE1-44E1-A20A-D9ED338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B28-B6CF-49AB-853A-21863539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C5D2-A7FC-40CF-8103-CFDFFD46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99DB-0716-42B9-B7A3-C715D77B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0AEA-5A08-46A0-B4FB-CC2B8D5F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5AE3-69AE-45E7-8849-C42BE208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E7A0-1329-4413-A7A0-92BE699B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06F-10D5-4549-A1AB-F90DD18F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3C3-572A-44E6-B6DB-A0C6911C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9C3-CD4F-4A6A-BD18-7369404F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A5F-A183-4B3B-8A5B-1AC0737F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7EB-532F-4D24-B1EE-1D3B2A3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E04-C68A-4FD2-AA47-63E19C8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A62-F6F4-43FA-9387-F7D38F4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5217-B003-4BAB-ADB7-5D0C2D553915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F827-83B5-497D-918F-8E520D612A8A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66ff"/>
                </a:solidFill>
                <a:latin typeface="文鼎粗隸"/>
                <a:ea typeface="文鼎粗隸"/>
              </a:rPr>
              <a:t>嘉珍如數  清涼消暑</a:t>
            </a:r>
            <a:br>
              <a:rPr sz="3200"/>
            </a:b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3573000"/>
            <a:ext cx="47880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66"/>
                </a:solidFill>
                <a:latin typeface="Arial"/>
                <a:ea typeface="標楷體"/>
              </a:rPr>
              <a:t>朴子麻糬棟冰菓店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與老闆探究家鄉的美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712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大塊朵頤的得意神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71834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Arial"/>
              </a:rPr>
              <a:t>源起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ff"/>
                </a:solidFill>
                <a:latin typeface="Arial"/>
              </a:rPr>
              <a:t>創始人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Arial"/>
              </a:rPr>
              <a:t>林棟</a:t>
            </a:r>
            <a:r>
              <a:rPr b="0" lang="zh-TW" sz="4000" spc="-1" strike="noStrike">
                <a:solidFill>
                  <a:srgbClr val="0066ff"/>
                </a:solidFill>
                <a:latin typeface="Arial"/>
              </a:rPr>
              <a:t>原想從商，正好結識唐山友人，從而習得製作唐山麻糬的手藝，原本是以扁擔挑著，穿梭在大街小巷中叫賣，久而久之街坊的客人變以「麻糬棟」來稱呼賣麻糬的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Arial"/>
              </a:rPr>
              <a:t>林棟</a:t>
            </a:r>
            <a:r>
              <a:rPr b="0" lang="zh-TW" sz="40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Arial"/>
              </a:rPr>
              <a:t>傳承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目前的老闆林金生在其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歳時即開始經營冰果室迄今，秉持著父親的理念，遵循古法製作的各種配料，深深擄獲饕客們的心﹗縱使在一切講求便利的時代，老闆對食材的品質與料理的方式一如當初父親時代一樣的堅持，每個細節幾乎都不假他人之手，親自上陣，製作的過程雖然費時費工，但是能讓顧客吃到最傳統道地的家鄉味，是老闆最大的心願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Arial"/>
              </a:rPr>
              <a:t>展望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ff"/>
                </a:solidFill>
                <a:latin typeface="Arial"/>
              </a:rPr>
              <a:t>從父親接手至今已超過</a:t>
            </a:r>
            <a:r>
              <a:rPr b="0" lang="zh-TW" sz="3600" spc="-1" strike="noStrike">
                <a:solidFill>
                  <a:srgbClr val="0066ff"/>
                </a:solidFill>
                <a:latin typeface="Arial"/>
              </a:rPr>
              <a:t>35</a:t>
            </a:r>
            <a:r>
              <a:rPr b="0" lang="zh-TW" sz="3600" spc="-1" strike="noStrike">
                <a:solidFill>
                  <a:srgbClr val="0066ff"/>
                </a:solidFill>
                <a:latin typeface="Arial"/>
              </a:rPr>
              <a:t>個年頭，也有體力大不如前的感慨，不過在參訪的過程中老闆的兒子俐落的在攤位上幫忙，相信這屬於古早的好味道應該會再繼續傳承下去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Arial"/>
              </a:rPr>
              <a:t>結語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33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ff"/>
                </a:solidFill>
                <a:latin typeface="Arial"/>
              </a:rPr>
              <a:t>成功美味的背後原來就是那份堅持，他們沒有華麗的裝潢，誇張的宣傳手法，但卻總能吸引客人上門，老闆堅持數十年不變的傳統口味裡，保留了原汁原味淳厚的口感，吃ㄧ口在地的小吃，頓時百般滋味湧上心頭！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66"/>
                </a:solidFill>
                <a:latin typeface="Arial"/>
              </a:rPr>
              <a:t>工作情形及所販賣的產品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7272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琳瑯滿目的消暑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7345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涶涎欲滴的豐富配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27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探訪美味的忠實顧客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71262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05:41:34Z</dcterms:created>
  <dc:creator>PC</dc:creator>
  <dc:description/>
  <dc:language>en-US</dc:language>
  <cp:lastModifiedBy>PC</cp:lastModifiedBy>
  <dcterms:modified xsi:type="dcterms:W3CDTF">2011-06-29T21:47:43Z</dcterms:modified>
  <cp:revision>21</cp:revision>
  <dc:subject/>
  <dc:title>嘉珍如數  清涼消暑 </dc:title>
</cp:coreProperties>
</file>