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B61-5F63-4495-B1D9-D9572959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17E-28F9-4B0D-920F-17807E05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516-6C7B-48CC-977F-E453E032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91F-E54B-4883-9471-27565069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5CFD-6106-479C-80E4-6D846194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E90C-1EA4-4426-A7CF-7AE3944D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2AD4-E1D1-48C9-BE30-B1100F68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0329-82AB-4140-AB8C-D5AFD4E8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6D6C-F091-470C-AB58-9D3494C7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5F08-42BC-4961-B846-24702ABD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9D6C-05A5-4958-85BA-F7AD1E71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C61-BCC6-44B0-B98F-262862B2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5515-CD01-410F-9D4C-67091D43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5EB4-7185-4C77-8808-06FF2C7B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D0B9-3554-4D5A-8E20-51894ABA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4B46-684F-44E7-B3B6-AF10405A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0D76-9D1E-407F-ACEA-D911C132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331-2D4B-421B-BD87-5B1838A5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D25-D15A-49BA-89F9-9104F391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576-3C58-402E-B20E-08229000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3B8-031C-43E7-B40B-888D5EBB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D9E-B0C8-4B12-9095-2202F954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F8B-200A-4C06-8A11-092E4170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B38-3FB1-430D-811E-816CE33E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db1"/>
            </a:gs>
            <a:gs pos="100000">
              <a:srgbClr val="b8c08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4A19-4A24-410B-88FD-8F3151BDB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079120" y="1408680"/>
            <a:ext cx="423000" cy="490320"/>
            <a:chOff x="8079120" y="1408680"/>
            <a:chExt cx="423000" cy="490320"/>
          </a:xfrm>
        </p:grpSpPr>
        <p:grpSp>
          <p:nvGrpSpPr>
            <p:cNvPr id="6" name="Group 8"/>
            <p:cNvGrpSpPr/>
            <p:nvPr/>
          </p:nvGrpSpPr>
          <p:grpSpPr>
            <a:xfrm>
              <a:off x="8079120" y="1408680"/>
              <a:ext cx="423000" cy="340920"/>
              <a:chOff x="8079120" y="1408680"/>
              <a:chExt cx="423000" cy="34092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8259120" y="1537920"/>
                <a:ext cx="243000" cy="146880"/>
                <a:chOff x="8259120" y="1537920"/>
                <a:chExt cx="243000" cy="146880"/>
              </a:xfrm>
            </p:grpSpPr>
            <p:sp>
              <p:nvSpPr>
                <p:cNvPr id="8" name="Oval 10"/>
                <p:cNvSpPr/>
                <p:nvPr/>
              </p:nvSpPr>
              <p:spPr>
                <a:xfrm rot="1040400">
                  <a:off x="8262000" y="1597320"/>
                  <a:ext cx="225360" cy="5472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 rot="10996800">
                  <a:off x="8274960" y="1544400"/>
                  <a:ext cx="225360" cy="5436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12"/>
              <p:cNvGrpSpPr/>
              <p:nvPr/>
            </p:nvGrpSpPr>
            <p:grpSpPr>
              <a:xfrm>
                <a:off x="8079120" y="1485000"/>
                <a:ext cx="239040" cy="135360"/>
                <a:chOff x="8079120" y="1485000"/>
                <a:chExt cx="239040" cy="135360"/>
              </a:xfrm>
            </p:grpSpPr>
            <p:sp>
              <p:nvSpPr>
                <p:cNvPr id="11" name="Oval 13"/>
                <p:cNvSpPr/>
                <p:nvPr/>
              </p:nvSpPr>
              <p:spPr>
                <a:xfrm rot="11611200">
                  <a:off x="8089200" y="1510200"/>
                  <a:ext cx="225360" cy="5472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 rot="21568800">
                  <a:off x="8079120" y="1564920"/>
                  <a:ext cx="225360" cy="5436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" name="Oval 15"/>
              <p:cNvSpPr/>
              <p:nvPr/>
            </p:nvSpPr>
            <p:spPr>
              <a:xfrm rot="624600">
                <a:off x="8259840" y="1526040"/>
                <a:ext cx="37800" cy="2217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 rot="624600">
                <a:off x="8258040" y="141156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 rot="624600">
                <a:off x="8332560" y="142524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 flipH="1" rot="19862400">
              <a:off x="8232840" y="1797480"/>
              <a:ext cx="23400" cy="2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 flipH="1" rot="19862400">
              <a:off x="8219880" y="1867320"/>
              <a:ext cx="23040" cy="2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Group 20"/>
          <p:cNvGrpSpPr/>
          <p:nvPr/>
        </p:nvGrpSpPr>
        <p:grpSpPr>
          <a:xfrm>
            <a:off x="4266360" y="6400800"/>
            <a:ext cx="424800" cy="485640"/>
            <a:chOff x="4266360" y="6400800"/>
            <a:chExt cx="424800" cy="485640"/>
          </a:xfrm>
        </p:grpSpPr>
        <p:grpSp>
          <p:nvGrpSpPr>
            <p:cNvPr id="19" name="Group 21"/>
            <p:cNvGrpSpPr/>
            <p:nvPr/>
          </p:nvGrpSpPr>
          <p:grpSpPr>
            <a:xfrm>
              <a:off x="4266360" y="6400800"/>
              <a:ext cx="424800" cy="340200"/>
              <a:chOff x="4266360" y="6400800"/>
              <a:chExt cx="424800" cy="340200"/>
            </a:xfrm>
          </p:grpSpPr>
          <p:grpSp>
            <p:nvGrpSpPr>
              <p:cNvPr id="20" name="Group 22"/>
              <p:cNvGrpSpPr/>
              <p:nvPr/>
            </p:nvGrpSpPr>
            <p:grpSpPr>
              <a:xfrm>
                <a:off x="4449240" y="6452280"/>
                <a:ext cx="241920" cy="168480"/>
                <a:chOff x="4449240" y="6452280"/>
                <a:chExt cx="241920" cy="168480"/>
              </a:xfrm>
            </p:grpSpPr>
            <p:sp>
              <p:nvSpPr>
                <p:cNvPr id="21" name="Oval 23"/>
                <p:cNvSpPr/>
                <p:nvPr/>
              </p:nvSpPr>
              <p:spPr>
                <a:xfrm rot="21049800">
                  <a:off x="4463280" y="6548400"/>
                  <a:ext cx="225000" cy="5472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Oval 24"/>
                <p:cNvSpPr/>
                <p:nvPr/>
              </p:nvSpPr>
              <p:spPr>
                <a:xfrm rot="9406200">
                  <a:off x="4450680" y="6494400"/>
                  <a:ext cx="225000" cy="5436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" name="Group 25"/>
              <p:cNvGrpSpPr/>
              <p:nvPr/>
            </p:nvGrpSpPr>
            <p:grpSpPr>
              <a:xfrm>
                <a:off x="4266360" y="6523560"/>
                <a:ext cx="243720" cy="179640"/>
                <a:chOff x="4266360" y="6523560"/>
                <a:chExt cx="243720" cy="179640"/>
              </a:xfrm>
            </p:grpSpPr>
            <p:sp>
              <p:nvSpPr>
                <p:cNvPr id="24" name="Oval 26"/>
                <p:cNvSpPr/>
                <p:nvPr/>
              </p:nvSpPr>
              <p:spPr>
                <a:xfrm rot="10021200">
                  <a:off x="4269240" y="6548040"/>
                  <a:ext cx="225000" cy="5472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Oval 27"/>
                <p:cNvSpPr/>
                <p:nvPr/>
              </p:nvSpPr>
              <p:spPr>
                <a:xfrm rot="19978200">
                  <a:off x="4285080" y="6600600"/>
                  <a:ext cx="225000" cy="5436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" name="Oval 28"/>
              <p:cNvSpPr/>
              <p:nvPr/>
            </p:nvSpPr>
            <p:spPr>
              <a:xfrm rot="20634000">
                <a:off x="4476600" y="6518160"/>
                <a:ext cx="37800" cy="2217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val 29"/>
              <p:cNvSpPr/>
              <p:nvPr/>
            </p:nvSpPr>
            <p:spPr>
              <a:xfrm rot="20634000">
                <a:off x="4386960" y="642528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Oval 30"/>
              <p:cNvSpPr/>
              <p:nvPr/>
            </p:nvSpPr>
            <p:spPr>
              <a:xfrm rot="20634000">
                <a:off x="4459320" y="640476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" name="Oval 31"/>
            <p:cNvSpPr/>
            <p:nvPr/>
          </p:nvSpPr>
          <p:spPr>
            <a:xfrm flipH="1" rot="18271200">
              <a:off x="4531680" y="6786360"/>
              <a:ext cx="23040" cy="2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 flipH="1" rot="18271200">
              <a:off x="4551120" y="6854760"/>
              <a:ext cx="23040" cy="2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Group 33"/>
          <p:cNvGrpSpPr/>
          <p:nvPr/>
        </p:nvGrpSpPr>
        <p:grpSpPr>
          <a:xfrm>
            <a:off x="2037240" y="6613200"/>
            <a:ext cx="512640" cy="524160"/>
            <a:chOff x="2037240" y="6613200"/>
            <a:chExt cx="512640" cy="524160"/>
          </a:xfrm>
        </p:grpSpPr>
        <p:grpSp>
          <p:nvGrpSpPr>
            <p:cNvPr id="32" name="Group 34"/>
            <p:cNvGrpSpPr/>
            <p:nvPr/>
          </p:nvGrpSpPr>
          <p:grpSpPr>
            <a:xfrm>
              <a:off x="2037240" y="6613200"/>
              <a:ext cx="512640" cy="379800"/>
              <a:chOff x="2037240" y="6613200"/>
              <a:chExt cx="512640" cy="37980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2247840" y="6759720"/>
                <a:ext cx="302040" cy="233280"/>
                <a:chOff x="2247840" y="6759720"/>
                <a:chExt cx="302040" cy="233280"/>
              </a:xfrm>
            </p:grpSpPr>
            <p:sp>
              <p:nvSpPr>
                <p:cNvPr id="34" name="Oval 36"/>
                <p:cNvSpPr/>
                <p:nvPr/>
              </p:nvSpPr>
              <p:spPr>
                <a:xfrm rot="2069400">
                  <a:off x="2241000" y="6858360"/>
                  <a:ext cx="274680" cy="6192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Oval 37"/>
                <p:cNvSpPr/>
                <p:nvPr/>
              </p:nvSpPr>
              <p:spPr>
                <a:xfrm rot="12025800">
                  <a:off x="2272680" y="6805800"/>
                  <a:ext cx="274680" cy="615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2037240" y="6634440"/>
                <a:ext cx="302760" cy="220680"/>
                <a:chOff x="2037240" y="6634440"/>
                <a:chExt cx="302760" cy="220680"/>
              </a:xfrm>
            </p:grpSpPr>
            <p:sp>
              <p:nvSpPr>
                <p:cNvPr id="37" name="Oval 39"/>
                <p:cNvSpPr/>
                <p:nvPr/>
              </p:nvSpPr>
              <p:spPr>
                <a:xfrm rot="12640800">
                  <a:off x="2068560" y="6699960"/>
                  <a:ext cx="274680" cy="61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Oval 40"/>
                <p:cNvSpPr/>
                <p:nvPr/>
              </p:nvSpPr>
              <p:spPr>
                <a:xfrm rot="997200">
                  <a:off x="2040120" y="6755400"/>
                  <a:ext cx="274680" cy="615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Oval 41"/>
              <p:cNvSpPr/>
              <p:nvPr/>
            </p:nvSpPr>
            <p:spPr>
              <a:xfrm rot="1653600">
                <a:off x="2240640" y="6741720"/>
                <a:ext cx="46080" cy="2509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Oval 42"/>
              <p:cNvSpPr/>
              <p:nvPr/>
            </p:nvSpPr>
            <p:spPr>
              <a:xfrm rot="1653600">
                <a:off x="2301480" y="6620040"/>
                <a:ext cx="4536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val 43"/>
              <p:cNvSpPr/>
              <p:nvPr/>
            </p:nvSpPr>
            <p:spPr>
              <a:xfrm rot="1653600">
                <a:off x="2383200" y="6662520"/>
                <a:ext cx="4536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" name="Oval 44"/>
            <p:cNvSpPr/>
            <p:nvPr/>
          </p:nvSpPr>
          <p:spPr>
            <a:xfrm flipH="1" rot="20891400">
              <a:off x="2140920" y="7031520"/>
              <a:ext cx="2844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 flipH="1" rot="20891400">
              <a:off x="2100600" y="7103520"/>
              <a:ext cx="2808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46"/>
          <p:cNvGrpSpPr/>
          <p:nvPr/>
        </p:nvGrpSpPr>
        <p:grpSpPr>
          <a:xfrm>
            <a:off x="203040" y="5932080"/>
            <a:ext cx="496080" cy="492120"/>
            <a:chOff x="203040" y="5932080"/>
            <a:chExt cx="496080" cy="492120"/>
          </a:xfrm>
        </p:grpSpPr>
        <p:grpSp>
          <p:nvGrpSpPr>
            <p:cNvPr id="45" name="Group 47"/>
            <p:cNvGrpSpPr/>
            <p:nvPr/>
          </p:nvGrpSpPr>
          <p:grpSpPr>
            <a:xfrm>
              <a:off x="212040" y="5932080"/>
              <a:ext cx="487080" cy="428760"/>
              <a:chOff x="212040" y="5932080"/>
              <a:chExt cx="487080" cy="428760"/>
            </a:xfrm>
          </p:grpSpPr>
          <p:grpSp>
            <p:nvGrpSpPr>
              <p:cNvPr id="46" name="Group 48"/>
              <p:cNvGrpSpPr/>
              <p:nvPr/>
            </p:nvGrpSpPr>
            <p:grpSpPr>
              <a:xfrm>
                <a:off x="406080" y="6094800"/>
                <a:ext cx="293040" cy="266040"/>
                <a:chOff x="406080" y="6094800"/>
                <a:chExt cx="293040" cy="266040"/>
              </a:xfrm>
            </p:grpSpPr>
            <p:sp>
              <p:nvSpPr>
                <p:cNvPr id="47" name="Oval 49"/>
                <p:cNvSpPr/>
                <p:nvPr/>
              </p:nvSpPr>
              <p:spPr>
                <a:xfrm rot="2778000">
                  <a:off x="385560" y="6208560"/>
                  <a:ext cx="275760" cy="6192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Oval 50"/>
                <p:cNvSpPr/>
                <p:nvPr/>
              </p:nvSpPr>
              <p:spPr>
                <a:xfrm rot="12734400">
                  <a:off x="428040" y="6163200"/>
                  <a:ext cx="275760" cy="6156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" name="Group 51"/>
              <p:cNvGrpSpPr/>
              <p:nvPr/>
            </p:nvGrpSpPr>
            <p:grpSpPr>
              <a:xfrm>
                <a:off x="212040" y="5932080"/>
                <a:ext cx="297720" cy="256320"/>
                <a:chOff x="212040" y="5932080"/>
                <a:chExt cx="297720" cy="256320"/>
              </a:xfrm>
            </p:grpSpPr>
            <p:sp>
              <p:nvSpPr>
                <p:cNvPr id="50" name="Oval 52"/>
                <p:cNvSpPr/>
                <p:nvPr/>
              </p:nvSpPr>
              <p:spPr>
                <a:xfrm rot="13349400">
                  <a:off x="249120" y="6016680"/>
                  <a:ext cx="275760" cy="6192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Oval 53"/>
                <p:cNvSpPr/>
                <p:nvPr/>
              </p:nvSpPr>
              <p:spPr>
                <a:xfrm rot="1705800">
                  <a:off x="209880" y="6064920"/>
                  <a:ext cx="275760" cy="6156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" name="Oval 54"/>
              <p:cNvSpPr/>
              <p:nvPr/>
            </p:nvSpPr>
            <p:spPr>
              <a:xfrm rot="2362200">
                <a:off x="392760" y="6068520"/>
                <a:ext cx="46440" cy="2498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 rot="2362200">
                <a:off x="495360" y="5963760"/>
                <a:ext cx="4572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 rot="2362200">
                <a:off x="567000" y="6022440"/>
                <a:ext cx="4572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Oval 57"/>
            <p:cNvSpPr/>
            <p:nvPr/>
          </p:nvSpPr>
          <p:spPr>
            <a:xfrm flipH="1">
              <a:off x="257760" y="6330960"/>
              <a:ext cx="2844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 flipH="1">
              <a:off x="203040" y="6392880"/>
              <a:ext cx="2808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59"/>
          <p:cNvGrpSpPr/>
          <p:nvPr/>
        </p:nvGrpSpPr>
        <p:grpSpPr>
          <a:xfrm>
            <a:off x="8174880" y="5817960"/>
            <a:ext cx="516240" cy="440280"/>
            <a:chOff x="8174880" y="5817960"/>
            <a:chExt cx="516240" cy="440280"/>
          </a:xfrm>
        </p:grpSpPr>
        <p:grpSp>
          <p:nvGrpSpPr>
            <p:cNvPr id="58" name="Group 60"/>
            <p:cNvGrpSpPr/>
            <p:nvPr/>
          </p:nvGrpSpPr>
          <p:grpSpPr>
            <a:xfrm>
              <a:off x="8174880" y="5817960"/>
              <a:ext cx="516240" cy="262800"/>
              <a:chOff x="8174880" y="5817960"/>
              <a:chExt cx="516240" cy="262800"/>
            </a:xfrm>
          </p:grpSpPr>
          <p:grpSp>
            <p:nvGrpSpPr>
              <p:cNvPr id="59" name="Group 61"/>
              <p:cNvGrpSpPr/>
              <p:nvPr/>
            </p:nvGrpSpPr>
            <p:grpSpPr>
              <a:xfrm>
                <a:off x="8404920" y="5902200"/>
                <a:ext cx="286200" cy="119160"/>
                <a:chOff x="8404920" y="5902200"/>
                <a:chExt cx="286200" cy="119160"/>
              </a:xfrm>
            </p:grpSpPr>
            <p:sp>
              <p:nvSpPr>
                <p:cNvPr id="60" name="Oval 62"/>
                <p:cNvSpPr/>
                <p:nvPr/>
              </p:nvSpPr>
              <p:spPr>
                <a:xfrm rot="580200">
                  <a:off x="8406360" y="5955480"/>
                  <a:ext cx="279000" cy="4284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Oval 63"/>
                <p:cNvSpPr/>
                <p:nvPr/>
              </p:nvSpPr>
              <p:spPr>
                <a:xfrm rot="10536600">
                  <a:off x="8410680" y="5912640"/>
                  <a:ext cx="279000" cy="424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64"/>
              <p:cNvGrpSpPr/>
              <p:nvPr/>
            </p:nvGrpSpPr>
            <p:grpSpPr>
              <a:xfrm>
                <a:off x="8174880" y="5887440"/>
                <a:ext cx="283320" cy="119160"/>
                <a:chOff x="8174880" y="5887440"/>
                <a:chExt cx="283320" cy="119160"/>
              </a:xfrm>
            </p:grpSpPr>
            <p:sp>
              <p:nvSpPr>
                <p:cNvPr id="63" name="Oval 65"/>
                <p:cNvSpPr/>
                <p:nvPr/>
              </p:nvSpPr>
              <p:spPr>
                <a:xfrm rot="11151600">
                  <a:off x="8177760" y="5901480"/>
                  <a:ext cx="279000" cy="428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 rot="21108600">
                  <a:off x="8176320" y="5944320"/>
                  <a:ext cx="279000" cy="424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Oval 67"/>
              <p:cNvSpPr/>
              <p:nvPr/>
            </p:nvSpPr>
            <p:spPr>
              <a:xfrm rot="164400">
                <a:off x="8406720" y="5906880"/>
                <a:ext cx="46800" cy="1724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 rot="164400">
                <a:off x="8368200" y="5818680"/>
                <a:ext cx="46080" cy="4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 rot="164400">
                <a:off x="8461440" y="5823360"/>
                <a:ext cx="46080" cy="4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Oval 70"/>
            <p:cNvSpPr/>
            <p:nvPr/>
          </p:nvSpPr>
          <p:spPr>
            <a:xfrm flipH="1" rot="19402200">
              <a:off x="8353080" y="6161400"/>
              <a:ext cx="28800" cy="21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 flipH="1" rot="19402200">
              <a:off x="8332920" y="6230160"/>
              <a:ext cx="28440" cy="21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72"/>
          <p:cNvGrpSpPr/>
          <p:nvPr/>
        </p:nvGrpSpPr>
        <p:grpSpPr>
          <a:xfrm>
            <a:off x="6179760" y="6342120"/>
            <a:ext cx="560520" cy="515520"/>
            <a:chOff x="6179760" y="6342120"/>
            <a:chExt cx="560520" cy="515520"/>
          </a:xfrm>
        </p:grpSpPr>
        <p:grpSp>
          <p:nvGrpSpPr>
            <p:cNvPr id="71" name="Group 73"/>
            <p:cNvGrpSpPr/>
            <p:nvPr/>
          </p:nvGrpSpPr>
          <p:grpSpPr>
            <a:xfrm>
              <a:off x="6195240" y="6342120"/>
              <a:ext cx="545040" cy="476280"/>
              <a:chOff x="6195240" y="6342120"/>
              <a:chExt cx="545040" cy="476280"/>
            </a:xfrm>
          </p:grpSpPr>
          <p:grpSp>
            <p:nvGrpSpPr>
              <p:cNvPr id="72" name="Group 74"/>
              <p:cNvGrpSpPr/>
              <p:nvPr/>
            </p:nvGrpSpPr>
            <p:grpSpPr>
              <a:xfrm>
                <a:off x="6417720" y="6528240"/>
                <a:ext cx="322560" cy="290160"/>
                <a:chOff x="6417720" y="6528240"/>
                <a:chExt cx="322560" cy="290160"/>
              </a:xfrm>
            </p:grpSpPr>
            <p:sp>
              <p:nvSpPr>
                <p:cNvPr id="73" name="Oval 75"/>
                <p:cNvSpPr/>
                <p:nvPr/>
              </p:nvSpPr>
              <p:spPr>
                <a:xfrm rot="2778000">
                  <a:off x="6391080" y="6652080"/>
                  <a:ext cx="314640" cy="6192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Oval 76"/>
                <p:cNvSpPr/>
                <p:nvPr/>
              </p:nvSpPr>
              <p:spPr>
                <a:xfrm rot="12734400">
                  <a:off x="6433200" y="6607440"/>
                  <a:ext cx="314640" cy="6156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77"/>
              <p:cNvGrpSpPr/>
              <p:nvPr/>
            </p:nvGrpSpPr>
            <p:grpSpPr>
              <a:xfrm>
                <a:off x="6195240" y="6342120"/>
                <a:ext cx="329040" cy="279000"/>
                <a:chOff x="6195240" y="6342120"/>
                <a:chExt cx="329040" cy="279000"/>
              </a:xfrm>
            </p:grpSpPr>
            <p:sp>
              <p:nvSpPr>
                <p:cNvPr id="76" name="Oval 78"/>
                <p:cNvSpPr/>
                <p:nvPr/>
              </p:nvSpPr>
              <p:spPr>
                <a:xfrm rot="13349400">
                  <a:off x="6229800" y="6440040"/>
                  <a:ext cx="314640" cy="6192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Oval 79"/>
                <p:cNvSpPr/>
                <p:nvPr/>
              </p:nvSpPr>
              <p:spPr>
                <a:xfrm rot="1705800">
                  <a:off x="6190560" y="6487920"/>
                  <a:ext cx="314640" cy="6156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Oval 80"/>
              <p:cNvSpPr/>
              <p:nvPr/>
            </p:nvSpPr>
            <p:spPr>
              <a:xfrm rot="2362200">
                <a:off x="6401880" y="6501600"/>
                <a:ext cx="52920" cy="2498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81"/>
              <p:cNvSpPr/>
              <p:nvPr/>
            </p:nvSpPr>
            <p:spPr>
              <a:xfrm rot="2362200">
                <a:off x="6500160" y="6393240"/>
                <a:ext cx="5220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82"/>
              <p:cNvSpPr/>
              <p:nvPr/>
            </p:nvSpPr>
            <p:spPr>
              <a:xfrm rot="2362200">
                <a:off x="6581520" y="6460200"/>
                <a:ext cx="5220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Oval 83"/>
            <p:cNvSpPr/>
            <p:nvPr/>
          </p:nvSpPr>
          <p:spPr>
            <a:xfrm flipH="1">
              <a:off x="6243480" y="6764400"/>
              <a:ext cx="3240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 flipH="1">
              <a:off x="6179400" y="6826320"/>
              <a:ext cx="3204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85"/>
          <p:cNvGrpSpPr/>
          <p:nvPr/>
        </p:nvGrpSpPr>
        <p:grpSpPr>
          <a:xfrm>
            <a:off x="8411760" y="1368720"/>
            <a:ext cx="503280" cy="544680"/>
            <a:chOff x="8411760" y="1368720"/>
            <a:chExt cx="503280" cy="544680"/>
          </a:xfrm>
        </p:grpSpPr>
        <p:grpSp>
          <p:nvGrpSpPr>
            <p:cNvPr id="84" name="Group 86"/>
            <p:cNvGrpSpPr/>
            <p:nvPr/>
          </p:nvGrpSpPr>
          <p:grpSpPr>
            <a:xfrm>
              <a:off x="8411760" y="1368720"/>
              <a:ext cx="503280" cy="411840"/>
              <a:chOff x="8411760" y="1368720"/>
              <a:chExt cx="503280" cy="411840"/>
            </a:xfrm>
          </p:grpSpPr>
          <p:grpSp>
            <p:nvGrpSpPr>
              <p:cNvPr id="85" name="Group 87"/>
              <p:cNvGrpSpPr/>
              <p:nvPr/>
            </p:nvGrpSpPr>
            <p:grpSpPr>
              <a:xfrm>
                <a:off x="8616960" y="1375200"/>
                <a:ext cx="298080" cy="257040"/>
                <a:chOff x="8616960" y="1375200"/>
                <a:chExt cx="298080" cy="257040"/>
              </a:xfrm>
            </p:grpSpPr>
            <p:sp>
              <p:nvSpPr>
                <p:cNvPr id="86" name="Oval 88"/>
                <p:cNvSpPr/>
                <p:nvPr/>
              </p:nvSpPr>
              <p:spPr>
                <a:xfrm rot="20128200">
                  <a:off x="8638560" y="1511640"/>
                  <a:ext cx="274680" cy="6660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Oval 89"/>
                <p:cNvSpPr/>
                <p:nvPr/>
              </p:nvSpPr>
              <p:spPr>
                <a:xfrm rot="8485200">
                  <a:off x="8607240" y="1453680"/>
                  <a:ext cx="274680" cy="6624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90"/>
              <p:cNvGrpSpPr/>
              <p:nvPr/>
            </p:nvGrpSpPr>
            <p:grpSpPr>
              <a:xfrm>
                <a:off x="8411760" y="1512720"/>
                <a:ext cx="295560" cy="267840"/>
                <a:chOff x="8411760" y="1512720"/>
                <a:chExt cx="295560" cy="267840"/>
              </a:xfrm>
            </p:grpSpPr>
            <p:sp>
              <p:nvSpPr>
                <p:cNvPr id="89" name="Oval 91"/>
                <p:cNvSpPr/>
                <p:nvPr/>
              </p:nvSpPr>
              <p:spPr>
                <a:xfrm rot="9099600">
                  <a:off x="8410680" y="1573920"/>
                  <a:ext cx="274680" cy="6660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Oval 92"/>
                <p:cNvSpPr/>
                <p:nvPr/>
              </p:nvSpPr>
              <p:spPr>
                <a:xfrm rot="19056600">
                  <a:off x="8445960" y="1630080"/>
                  <a:ext cx="274680" cy="6624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Oval 93"/>
              <p:cNvSpPr/>
              <p:nvPr/>
            </p:nvSpPr>
            <p:spPr>
              <a:xfrm rot="19713000">
                <a:off x="8675640" y="1499040"/>
                <a:ext cx="46080" cy="26928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94"/>
              <p:cNvSpPr/>
              <p:nvPr/>
            </p:nvSpPr>
            <p:spPr>
              <a:xfrm rot="19713000">
                <a:off x="8514720" y="1423440"/>
                <a:ext cx="4536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95"/>
              <p:cNvSpPr/>
              <p:nvPr/>
            </p:nvSpPr>
            <p:spPr>
              <a:xfrm rot="19713000">
                <a:off x="8592840" y="1375560"/>
                <a:ext cx="4536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96"/>
            <p:cNvSpPr/>
            <p:nvPr/>
          </p:nvSpPr>
          <p:spPr>
            <a:xfrm flipH="1" rot="17350200">
              <a:off x="8795520" y="1803240"/>
              <a:ext cx="2844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 flipH="1" rot="17350200">
              <a:off x="8840160" y="1877400"/>
              <a:ext cx="28080" cy="3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db1"/>
            </a:gs>
            <a:gs pos="100000">
              <a:srgbClr val="b8c08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93"/>
          <p:cNvGrpSpPr/>
          <p:nvPr/>
        </p:nvGrpSpPr>
        <p:grpSpPr>
          <a:xfrm>
            <a:off x="5071320" y="5954040"/>
            <a:ext cx="508680" cy="1803600"/>
            <a:chOff x="5071320" y="5954040"/>
            <a:chExt cx="508680" cy="1803600"/>
          </a:xfrm>
        </p:grpSpPr>
        <p:sp>
          <p:nvSpPr>
            <p:cNvPr id="133" name="Arc 194"/>
            <p:cNvSpPr/>
            <p:nvPr/>
          </p:nvSpPr>
          <p:spPr>
            <a:xfrm>
              <a:off x="5135400" y="6157800"/>
              <a:ext cx="444600" cy="1599840"/>
            </a:xfrm>
            <a:custGeom>
              <a:avLst/>
              <a:gdLst/>
              <a:ahLst/>
              <a:rect l="l" t="t" r="r" b="b"/>
              <a:pathLst>
                <a:path fill="none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</a:path>
                <a:path stroke="0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95"/>
            <p:cNvSpPr/>
            <p:nvPr/>
          </p:nvSpPr>
          <p:spPr>
            <a:xfrm rot="18084000">
              <a:off x="5181120" y="6295320"/>
              <a:ext cx="199800" cy="57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96"/>
            <p:cNvSpPr/>
            <p:nvPr/>
          </p:nvSpPr>
          <p:spPr>
            <a:xfrm rot="19984200">
              <a:off x="5076720" y="615744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97"/>
            <p:cNvSpPr/>
            <p:nvPr/>
          </p:nvSpPr>
          <p:spPr>
            <a:xfrm rot="6199200">
              <a:off x="5181120" y="6029280"/>
              <a:ext cx="199800" cy="57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8"/>
            <p:cNvSpPr/>
            <p:nvPr/>
          </p:nvSpPr>
          <p:spPr>
            <a:xfrm>
              <a:off x="5368680" y="6224400"/>
              <a:ext cx="176400" cy="64800"/>
            </a:xfrm>
            <a:prstGeom prst="ellipse">
              <a:avLst/>
            </a:prstGeom>
            <a:solidFill>
              <a:srgbClr val="808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99"/>
            <p:cNvSpPr/>
            <p:nvPr/>
          </p:nvSpPr>
          <p:spPr>
            <a:xfrm>
              <a:off x="5076720" y="6089400"/>
              <a:ext cx="176040" cy="6660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00"/>
            <p:cNvSpPr/>
            <p:nvPr/>
          </p:nvSpPr>
          <p:spPr>
            <a:xfrm rot="17473200">
              <a:off x="5121720" y="622800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01"/>
            <p:cNvSpPr/>
            <p:nvPr/>
          </p:nvSpPr>
          <p:spPr>
            <a:xfrm rot="18975000">
              <a:off x="5252400" y="6089040"/>
              <a:ext cx="176400" cy="6660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02"/>
            <p:cNvSpPr/>
            <p:nvPr/>
          </p:nvSpPr>
          <p:spPr>
            <a:xfrm rot="16200000">
              <a:off x="5239440" y="635976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03"/>
            <p:cNvSpPr/>
            <p:nvPr/>
          </p:nvSpPr>
          <p:spPr>
            <a:xfrm rot="20104200">
              <a:off x="5309640" y="615744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92"/>
          <p:cNvGrpSpPr/>
          <p:nvPr/>
        </p:nvGrpSpPr>
        <p:grpSpPr>
          <a:xfrm>
            <a:off x="128520" y="5836680"/>
            <a:ext cx="874080" cy="2063160"/>
            <a:chOff x="128520" y="5836680"/>
            <a:chExt cx="874080" cy="2063160"/>
          </a:xfrm>
        </p:grpSpPr>
        <p:sp>
          <p:nvSpPr>
            <p:cNvPr id="144" name="Arc 173"/>
            <p:cNvSpPr/>
            <p:nvPr/>
          </p:nvSpPr>
          <p:spPr>
            <a:xfrm flipH="1" rot="290400">
              <a:off x="202680" y="6078600"/>
              <a:ext cx="725400" cy="1793880"/>
            </a:xfrm>
            <a:custGeom>
              <a:avLst/>
              <a:gdLst/>
              <a:ahLst/>
              <a:rect l="l" t="t" r="r" b="b"/>
              <a:pathLst>
                <a:path fill="none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</a:path>
                <a:path stroke="0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  <a:lnTo>
                    <a:pt x="0" y="20197"/>
                  </a:lnTo>
                  <a:lnTo>
                    <a:pt x="7657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4"/>
            <p:cNvSpPr/>
            <p:nvPr/>
          </p:nvSpPr>
          <p:spPr>
            <a:xfrm flipH="1" rot="3516000">
              <a:off x="610200" y="624384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5"/>
            <p:cNvSpPr/>
            <p:nvPr/>
          </p:nvSpPr>
          <p:spPr>
            <a:xfrm flipH="1" rot="1615800">
              <a:off x="767160" y="6081840"/>
              <a:ext cx="227160" cy="7920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76"/>
            <p:cNvSpPr/>
            <p:nvPr/>
          </p:nvSpPr>
          <p:spPr>
            <a:xfrm flipH="1" rot="15400800">
              <a:off x="610560" y="5924520"/>
              <a:ext cx="239760" cy="748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7"/>
            <p:cNvSpPr/>
            <p:nvPr/>
          </p:nvSpPr>
          <p:spPr>
            <a:xfrm flipH="1">
              <a:off x="391320" y="6161040"/>
              <a:ext cx="227160" cy="7956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79"/>
            <p:cNvSpPr/>
            <p:nvPr/>
          </p:nvSpPr>
          <p:spPr>
            <a:xfrm flipH="1" rot="4126800">
              <a:off x="686880" y="6163200"/>
              <a:ext cx="239760" cy="763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0"/>
            <p:cNvSpPr/>
            <p:nvPr/>
          </p:nvSpPr>
          <p:spPr>
            <a:xfrm flipH="1" rot="2625000">
              <a:off x="542520" y="6000480"/>
              <a:ext cx="225360" cy="7920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81"/>
            <p:cNvSpPr/>
            <p:nvPr/>
          </p:nvSpPr>
          <p:spPr>
            <a:xfrm flipH="1" rot="2743200">
              <a:off x="535680" y="6323040"/>
              <a:ext cx="239760" cy="745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82"/>
            <p:cNvSpPr/>
            <p:nvPr/>
          </p:nvSpPr>
          <p:spPr>
            <a:xfrm flipH="1" rot="1495800">
              <a:off x="467280" y="6081480"/>
              <a:ext cx="225360" cy="7920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83"/>
            <p:cNvSpPr/>
            <p:nvPr/>
          </p:nvSpPr>
          <p:spPr>
            <a:xfrm flipH="1" rot="2743200">
              <a:off x="477000" y="6427800"/>
              <a:ext cx="239760" cy="748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84"/>
            <p:cNvSpPr/>
            <p:nvPr/>
          </p:nvSpPr>
          <p:spPr>
            <a:xfrm flipH="1" rot="2743200">
              <a:off x="405360" y="650088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85"/>
            <p:cNvSpPr/>
            <p:nvPr/>
          </p:nvSpPr>
          <p:spPr>
            <a:xfrm flipH="1" rot="20563800">
              <a:off x="178200" y="6562800"/>
              <a:ext cx="239760" cy="7416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86"/>
            <p:cNvSpPr/>
            <p:nvPr/>
          </p:nvSpPr>
          <p:spPr>
            <a:xfrm flipH="1" rot="21196800">
              <a:off x="334800" y="628344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87"/>
            <p:cNvSpPr/>
            <p:nvPr/>
          </p:nvSpPr>
          <p:spPr>
            <a:xfrm flipH="1" rot="21253200">
              <a:off x="250920" y="641808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91"/>
            <p:cNvSpPr/>
            <p:nvPr/>
          </p:nvSpPr>
          <p:spPr>
            <a:xfrm flipH="1" rot="2686200">
              <a:off x="322920" y="6634080"/>
              <a:ext cx="239760" cy="748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07"/>
          <p:cNvGrpSpPr/>
          <p:nvPr/>
        </p:nvGrpSpPr>
        <p:grpSpPr>
          <a:xfrm>
            <a:off x="0" y="5850000"/>
            <a:ext cx="9144000" cy="1008000"/>
            <a:chOff x="0" y="5850000"/>
            <a:chExt cx="9144000" cy="1008000"/>
          </a:xfrm>
        </p:grpSpPr>
        <p:sp>
          <p:nvSpPr>
            <p:cNvPr id="160" name="AutoShape 368"/>
            <p:cNvSpPr/>
            <p:nvPr/>
          </p:nvSpPr>
          <p:spPr>
            <a:xfrm>
              <a:off x="0" y="6065640"/>
              <a:ext cx="539640" cy="792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369"/>
            <p:cNvSpPr/>
            <p:nvPr/>
          </p:nvSpPr>
          <p:spPr>
            <a:xfrm>
              <a:off x="324000" y="6351480"/>
              <a:ext cx="502920" cy="50508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370"/>
            <p:cNvSpPr/>
            <p:nvPr/>
          </p:nvSpPr>
          <p:spPr>
            <a:xfrm>
              <a:off x="684360" y="6065640"/>
              <a:ext cx="574560" cy="792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371"/>
            <p:cNvSpPr/>
            <p:nvPr/>
          </p:nvSpPr>
          <p:spPr>
            <a:xfrm>
              <a:off x="1116000" y="5850000"/>
              <a:ext cx="431640" cy="1008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72"/>
            <p:cNvSpPr/>
            <p:nvPr/>
          </p:nvSpPr>
          <p:spPr>
            <a:xfrm>
              <a:off x="1403280" y="6065640"/>
              <a:ext cx="504720" cy="79236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373"/>
            <p:cNvSpPr/>
            <p:nvPr/>
          </p:nvSpPr>
          <p:spPr>
            <a:xfrm>
              <a:off x="1763640" y="6354720"/>
              <a:ext cx="28728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374"/>
            <p:cNvSpPr/>
            <p:nvPr/>
          </p:nvSpPr>
          <p:spPr>
            <a:xfrm>
              <a:off x="1908000" y="6065640"/>
              <a:ext cx="649440" cy="792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375"/>
            <p:cNvSpPr/>
            <p:nvPr/>
          </p:nvSpPr>
          <p:spPr>
            <a:xfrm>
              <a:off x="2340000" y="5850000"/>
              <a:ext cx="360360" cy="100800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376"/>
            <p:cNvSpPr/>
            <p:nvPr/>
          </p:nvSpPr>
          <p:spPr>
            <a:xfrm>
              <a:off x="2627280" y="6354720"/>
              <a:ext cx="28908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377"/>
            <p:cNvSpPr/>
            <p:nvPr/>
          </p:nvSpPr>
          <p:spPr>
            <a:xfrm>
              <a:off x="3059280" y="6281640"/>
              <a:ext cx="288720" cy="576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378"/>
            <p:cNvSpPr/>
            <p:nvPr/>
          </p:nvSpPr>
          <p:spPr>
            <a:xfrm>
              <a:off x="2843280" y="6065640"/>
              <a:ext cx="288720" cy="792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379"/>
            <p:cNvSpPr/>
            <p:nvPr/>
          </p:nvSpPr>
          <p:spPr>
            <a:xfrm>
              <a:off x="2916360" y="6354720"/>
              <a:ext cx="28728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380"/>
            <p:cNvSpPr/>
            <p:nvPr/>
          </p:nvSpPr>
          <p:spPr>
            <a:xfrm>
              <a:off x="3203640" y="6062760"/>
              <a:ext cx="64908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81"/>
            <p:cNvSpPr/>
            <p:nvPr/>
          </p:nvSpPr>
          <p:spPr>
            <a:xfrm>
              <a:off x="3780000" y="6354720"/>
              <a:ext cx="28872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382"/>
            <p:cNvSpPr/>
            <p:nvPr/>
          </p:nvSpPr>
          <p:spPr>
            <a:xfrm>
              <a:off x="4211640" y="6281640"/>
              <a:ext cx="289080" cy="57636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383"/>
            <p:cNvSpPr/>
            <p:nvPr/>
          </p:nvSpPr>
          <p:spPr>
            <a:xfrm>
              <a:off x="3995640" y="6065640"/>
              <a:ext cx="289080" cy="792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384"/>
            <p:cNvSpPr/>
            <p:nvPr/>
          </p:nvSpPr>
          <p:spPr>
            <a:xfrm>
              <a:off x="4427640" y="6353280"/>
              <a:ext cx="503280" cy="5047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385"/>
            <p:cNvSpPr/>
            <p:nvPr/>
          </p:nvSpPr>
          <p:spPr>
            <a:xfrm>
              <a:off x="4643280" y="6065640"/>
              <a:ext cx="574920" cy="792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386"/>
            <p:cNvSpPr/>
            <p:nvPr/>
          </p:nvSpPr>
          <p:spPr>
            <a:xfrm>
              <a:off x="5362560" y="6065640"/>
              <a:ext cx="504720" cy="792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387"/>
            <p:cNvSpPr/>
            <p:nvPr/>
          </p:nvSpPr>
          <p:spPr>
            <a:xfrm>
              <a:off x="5076720" y="6353280"/>
              <a:ext cx="503280" cy="50472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88"/>
            <p:cNvSpPr/>
            <p:nvPr/>
          </p:nvSpPr>
          <p:spPr>
            <a:xfrm>
              <a:off x="5867280" y="6281640"/>
              <a:ext cx="289080" cy="576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389"/>
            <p:cNvSpPr/>
            <p:nvPr/>
          </p:nvSpPr>
          <p:spPr>
            <a:xfrm>
              <a:off x="5651640" y="6065640"/>
              <a:ext cx="288720" cy="79236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390"/>
            <p:cNvSpPr/>
            <p:nvPr/>
          </p:nvSpPr>
          <p:spPr>
            <a:xfrm>
              <a:off x="5724360" y="6354720"/>
              <a:ext cx="28764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391"/>
            <p:cNvSpPr/>
            <p:nvPr/>
          </p:nvSpPr>
          <p:spPr>
            <a:xfrm>
              <a:off x="6012000" y="6065640"/>
              <a:ext cx="649080" cy="792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92"/>
            <p:cNvSpPr/>
            <p:nvPr/>
          </p:nvSpPr>
          <p:spPr>
            <a:xfrm>
              <a:off x="6588000" y="6354720"/>
              <a:ext cx="28908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393"/>
            <p:cNvSpPr/>
            <p:nvPr/>
          </p:nvSpPr>
          <p:spPr>
            <a:xfrm>
              <a:off x="7020000" y="6281640"/>
              <a:ext cx="288720" cy="576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394"/>
            <p:cNvSpPr/>
            <p:nvPr/>
          </p:nvSpPr>
          <p:spPr>
            <a:xfrm>
              <a:off x="6804000" y="6065640"/>
              <a:ext cx="289080" cy="79236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395"/>
            <p:cNvSpPr/>
            <p:nvPr/>
          </p:nvSpPr>
          <p:spPr>
            <a:xfrm>
              <a:off x="7236000" y="6353280"/>
              <a:ext cx="502920" cy="5047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396"/>
            <p:cNvSpPr/>
            <p:nvPr/>
          </p:nvSpPr>
          <p:spPr>
            <a:xfrm>
              <a:off x="7451640" y="6065640"/>
              <a:ext cx="574920" cy="792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397"/>
            <p:cNvSpPr/>
            <p:nvPr/>
          </p:nvSpPr>
          <p:spPr>
            <a:xfrm>
              <a:off x="8170920" y="6065640"/>
              <a:ext cx="504720" cy="792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398"/>
            <p:cNvSpPr/>
            <p:nvPr/>
          </p:nvSpPr>
          <p:spPr>
            <a:xfrm>
              <a:off x="7885080" y="6353280"/>
              <a:ext cx="503280" cy="5047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402"/>
            <p:cNvSpPr/>
            <p:nvPr/>
          </p:nvSpPr>
          <p:spPr>
            <a:xfrm>
              <a:off x="7848720" y="6065640"/>
              <a:ext cx="649080" cy="792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403"/>
            <p:cNvSpPr/>
            <p:nvPr/>
          </p:nvSpPr>
          <p:spPr>
            <a:xfrm>
              <a:off x="8280360" y="5850000"/>
              <a:ext cx="360360" cy="1008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404"/>
            <p:cNvSpPr/>
            <p:nvPr/>
          </p:nvSpPr>
          <p:spPr>
            <a:xfrm>
              <a:off x="8567640" y="6354720"/>
              <a:ext cx="289080" cy="50328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405"/>
            <p:cNvSpPr/>
            <p:nvPr/>
          </p:nvSpPr>
          <p:spPr>
            <a:xfrm>
              <a:off x="8783640" y="6065640"/>
              <a:ext cx="289080" cy="792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406"/>
            <p:cNvSpPr/>
            <p:nvPr/>
          </p:nvSpPr>
          <p:spPr>
            <a:xfrm>
              <a:off x="8856720" y="6354720"/>
              <a:ext cx="28728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31"/>
          <p:cNvGrpSpPr/>
          <p:nvPr/>
        </p:nvGrpSpPr>
        <p:grpSpPr>
          <a:xfrm>
            <a:off x="964440" y="5729040"/>
            <a:ext cx="811080" cy="1915920"/>
            <a:chOff x="964440" y="5729040"/>
            <a:chExt cx="811080" cy="1915920"/>
          </a:xfrm>
        </p:grpSpPr>
        <p:sp>
          <p:nvSpPr>
            <p:cNvPr id="197" name="Arc 232"/>
            <p:cNvSpPr/>
            <p:nvPr/>
          </p:nvSpPr>
          <p:spPr>
            <a:xfrm rot="21309600">
              <a:off x="1033200" y="5953320"/>
              <a:ext cx="672840" cy="1666080"/>
            </a:xfrm>
            <a:custGeom>
              <a:avLst/>
              <a:gdLst/>
              <a:ahLst/>
              <a:rect l="l" t="t" r="r" b="b"/>
              <a:pathLst>
                <a:path fill="none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</a:path>
                <a:path stroke="0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  <a:lnTo>
                    <a:pt x="0" y="20197"/>
                  </a:lnTo>
                  <a:lnTo>
                    <a:pt x="7657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33"/>
            <p:cNvSpPr/>
            <p:nvPr/>
          </p:nvSpPr>
          <p:spPr>
            <a:xfrm rot="18084000">
              <a:off x="1105200" y="6107040"/>
              <a:ext cx="222480" cy="691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34"/>
            <p:cNvSpPr/>
            <p:nvPr/>
          </p:nvSpPr>
          <p:spPr>
            <a:xfrm rot="19984200">
              <a:off x="971280" y="5956200"/>
              <a:ext cx="210600" cy="7344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35"/>
            <p:cNvSpPr/>
            <p:nvPr/>
          </p:nvSpPr>
          <p:spPr>
            <a:xfrm rot="6199200">
              <a:off x="1105560" y="5810400"/>
              <a:ext cx="222480" cy="691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36"/>
            <p:cNvSpPr/>
            <p:nvPr/>
          </p:nvSpPr>
          <p:spPr>
            <a:xfrm>
              <a:off x="1320480" y="6030360"/>
              <a:ext cx="210600" cy="7380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37"/>
            <p:cNvSpPr/>
            <p:nvPr/>
          </p:nvSpPr>
          <p:spPr>
            <a:xfrm rot="17473200">
              <a:off x="1033920" y="6032520"/>
              <a:ext cx="222480" cy="7056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38"/>
            <p:cNvSpPr/>
            <p:nvPr/>
          </p:nvSpPr>
          <p:spPr>
            <a:xfrm rot="18975000">
              <a:off x="1182240" y="5881320"/>
              <a:ext cx="208800" cy="7344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39"/>
            <p:cNvSpPr/>
            <p:nvPr/>
          </p:nvSpPr>
          <p:spPr>
            <a:xfrm rot="18856800">
              <a:off x="1174680" y="6180480"/>
              <a:ext cx="222480" cy="691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40"/>
            <p:cNvSpPr/>
            <p:nvPr/>
          </p:nvSpPr>
          <p:spPr>
            <a:xfrm rot="20104200">
              <a:off x="1251000" y="5956560"/>
              <a:ext cx="208800" cy="7344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41"/>
            <p:cNvSpPr/>
            <p:nvPr/>
          </p:nvSpPr>
          <p:spPr>
            <a:xfrm rot="18856800">
              <a:off x="1229040" y="6277680"/>
              <a:ext cx="222480" cy="691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42"/>
            <p:cNvSpPr/>
            <p:nvPr/>
          </p:nvSpPr>
          <p:spPr>
            <a:xfrm rot="18856800">
              <a:off x="1295640" y="6345720"/>
              <a:ext cx="222480" cy="691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43"/>
            <p:cNvSpPr/>
            <p:nvPr/>
          </p:nvSpPr>
          <p:spPr>
            <a:xfrm rot="1036200">
              <a:off x="1505880" y="6403320"/>
              <a:ext cx="222120" cy="691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44"/>
            <p:cNvSpPr/>
            <p:nvPr/>
          </p:nvSpPr>
          <p:spPr>
            <a:xfrm rot="403200">
              <a:off x="1361520" y="6143760"/>
              <a:ext cx="222120" cy="691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45"/>
            <p:cNvSpPr/>
            <p:nvPr/>
          </p:nvSpPr>
          <p:spPr>
            <a:xfrm rot="346800">
              <a:off x="1437840" y="6269040"/>
              <a:ext cx="222120" cy="691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46"/>
            <p:cNvSpPr/>
            <p:nvPr/>
          </p:nvSpPr>
          <p:spPr>
            <a:xfrm rot="18913800">
              <a:off x="1372320" y="6469200"/>
              <a:ext cx="222120" cy="694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5"/>
          <p:cNvGrpSpPr/>
          <p:nvPr/>
        </p:nvGrpSpPr>
        <p:grpSpPr>
          <a:xfrm>
            <a:off x="1594080" y="5735160"/>
            <a:ext cx="595080" cy="635040"/>
            <a:chOff x="1594080" y="5735160"/>
            <a:chExt cx="595080" cy="635040"/>
          </a:xfrm>
        </p:grpSpPr>
        <p:grpSp>
          <p:nvGrpSpPr>
            <p:cNvPr id="213" name="Group 20"/>
            <p:cNvGrpSpPr/>
            <p:nvPr/>
          </p:nvGrpSpPr>
          <p:grpSpPr>
            <a:xfrm>
              <a:off x="1594080" y="5735160"/>
              <a:ext cx="595080" cy="444240"/>
              <a:chOff x="1594080" y="5735160"/>
              <a:chExt cx="595080" cy="444240"/>
            </a:xfrm>
          </p:grpSpPr>
          <p:grpSp>
            <p:nvGrpSpPr>
              <p:cNvPr id="214" name="Group 12"/>
              <p:cNvGrpSpPr/>
              <p:nvPr/>
            </p:nvGrpSpPr>
            <p:grpSpPr>
              <a:xfrm>
                <a:off x="1843200" y="5906880"/>
                <a:ext cx="345960" cy="231480"/>
                <a:chOff x="1843200" y="5906880"/>
                <a:chExt cx="345960" cy="231480"/>
              </a:xfrm>
            </p:grpSpPr>
            <p:sp>
              <p:nvSpPr>
                <p:cNvPr id="215" name="Oval 10"/>
                <p:cNvSpPr/>
                <p:nvPr/>
              </p:nvSpPr>
              <p:spPr>
                <a:xfrm rot="1518600">
                  <a:off x="1843200" y="6002640"/>
                  <a:ext cx="314640" cy="7164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1"/>
                <p:cNvSpPr/>
                <p:nvPr/>
              </p:nvSpPr>
              <p:spPr>
                <a:xfrm rot="11475000">
                  <a:off x="1870200" y="5936760"/>
                  <a:ext cx="314640" cy="7128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13"/>
              <p:cNvGrpSpPr/>
              <p:nvPr/>
            </p:nvGrpSpPr>
            <p:grpSpPr>
              <a:xfrm>
                <a:off x="1594080" y="5798520"/>
                <a:ext cx="342720" cy="214560"/>
                <a:chOff x="1594080" y="5798520"/>
                <a:chExt cx="342720" cy="214560"/>
              </a:xfrm>
            </p:grpSpPr>
            <p:sp>
              <p:nvSpPr>
                <p:cNvPr id="218" name="Oval 14"/>
                <p:cNvSpPr/>
                <p:nvPr/>
              </p:nvSpPr>
              <p:spPr>
                <a:xfrm rot="12089400">
                  <a:off x="1619640" y="5853240"/>
                  <a:ext cx="314640" cy="7164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15"/>
                <p:cNvSpPr/>
                <p:nvPr/>
              </p:nvSpPr>
              <p:spPr>
                <a:xfrm rot="446400">
                  <a:off x="1597320" y="5921280"/>
                  <a:ext cx="314640" cy="7128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Oval 17"/>
              <p:cNvSpPr/>
              <p:nvPr/>
            </p:nvSpPr>
            <p:spPr>
              <a:xfrm rot="1102800">
                <a:off x="1839960" y="5889240"/>
                <a:ext cx="52920" cy="28908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18"/>
              <p:cNvSpPr/>
              <p:nvPr/>
            </p:nvSpPr>
            <p:spPr>
              <a:xfrm rot="1102800">
                <a:off x="1870560" y="5741280"/>
                <a:ext cx="5220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9"/>
              <p:cNvSpPr/>
              <p:nvPr/>
            </p:nvSpPr>
            <p:spPr>
              <a:xfrm rot="1102800">
                <a:off x="1970280" y="5774400"/>
                <a:ext cx="5220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Oval 21"/>
            <p:cNvSpPr/>
            <p:nvPr/>
          </p:nvSpPr>
          <p:spPr>
            <a:xfrm flipH="1" rot="20340600">
              <a:off x="1762200" y="6239520"/>
              <a:ext cx="3240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 flipH="1" rot="20340600">
              <a:off x="1728000" y="6329160"/>
              <a:ext cx="3204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6"/>
          <p:cNvGrpSpPr/>
          <p:nvPr/>
        </p:nvGrpSpPr>
        <p:grpSpPr>
          <a:xfrm>
            <a:off x="8202240" y="4019040"/>
            <a:ext cx="422280" cy="469080"/>
            <a:chOff x="8202240" y="4019040"/>
            <a:chExt cx="422280" cy="469080"/>
          </a:xfrm>
        </p:grpSpPr>
        <p:grpSp>
          <p:nvGrpSpPr>
            <p:cNvPr id="226" name="Group 27"/>
            <p:cNvGrpSpPr/>
            <p:nvPr/>
          </p:nvGrpSpPr>
          <p:grpSpPr>
            <a:xfrm>
              <a:off x="8202240" y="4019040"/>
              <a:ext cx="422280" cy="333720"/>
              <a:chOff x="8202240" y="4019040"/>
              <a:chExt cx="422280" cy="333720"/>
            </a:xfrm>
          </p:grpSpPr>
          <p:grpSp>
            <p:nvGrpSpPr>
              <p:cNvPr id="227" name="Group 28"/>
              <p:cNvGrpSpPr/>
              <p:nvPr/>
            </p:nvGrpSpPr>
            <p:grpSpPr>
              <a:xfrm>
                <a:off x="8378640" y="4046040"/>
                <a:ext cx="245880" cy="193320"/>
                <a:chOff x="8378640" y="4046040"/>
                <a:chExt cx="245880" cy="193320"/>
              </a:xfrm>
            </p:grpSpPr>
            <p:sp>
              <p:nvSpPr>
                <p:cNvPr id="228" name="Oval 29"/>
                <p:cNvSpPr/>
                <p:nvPr/>
              </p:nvSpPr>
              <p:spPr>
                <a:xfrm rot="20553600">
                  <a:off x="8396280" y="4151880"/>
                  <a:ext cx="225000" cy="5472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30"/>
                <p:cNvSpPr/>
                <p:nvPr/>
              </p:nvSpPr>
              <p:spPr>
                <a:xfrm rot="8910000">
                  <a:off x="8376120" y="4100760"/>
                  <a:ext cx="225000" cy="5436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31"/>
              <p:cNvGrpSpPr/>
              <p:nvPr/>
            </p:nvGrpSpPr>
            <p:grpSpPr>
              <a:xfrm>
                <a:off x="8202240" y="4140720"/>
                <a:ext cx="245160" cy="203400"/>
                <a:chOff x="8202240" y="4140720"/>
                <a:chExt cx="245160" cy="203400"/>
              </a:xfrm>
            </p:grpSpPr>
            <p:sp>
              <p:nvSpPr>
                <p:cNvPr id="231" name="Oval 32"/>
                <p:cNvSpPr/>
                <p:nvPr/>
              </p:nvSpPr>
              <p:spPr>
                <a:xfrm rot="9524400">
                  <a:off x="8204400" y="4179600"/>
                  <a:ext cx="225000" cy="5472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3"/>
                <p:cNvSpPr/>
                <p:nvPr/>
              </p:nvSpPr>
              <p:spPr>
                <a:xfrm rot="19481400">
                  <a:off x="8227440" y="4229640"/>
                  <a:ext cx="225000" cy="5436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Oval 34"/>
              <p:cNvSpPr/>
              <p:nvPr/>
            </p:nvSpPr>
            <p:spPr>
              <a:xfrm rot="20137800">
                <a:off x="8418240" y="4132800"/>
                <a:ext cx="37800" cy="2217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35"/>
              <p:cNvSpPr/>
              <p:nvPr/>
            </p:nvSpPr>
            <p:spPr>
              <a:xfrm rot="20137800">
                <a:off x="8304120" y="405504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36"/>
              <p:cNvSpPr/>
              <p:nvPr/>
            </p:nvSpPr>
            <p:spPr>
              <a:xfrm rot="20137800">
                <a:off x="8372520" y="402408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Oval 37"/>
            <p:cNvSpPr/>
            <p:nvPr/>
          </p:nvSpPr>
          <p:spPr>
            <a:xfrm flipH="1" rot="17775600">
              <a:off x="8497440" y="4392720"/>
              <a:ext cx="23040" cy="2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38"/>
            <p:cNvSpPr/>
            <p:nvPr/>
          </p:nvSpPr>
          <p:spPr>
            <a:xfrm flipH="1" rot="17775600">
              <a:off x="8525880" y="4457880"/>
              <a:ext cx="23040" cy="2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39"/>
          <p:cNvGrpSpPr/>
          <p:nvPr/>
        </p:nvGrpSpPr>
        <p:grpSpPr>
          <a:xfrm>
            <a:off x="4242600" y="5743080"/>
            <a:ext cx="424800" cy="486000"/>
            <a:chOff x="4242600" y="5743080"/>
            <a:chExt cx="424800" cy="486000"/>
          </a:xfrm>
        </p:grpSpPr>
        <p:grpSp>
          <p:nvGrpSpPr>
            <p:cNvPr id="239" name="Group 40"/>
            <p:cNvGrpSpPr/>
            <p:nvPr/>
          </p:nvGrpSpPr>
          <p:grpSpPr>
            <a:xfrm>
              <a:off x="4242600" y="5743080"/>
              <a:ext cx="424800" cy="340560"/>
              <a:chOff x="4242600" y="5743080"/>
              <a:chExt cx="424800" cy="340560"/>
            </a:xfrm>
          </p:grpSpPr>
          <p:grpSp>
            <p:nvGrpSpPr>
              <p:cNvPr id="240" name="Group 41"/>
              <p:cNvGrpSpPr/>
              <p:nvPr/>
            </p:nvGrpSpPr>
            <p:grpSpPr>
              <a:xfrm>
                <a:off x="4425840" y="5795280"/>
                <a:ext cx="241560" cy="168120"/>
                <a:chOff x="4425840" y="5795280"/>
                <a:chExt cx="241560" cy="168120"/>
              </a:xfrm>
            </p:grpSpPr>
            <p:sp>
              <p:nvSpPr>
                <p:cNvPr id="241" name="Oval 42"/>
                <p:cNvSpPr/>
                <p:nvPr/>
              </p:nvSpPr>
              <p:spPr>
                <a:xfrm rot="21049800">
                  <a:off x="4439160" y="5891040"/>
                  <a:ext cx="225360" cy="5472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Oval 43"/>
                <p:cNvSpPr/>
                <p:nvPr/>
              </p:nvSpPr>
              <p:spPr>
                <a:xfrm rot="9406200">
                  <a:off x="4427280" y="5837400"/>
                  <a:ext cx="225360" cy="5436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Group 44"/>
              <p:cNvGrpSpPr/>
              <p:nvPr/>
            </p:nvGrpSpPr>
            <p:grpSpPr>
              <a:xfrm>
                <a:off x="4242600" y="5865840"/>
                <a:ext cx="243720" cy="180000"/>
                <a:chOff x="4242600" y="5865840"/>
                <a:chExt cx="243720" cy="180000"/>
              </a:xfrm>
            </p:grpSpPr>
            <p:sp>
              <p:nvSpPr>
                <p:cNvPr id="244" name="Oval 45"/>
                <p:cNvSpPr/>
                <p:nvPr/>
              </p:nvSpPr>
              <p:spPr>
                <a:xfrm rot="10021200">
                  <a:off x="4245480" y="5890320"/>
                  <a:ext cx="225360" cy="5472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Oval 46"/>
                <p:cNvSpPr/>
                <p:nvPr/>
              </p:nvSpPr>
              <p:spPr>
                <a:xfrm rot="19978200">
                  <a:off x="4260960" y="5943240"/>
                  <a:ext cx="225360" cy="5436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Oval 47"/>
              <p:cNvSpPr/>
              <p:nvPr/>
            </p:nvSpPr>
            <p:spPr>
              <a:xfrm rot="20634000">
                <a:off x="4452480" y="5860800"/>
                <a:ext cx="37800" cy="2217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48"/>
              <p:cNvSpPr/>
              <p:nvPr/>
            </p:nvSpPr>
            <p:spPr>
              <a:xfrm rot="20634000">
                <a:off x="4362840" y="576792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49"/>
              <p:cNvSpPr/>
              <p:nvPr/>
            </p:nvSpPr>
            <p:spPr>
              <a:xfrm rot="20634000">
                <a:off x="4435200" y="574704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Oval 50"/>
            <p:cNvSpPr/>
            <p:nvPr/>
          </p:nvSpPr>
          <p:spPr>
            <a:xfrm flipH="1" rot="18271200">
              <a:off x="4506480" y="6129000"/>
              <a:ext cx="23400" cy="2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51"/>
            <p:cNvSpPr/>
            <p:nvPr/>
          </p:nvSpPr>
          <p:spPr>
            <a:xfrm flipH="1" rot="18271200">
              <a:off x="4527000" y="6197400"/>
              <a:ext cx="23040" cy="2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5"/>
          <p:cNvGrpSpPr/>
          <p:nvPr/>
        </p:nvGrpSpPr>
        <p:grpSpPr>
          <a:xfrm>
            <a:off x="817920" y="5295600"/>
            <a:ext cx="369360" cy="432000"/>
            <a:chOff x="817920" y="5295600"/>
            <a:chExt cx="369360" cy="432000"/>
          </a:xfrm>
        </p:grpSpPr>
        <p:grpSp>
          <p:nvGrpSpPr>
            <p:cNvPr id="252" name="Group 66"/>
            <p:cNvGrpSpPr/>
            <p:nvPr/>
          </p:nvGrpSpPr>
          <p:grpSpPr>
            <a:xfrm>
              <a:off x="817920" y="5295600"/>
              <a:ext cx="369360" cy="312120"/>
              <a:chOff x="817920" y="5295600"/>
              <a:chExt cx="369360" cy="312120"/>
            </a:xfrm>
          </p:grpSpPr>
          <p:grpSp>
            <p:nvGrpSpPr>
              <p:cNvPr id="253" name="Group 67"/>
              <p:cNvGrpSpPr/>
              <p:nvPr/>
            </p:nvGrpSpPr>
            <p:grpSpPr>
              <a:xfrm>
                <a:off x="964800" y="5414760"/>
                <a:ext cx="222480" cy="180000"/>
                <a:chOff x="964800" y="5414760"/>
                <a:chExt cx="222480" cy="180000"/>
              </a:xfrm>
            </p:grpSpPr>
            <p:sp>
              <p:nvSpPr>
                <p:cNvPr id="254" name="Oval 68"/>
                <p:cNvSpPr/>
                <p:nvPr/>
              </p:nvSpPr>
              <p:spPr>
                <a:xfrm rot="2069400">
                  <a:off x="962640" y="5491440"/>
                  <a:ext cx="194040" cy="525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69"/>
                <p:cNvSpPr/>
                <p:nvPr/>
              </p:nvSpPr>
              <p:spPr>
                <a:xfrm rot="12025800">
                  <a:off x="990000" y="5446800"/>
                  <a:ext cx="194040" cy="522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70"/>
              <p:cNvGrpSpPr/>
              <p:nvPr/>
            </p:nvGrpSpPr>
            <p:grpSpPr>
              <a:xfrm>
                <a:off x="817920" y="5325120"/>
                <a:ext cx="221400" cy="171720"/>
                <a:chOff x="817920" y="5325120"/>
                <a:chExt cx="221400" cy="171720"/>
              </a:xfrm>
            </p:grpSpPr>
            <p:sp>
              <p:nvSpPr>
                <p:cNvPr id="257" name="Oval 71"/>
                <p:cNvSpPr/>
                <p:nvPr/>
              </p:nvSpPr>
              <p:spPr>
                <a:xfrm rot="12640800">
                  <a:off x="845280" y="5370840"/>
                  <a:ext cx="194040" cy="525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72"/>
                <p:cNvSpPr/>
                <p:nvPr/>
              </p:nvSpPr>
              <p:spPr>
                <a:xfrm rot="997200">
                  <a:off x="821160" y="5418000"/>
                  <a:ext cx="194040" cy="522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Oval 73"/>
              <p:cNvSpPr/>
              <p:nvPr/>
            </p:nvSpPr>
            <p:spPr>
              <a:xfrm rot="1653600">
                <a:off x="960480" y="5399640"/>
                <a:ext cx="32400" cy="21240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74"/>
              <p:cNvSpPr/>
              <p:nvPr/>
            </p:nvSpPr>
            <p:spPr>
              <a:xfrm rot="1653600">
                <a:off x="1017720" y="5299920"/>
                <a:ext cx="3204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75"/>
              <p:cNvSpPr/>
              <p:nvPr/>
            </p:nvSpPr>
            <p:spPr>
              <a:xfrm rot="1653600">
                <a:off x="1075320" y="5329800"/>
                <a:ext cx="3204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Oval 76"/>
            <p:cNvSpPr/>
            <p:nvPr/>
          </p:nvSpPr>
          <p:spPr>
            <a:xfrm flipH="1" rot="20891400">
              <a:off x="899640" y="5639760"/>
              <a:ext cx="19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77"/>
            <p:cNvSpPr/>
            <p:nvPr/>
          </p:nvSpPr>
          <p:spPr>
            <a:xfrm flipH="1" rot="20891400">
              <a:off x="872280" y="5699160"/>
              <a:ext cx="198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78"/>
          <p:cNvGrpSpPr/>
          <p:nvPr/>
        </p:nvGrpSpPr>
        <p:grpSpPr>
          <a:xfrm>
            <a:off x="-724680" y="1240200"/>
            <a:ext cx="657360" cy="642240"/>
            <a:chOff x="-724680" y="1240200"/>
            <a:chExt cx="657360" cy="642240"/>
          </a:xfrm>
        </p:grpSpPr>
        <p:grpSp>
          <p:nvGrpSpPr>
            <p:cNvPr id="265" name="Group 79"/>
            <p:cNvGrpSpPr/>
            <p:nvPr/>
          </p:nvGrpSpPr>
          <p:grpSpPr>
            <a:xfrm>
              <a:off x="-546120" y="1240200"/>
              <a:ext cx="478800" cy="642240"/>
              <a:chOff x="-546120" y="1240200"/>
              <a:chExt cx="478800" cy="642240"/>
            </a:xfrm>
          </p:grpSpPr>
          <p:grpSp>
            <p:nvGrpSpPr>
              <p:cNvPr id="266" name="Group 80"/>
              <p:cNvGrpSpPr/>
              <p:nvPr/>
            </p:nvGrpSpPr>
            <p:grpSpPr>
              <a:xfrm>
                <a:off x="-364320" y="1510560"/>
                <a:ext cx="297000" cy="371880"/>
                <a:chOff x="-364320" y="1510560"/>
                <a:chExt cx="297000" cy="371880"/>
              </a:xfrm>
            </p:grpSpPr>
            <p:sp>
              <p:nvSpPr>
                <p:cNvPr id="267" name="Oval 81"/>
                <p:cNvSpPr/>
                <p:nvPr/>
              </p:nvSpPr>
              <p:spPr>
                <a:xfrm rot="4081800">
                  <a:off x="-441360" y="1669320"/>
                  <a:ext cx="353520" cy="7164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Oval 82"/>
                <p:cNvSpPr/>
                <p:nvPr/>
              </p:nvSpPr>
              <p:spPr>
                <a:xfrm rot="14038800">
                  <a:off x="-376560" y="1638720"/>
                  <a:ext cx="353520" cy="7128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83"/>
              <p:cNvGrpSpPr/>
              <p:nvPr/>
            </p:nvGrpSpPr>
            <p:grpSpPr>
              <a:xfrm>
                <a:off x="-546120" y="1240200"/>
                <a:ext cx="312480" cy="367920"/>
                <a:chOff x="-546120" y="1240200"/>
                <a:chExt cx="312480" cy="367920"/>
              </a:xfrm>
            </p:grpSpPr>
            <p:sp>
              <p:nvSpPr>
                <p:cNvPr id="270" name="Oval 84"/>
                <p:cNvSpPr/>
                <p:nvPr/>
              </p:nvSpPr>
              <p:spPr>
                <a:xfrm rot="14653200">
                  <a:off x="-519120" y="1379160"/>
                  <a:ext cx="353520" cy="7164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Oval 85"/>
                <p:cNvSpPr/>
                <p:nvPr/>
              </p:nvSpPr>
              <p:spPr>
                <a:xfrm rot="3010200">
                  <a:off x="-582120" y="1413720"/>
                  <a:ext cx="353520" cy="7128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Oval 86"/>
              <p:cNvSpPr/>
              <p:nvPr/>
            </p:nvSpPr>
            <p:spPr>
              <a:xfrm rot="3666600">
                <a:off x="-397080" y="1451880"/>
                <a:ext cx="59400" cy="28908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87"/>
              <p:cNvSpPr/>
              <p:nvPr/>
            </p:nvSpPr>
            <p:spPr>
              <a:xfrm rot="3666600">
                <a:off x="-203760" y="1386360"/>
                <a:ext cx="586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88"/>
              <p:cNvSpPr/>
              <p:nvPr/>
            </p:nvSpPr>
            <p:spPr>
              <a:xfrm rot="3666600">
                <a:off x="-146520" y="1489680"/>
                <a:ext cx="586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Oval 89"/>
            <p:cNvSpPr/>
            <p:nvPr/>
          </p:nvSpPr>
          <p:spPr>
            <a:xfrm flipH="1" rot="1303800">
              <a:off x="-626400" y="167328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90"/>
            <p:cNvSpPr/>
            <p:nvPr/>
          </p:nvSpPr>
          <p:spPr>
            <a:xfrm flipH="1" rot="1303800">
              <a:off x="-719280" y="171288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91"/>
          <p:cNvGrpSpPr/>
          <p:nvPr/>
        </p:nvGrpSpPr>
        <p:grpSpPr>
          <a:xfrm>
            <a:off x="179280" y="5274720"/>
            <a:ext cx="496080" cy="492480"/>
            <a:chOff x="179280" y="5274720"/>
            <a:chExt cx="496080" cy="492480"/>
          </a:xfrm>
        </p:grpSpPr>
        <p:grpSp>
          <p:nvGrpSpPr>
            <p:cNvPr id="278" name="Group 92"/>
            <p:cNvGrpSpPr/>
            <p:nvPr/>
          </p:nvGrpSpPr>
          <p:grpSpPr>
            <a:xfrm>
              <a:off x="188280" y="5274720"/>
              <a:ext cx="487080" cy="428760"/>
              <a:chOff x="188280" y="5274720"/>
              <a:chExt cx="487080" cy="428760"/>
            </a:xfrm>
          </p:grpSpPr>
          <p:grpSp>
            <p:nvGrpSpPr>
              <p:cNvPr id="279" name="Group 93"/>
              <p:cNvGrpSpPr/>
              <p:nvPr/>
            </p:nvGrpSpPr>
            <p:grpSpPr>
              <a:xfrm>
                <a:off x="382320" y="5437440"/>
                <a:ext cx="293040" cy="266040"/>
                <a:chOff x="382320" y="5437440"/>
                <a:chExt cx="293040" cy="266040"/>
              </a:xfrm>
            </p:grpSpPr>
            <p:sp>
              <p:nvSpPr>
                <p:cNvPr id="280" name="Oval 94"/>
                <p:cNvSpPr/>
                <p:nvPr/>
              </p:nvSpPr>
              <p:spPr>
                <a:xfrm rot="2778000">
                  <a:off x="361800" y="5551200"/>
                  <a:ext cx="275760" cy="6192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95"/>
                <p:cNvSpPr/>
                <p:nvPr/>
              </p:nvSpPr>
              <p:spPr>
                <a:xfrm rot="12734400">
                  <a:off x="404280" y="5505840"/>
                  <a:ext cx="275760" cy="6156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96"/>
              <p:cNvGrpSpPr/>
              <p:nvPr/>
            </p:nvGrpSpPr>
            <p:grpSpPr>
              <a:xfrm>
                <a:off x="188280" y="5274720"/>
                <a:ext cx="297720" cy="256320"/>
                <a:chOff x="188280" y="5274720"/>
                <a:chExt cx="297720" cy="256320"/>
              </a:xfrm>
            </p:grpSpPr>
            <p:sp>
              <p:nvSpPr>
                <p:cNvPr id="283" name="Oval 97"/>
                <p:cNvSpPr/>
                <p:nvPr/>
              </p:nvSpPr>
              <p:spPr>
                <a:xfrm rot="13349400">
                  <a:off x="225360" y="5359320"/>
                  <a:ext cx="275760" cy="6192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98"/>
                <p:cNvSpPr/>
                <p:nvPr/>
              </p:nvSpPr>
              <p:spPr>
                <a:xfrm rot="1705800">
                  <a:off x="186120" y="5407560"/>
                  <a:ext cx="275760" cy="6156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Oval 99"/>
              <p:cNvSpPr/>
              <p:nvPr/>
            </p:nvSpPr>
            <p:spPr>
              <a:xfrm rot="2362200">
                <a:off x="369000" y="5411160"/>
                <a:ext cx="46440" cy="2498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100"/>
              <p:cNvSpPr/>
              <p:nvPr/>
            </p:nvSpPr>
            <p:spPr>
              <a:xfrm rot="2362200">
                <a:off x="471600" y="5306400"/>
                <a:ext cx="4572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101"/>
              <p:cNvSpPr/>
              <p:nvPr/>
            </p:nvSpPr>
            <p:spPr>
              <a:xfrm rot="2362200">
                <a:off x="543240" y="5365080"/>
                <a:ext cx="4572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Oval 102"/>
            <p:cNvSpPr/>
            <p:nvPr/>
          </p:nvSpPr>
          <p:spPr>
            <a:xfrm flipH="1">
              <a:off x="234000" y="5673960"/>
              <a:ext cx="2844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03"/>
            <p:cNvSpPr/>
            <p:nvPr/>
          </p:nvSpPr>
          <p:spPr>
            <a:xfrm flipH="1">
              <a:off x="179280" y="5735880"/>
              <a:ext cx="2808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04"/>
          <p:cNvGrpSpPr/>
          <p:nvPr/>
        </p:nvGrpSpPr>
        <p:grpSpPr>
          <a:xfrm>
            <a:off x="8151120" y="5160600"/>
            <a:ext cx="516240" cy="440280"/>
            <a:chOff x="8151120" y="5160600"/>
            <a:chExt cx="516240" cy="440280"/>
          </a:xfrm>
        </p:grpSpPr>
        <p:grpSp>
          <p:nvGrpSpPr>
            <p:cNvPr id="291" name="Group 105"/>
            <p:cNvGrpSpPr/>
            <p:nvPr/>
          </p:nvGrpSpPr>
          <p:grpSpPr>
            <a:xfrm>
              <a:off x="8151120" y="5160600"/>
              <a:ext cx="516240" cy="262800"/>
              <a:chOff x="8151120" y="5160600"/>
              <a:chExt cx="516240" cy="262800"/>
            </a:xfrm>
          </p:grpSpPr>
          <p:grpSp>
            <p:nvGrpSpPr>
              <p:cNvPr id="292" name="Group 106"/>
              <p:cNvGrpSpPr/>
              <p:nvPr/>
            </p:nvGrpSpPr>
            <p:grpSpPr>
              <a:xfrm>
                <a:off x="8381160" y="5244840"/>
                <a:ext cx="286200" cy="119160"/>
                <a:chOff x="8381160" y="5244840"/>
                <a:chExt cx="286200" cy="119160"/>
              </a:xfrm>
            </p:grpSpPr>
            <p:sp>
              <p:nvSpPr>
                <p:cNvPr id="293" name="Oval 107"/>
                <p:cNvSpPr/>
                <p:nvPr/>
              </p:nvSpPr>
              <p:spPr>
                <a:xfrm rot="580200">
                  <a:off x="8382600" y="5298120"/>
                  <a:ext cx="279000" cy="4284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08"/>
                <p:cNvSpPr/>
                <p:nvPr/>
              </p:nvSpPr>
              <p:spPr>
                <a:xfrm rot="10536600">
                  <a:off x="8386920" y="5255280"/>
                  <a:ext cx="279000" cy="424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109"/>
              <p:cNvGrpSpPr/>
              <p:nvPr/>
            </p:nvGrpSpPr>
            <p:grpSpPr>
              <a:xfrm>
                <a:off x="8151120" y="5230080"/>
                <a:ext cx="283320" cy="119160"/>
                <a:chOff x="8151120" y="5230080"/>
                <a:chExt cx="283320" cy="119160"/>
              </a:xfrm>
            </p:grpSpPr>
            <p:sp>
              <p:nvSpPr>
                <p:cNvPr id="296" name="Oval 110"/>
                <p:cNvSpPr/>
                <p:nvPr/>
              </p:nvSpPr>
              <p:spPr>
                <a:xfrm rot="11151600">
                  <a:off x="8154000" y="5244120"/>
                  <a:ext cx="279000" cy="428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11"/>
                <p:cNvSpPr/>
                <p:nvPr/>
              </p:nvSpPr>
              <p:spPr>
                <a:xfrm rot="21108600">
                  <a:off x="8152560" y="5286960"/>
                  <a:ext cx="279000" cy="424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Oval 112"/>
              <p:cNvSpPr/>
              <p:nvPr/>
            </p:nvSpPr>
            <p:spPr>
              <a:xfrm rot="164400">
                <a:off x="8382960" y="5249520"/>
                <a:ext cx="46800" cy="1724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113"/>
              <p:cNvSpPr/>
              <p:nvPr/>
            </p:nvSpPr>
            <p:spPr>
              <a:xfrm rot="164400">
                <a:off x="8344440" y="5161320"/>
                <a:ext cx="46080" cy="4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14"/>
              <p:cNvSpPr/>
              <p:nvPr/>
            </p:nvSpPr>
            <p:spPr>
              <a:xfrm rot="164400">
                <a:off x="8437680" y="5166000"/>
                <a:ext cx="46080" cy="4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Oval 115"/>
            <p:cNvSpPr/>
            <p:nvPr/>
          </p:nvSpPr>
          <p:spPr>
            <a:xfrm flipH="1" rot="19402200">
              <a:off x="8329320" y="5504040"/>
              <a:ext cx="28800" cy="21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16"/>
            <p:cNvSpPr/>
            <p:nvPr/>
          </p:nvSpPr>
          <p:spPr>
            <a:xfrm flipH="1" rot="19402200">
              <a:off x="8309160" y="5572800"/>
              <a:ext cx="28440" cy="21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33"/>
          <p:cNvGrpSpPr/>
          <p:nvPr/>
        </p:nvGrpSpPr>
        <p:grpSpPr>
          <a:xfrm>
            <a:off x="6156000" y="5684760"/>
            <a:ext cx="560520" cy="515520"/>
            <a:chOff x="6156000" y="5684760"/>
            <a:chExt cx="560520" cy="515520"/>
          </a:xfrm>
        </p:grpSpPr>
        <p:grpSp>
          <p:nvGrpSpPr>
            <p:cNvPr id="304" name="Group 134"/>
            <p:cNvGrpSpPr/>
            <p:nvPr/>
          </p:nvGrpSpPr>
          <p:grpSpPr>
            <a:xfrm>
              <a:off x="6171480" y="5684760"/>
              <a:ext cx="545040" cy="476280"/>
              <a:chOff x="6171480" y="5684760"/>
              <a:chExt cx="545040" cy="476280"/>
            </a:xfrm>
          </p:grpSpPr>
          <p:grpSp>
            <p:nvGrpSpPr>
              <p:cNvPr id="305" name="Group 135"/>
              <p:cNvGrpSpPr/>
              <p:nvPr/>
            </p:nvGrpSpPr>
            <p:grpSpPr>
              <a:xfrm>
                <a:off x="6393960" y="5870880"/>
                <a:ext cx="322560" cy="290160"/>
                <a:chOff x="6393960" y="5870880"/>
                <a:chExt cx="322560" cy="290160"/>
              </a:xfrm>
            </p:grpSpPr>
            <p:sp>
              <p:nvSpPr>
                <p:cNvPr id="306" name="Oval 136"/>
                <p:cNvSpPr/>
                <p:nvPr/>
              </p:nvSpPr>
              <p:spPr>
                <a:xfrm rot="2778000">
                  <a:off x="6367320" y="5994720"/>
                  <a:ext cx="314640" cy="6192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37"/>
                <p:cNvSpPr/>
                <p:nvPr/>
              </p:nvSpPr>
              <p:spPr>
                <a:xfrm rot="12734400">
                  <a:off x="6409440" y="5950080"/>
                  <a:ext cx="314640" cy="6156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138"/>
              <p:cNvGrpSpPr/>
              <p:nvPr/>
            </p:nvGrpSpPr>
            <p:grpSpPr>
              <a:xfrm>
                <a:off x="6171480" y="5684760"/>
                <a:ext cx="329040" cy="279000"/>
                <a:chOff x="6171480" y="5684760"/>
                <a:chExt cx="329040" cy="279000"/>
              </a:xfrm>
            </p:grpSpPr>
            <p:sp>
              <p:nvSpPr>
                <p:cNvPr id="309" name="Oval 139"/>
                <p:cNvSpPr/>
                <p:nvPr/>
              </p:nvSpPr>
              <p:spPr>
                <a:xfrm rot="13349400">
                  <a:off x="6206040" y="5782680"/>
                  <a:ext cx="314640" cy="6192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40"/>
                <p:cNvSpPr/>
                <p:nvPr/>
              </p:nvSpPr>
              <p:spPr>
                <a:xfrm rot="1705800">
                  <a:off x="6166800" y="5830560"/>
                  <a:ext cx="314640" cy="6156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Oval 141"/>
              <p:cNvSpPr/>
              <p:nvPr/>
            </p:nvSpPr>
            <p:spPr>
              <a:xfrm rot="2362200">
                <a:off x="6378120" y="5844240"/>
                <a:ext cx="52920" cy="2498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142"/>
              <p:cNvSpPr/>
              <p:nvPr/>
            </p:nvSpPr>
            <p:spPr>
              <a:xfrm rot="2362200">
                <a:off x="6476400" y="5735880"/>
                <a:ext cx="5220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Oval 143"/>
              <p:cNvSpPr/>
              <p:nvPr/>
            </p:nvSpPr>
            <p:spPr>
              <a:xfrm rot="2362200">
                <a:off x="6557760" y="5802840"/>
                <a:ext cx="5220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Oval 144"/>
            <p:cNvSpPr/>
            <p:nvPr/>
          </p:nvSpPr>
          <p:spPr>
            <a:xfrm flipH="1">
              <a:off x="6219720" y="6107040"/>
              <a:ext cx="3240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45"/>
            <p:cNvSpPr/>
            <p:nvPr/>
          </p:nvSpPr>
          <p:spPr>
            <a:xfrm flipH="1">
              <a:off x="6155640" y="6168960"/>
              <a:ext cx="3204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90"/>
          <p:cNvGrpSpPr/>
          <p:nvPr/>
        </p:nvGrpSpPr>
        <p:grpSpPr>
          <a:xfrm>
            <a:off x="6090120" y="6007680"/>
            <a:ext cx="1042560" cy="1775880"/>
            <a:chOff x="6090120" y="6007680"/>
            <a:chExt cx="1042560" cy="1775880"/>
          </a:xfrm>
        </p:grpSpPr>
        <p:sp>
          <p:nvSpPr>
            <p:cNvPr id="317" name="Arc 154"/>
            <p:cNvSpPr/>
            <p:nvPr/>
          </p:nvSpPr>
          <p:spPr>
            <a:xfrm rot="1401600">
              <a:off x="6388920" y="6161040"/>
              <a:ext cx="444600" cy="1599840"/>
            </a:xfrm>
            <a:custGeom>
              <a:avLst/>
              <a:gdLst/>
              <a:ahLst/>
              <a:rect l="l" t="t" r="r" b="b"/>
              <a:pathLst>
                <a:path fill="none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</a:path>
                <a:path stroke="0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5"/>
            <p:cNvSpPr/>
            <p:nvPr/>
          </p:nvSpPr>
          <p:spPr>
            <a:xfrm rot="19485600">
              <a:off x="6692760" y="6320520"/>
              <a:ext cx="199800" cy="57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6"/>
            <p:cNvSpPr/>
            <p:nvPr/>
          </p:nvSpPr>
          <p:spPr>
            <a:xfrm rot="21386400">
              <a:off x="6650280" y="614700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7"/>
            <p:cNvSpPr/>
            <p:nvPr/>
          </p:nvSpPr>
          <p:spPr>
            <a:xfrm rot="7601400">
              <a:off x="6797520" y="6076080"/>
              <a:ext cx="199800" cy="57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60"/>
            <p:cNvSpPr/>
            <p:nvPr/>
          </p:nvSpPr>
          <p:spPr>
            <a:xfrm rot="1401600">
              <a:off x="6892200" y="6324480"/>
              <a:ext cx="176400" cy="64800"/>
            </a:xfrm>
            <a:prstGeom prst="ellipse">
              <a:avLst/>
            </a:prstGeom>
            <a:solidFill>
              <a:srgbClr val="808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61"/>
            <p:cNvSpPr/>
            <p:nvPr/>
          </p:nvSpPr>
          <p:spPr>
            <a:xfrm rot="1401600">
              <a:off x="6677280" y="6084720"/>
              <a:ext cx="176040" cy="6660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62"/>
            <p:cNvSpPr/>
            <p:nvPr/>
          </p:nvSpPr>
          <p:spPr>
            <a:xfrm rot="18875400">
              <a:off x="6664320" y="623520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64"/>
            <p:cNvSpPr/>
            <p:nvPr/>
          </p:nvSpPr>
          <p:spPr>
            <a:xfrm rot="20377200">
              <a:off x="6838560" y="6154200"/>
              <a:ext cx="176400" cy="6660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66"/>
            <p:cNvSpPr/>
            <p:nvPr/>
          </p:nvSpPr>
          <p:spPr>
            <a:xfrm rot="17602200">
              <a:off x="6720120" y="640260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67"/>
            <p:cNvSpPr/>
            <p:nvPr/>
          </p:nvSpPr>
          <p:spPr>
            <a:xfrm rot="21506400">
              <a:off x="6864480" y="623988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204"/>
          <p:cNvGrpSpPr/>
          <p:nvPr/>
        </p:nvGrpSpPr>
        <p:grpSpPr>
          <a:xfrm>
            <a:off x="1692360" y="6449400"/>
            <a:ext cx="508680" cy="1803600"/>
            <a:chOff x="1692360" y="6449400"/>
            <a:chExt cx="508680" cy="1803600"/>
          </a:xfrm>
        </p:grpSpPr>
        <p:sp>
          <p:nvSpPr>
            <p:cNvPr id="328" name="Arc 205"/>
            <p:cNvSpPr/>
            <p:nvPr/>
          </p:nvSpPr>
          <p:spPr>
            <a:xfrm flipH="1">
              <a:off x="1692000" y="6653160"/>
              <a:ext cx="444600" cy="1599840"/>
            </a:xfrm>
            <a:custGeom>
              <a:avLst/>
              <a:gdLst/>
              <a:ahLst/>
              <a:rect l="l" t="t" r="r" b="b"/>
              <a:pathLst>
                <a:path fill="none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</a:path>
                <a:path stroke="0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06"/>
            <p:cNvSpPr/>
            <p:nvPr/>
          </p:nvSpPr>
          <p:spPr>
            <a:xfrm flipH="1" rot="3516000">
              <a:off x="1890360" y="6790320"/>
              <a:ext cx="199800" cy="57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07"/>
            <p:cNvSpPr/>
            <p:nvPr/>
          </p:nvSpPr>
          <p:spPr>
            <a:xfrm flipH="1" rot="1615800">
              <a:off x="2019240" y="665280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208"/>
            <p:cNvSpPr/>
            <p:nvPr/>
          </p:nvSpPr>
          <p:spPr>
            <a:xfrm flipH="1" rot="15400800">
              <a:off x="1891080" y="6524640"/>
              <a:ext cx="199800" cy="57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209"/>
            <p:cNvSpPr/>
            <p:nvPr/>
          </p:nvSpPr>
          <p:spPr>
            <a:xfrm flipH="1">
              <a:off x="1727280" y="6719760"/>
              <a:ext cx="176400" cy="64800"/>
            </a:xfrm>
            <a:prstGeom prst="ellipse">
              <a:avLst/>
            </a:prstGeom>
            <a:solidFill>
              <a:srgbClr val="808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10"/>
            <p:cNvSpPr/>
            <p:nvPr/>
          </p:nvSpPr>
          <p:spPr>
            <a:xfrm flipH="1">
              <a:off x="2019240" y="6584760"/>
              <a:ext cx="176040" cy="6660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11"/>
            <p:cNvSpPr/>
            <p:nvPr/>
          </p:nvSpPr>
          <p:spPr>
            <a:xfrm flipH="1" rot="4126800">
              <a:off x="1950120" y="672336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212"/>
            <p:cNvSpPr/>
            <p:nvPr/>
          </p:nvSpPr>
          <p:spPr>
            <a:xfrm flipH="1" rot="2625000">
              <a:off x="1842840" y="6584400"/>
              <a:ext cx="176400" cy="6660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13"/>
            <p:cNvSpPr/>
            <p:nvPr/>
          </p:nvSpPr>
          <p:spPr>
            <a:xfrm flipH="1" rot="5400000">
              <a:off x="1832760" y="685512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14"/>
            <p:cNvSpPr/>
            <p:nvPr/>
          </p:nvSpPr>
          <p:spPr>
            <a:xfrm flipH="1" rot="1495800">
              <a:off x="1785600" y="665280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63"/>
          <p:cNvGrpSpPr/>
          <p:nvPr/>
        </p:nvGrpSpPr>
        <p:grpSpPr>
          <a:xfrm>
            <a:off x="7293240" y="5499720"/>
            <a:ext cx="872280" cy="2072880"/>
            <a:chOff x="7293240" y="5499720"/>
            <a:chExt cx="872280" cy="2072880"/>
          </a:xfrm>
        </p:grpSpPr>
        <p:sp>
          <p:nvSpPr>
            <p:cNvPr id="339" name="Arc 264"/>
            <p:cNvSpPr/>
            <p:nvPr/>
          </p:nvSpPr>
          <p:spPr>
            <a:xfrm rot="248400">
              <a:off x="7356600" y="5754960"/>
              <a:ext cx="725400" cy="1793880"/>
            </a:xfrm>
            <a:custGeom>
              <a:avLst/>
              <a:gdLst/>
              <a:ahLst/>
              <a:rect l="l" t="t" r="r" b="b"/>
              <a:pathLst>
                <a:path fill="none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</a:path>
                <a:path stroke="0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  <a:lnTo>
                    <a:pt x="0" y="20197"/>
                  </a:lnTo>
                  <a:lnTo>
                    <a:pt x="7657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65"/>
            <p:cNvSpPr/>
            <p:nvPr/>
          </p:nvSpPr>
          <p:spPr>
            <a:xfrm rot="18622200">
              <a:off x="7544880" y="590292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66"/>
            <p:cNvSpPr/>
            <p:nvPr/>
          </p:nvSpPr>
          <p:spPr>
            <a:xfrm rot="20523000">
              <a:off x="7426800" y="5719320"/>
              <a:ext cx="227160" cy="7920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67"/>
            <p:cNvSpPr/>
            <p:nvPr/>
          </p:nvSpPr>
          <p:spPr>
            <a:xfrm rot="6737400">
              <a:off x="7593840" y="5587560"/>
              <a:ext cx="239760" cy="745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68"/>
            <p:cNvSpPr/>
            <p:nvPr/>
          </p:nvSpPr>
          <p:spPr>
            <a:xfrm rot="538200">
              <a:off x="7786080" y="5856120"/>
              <a:ext cx="227160" cy="7956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69"/>
            <p:cNvSpPr/>
            <p:nvPr/>
          </p:nvSpPr>
          <p:spPr>
            <a:xfrm rot="18012000">
              <a:off x="7481520" y="5811480"/>
              <a:ext cx="239760" cy="763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70"/>
            <p:cNvSpPr/>
            <p:nvPr/>
          </p:nvSpPr>
          <p:spPr>
            <a:xfrm rot="19513800">
              <a:off x="7663680" y="5674680"/>
              <a:ext cx="225360" cy="7920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71"/>
            <p:cNvSpPr/>
            <p:nvPr/>
          </p:nvSpPr>
          <p:spPr>
            <a:xfrm rot="19395000">
              <a:off x="7605720" y="5992920"/>
              <a:ext cx="239760" cy="745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272"/>
            <p:cNvSpPr/>
            <p:nvPr/>
          </p:nvSpPr>
          <p:spPr>
            <a:xfrm rot="20643000">
              <a:off x="7725240" y="5766120"/>
              <a:ext cx="225360" cy="7920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273"/>
            <p:cNvSpPr/>
            <p:nvPr/>
          </p:nvSpPr>
          <p:spPr>
            <a:xfrm rot="19395000">
              <a:off x="7647840" y="6105600"/>
              <a:ext cx="239760" cy="748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274"/>
            <p:cNvSpPr/>
            <p:nvPr/>
          </p:nvSpPr>
          <p:spPr>
            <a:xfrm rot="19395000">
              <a:off x="7706880" y="618912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75"/>
            <p:cNvSpPr/>
            <p:nvPr/>
          </p:nvSpPr>
          <p:spPr>
            <a:xfrm rot="1574400">
              <a:off x="7921440" y="6285240"/>
              <a:ext cx="239760" cy="745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6"/>
            <p:cNvSpPr/>
            <p:nvPr/>
          </p:nvSpPr>
          <p:spPr>
            <a:xfrm rot="942000">
              <a:off x="7811280" y="598536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77"/>
            <p:cNvSpPr/>
            <p:nvPr/>
          </p:nvSpPr>
          <p:spPr>
            <a:xfrm rot="885000">
              <a:off x="7871760" y="613152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78"/>
            <p:cNvSpPr/>
            <p:nvPr/>
          </p:nvSpPr>
          <p:spPr>
            <a:xfrm rot="19452600">
              <a:off x="7767360" y="6333120"/>
              <a:ext cx="239760" cy="748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AutoShape 313"/>
          <p:cNvSpPr/>
          <p:nvPr/>
        </p:nvSpPr>
        <p:spPr>
          <a:xfrm rot="19980000">
            <a:off x="7090920" y="7051320"/>
            <a:ext cx="360360" cy="90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7020000"/>
          </a:gradFill>
          <a:ln w="0">
            <a:noFill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351"/>
          <p:cNvGrpSpPr/>
          <p:nvPr/>
        </p:nvGrpSpPr>
        <p:grpSpPr>
          <a:xfrm>
            <a:off x="684000" y="4021560"/>
            <a:ext cx="503280" cy="544680"/>
            <a:chOff x="684000" y="4021560"/>
            <a:chExt cx="503280" cy="544680"/>
          </a:xfrm>
        </p:grpSpPr>
        <p:grpSp>
          <p:nvGrpSpPr>
            <p:cNvPr id="356" name="Group 352"/>
            <p:cNvGrpSpPr/>
            <p:nvPr/>
          </p:nvGrpSpPr>
          <p:grpSpPr>
            <a:xfrm>
              <a:off x="684000" y="4021560"/>
              <a:ext cx="503280" cy="411840"/>
              <a:chOff x="684000" y="4021560"/>
              <a:chExt cx="503280" cy="411840"/>
            </a:xfrm>
          </p:grpSpPr>
          <p:grpSp>
            <p:nvGrpSpPr>
              <p:cNvPr id="357" name="Group 353"/>
              <p:cNvGrpSpPr/>
              <p:nvPr/>
            </p:nvGrpSpPr>
            <p:grpSpPr>
              <a:xfrm>
                <a:off x="889200" y="4028040"/>
                <a:ext cx="298080" cy="257040"/>
                <a:chOff x="889200" y="4028040"/>
                <a:chExt cx="298080" cy="257040"/>
              </a:xfrm>
            </p:grpSpPr>
            <p:sp>
              <p:nvSpPr>
                <p:cNvPr id="358" name="Oval 354"/>
                <p:cNvSpPr/>
                <p:nvPr/>
              </p:nvSpPr>
              <p:spPr>
                <a:xfrm rot="20128200">
                  <a:off x="910800" y="4164480"/>
                  <a:ext cx="274680" cy="6660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355"/>
                <p:cNvSpPr/>
                <p:nvPr/>
              </p:nvSpPr>
              <p:spPr>
                <a:xfrm rot="8485200">
                  <a:off x="879480" y="4106520"/>
                  <a:ext cx="274680" cy="6624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356"/>
              <p:cNvGrpSpPr/>
              <p:nvPr/>
            </p:nvGrpSpPr>
            <p:grpSpPr>
              <a:xfrm>
                <a:off x="684000" y="4165560"/>
                <a:ext cx="295560" cy="267840"/>
                <a:chOff x="684000" y="4165560"/>
                <a:chExt cx="295560" cy="267840"/>
              </a:xfrm>
            </p:grpSpPr>
            <p:sp>
              <p:nvSpPr>
                <p:cNvPr id="361" name="Oval 357"/>
                <p:cNvSpPr/>
                <p:nvPr/>
              </p:nvSpPr>
              <p:spPr>
                <a:xfrm rot="9099600">
                  <a:off x="682920" y="4226760"/>
                  <a:ext cx="274680" cy="6660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358"/>
                <p:cNvSpPr/>
                <p:nvPr/>
              </p:nvSpPr>
              <p:spPr>
                <a:xfrm rot="19056600">
                  <a:off x="718200" y="4282920"/>
                  <a:ext cx="274680" cy="6624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Oval 359"/>
              <p:cNvSpPr/>
              <p:nvPr/>
            </p:nvSpPr>
            <p:spPr>
              <a:xfrm rot="19713000">
                <a:off x="947880" y="4151880"/>
                <a:ext cx="46080" cy="26928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Oval 360"/>
              <p:cNvSpPr/>
              <p:nvPr/>
            </p:nvSpPr>
            <p:spPr>
              <a:xfrm rot="19713000">
                <a:off x="786960" y="4076280"/>
                <a:ext cx="4536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361"/>
              <p:cNvSpPr/>
              <p:nvPr/>
            </p:nvSpPr>
            <p:spPr>
              <a:xfrm rot="19713000">
                <a:off x="865080" y="4028400"/>
                <a:ext cx="4536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Oval 362"/>
            <p:cNvSpPr/>
            <p:nvPr/>
          </p:nvSpPr>
          <p:spPr>
            <a:xfrm flipH="1" rot="17350200">
              <a:off x="1067760" y="4456080"/>
              <a:ext cx="2844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363"/>
            <p:cNvSpPr/>
            <p:nvPr/>
          </p:nvSpPr>
          <p:spPr>
            <a:xfrm flipH="1" rot="17350200">
              <a:off x="1112400" y="4530240"/>
              <a:ext cx="28080" cy="3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6A97-AFC0-4022-BB20-E334D5168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76000" y="692280"/>
            <a:ext cx="655308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33ff"/>
                </a:solidFill>
                <a:latin typeface="Arial"/>
              </a:rPr>
              <a:t>拯救地球由我做起</a:t>
            </a: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1" lang="zh-TW" sz="5400" spc="-1" strike="noStrike">
                <a:solidFill>
                  <a:srgbClr val="3333ff"/>
                </a:solidFill>
                <a:latin typeface="Arial"/>
              </a:rPr>
              <a:t>環境氣候大不同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692000" y="3860280"/>
            <a:ext cx="6119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作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黃依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349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請小朋友上台發表「環保特派員學習單」所訪問到的內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e5"/>
                </a:solidFill>
                <a:latin typeface="Arial"/>
              </a:rPr>
              <a:t>以前的水溝裡很乾淨，小朋友可以下去玩水。現在的水溝又髒又臭。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e5"/>
                </a:solidFill>
                <a:latin typeface="Arial"/>
              </a:rPr>
              <a:t>以前的空氣很清新，不像現在空氣污染很嚴重。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e5"/>
                </a:solidFill>
                <a:latin typeface="Arial"/>
              </a:rPr>
              <a:t>以前農夫何時該播種插秧都按照</a:t>
            </a:r>
            <a:r>
              <a:rPr b="0" lang="en-US" sz="2800" spc="-1" strike="noStrike">
                <a:solidFill>
                  <a:srgbClr val="0000e5"/>
                </a:solidFill>
                <a:latin typeface="Arial"/>
              </a:rPr>
              <a:t>24</a:t>
            </a:r>
            <a:r>
              <a:rPr b="0" lang="zh-TW" sz="2800" spc="-1" strike="noStrike">
                <a:solidFill>
                  <a:srgbClr val="0000e5"/>
                </a:solidFill>
                <a:latin typeface="Arial"/>
              </a:rPr>
              <a:t>節氣，現在氣候異常，讓農夫們無所適從。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e5"/>
                </a:solidFill>
                <a:latin typeface="Arial"/>
              </a:rPr>
              <a:t>…………</a:t>
            </a:r>
            <a:r>
              <a:rPr b="0" lang="en-US" sz="2800" spc="-1" strike="noStrike">
                <a:solidFill>
                  <a:srgbClr val="0000e5"/>
                </a:solidFill>
                <a:latin typeface="Arial"/>
              </a:rPr>
              <a:t>.</a:t>
            </a:r>
            <a:r>
              <a:rPr b="0" lang="zh-TW" sz="2800" spc="-1" strike="noStrike">
                <a:solidFill>
                  <a:srgbClr val="0000e5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412" name="圖片 3" descr=""/>
          <p:cNvPicPr/>
          <p:nvPr/>
        </p:nvPicPr>
        <p:blipFill>
          <a:blip r:embed="rId1"/>
          <a:stretch/>
        </p:blipFill>
        <p:spPr>
          <a:xfrm>
            <a:off x="0" y="0"/>
            <a:ext cx="2556000" cy="1916280"/>
          </a:xfrm>
          <a:prstGeom prst="rect">
            <a:avLst/>
          </a:prstGeom>
          <a:ln w="0">
            <a:noFill/>
          </a:ln>
        </p:spPr>
      </p:pic>
      <p:pic>
        <p:nvPicPr>
          <p:cNvPr id="413" name="圖片 1" descr=""/>
          <p:cNvPicPr/>
          <p:nvPr/>
        </p:nvPicPr>
        <p:blipFill>
          <a:blip r:embed="rId2"/>
          <a:stretch/>
        </p:blipFill>
        <p:spPr>
          <a:xfrm>
            <a:off x="6732720" y="63360"/>
            <a:ext cx="2322360" cy="15652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908000" y="42660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ff"/>
                </a:solidFill>
                <a:latin typeface="Arial"/>
              </a:rPr>
              <a:t>台灣美麗的過去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ff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究竟是什麼讓台灣有了這些轉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台灣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來發生了什麼重大天然災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這些災難帶給大家什麼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有沒有人親身或有親朋好友經歷過這些災害呢？說說你的經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為什麼會有這些災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人們生活變的比以往便利，物質生活也不虞匱乏，但環境變差了，你喜歡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ff"/>
                </a:solidFill>
                <a:latin typeface="Arial"/>
              </a:rPr>
              <a:t>蒐集並閱讀資料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77744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上網搜尋關鍵字「台灣＊暖化災難」 、「全球暖化」。詳細閱讀相關網站，瞭解造成災難的原因及全球暖化和台灣天災的關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發表從網路中所閱讀到的資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ff"/>
                </a:solidFill>
                <a:latin typeface="Arial"/>
              </a:rPr>
              <a:t>教師綜合歸納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我們居住的環境正遭逢空氣污染、垃圾汙染、噪音污染、水污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我們居住的環境受到汙染破壞，而兇手正是人類。（過度開發、工業化、破壞生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環境被破壞後身受其苦的不只人類還有動物、植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若我們繼續破壞環境會使災難愈來愈頻繁，使各種生物面臨生存危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我們必須改變生活習慣才能拯救地球和地球上所有的生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42920" y="1052640"/>
            <a:ext cx="633744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TW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zh-TW" sz="4000" spc="-1" strike="noStrike">
                <a:solidFill>
                  <a:srgbClr val="3333ff"/>
                </a:solidFill>
                <a:latin typeface="Arial"/>
              </a:rPr>
              <a:t>節能減碳</a:t>
            </a:r>
            <a:br>
              <a:rPr sz="4000"/>
            </a:br>
            <a:r>
              <a:rPr b="1" lang="zh-TW" sz="4000" spc="-1" strike="noStrike">
                <a:solidFill>
                  <a:srgbClr val="3333ff"/>
                </a:solidFill>
                <a:latin typeface="Arial"/>
              </a:rPr>
              <a:t>                         由我開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07:31:42Z</dcterms:created>
  <dc:creator>Administrator</dc:creator>
  <dc:description/>
  <dc:language>en-US</dc:language>
  <cp:lastModifiedBy>Katherine</cp:lastModifiedBy>
  <dcterms:modified xsi:type="dcterms:W3CDTF">2011-11-13T11:47:37Z</dcterms:modified>
  <cp:revision>141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271011028</vt:lpwstr>
  </property>
</Properties>
</file>