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F0A-35AD-497D-A38A-37A18446F2B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260-336C-46E9-A798-E2A21E851F6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ED3-A2F7-4DE3-8EA0-9478B716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6CD-3DC9-4FD4-908D-653111A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255-A773-43F8-B380-90FE0686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DD9-ACA2-412A-B893-5BCE3D2E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342-820C-4E7A-BE74-C3A5EB7C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74A-B734-4E3D-BD04-55BF31B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BBA-63C1-4D3E-A0F5-ECE0178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5AD-B660-432E-9219-BDE4757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95E-535D-4EBF-81C3-F7E54A7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A06-3EFD-45BC-806F-C2AA76D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0F0-2B4F-47C3-91EA-F889B75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586-EF47-4CD3-BE22-0AA9B04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A5C1-7180-4244-BEB5-37C8033EE19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C:\Documents and Settings\user\Local Settings\Temporary Internet Files\Content.IE5\3GOBS5XD\MCj03398580000[1].wmf"/>
          <p:cNvPicPr/>
          <p:nvPr/>
        </p:nvPicPr>
        <p:blipFill>
          <a:blip r:embed="rId2"/>
          <a:stretch/>
        </p:blipFill>
        <p:spPr>
          <a:xfrm flipH="1" rot="20518800">
            <a:off x="4723920" y="3782880"/>
            <a:ext cx="3913200" cy="2532240"/>
          </a:xfrm>
          <a:prstGeom prst="rect">
            <a:avLst/>
          </a:prstGeom>
          <a:ln w="0">
            <a:noFill/>
          </a:ln>
        </p:spPr>
      </p:pic>
      <p:grpSp>
        <p:nvGrpSpPr>
          <p:cNvPr id="49" name="群組 82"/>
          <p:cNvGrpSpPr/>
          <p:nvPr/>
        </p:nvGrpSpPr>
        <p:grpSpPr>
          <a:xfrm>
            <a:off x="1947960" y="642960"/>
            <a:ext cx="7196040" cy="5557680"/>
            <a:chOff x="1947960" y="642960"/>
            <a:chExt cx="7196040" cy="5557680"/>
          </a:xfrm>
        </p:grpSpPr>
        <p:sp>
          <p:nvSpPr>
            <p:cNvPr id="50" name="Freeform 31"/>
            <p:cNvSpPr/>
            <p:nvPr/>
          </p:nvSpPr>
          <p:spPr>
            <a:xfrm>
              <a:off x="1947960" y="2107800"/>
              <a:ext cx="5055840" cy="4071600"/>
            </a:xfrm>
            <a:prstGeom prst="pie">
              <a:avLst/>
            </a:prstGeom>
            <a:solidFill>
              <a:srgbClr val="f86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32"/>
            <p:cNvSpPr/>
            <p:nvPr/>
          </p:nvSpPr>
          <p:spPr>
            <a:xfrm>
              <a:off x="1947960" y="2107800"/>
              <a:ext cx="5055840" cy="407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2168640" y="2107800"/>
              <a:ext cx="5051160" cy="4071600"/>
            </a:xfrm>
            <a:prstGeom prst="pie">
              <a:avLst/>
            </a:prstGeom>
            <a:solidFill>
              <a:srgbClr val="fa9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34"/>
            <p:cNvSpPr/>
            <p:nvPr/>
          </p:nvSpPr>
          <p:spPr>
            <a:xfrm>
              <a:off x="2168640" y="2107800"/>
              <a:ext cx="5051160" cy="407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35"/>
            <p:cNvSpPr/>
            <p:nvPr/>
          </p:nvSpPr>
          <p:spPr>
            <a:xfrm>
              <a:off x="2384640" y="2134440"/>
              <a:ext cx="5055840" cy="4066200"/>
            </a:xfrm>
            <a:prstGeom prst="pie">
              <a:avLst/>
            </a:prstGeom>
            <a:solidFill>
              <a:srgbClr val="fee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36"/>
            <p:cNvSpPr/>
            <p:nvPr/>
          </p:nvSpPr>
          <p:spPr>
            <a:xfrm>
              <a:off x="2384640" y="2134440"/>
              <a:ext cx="5055840" cy="4066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37"/>
            <p:cNvSpPr/>
            <p:nvPr/>
          </p:nvSpPr>
          <p:spPr>
            <a:xfrm>
              <a:off x="2669400" y="2134440"/>
              <a:ext cx="5031360" cy="4066200"/>
            </a:xfrm>
            <a:prstGeom prst="pie">
              <a:avLst/>
            </a:prstGeom>
            <a:solidFill>
              <a:srgbClr val="cfe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38"/>
            <p:cNvSpPr/>
            <p:nvPr/>
          </p:nvSpPr>
          <p:spPr>
            <a:xfrm>
              <a:off x="2669400" y="2134440"/>
              <a:ext cx="5031360" cy="4066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39"/>
            <p:cNvSpPr/>
            <p:nvPr/>
          </p:nvSpPr>
          <p:spPr>
            <a:xfrm>
              <a:off x="2978640" y="2107800"/>
              <a:ext cx="5051160" cy="4071600"/>
            </a:xfrm>
            <a:prstGeom prst="pie">
              <a:avLst/>
            </a:prstGeom>
            <a:solidFill>
              <a:srgbClr val="9ad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0"/>
            <p:cNvSpPr/>
            <p:nvPr/>
          </p:nvSpPr>
          <p:spPr>
            <a:xfrm>
              <a:off x="2978640" y="2107800"/>
              <a:ext cx="5051160" cy="407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41"/>
            <p:cNvSpPr/>
            <p:nvPr/>
          </p:nvSpPr>
          <p:spPr>
            <a:xfrm>
              <a:off x="3194640" y="2134440"/>
              <a:ext cx="5055840" cy="4066200"/>
            </a:xfrm>
            <a:prstGeom prst="pie">
              <a:avLst/>
            </a:prstGeom>
            <a:solidFill>
              <a:srgbClr val="b05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42"/>
            <p:cNvSpPr/>
            <p:nvPr/>
          </p:nvSpPr>
          <p:spPr>
            <a:xfrm>
              <a:off x="3194640" y="2134440"/>
              <a:ext cx="5055840" cy="4066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3"/>
            <p:cNvSpPr/>
            <p:nvPr/>
          </p:nvSpPr>
          <p:spPr>
            <a:xfrm>
              <a:off x="5010840" y="738360"/>
              <a:ext cx="4133160" cy="22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44"/>
            <p:cNvSpPr/>
            <p:nvPr/>
          </p:nvSpPr>
          <p:spPr>
            <a:xfrm>
              <a:off x="5010840" y="738360"/>
              <a:ext cx="4133160" cy="2293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45"/>
            <p:cNvSpPr/>
            <p:nvPr/>
          </p:nvSpPr>
          <p:spPr>
            <a:xfrm>
              <a:off x="6562080" y="642960"/>
              <a:ext cx="1359720" cy="1135800"/>
            </a:xfrm>
            <a:prstGeom prst="pie">
              <a:avLst/>
            </a:prstGeom>
            <a:solidFill>
              <a:srgbClr val="88d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46"/>
            <p:cNvSpPr/>
            <p:nvPr/>
          </p:nvSpPr>
          <p:spPr>
            <a:xfrm>
              <a:off x="7283880" y="1353960"/>
              <a:ext cx="441720" cy="32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48"/>
            <p:cNvSpPr/>
            <p:nvPr/>
          </p:nvSpPr>
          <p:spPr>
            <a:xfrm>
              <a:off x="5865120" y="1423080"/>
              <a:ext cx="829440" cy="897120"/>
            </a:xfrm>
            <a:prstGeom prst="pie">
              <a:avLst/>
            </a:prstGeom>
            <a:solidFill>
              <a:srgbClr val="88d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49"/>
            <p:cNvSpPr/>
            <p:nvPr/>
          </p:nvSpPr>
          <p:spPr>
            <a:xfrm>
              <a:off x="6061320" y="1943280"/>
              <a:ext cx="284400" cy="21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50"/>
            <p:cNvSpPr/>
            <p:nvPr/>
          </p:nvSpPr>
          <p:spPr>
            <a:xfrm>
              <a:off x="5865120" y="1423080"/>
              <a:ext cx="829440" cy="897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53"/>
            <p:cNvSpPr/>
            <p:nvPr/>
          </p:nvSpPr>
          <p:spPr>
            <a:xfrm>
              <a:off x="3307680" y="2039040"/>
              <a:ext cx="1045440" cy="828000"/>
            </a:xfrm>
            <a:prstGeom prst="pie">
              <a:avLst/>
            </a:prstGeom>
            <a:solidFill>
              <a:srgbClr val="88d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54"/>
            <p:cNvSpPr/>
            <p:nvPr/>
          </p:nvSpPr>
          <p:spPr>
            <a:xfrm>
              <a:off x="3852360" y="2442240"/>
              <a:ext cx="196200" cy="9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55"/>
            <p:cNvSpPr/>
            <p:nvPr/>
          </p:nvSpPr>
          <p:spPr>
            <a:xfrm>
              <a:off x="3307680" y="2039040"/>
              <a:ext cx="1045440" cy="82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6"/>
            <p:cNvSpPr/>
            <p:nvPr/>
          </p:nvSpPr>
          <p:spPr>
            <a:xfrm>
              <a:off x="2301120" y="2463480"/>
              <a:ext cx="1398960" cy="636840"/>
            </a:xfrm>
            <a:prstGeom prst="pie">
              <a:avLst/>
            </a:prstGeom>
            <a:solidFill>
              <a:srgbClr val="88d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Freeform 63"/>
          <p:cNvSpPr/>
          <p:nvPr/>
        </p:nvSpPr>
        <p:spPr>
          <a:xfrm>
            <a:off x="4687920" y="2797200"/>
            <a:ext cx="671400" cy="43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67"/>
          <p:cNvSpPr/>
          <p:nvPr/>
        </p:nvSpPr>
        <p:spPr>
          <a:xfrm>
            <a:off x="5699160" y="2825640"/>
            <a:ext cx="255600" cy="239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字方塊 27"/>
          <p:cNvSpPr/>
          <p:nvPr/>
        </p:nvSpPr>
        <p:spPr>
          <a:xfrm rot="430200">
            <a:off x="1042560" y="1484280"/>
            <a:ext cx="279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媒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字方塊 28"/>
          <p:cNvSpPr/>
          <p:nvPr/>
        </p:nvSpPr>
        <p:spPr>
          <a:xfrm rot="21110400">
            <a:off x="302040" y="3231720"/>
            <a:ext cx="437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ff00"/>
                </a:solidFill>
                <a:latin typeface="標楷體"/>
                <a:ea typeface="標楷體"/>
              </a:rPr>
              <a:t>食可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398840" y="3262320"/>
            <a:ext cx="38116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579240" y="1062000"/>
            <a:ext cx="8206920" cy="5660280"/>
            <a:chOff x="579240" y="1062000"/>
            <a:chExt cx="8206920" cy="5660280"/>
          </a:xfrm>
        </p:grpSpPr>
        <p:sp>
          <p:nvSpPr>
            <p:cNvPr id="166" name="Rectangle 3"/>
            <p:cNvSpPr/>
            <p:nvPr/>
          </p:nvSpPr>
          <p:spPr>
            <a:xfrm rot="478800">
              <a:off x="864360" y="1569240"/>
              <a:ext cx="7635960" cy="4645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 rot="21317400">
              <a:off x="785520" y="1428840"/>
              <a:ext cx="7636320" cy="46447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橢圓 5"/>
          <p:cNvSpPr/>
          <p:nvPr/>
        </p:nvSpPr>
        <p:spPr>
          <a:xfrm>
            <a:off x="-285840" y="5000760"/>
            <a:ext cx="9715680" cy="271440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C:\Documents and Settings\user\Local Settings\Temporary Internet Files\Content.IE5\AFTCK4R0\MCj02975650000[1].wmf"/>
          <p:cNvPicPr/>
          <p:nvPr/>
        </p:nvPicPr>
        <p:blipFill>
          <a:blip r:embed="rId2"/>
          <a:stretch/>
        </p:blipFill>
        <p:spPr>
          <a:xfrm>
            <a:off x="2571840" y="3429000"/>
            <a:ext cx="4643280" cy="2502000"/>
          </a:xfrm>
          <a:prstGeom prst="rect">
            <a:avLst/>
          </a:prstGeom>
          <a:ln w="0">
            <a:noFill/>
          </a:ln>
        </p:spPr>
      </p:pic>
      <p:sp>
        <p:nvSpPr>
          <p:cNvPr id="170" name="雲朵形圖說文字 6"/>
          <p:cNvSpPr/>
          <p:nvPr/>
        </p:nvSpPr>
        <p:spPr>
          <a:xfrm>
            <a:off x="1785960" y="1357200"/>
            <a:ext cx="5929200" cy="1643040"/>
          </a:xfrm>
          <a:prstGeom prst="cloudCallout">
            <a:avLst>
              <a:gd name="adj1" fmla="val 1277"/>
              <a:gd name="adj2" fmla="val 2955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be4b48"/>
            </a:solidFill>
            <a:prstDash val="sysDash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討論時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 rot="7666200">
            <a:off x="1422360" y="2649240"/>
            <a:ext cx="9918720" cy="2133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 rot="7662000">
            <a:off x="-2048760" y="1773720"/>
            <a:ext cx="10586880" cy="2133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071720" y="1071720"/>
            <a:ext cx="5429160" cy="857160"/>
          </a:xfrm>
          <a:custGeom>
            <a:avLst/>
            <a:gdLst>
              <a:gd name="textAreaLeft" fmla="*/ 0 w 5429160"/>
              <a:gd name="textAreaRight" fmla="*/ 5429520 w 5429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8" y="0"/>
                </a:lnTo>
                <a:lnTo>
                  <a:pt x="21600" y="10800"/>
                </a:lnTo>
                <a:lnTo>
                  <a:pt x="178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們的設計想法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C:\Documents and Settings\user\Local Settings\Temporary Internet Files\Content.IE5\JWS83PN8\MCj04406100000[1].png"/>
          <p:cNvPicPr/>
          <p:nvPr/>
        </p:nvPicPr>
        <p:blipFill>
          <a:blip r:embed="rId2"/>
          <a:stretch/>
        </p:blipFill>
        <p:spPr>
          <a:xfrm>
            <a:off x="214200" y="50004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user\Local Settings\Temporary Internet Files\Content.IE5\YQWYXDVK\MCj04325500000[1].png"/>
          <p:cNvPicPr/>
          <p:nvPr/>
        </p:nvPicPr>
        <p:blipFill>
          <a:blip r:embed="rId3"/>
          <a:stretch/>
        </p:blipFill>
        <p:spPr>
          <a:xfrm>
            <a:off x="6572160" y="3929040"/>
            <a:ext cx="1571760" cy="15303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"/>
          <p:cNvSpPr/>
          <p:nvPr/>
        </p:nvSpPr>
        <p:spPr>
          <a:xfrm>
            <a:off x="928800" y="2357280"/>
            <a:ext cx="7270560" cy="388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a4"/>
              </a:gs>
              <a:gs pos="100000">
                <a:srgbClr val="daffe3"/>
              </a:gs>
            </a:gsLst>
            <a:lin ang="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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何我們要選這個主題？（動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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們要如何設計與構圖？（傳達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內容與方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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們的分工是？（團隊精神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C:\Documents and Settings\user\Local Settings\Temporary Internet Files\Content.IE5\T089H8A9\MCj04123920000[1].wmf"/>
          <p:cNvPicPr/>
          <p:nvPr/>
        </p:nvPicPr>
        <p:blipFill>
          <a:blip r:embed="rId4"/>
          <a:stretch/>
        </p:blipFill>
        <p:spPr>
          <a:xfrm>
            <a:off x="6786720" y="4357800"/>
            <a:ext cx="2369880" cy="19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群組 228"/>
          <p:cNvGrpSpPr/>
          <p:nvPr/>
        </p:nvGrpSpPr>
        <p:grpSpPr>
          <a:xfrm>
            <a:off x="684360" y="260280"/>
            <a:ext cx="7643520" cy="5500800"/>
            <a:chOff x="684360" y="260280"/>
            <a:chExt cx="7643520" cy="5500800"/>
          </a:xfrm>
        </p:grpSpPr>
        <p:sp>
          <p:nvSpPr>
            <p:cNvPr id="79" name="圓角矩形 227"/>
            <p:cNvSpPr/>
            <p:nvPr/>
          </p:nvSpPr>
          <p:spPr>
            <a:xfrm>
              <a:off x="1184400" y="903240"/>
              <a:ext cx="6572160" cy="457236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61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群組 226"/>
            <p:cNvGrpSpPr/>
            <p:nvPr/>
          </p:nvGrpSpPr>
          <p:grpSpPr>
            <a:xfrm>
              <a:off x="684360" y="260280"/>
              <a:ext cx="7643520" cy="5500800"/>
              <a:chOff x="684360" y="260280"/>
              <a:chExt cx="7643520" cy="5500800"/>
            </a:xfrm>
          </p:grpSpPr>
          <p:sp>
            <p:nvSpPr>
              <p:cNvPr id="81" name="Freeform 207"/>
              <p:cNvSpPr/>
              <p:nvPr/>
            </p:nvSpPr>
            <p:spPr>
              <a:xfrm>
                <a:off x="3899160" y="278640"/>
                <a:ext cx="453600" cy="373320"/>
              </a:xfrm>
              <a:prstGeom prst="pie">
                <a:avLst/>
              </a:prstGeom>
              <a:solidFill>
                <a:srgbClr val="86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8"/>
              <p:cNvSpPr/>
              <p:nvPr/>
            </p:nvSpPr>
            <p:spPr>
              <a:xfrm>
                <a:off x="3965400" y="327600"/>
                <a:ext cx="332280" cy="140760"/>
              </a:xfrm>
              <a:prstGeom prst="pie">
                <a:avLst/>
              </a:prstGeom>
              <a:solidFill>
                <a:srgbClr val="c26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5"/>
              <p:cNvSpPr/>
              <p:nvPr/>
            </p:nvSpPr>
            <p:spPr>
              <a:xfrm>
                <a:off x="4590000" y="260280"/>
                <a:ext cx="453600" cy="363960"/>
              </a:xfrm>
              <a:prstGeom prst="pie">
                <a:avLst/>
              </a:prstGeom>
              <a:solidFill>
                <a:srgbClr val="86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6"/>
              <p:cNvSpPr/>
              <p:nvPr/>
            </p:nvSpPr>
            <p:spPr>
              <a:xfrm>
                <a:off x="4647600" y="306000"/>
                <a:ext cx="332280" cy="137520"/>
              </a:xfrm>
              <a:prstGeom prst="pie">
                <a:avLst/>
              </a:prstGeom>
              <a:solidFill>
                <a:srgbClr val="c26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17"/>
              <p:cNvSpPr/>
              <p:nvPr/>
            </p:nvSpPr>
            <p:spPr>
              <a:xfrm>
                <a:off x="684360" y="517320"/>
                <a:ext cx="3905640" cy="5243760"/>
              </a:xfrm>
              <a:prstGeom prst="pie">
                <a:avLst/>
              </a:prstGeom>
              <a:solidFill>
                <a:srgbClr val="b569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218"/>
              <p:cNvSpPr/>
              <p:nvPr/>
            </p:nvSpPr>
            <p:spPr>
              <a:xfrm>
                <a:off x="733320" y="526320"/>
                <a:ext cx="7594560" cy="5210280"/>
              </a:xfrm>
              <a:prstGeom prst="pie">
                <a:avLst/>
              </a:prstGeom>
              <a:solidFill>
                <a:srgbClr val="c46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219"/>
              <p:cNvSpPr/>
              <p:nvPr/>
            </p:nvSpPr>
            <p:spPr>
              <a:xfrm>
                <a:off x="2045880" y="700920"/>
                <a:ext cx="5397480" cy="798840"/>
              </a:xfrm>
              <a:prstGeom prst="pie">
                <a:avLst/>
              </a:prstGeom>
              <a:solidFill>
                <a:srgbClr val="9e58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20"/>
              <p:cNvSpPr/>
              <p:nvPr/>
            </p:nvSpPr>
            <p:spPr>
              <a:xfrm>
                <a:off x="1568880" y="5151960"/>
                <a:ext cx="468000" cy="379440"/>
              </a:xfrm>
              <a:prstGeom prst="pie">
                <a:avLst/>
              </a:prstGeom>
              <a:solidFill>
                <a:srgbClr val="70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221"/>
              <p:cNvSpPr/>
              <p:nvPr/>
            </p:nvSpPr>
            <p:spPr>
              <a:xfrm>
                <a:off x="2164320" y="5311080"/>
                <a:ext cx="312120" cy="253800"/>
              </a:xfrm>
              <a:prstGeom prst="pie">
                <a:avLst/>
              </a:prstGeom>
              <a:solidFill>
                <a:srgbClr val="70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222"/>
              <p:cNvSpPr/>
              <p:nvPr/>
            </p:nvSpPr>
            <p:spPr>
              <a:xfrm>
                <a:off x="6338880" y="5124600"/>
                <a:ext cx="551880" cy="446760"/>
              </a:xfrm>
              <a:prstGeom prst="pie">
                <a:avLst/>
              </a:prstGeom>
              <a:solidFill>
                <a:srgbClr val="70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223"/>
              <p:cNvSpPr/>
              <p:nvPr/>
            </p:nvSpPr>
            <p:spPr>
              <a:xfrm>
                <a:off x="6373800" y="5155200"/>
                <a:ext cx="491400" cy="259920"/>
              </a:xfrm>
              <a:prstGeom prst="pie">
                <a:avLst/>
              </a:prstGeom>
              <a:solidFill>
                <a:srgbClr val="d39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224"/>
              <p:cNvSpPr/>
              <p:nvPr/>
            </p:nvSpPr>
            <p:spPr>
              <a:xfrm>
                <a:off x="2187360" y="5329440"/>
                <a:ext cx="257040" cy="159120"/>
              </a:xfrm>
              <a:prstGeom prst="pie">
                <a:avLst/>
              </a:prstGeom>
              <a:solidFill>
                <a:srgbClr val="d39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225"/>
              <p:cNvSpPr/>
              <p:nvPr/>
            </p:nvSpPr>
            <p:spPr>
              <a:xfrm>
                <a:off x="1600560" y="5179680"/>
                <a:ext cx="401760" cy="232560"/>
              </a:xfrm>
              <a:prstGeom prst="pie">
                <a:avLst/>
              </a:prstGeom>
              <a:solidFill>
                <a:srgbClr val="d39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226"/>
              <p:cNvSpPr/>
              <p:nvPr/>
            </p:nvSpPr>
            <p:spPr>
              <a:xfrm>
                <a:off x="996480" y="979560"/>
                <a:ext cx="6831360" cy="4585680"/>
              </a:xfrm>
              <a:prstGeom prst="pie">
                <a:avLst/>
              </a:prstGeom>
              <a:solidFill>
                <a:srgbClr val="9e58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27"/>
              <p:cNvSpPr/>
              <p:nvPr/>
            </p:nvSpPr>
            <p:spPr>
              <a:xfrm>
                <a:off x="6064560" y="636480"/>
                <a:ext cx="2167920" cy="3131640"/>
              </a:xfrm>
              <a:prstGeom prst="pie">
                <a:avLst/>
              </a:prstGeom>
              <a:solidFill>
                <a:srgbClr val="db9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文字方塊 229"/>
          <p:cNvSpPr/>
          <p:nvPr/>
        </p:nvSpPr>
        <p:spPr>
          <a:xfrm>
            <a:off x="2340000" y="155736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2060"/>
                </a:solidFill>
                <a:latin typeface="標楷體"/>
                <a:ea typeface="標楷體"/>
              </a:rPr>
              <a:t>廣告時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群組 242"/>
          <p:cNvGrpSpPr/>
          <p:nvPr/>
        </p:nvGrpSpPr>
        <p:grpSpPr>
          <a:xfrm>
            <a:off x="1981440" y="3141720"/>
            <a:ext cx="1815480" cy="1958760"/>
            <a:chOff x="1981440" y="3141720"/>
            <a:chExt cx="1815480" cy="1958760"/>
          </a:xfrm>
        </p:grpSpPr>
        <p:grpSp>
          <p:nvGrpSpPr>
            <p:cNvPr id="98" name="群組 236"/>
            <p:cNvGrpSpPr/>
            <p:nvPr/>
          </p:nvGrpSpPr>
          <p:grpSpPr>
            <a:xfrm>
              <a:off x="1981440" y="3141720"/>
              <a:ext cx="1815480" cy="1958760"/>
              <a:chOff x="1981440" y="3141720"/>
              <a:chExt cx="1815480" cy="1958760"/>
            </a:xfrm>
          </p:grpSpPr>
          <p:sp>
            <p:nvSpPr>
              <p:cNvPr id="99" name="淚滴形 230"/>
              <p:cNvSpPr/>
              <p:nvPr/>
            </p:nvSpPr>
            <p:spPr>
              <a:xfrm rot="19097400">
                <a:off x="2246040" y="3549240"/>
                <a:ext cx="1285920" cy="1285920"/>
              </a:xfrm>
              <a:prstGeom prst="pi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文字方塊 235"/>
              <p:cNvSpPr/>
              <p:nvPr/>
            </p:nvSpPr>
            <p:spPr>
              <a:xfrm>
                <a:off x="2195640" y="3141720"/>
                <a:ext cx="1428480" cy="58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泡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228" descr="C:\Documents and Settings\user\Local Settings\Temporary Internet Files\Content.IE5\AFTCK4R0\MCj04414250000[1].png"/>
            <p:cNvPicPr/>
            <p:nvPr/>
          </p:nvPicPr>
          <p:blipFill>
            <a:blip r:embed="rId2"/>
            <a:stretch/>
          </p:blipFill>
          <p:spPr>
            <a:xfrm>
              <a:off x="2409840" y="371340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群組 243"/>
          <p:cNvGrpSpPr/>
          <p:nvPr/>
        </p:nvGrpSpPr>
        <p:grpSpPr>
          <a:xfrm>
            <a:off x="3497400" y="3141720"/>
            <a:ext cx="1929240" cy="2018520"/>
            <a:chOff x="3497400" y="3141720"/>
            <a:chExt cx="1929240" cy="2018520"/>
          </a:xfrm>
        </p:grpSpPr>
        <p:grpSp>
          <p:nvGrpSpPr>
            <p:cNvPr id="103" name="群組 237"/>
            <p:cNvGrpSpPr/>
            <p:nvPr/>
          </p:nvGrpSpPr>
          <p:grpSpPr>
            <a:xfrm>
              <a:off x="3497400" y="3141720"/>
              <a:ext cx="1929240" cy="2018520"/>
              <a:chOff x="3497400" y="3141720"/>
              <a:chExt cx="1929240" cy="2018520"/>
            </a:xfrm>
          </p:grpSpPr>
          <p:sp>
            <p:nvSpPr>
              <p:cNvPr id="104" name="淚滴形 231"/>
              <p:cNvSpPr/>
              <p:nvPr/>
            </p:nvSpPr>
            <p:spPr>
              <a:xfrm rot="18960600">
                <a:off x="3780000" y="3512880"/>
                <a:ext cx="1363680" cy="1365120"/>
              </a:xfrm>
              <a:prstGeom prst="pie">
                <a:avLst/>
              </a:prstGeom>
              <a:solidFill>
                <a:srgbClr val="4bacc6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文字方塊 233"/>
              <p:cNvSpPr/>
              <p:nvPr/>
            </p:nvSpPr>
            <p:spPr>
              <a:xfrm>
                <a:off x="3782880" y="3141720"/>
                <a:ext cx="1428840" cy="58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麥當勞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Picture 228" descr="C:\Documents and Settings\user\Local Settings\Temporary Internet Files\Content.IE5\AFTCK4R0\MCj04414250000[1].png"/>
            <p:cNvPicPr/>
            <p:nvPr/>
          </p:nvPicPr>
          <p:blipFill>
            <a:blip r:embed="rId3"/>
            <a:stretch/>
          </p:blipFill>
          <p:spPr>
            <a:xfrm>
              <a:off x="3997080" y="371340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群組 244"/>
          <p:cNvGrpSpPr/>
          <p:nvPr/>
        </p:nvGrpSpPr>
        <p:grpSpPr>
          <a:xfrm>
            <a:off x="5221440" y="3141720"/>
            <a:ext cx="1815840" cy="1958760"/>
            <a:chOff x="5221440" y="3141720"/>
            <a:chExt cx="1815840" cy="1958760"/>
          </a:xfrm>
        </p:grpSpPr>
        <p:grpSp>
          <p:nvGrpSpPr>
            <p:cNvPr id="108" name="群組 238"/>
            <p:cNvGrpSpPr/>
            <p:nvPr/>
          </p:nvGrpSpPr>
          <p:grpSpPr>
            <a:xfrm>
              <a:off x="5221440" y="3141720"/>
              <a:ext cx="1815840" cy="1958760"/>
              <a:chOff x="5221440" y="3141720"/>
              <a:chExt cx="1815840" cy="1958760"/>
            </a:xfrm>
          </p:grpSpPr>
          <p:sp>
            <p:nvSpPr>
              <p:cNvPr id="109" name="淚滴形 232"/>
              <p:cNvSpPr/>
              <p:nvPr/>
            </p:nvSpPr>
            <p:spPr>
              <a:xfrm rot="19097400">
                <a:off x="5486040" y="3549240"/>
                <a:ext cx="1286280" cy="1285920"/>
              </a:xfrm>
              <a:prstGeom prst="pi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文字方塊 234"/>
              <p:cNvSpPr/>
              <p:nvPr/>
            </p:nvSpPr>
            <p:spPr>
              <a:xfrm>
                <a:off x="5435640" y="3141720"/>
                <a:ext cx="1428840" cy="58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飲料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Picture 228" descr="C:\Documents and Settings\user\Local Settings\Temporary Internet Files\Content.IE5\AFTCK4R0\MCj04414250000[1].png"/>
            <p:cNvPicPr/>
            <p:nvPr/>
          </p:nvPicPr>
          <p:blipFill>
            <a:blip r:embed="rId4"/>
            <a:stretch/>
          </p:blipFill>
          <p:spPr>
            <a:xfrm>
              <a:off x="5649840" y="371340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文字方塊 245"/>
          <p:cNvSpPr/>
          <p:nvPr/>
        </p:nvSpPr>
        <p:spPr>
          <a:xfrm>
            <a:off x="3348000" y="58770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【影片資源取自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youtube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網站，僅供教學用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520560" y="1296000"/>
            <a:ext cx="7748280" cy="5326920"/>
            <a:chOff x="520560" y="1296000"/>
            <a:chExt cx="7748280" cy="5326920"/>
          </a:xfrm>
        </p:grpSpPr>
        <p:sp>
          <p:nvSpPr>
            <p:cNvPr id="114" name="Rectangle 3"/>
            <p:cNvSpPr/>
            <p:nvPr/>
          </p:nvSpPr>
          <p:spPr>
            <a:xfrm rot="478800">
              <a:off x="788400" y="1775160"/>
              <a:ext cx="7211880" cy="43678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 rot="21317400">
              <a:off x="714240" y="1642680"/>
              <a:ext cx="7212240" cy="43675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向右箭號圖說文字 1"/>
          <p:cNvSpPr/>
          <p:nvPr/>
        </p:nvSpPr>
        <p:spPr>
          <a:xfrm>
            <a:off x="395280" y="620640"/>
            <a:ext cx="5786280" cy="107172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85366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常見的媒體行銷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橢圓 7"/>
          <p:cNvSpPr/>
          <p:nvPr/>
        </p:nvSpPr>
        <p:spPr>
          <a:xfrm>
            <a:off x="684360" y="1916280"/>
            <a:ext cx="3214440" cy="10000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7632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誇飾化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字方塊 8"/>
          <p:cNvSpPr/>
          <p:nvPr/>
        </p:nvSpPr>
        <p:spPr>
          <a:xfrm>
            <a:off x="0" y="3068640"/>
            <a:ext cx="914400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內容呈現食品的色香味，挑逗你的感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內容豐富美味可口，與實際產品相差很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：各式速食泡麵產品廣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聳動性的廣告主題：速纖、油切、蔬果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7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 rot="1251600">
            <a:off x="6300360" y="620640"/>
            <a:ext cx="2467080" cy="2338560"/>
          </a:xfrm>
          <a:prstGeom prst="rect">
            <a:avLst/>
          </a:prstGeom>
          <a:ln w="0">
            <a:noFill/>
          </a:ln>
        </p:spPr>
      </p:pic>
      <p:sp>
        <p:nvSpPr>
          <p:cNvPr id="120" name="文字方塊 11"/>
          <p:cNvSpPr/>
          <p:nvPr/>
        </p:nvSpPr>
        <p:spPr>
          <a:xfrm>
            <a:off x="6143760" y="638820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【圖片資源僅供教學用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520560" y="1296000"/>
            <a:ext cx="7748280" cy="5326920"/>
            <a:chOff x="520560" y="1296000"/>
            <a:chExt cx="7748280" cy="5326920"/>
          </a:xfrm>
        </p:grpSpPr>
        <p:sp>
          <p:nvSpPr>
            <p:cNvPr id="122" name="Rectangle 3"/>
            <p:cNvSpPr/>
            <p:nvPr/>
          </p:nvSpPr>
          <p:spPr>
            <a:xfrm rot="478800">
              <a:off x="788400" y="1775160"/>
              <a:ext cx="7211880" cy="43678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 rot="21317400">
              <a:off x="714240" y="1642680"/>
              <a:ext cx="7212240" cy="43675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向右箭號圖說文字 1"/>
          <p:cNvSpPr/>
          <p:nvPr/>
        </p:nvSpPr>
        <p:spPr>
          <a:xfrm>
            <a:off x="642960" y="928800"/>
            <a:ext cx="5786280" cy="107136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85366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常見的媒體行銷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橢圓 7"/>
          <p:cNvSpPr/>
          <p:nvPr/>
        </p:nvSpPr>
        <p:spPr>
          <a:xfrm>
            <a:off x="571680" y="2286000"/>
            <a:ext cx="3714480" cy="100008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明星卡通代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字方塊 8"/>
          <p:cNvSpPr/>
          <p:nvPr/>
        </p:nvSpPr>
        <p:spPr>
          <a:xfrm>
            <a:off x="214200" y="3429000"/>
            <a:ext cx="871560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明星或公仔卡通為商品代言。（推薦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或是以角色來增加產品的記憶性。（角色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家喻戶曉的人物）如：張君雅小妹妹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字方塊 11"/>
          <p:cNvSpPr/>
          <p:nvPr/>
        </p:nvSpPr>
        <p:spPr>
          <a:xfrm>
            <a:off x="4067280" y="5950080"/>
            <a:ext cx="50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【圖片取自：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7-1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網站，僅供教學用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 rot="1477200">
            <a:off x="6454800" y="858600"/>
            <a:ext cx="1868400" cy="224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群組 13"/>
          <p:cNvGrpSpPr/>
          <p:nvPr/>
        </p:nvGrpSpPr>
        <p:grpSpPr>
          <a:xfrm>
            <a:off x="0" y="1357200"/>
            <a:ext cx="714240" cy="5034240"/>
            <a:chOff x="0" y="1357200"/>
            <a:chExt cx="714240" cy="5034240"/>
          </a:xfrm>
        </p:grpSpPr>
        <p:pic>
          <p:nvPicPr>
            <p:cNvPr id="130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0" y="3857760"/>
              <a:ext cx="714240" cy="25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0" y="1357200"/>
              <a:ext cx="714240" cy="253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群組 12"/>
          <p:cNvGrpSpPr/>
          <p:nvPr/>
        </p:nvGrpSpPr>
        <p:grpSpPr>
          <a:xfrm>
            <a:off x="8344080" y="1071720"/>
            <a:ext cx="799920" cy="5033880"/>
            <a:chOff x="8344080" y="1071720"/>
            <a:chExt cx="799920" cy="5033880"/>
          </a:xfrm>
        </p:grpSpPr>
        <p:pic>
          <p:nvPicPr>
            <p:cNvPr id="133" name="Picture 2" descr=""/>
            <p:cNvPicPr/>
            <p:nvPr/>
          </p:nvPicPr>
          <p:blipFill>
            <a:blip r:embed="rId4"/>
            <a:stretch/>
          </p:blipFill>
          <p:spPr>
            <a:xfrm>
              <a:off x="8344080" y="3571920"/>
              <a:ext cx="799920" cy="25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" descr=""/>
            <p:cNvPicPr/>
            <p:nvPr/>
          </p:nvPicPr>
          <p:blipFill>
            <a:blip r:embed="rId5"/>
            <a:stretch/>
          </p:blipFill>
          <p:spPr>
            <a:xfrm>
              <a:off x="8344080" y="1071720"/>
              <a:ext cx="799920" cy="253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2"/>
          <p:cNvGrpSpPr/>
          <p:nvPr/>
        </p:nvGrpSpPr>
        <p:grpSpPr>
          <a:xfrm>
            <a:off x="520560" y="1296000"/>
            <a:ext cx="7748280" cy="5326920"/>
            <a:chOff x="520560" y="1296000"/>
            <a:chExt cx="7748280" cy="5326920"/>
          </a:xfrm>
        </p:grpSpPr>
        <p:sp>
          <p:nvSpPr>
            <p:cNvPr id="136" name="Rectangle 3"/>
            <p:cNvSpPr/>
            <p:nvPr/>
          </p:nvSpPr>
          <p:spPr>
            <a:xfrm rot="478800">
              <a:off x="788400" y="1775160"/>
              <a:ext cx="7211880" cy="43678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 rot="21317400">
              <a:off x="714240" y="1642680"/>
              <a:ext cx="7212240" cy="43675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向右箭號圖說文字 1"/>
          <p:cNvSpPr/>
          <p:nvPr/>
        </p:nvSpPr>
        <p:spPr>
          <a:xfrm>
            <a:off x="611280" y="476280"/>
            <a:ext cx="5786280" cy="107136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85366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常見的媒體行銷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橢圓 7"/>
          <p:cNvSpPr/>
          <p:nvPr/>
        </p:nvSpPr>
        <p:spPr>
          <a:xfrm>
            <a:off x="539640" y="1844640"/>
            <a:ext cx="5643720" cy="10000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卡通與贈品抽獎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字方塊 8"/>
          <p:cNvSpPr/>
          <p:nvPr/>
        </p:nvSpPr>
        <p:spPr>
          <a:xfrm>
            <a:off x="250920" y="2997360"/>
            <a:ext cx="871524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許多產品皆會以「幾點送」、「買越多送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」等廣告，強打贈送或抽大獎送大禮，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加買氣與消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配合各種即開即送的手法，吸引顧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大乾麵，邀您大幹一場獎不完！"/>
          <p:cNvPicPr/>
          <p:nvPr/>
        </p:nvPicPr>
        <p:blipFill>
          <a:blip r:embed="rId6"/>
          <a:stretch/>
        </p:blipFill>
        <p:spPr>
          <a:xfrm rot="911400">
            <a:off x="6300360" y="620280"/>
            <a:ext cx="2119320" cy="1862280"/>
          </a:xfrm>
          <a:prstGeom prst="rect">
            <a:avLst/>
          </a:prstGeom>
          <a:ln w="0">
            <a:noFill/>
          </a:ln>
        </p:spPr>
      </p:pic>
      <p:sp>
        <p:nvSpPr>
          <p:cNvPr id="142" name="文字方塊 17"/>
          <p:cNvSpPr/>
          <p:nvPr/>
        </p:nvSpPr>
        <p:spPr>
          <a:xfrm>
            <a:off x="5076720" y="6458040"/>
            <a:ext cx="38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【圖片取自：僅供教學用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520560" y="1296000"/>
            <a:ext cx="7748280" cy="5326920"/>
            <a:chOff x="520560" y="1296000"/>
            <a:chExt cx="7748280" cy="5326920"/>
          </a:xfrm>
        </p:grpSpPr>
        <p:sp>
          <p:nvSpPr>
            <p:cNvPr id="144" name="Rectangle 3"/>
            <p:cNvSpPr/>
            <p:nvPr/>
          </p:nvSpPr>
          <p:spPr>
            <a:xfrm rot="478800">
              <a:off x="788400" y="1775160"/>
              <a:ext cx="7211880" cy="43678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 rot="21317400">
              <a:off x="714240" y="1642680"/>
              <a:ext cx="7212240" cy="43675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向右箭號圖說文字 1"/>
          <p:cNvSpPr/>
          <p:nvPr/>
        </p:nvSpPr>
        <p:spPr>
          <a:xfrm>
            <a:off x="611280" y="476280"/>
            <a:ext cx="5786280" cy="107136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85366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常見的媒體行銷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橢圓 7"/>
          <p:cNvSpPr/>
          <p:nvPr/>
        </p:nvSpPr>
        <p:spPr>
          <a:xfrm>
            <a:off x="539640" y="1700280"/>
            <a:ext cx="3714840" cy="1000080"/>
          </a:xfrm>
          <a:prstGeom prst="ellipse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消費性標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字方塊 8"/>
          <p:cNvSpPr/>
          <p:nvPr/>
        </p:nvSpPr>
        <p:spPr>
          <a:xfrm>
            <a:off x="179280" y="2997360"/>
            <a:ext cx="896472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抓住人性弱點，花小吃大的心理作用。（物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所值，珍值回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常見標語：買小送大、加量不加價、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7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送○○、獨家販售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文字方塊 11"/>
          <p:cNvSpPr/>
          <p:nvPr/>
        </p:nvSpPr>
        <p:spPr>
          <a:xfrm>
            <a:off x="4067280" y="623736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【圖片取自：僅供教學用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http://tw.f14.yahoofs.com/myper/n5kt5zCTQkX0XTgWF_P4ODeG/blog/ap_20071231122342905.jpg?TTAo3dKB0fgiYimx"/>
          <p:cNvPicPr/>
          <p:nvPr/>
        </p:nvPicPr>
        <p:blipFill>
          <a:blip r:embed="rId2"/>
          <a:stretch/>
        </p:blipFill>
        <p:spPr>
          <a:xfrm>
            <a:off x="4572000" y="1628640"/>
            <a:ext cx="4205160" cy="1730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Documents and Settings\user\Local Settings\Temporary Internet Files\Content.IE5\0VE49IK6\MCj04295290000[1].wmf"/>
          <p:cNvPicPr/>
          <p:nvPr/>
        </p:nvPicPr>
        <p:blipFill>
          <a:blip r:embed="rId2"/>
          <a:stretch/>
        </p:blipFill>
        <p:spPr>
          <a:xfrm>
            <a:off x="928800" y="1143000"/>
            <a:ext cx="2840040" cy="5235480"/>
          </a:xfrm>
          <a:prstGeom prst="rect">
            <a:avLst/>
          </a:prstGeom>
          <a:ln w="0">
            <a:noFill/>
          </a:ln>
        </p:spPr>
      </p:pic>
      <p:sp>
        <p:nvSpPr>
          <p:cNvPr id="152" name="文字方塊 5"/>
          <p:cNvSpPr/>
          <p:nvPr/>
        </p:nvSpPr>
        <p:spPr>
          <a:xfrm rot="757800">
            <a:off x="1076040" y="896040"/>
            <a:ext cx="6764040" cy="5011920"/>
          </a:xfrm>
          <a:prstGeom prst="rect">
            <a:avLst/>
          </a:prstGeom>
          <a:solidFill>
            <a:srgbClr val="993366"/>
          </a:soli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標楷體"/>
                <a:ea typeface="標楷體"/>
              </a:rPr>
              <a:t>聰明看媒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標楷體"/>
                <a:ea typeface="標楷體"/>
              </a:rPr>
              <a:t>健康任我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507600" y="1062000"/>
            <a:ext cx="8207280" cy="5660280"/>
            <a:chOff x="507600" y="1062000"/>
            <a:chExt cx="8207280" cy="5660280"/>
          </a:xfrm>
        </p:grpSpPr>
        <p:sp>
          <p:nvSpPr>
            <p:cNvPr id="154" name="Rectangle 3"/>
            <p:cNvSpPr/>
            <p:nvPr/>
          </p:nvSpPr>
          <p:spPr>
            <a:xfrm rot="478800">
              <a:off x="792720" y="1569240"/>
              <a:ext cx="7636320" cy="4645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 rot="21317400">
              <a:off x="713880" y="1428840"/>
              <a:ext cx="7636680" cy="46447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Picture 2" descr="C:\Documents and Settings\user\Local Settings\Temporary Internet Files\Content.IE5\3GOBS5XD\MPj04384100000[1].jpg"/>
          <p:cNvPicPr/>
          <p:nvPr/>
        </p:nvPicPr>
        <p:blipFill>
          <a:blip r:embed="rId2"/>
          <a:stretch/>
        </p:blipFill>
        <p:spPr>
          <a:xfrm rot="20685600">
            <a:off x="-277560" y="2841120"/>
            <a:ext cx="2840040" cy="370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user\Local Settings\Temporary Internet Files\Content.IE5\T089H8A9\MCj04325790000[1].png"/>
          <p:cNvPicPr/>
          <p:nvPr/>
        </p:nvPicPr>
        <p:blipFill>
          <a:blip r:embed="rId3"/>
          <a:stretch/>
        </p:blipFill>
        <p:spPr>
          <a:xfrm>
            <a:off x="6858000" y="357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714680" y="1593720"/>
            <a:ext cx="6500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看清廠商媒體的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廣告行銷為廠商的手段，主要是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了吸引增加消費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以健康為起點，勿成為品牌魁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選購外食有三寶「停一停‧看一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     ‧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聽 一聽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堅決對危害健康的食品說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6</a:t>
            </a: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）明智作選擇外食健康真務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6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72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4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2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4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1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 rot="3361200">
            <a:off x="918720" y="1904760"/>
            <a:ext cx="10207440" cy="2133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 rot="3361200">
            <a:off x="-2028600" y="2580480"/>
            <a:ext cx="9920520" cy="2133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714240" y="2500200"/>
            <a:ext cx="7643880" cy="335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□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拒絕媒體誘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□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健康飲食低脂高纖（熱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□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外食食品迷師大聲公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□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外食智慧王飲食小撇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071720" y="1071720"/>
            <a:ext cx="5429160" cy="857160"/>
          </a:xfrm>
          <a:custGeom>
            <a:avLst/>
            <a:gdLst>
              <a:gd name="textAreaLeft" fmla="*/ 0 w 5429160"/>
              <a:gd name="textAreaRight" fmla="*/ 5429520 w 5429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8" y="0"/>
                </a:lnTo>
                <a:lnTo>
                  <a:pt x="21600" y="10800"/>
                </a:lnTo>
                <a:lnTo>
                  <a:pt x="178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們的主打內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C:\Documents and Settings\user\Local Settings\Temporary Internet Files\Content.IE5\JWS83PN8\MCj04406100000[1].png"/>
          <p:cNvPicPr/>
          <p:nvPr/>
        </p:nvPicPr>
        <p:blipFill>
          <a:blip r:embed="rId2"/>
          <a:stretch/>
        </p:blipFill>
        <p:spPr>
          <a:xfrm>
            <a:off x="214200" y="50004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user\Local Settings\Temporary Internet Files\Content.IE5\YQWYXDVK\MCj04325500000[1].png"/>
          <p:cNvPicPr/>
          <p:nvPr/>
        </p:nvPicPr>
        <p:blipFill>
          <a:blip r:embed="rId3"/>
          <a:stretch/>
        </p:blipFill>
        <p:spPr>
          <a:xfrm>
            <a:off x="6572160" y="3929040"/>
            <a:ext cx="1571760" cy="153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4:11:07Z</dcterms:created>
  <dc:creator>資訊中心</dc:creator>
  <dc:description/>
  <dc:language>en-US</dc:language>
  <cp:lastModifiedBy>s</cp:lastModifiedBy>
  <dcterms:modified xsi:type="dcterms:W3CDTF">2011-11-19T13:27:28Z</dcterms:modified>
  <cp:revision>127</cp:revision>
  <dc:subject/>
  <dc:title>與成功有約</dc:title>
</cp:coreProperties>
</file>