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6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9.jpeg" ContentType="image/jpeg"/>
  <Override PartName="/ppt/media/image7.jpeg" ContentType="image/jpeg"/>
  <Override PartName="/ppt/media/image26.jpeg" ContentType="image/jpeg"/>
  <Override PartName="/ppt/media/image5.jpeg" ContentType="image/jpeg"/>
  <Override PartName="/ppt/media/CHIMES.WAV" ContentType="audio/x-wav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TYPE.WAV" ContentType="audio/x-wav"/>
  <Override PartName="/ppt/media/image1.gif" ContentType="image/gif"/>
  <Override PartName="/ppt/media/image2.jpeg" ContentType="image/jpeg"/>
  <Override PartName="/ppt/media/image4.wmf" ContentType="image/x-wmf"/>
  <Override PartName="/ppt/media/image23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10.jpeg" ContentType="image/jpeg"/>
  <Override PartName="/ppt/media/image14.png" ContentType="image/png"/>
  <Override PartName="/ppt/media/image15.wmf" ContentType="image/x-wmf"/>
  <Override PartName="/ppt/media/image22.jpeg" ContentType="image/jpeg"/>
  <Override PartName="/ppt/media/image28.jpeg" ContentType="image/jpeg"/>
  <Override PartName="/ppt/media/image27.gif" ContentType="image/gif"/>
  <Override PartName="/ppt/media/image16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A63-D550-4E1E-99EF-E02AA95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716-8248-4266-888B-BF9F359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A41-D586-4989-8C51-D77CB5D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93D-FC0E-4944-B3B5-8704B199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EEC-F781-4335-B6EA-01BA1B10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BAF-BB48-4A5A-B837-DD4B226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6CC-8951-4C21-9581-465D7A48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3F5-24C8-4CE5-8677-8C6120A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DC7-E472-4F4F-A86A-4DFB0FCD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F59-F95D-4FAE-87EA-AF90E4C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A4E-D1C0-46F0-9E6B-7338D1E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EB9-DC34-4BFB-8AA1-494FE2C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80A-06C6-4037-B3E7-A85719B18FF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" Target=""/><Relationship Id="rId13" Type="http://schemas.openxmlformats.org/officeDocument/2006/relationships/slide" Target="slide3.xml"/><Relationship Id="rId14" Type="http://schemas.openxmlformats.org/officeDocument/2006/relationships/image" Target="../media/image27.gif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ODBK005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114800" cy="26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441972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66"/>
                </a:solidFill>
                <a:latin typeface="Times New Roman"/>
                <a:ea typeface="標楷體"/>
              </a:rPr>
              <a:t>五穀根莖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8080" y="1066680"/>
            <a:ext cx="77724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標楷體"/>
              </a:rPr>
              <a:t>你最愛吃什麼食物呢</a:t>
            </a: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標楷體"/>
              </a:rPr>
              <a:t>?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2209680"/>
            <a:ext cx="4495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飯？麵？麵包？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00600" y="28954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生果？蔬菜？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33526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魚？牛？雞？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1120" y="42670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牛奶？芝士？乳酪？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23880" y="43434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糖果？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12880" y="47520"/>
            <a:ext cx="4496040" cy="5894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490000">
            <a:off x="2652840" y="0"/>
            <a:ext cx="2201760" cy="59450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43280" y="3297240"/>
            <a:ext cx="125064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38560" y="4440240"/>
            <a:ext cx="3330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79560" y="2432160"/>
            <a:ext cx="99396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8600" y="3019320"/>
            <a:ext cx="2255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6400" y="1698480"/>
            <a:ext cx="68580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127240"/>
            <a:ext cx="15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348400">
            <a:off x="8472240" y="6119640"/>
            <a:ext cx="223560" cy="738360"/>
          </a:xfrm>
          <a:prstGeom prst="downArrow">
            <a:avLst>
              <a:gd name="adj1" fmla="val 50000"/>
              <a:gd name="adj2" fmla="val 825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81400">
            <a:off x="6553080" y="380520"/>
            <a:ext cx="249480" cy="540000"/>
          </a:xfrm>
          <a:prstGeom prst="upArrow">
            <a:avLst>
              <a:gd name="adj1" fmla="val 50000"/>
              <a:gd name="adj2" fmla="val 541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9760" y="1616040"/>
            <a:ext cx="1719000" cy="47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最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6240" y="2886120"/>
            <a:ext cx="1544760" cy="4190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適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0120" y="4108320"/>
            <a:ext cx="1371600" cy="3906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多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67760" y="5299200"/>
            <a:ext cx="1371600" cy="3902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最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7160" y="1295280"/>
            <a:ext cx="549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8240" y="1371600"/>
            <a:ext cx="667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想一想哪些食物要多吃一些呢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03680" y="560520"/>
            <a:ext cx="4495680" cy="5894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490000">
            <a:off x="2842920" y="512640"/>
            <a:ext cx="2201760" cy="5945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809880"/>
            <a:ext cx="12510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952880"/>
            <a:ext cx="333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0360" y="2944800"/>
            <a:ext cx="99360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9040" y="3532320"/>
            <a:ext cx="225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6840" y="2211480"/>
            <a:ext cx="68580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5240" y="263988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43280" y="5110200"/>
          <a:ext cx="106056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3280" y="5110200"/>
                    <a:ext cx="10605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02240" y="5791320"/>
          <a:ext cx="96984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2240" y="5791320"/>
                    <a:ext cx="969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00520" y="4981680"/>
          <a:ext cx="1209600" cy="77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00520" y="4981680"/>
                    <a:ext cx="1209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816520" y="5595840"/>
          <a:ext cx="1068480" cy="81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6520" y="5595840"/>
                    <a:ext cx="10684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3195720" y="5354640"/>
            <a:ext cx="671400" cy="58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20348400">
            <a:off x="8472240" y="6119640"/>
            <a:ext cx="223560" cy="738360"/>
          </a:xfrm>
          <a:prstGeom prst="downArrow">
            <a:avLst>
              <a:gd name="adj1" fmla="val 50000"/>
              <a:gd name="adj2" fmla="val 825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081400">
            <a:off x="6553080" y="380520"/>
            <a:ext cx="249480" cy="540000"/>
          </a:xfrm>
          <a:prstGeom prst="upArrow">
            <a:avLst>
              <a:gd name="adj1" fmla="val 50000"/>
              <a:gd name="adj2" fmla="val 541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9760" y="1616040"/>
            <a:ext cx="1719000" cy="47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最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6240" y="2886120"/>
            <a:ext cx="1544760" cy="4190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適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0120" y="4108320"/>
            <a:ext cx="1371600" cy="3906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多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67760" y="5299200"/>
            <a:ext cx="1371600" cy="3902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吃最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57200" y="609480"/>
            <a:ext cx="1747800" cy="5305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1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均衡飲食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28800" y="1905120"/>
            <a:ext cx="5257800" cy="4243320"/>
            <a:chOff x="1828800" y="1905120"/>
            <a:chExt cx="5257800" cy="4243320"/>
          </a:xfrm>
        </p:grpSpPr>
        <p:sp>
          <p:nvSpPr>
            <p:cNvPr id="117" name=""/>
            <p:cNvSpPr/>
            <p:nvPr/>
          </p:nvSpPr>
          <p:spPr>
            <a:xfrm>
              <a:off x="1828800" y="1905120"/>
              <a:ext cx="5257800" cy="4243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Salt_pep" descr=""/>
            <p:cNvPicPr/>
            <p:nvPr/>
          </p:nvPicPr>
          <p:blipFill>
            <a:blip r:embed="rId2"/>
            <a:stretch/>
          </p:blipFill>
          <p:spPr>
            <a:xfrm>
              <a:off x="4114800" y="261612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Nwagg089" descr=""/>
            <p:cNvPicPr/>
            <p:nvPr/>
          </p:nvPicPr>
          <p:blipFill>
            <a:blip r:embed="rId3"/>
            <a:stretch/>
          </p:blipFill>
          <p:spPr>
            <a:xfrm>
              <a:off x="3581280" y="3468960"/>
              <a:ext cx="762120" cy="71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dairy012" descr=""/>
            <p:cNvPicPr/>
            <p:nvPr/>
          </p:nvPicPr>
          <p:blipFill>
            <a:blip r:embed="rId4"/>
            <a:stretch/>
          </p:blipFill>
          <p:spPr>
            <a:xfrm>
              <a:off x="4495680" y="3398040"/>
              <a:ext cx="7621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Apple2" descr=""/>
            <p:cNvPicPr/>
            <p:nvPr/>
          </p:nvPicPr>
          <p:blipFill>
            <a:blip r:embed="rId5"/>
            <a:stretch/>
          </p:blipFill>
          <p:spPr>
            <a:xfrm>
              <a:off x="4114800" y="4250880"/>
              <a:ext cx="7621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Broc0001" descr=""/>
            <p:cNvPicPr/>
            <p:nvPr/>
          </p:nvPicPr>
          <p:blipFill>
            <a:blip r:embed="rId6"/>
            <a:stretch/>
          </p:blipFill>
          <p:spPr>
            <a:xfrm>
              <a:off x="3200400" y="4322160"/>
              <a:ext cx="762120" cy="71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Misc0012" descr=""/>
            <p:cNvPicPr/>
            <p:nvPr/>
          </p:nvPicPr>
          <p:blipFill>
            <a:blip r:embed="rId7"/>
            <a:stretch/>
          </p:blipFill>
          <p:spPr>
            <a:xfrm>
              <a:off x="5029200" y="4322160"/>
              <a:ext cx="762120" cy="71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Biscuits" descr=""/>
            <p:cNvPicPr/>
            <p:nvPr/>
          </p:nvPicPr>
          <p:blipFill>
            <a:blip r:embed="rId8"/>
            <a:stretch/>
          </p:blipFill>
          <p:spPr>
            <a:xfrm>
              <a:off x="3429000" y="5246280"/>
              <a:ext cx="83808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Bread008" descr=""/>
            <p:cNvPicPr/>
            <p:nvPr/>
          </p:nvPicPr>
          <p:blipFill>
            <a:blip r:embed="rId9"/>
            <a:stretch/>
          </p:blipFill>
          <p:spPr>
            <a:xfrm>
              <a:off x="4495680" y="5317200"/>
              <a:ext cx="7621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Misc0045" descr=""/>
            <p:cNvPicPr/>
            <p:nvPr/>
          </p:nvPicPr>
          <p:blipFill>
            <a:blip r:embed="rId10"/>
            <a:stretch/>
          </p:blipFill>
          <p:spPr>
            <a:xfrm>
              <a:off x="2438280" y="5246280"/>
              <a:ext cx="838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opcorn2" descr=""/>
            <p:cNvPicPr/>
            <p:nvPr/>
          </p:nvPicPr>
          <p:blipFill>
            <a:blip r:embed="rId11"/>
            <a:stretch/>
          </p:blipFill>
          <p:spPr>
            <a:xfrm>
              <a:off x="5638680" y="5246280"/>
              <a:ext cx="838440" cy="78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201348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宜少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716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宜適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0840" y="42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宜多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吃最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523880"/>
            <a:ext cx="277164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18958"/>
              <a:gd name="adj5" fmla="val 146592"/>
              <a:gd name="adj6" fmla="val -35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油、糖、鹽                                                                           及 醃 製 食 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743200"/>
            <a:ext cx="28195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8333"/>
              <a:gd name="adj5" fmla="val 167856"/>
              <a:gd name="adj6" fmla="val -14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肉 、 豆 及 奶 類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1440" y="3828960"/>
            <a:ext cx="2143080" cy="59076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-8148"/>
              <a:gd name="adj5" fmla="val 111291"/>
              <a:gd name="adj6" fmla="val -12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蔬果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05520" y="5057640"/>
            <a:ext cx="162900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8087"/>
              <a:gd name="adj5" fmla="val 69564"/>
              <a:gd name="adj6" fmla="val -11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穀類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00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12" action="ppaction://hlinksldjump"/>
              </a:rPr>
              <a:t>下一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an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229600" y="612612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15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均衡飲食的祕訣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多 吃 穀 類 和 蔬 菜 水 果 ， 適 當 進 食 魚 類 、 瘦 肉 類 、 豆 類 和 奶 類 ， 而 脂 肪 和 高 糖 分 食 物 應 盡 量 少 吃 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☆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除以上食物外，我們每天亦需要</a:t>
            </a:r>
            <a:r>
              <a:rPr b="1" lang="zh-TW" sz="2400" spc="-1" strike="noStrike">
                <a:solidFill>
                  <a:srgbClr val="3333cc"/>
                </a:solidFill>
                <a:latin typeface="標楷體"/>
                <a:ea typeface="標楷體"/>
              </a:rPr>
              <a:t>六至八杯流質食物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如水、湯、茶、果 汁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吃自己喜愛的食物之餘，亦要留意均衡飲食的重要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360" y="640080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 action="ppaction://hlinksldjump"/>
              </a:rPr>
              <a:t>下一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n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12612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rophy6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4730760" cy="3962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rophy1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486400" cy="305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rophy3" descr=""/>
          <p:cNvPicPr/>
          <p:nvPr/>
        </p:nvPicPr>
        <p:blipFill>
          <a:blip r:embed="rId2"/>
          <a:stretch/>
        </p:blipFill>
        <p:spPr>
          <a:xfrm>
            <a:off x="2017800" y="1905120"/>
            <a:ext cx="510840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rophy4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2466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DMT031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029200" cy="265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40384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0000"/>
                </a:solidFill>
                <a:latin typeface="Times New Roman"/>
                <a:ea typeface="標楷體"/>
              </a:rPr>
              <a:t>魚肉蛋豆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DSF007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248520" cy="32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4267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0000"/>
                </a:solidFill>
                <a:latin typeface="Times New Roman"/>
                <a:ea typeface="標楷體"/>
              </a:rPr>
              <a:t>魚肉蛋豆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DVF025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71800" y="4114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0000"/>
                </a:solidFill>
                <a:latin typeface="Times New Roman"/>
                <a:ea typeface="標楷體"/>
              </a:rPr>
              <a:t>水果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ODDR002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343400" cy="2819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267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0000"/>
                </a:solidFill>
                <a:latin typeface="Times New Roman"/>
                <a:ea typeface="標楷體"/>
              </a:rPr>
              <a:t>魚肉蛋豆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ODMT001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7400" y="43434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0000"/>
                </a:solidFill>
                <a:latin typeface="Times New Roman"/>
                <a:ea typeface="標楷體"/>
              </a:rPr>
              <a:t>魚肉蛋豆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ODVF046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81080" y="4038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808080"/>
                </a:solidFill>
                <a:latin typeface="Times New Roman"/>
                <a:ea typeface="標楷體"/>
              </a:rPr>
              <a:t>五穀根莖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ODVF034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41936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43434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水果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1430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ODDR003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149720" cy="2819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720" y="4267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3300"/>
                </a:solidFill>
                <a:latin typeface="Times New Roman"/>
                <a:ea typeface="標楷體"/>
              </a:rPr>
              <a:t>奶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990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40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下列的圖片屬於哪一類食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0:56:40Z</dcterms:created>
  <dc:creator>1</dc:creator>
  <dc:description/>
  <dc:language>en-US</dc:language>
  <cp:lastModifiedBy>s</cp:lastModifiedBy>
  <dcterms:modified xsi:type="dcterms:W3CDTF">2011-11-19T13:49:33Z</dcterms:modified>
  <cp:revision>11</cp:revision>
  <dc:subject/>
  <dc:title>PowerPoint 簡報</dc:title>
</cp:coreProperties>
</file>