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F9D-DA7F-4FD5-BC65-625B22BF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D93-CC4F-4341-96DA-856132F9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723-CD95-405C-AF01-5CB25991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0D8-695A-4444-8237-8554FA63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9E5-2AA5-4C93-9891-FCAE4E3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B78F-1907-4BF8-9B85-2B4F6BA3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E717-256B-4229-99AD-D8411162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75AA-FAB1-43AB-AA7E-D9F13486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A877-3A92-4FFE-B73D-7E3DC31E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E95D-7230-4342-8D62-5C65B506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154-D382-44C3-8DC8-0D67003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5A2-23F9-4F1E-8E6D-F54FE328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D22E-C848-4794-8090-17B200F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F2FE-3D60-4358-9220-083A96D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609-4C92-4CDA-84B7-F2162807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1D77-8A27-4250-8E89-58F1FE56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419F-D758-407B-8ECF-983F278B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989-4B87-41B7-90FF-0C4E594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7F9-429B-4CDF-9C2D-94350E8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E7F-BDC2-445A-85D6-DD95167E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AEC-F36D-494C-8AB8-DEBDF15C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7A1-9E0C-463B-A6FA-CD91098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7A8-B133-4D2B-A99F-EA3EED23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598-5834-4B2C-A29F-52D2617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8AB1-5874-4DE1-A62B-02C83E151B8C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28F6-4C99-4BA2-8322-BE18408F820F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  <a:p>
            <a:pPr lvl="1" marL="3747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749520" algn="ctr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124640" algn="ctr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1499400" algn="ctr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14994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14994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ff"/>
                </a:solidFill>
                <a:latin typeface="Tahoma"/>
                <a:ea typeface="文鼎粗隸"/>
              </a:rPr>
              <a:t>健康百分百</a:t>
            </a:r>
            <a:br>
              <a:rPr sz="6000"/>
            </a:br>
            <a:r>
              <a:rPr b="0" lang="zh-TW" sz="6000" spc="-1" strike="noStrike">
                <a:solidFill>
                  <a:srgbClr val="0000ff"/>
                </a:solidFill>
                <a:latin typeface="Tahoma"/>
                <a:ea typeface="標楷體"/>
              </a:rPr>
              <a:t>營養三明治</a:t>
            </a:r>
            <a:endParaRPr b="0" lang="en-US" sz="6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</a:rPr>
              <a:t>美味可口的早餐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26686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8066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</a:rPr>
              <a:t>美味可口的早餐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9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4253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</a:rPr>
              <a:t>美味可口的早餐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4286520" cy="287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084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</a:rPr>
              <a:t>美味可口的早餐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5891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96000" y="3068640"/>
            <a:ext cx="30891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579240" y="1062000"/>
            <a:ext cx="8206920" cy="5660280"/>
            <a:chOff x="579240" y="1062000"/>
            <a:chExt cx="8206920" cy="5660280"/>
          </a:xfrm>
        </p:grpSpPr>
        <p:sp>
          <p:nvSpPr>
            <p:cNvPr id="113" name="Rectangle 3"/>
            <p:cNvSpPr/>
            <p:nvPr/>
          </p:nvSpPr>
          <p:spPr>
            <a:xfrm rot="478800">
              <a:off x="864360" y="1569240"/>
              <a:ext cx="7635960" cy="4645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 rot="21317400">
              <a:off x="785520" y="1428840"/>
              <a:ext cx="7636320" cy="464472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橢圓 5"/>
          <p:cNvSpPr/>
          <p:nvPr/>
        </p:nvSpPr>
        <p:spPr>
          <a:xfrm>
            <a:off x="-285840" y="5000760"/>
            <a:ext cx="9715680" cy="271440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user\Local Settings\Temporary Internet Files\Content.IE5\AFTCK4R0\MCj02975650000[1].wmf"/>
          <p:cNvPicPr/>
          <p:nvPr/>
        </p:nvPicPr>
        <p:blipFill>
          <a:blip r:embed="rId1"/>
          <a:stretch/>
        </p:blipFill>
        <p:spPr>
          <a:xfrm>
            <a:off x="2571840" y="3429000"/>
            <a:ext cx="4643280" cy="2502000"/>
          </a:xfrm>
          <a:prstGeom prst="rect">
            <a:avLst/>
          </a:prstGeom>
          <a:ln w="0">
            <a:noFill/>
          </a:ln>
        </p:spPr>
      </p:pic>
      <p:sp>
        <p:nvSpPr>
          <p:cNvPr id="117" name="雲朵形圖說文字 6"/>
          <p:cNvSpPr/>
          <p:nvPr/>
        </p:nvSpPr>
        <p:spPr>
          <a:xfrm>
            <a:off x="1785960" y="1357200"/>
            <a:ext cx="5929200" cy="1643040"/>
          </a:xfrm>
          <a:prstGeom prst="cloudCallout">
            <a:avLst>
              <a:gd name="adj1" fmla="val 1277"/>
              <a:gd name="adj2" fmla="val 2955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76320">
            <a:solidFill>
              <a:srgbClr val="be4b48"/>
            </a:solidFill>
            <a:prstDash val="sysDash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換你動手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</a:rPr>
              <a:t>健康飲食的原則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少吃高熱量食物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不偏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每天攝取六大類食物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多吃蔬菜水果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少吃零食及含糖飲料等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30:25Z</dcterms:created>
  <dc:creator>ASUS</dc:creator>
  <dc:description/>
  <dc:language>en-US</dc:language>
  <cp:lastModifiedBy>s</cp:lastModifiedBy>
  <dcterms:modified xsi:type="dcterms:W3CDTF">2011-11-17T13:06:13Z</dcterms:modified>
  <cp:revision>25</cp:revision>
  <dc:subject/>
  <dc:title>投影片 1</dc:title>
</cp:coreProperties>
</file>