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F6F7-A6DD-44DD-B27F-95FD5FE6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715C-9E80-4221-A85F-3342A435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F70F-3D44-4442-A37C-FDA92E3B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428F-35E2-4802-9C2F-9B2FCBA1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1379-D2B2-4683-97E5-90716AED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0CCF-DD5C-4E4E-8FDD-69CD5619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16C2-55E8-4EB7-848C-216983CB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5BDA-6726-4C0A-B298-2448A008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7B29-D51E-4DCB-A6BA-70255ABB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7B3C-EEB8-449C-BDA9-F4BD236F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D664-70CB-493F-AF81-D49A4609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3C94-960E-4711-8F88-FB1DE53F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502B-3EB3-48ED-9375-687BFD737531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47640" y="1484280"/>
            <a:ext cx="6263280" cy="3454920"/>
            <a:chOff x="1547640" y="1484280"/>
            <a:chExt cx="6263280" cy="3454920"/>
          </a:xfrm>
        </p:grpSpPr>
        <p:sp>
          <p:nvSpPr>
            <p:cNvPr id="42" name=""/>
            <p:cNvSpPr txBox="1"/>
            <p:nvPr/>
          </p:nvSpPr>
          <p:spPr>
            <a:xfrm>
              <a:off x="1547640" y="1484280"/>
              <a:ext cx="6263280" cy="345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華康楷書體注音"/>
                </a:rPr>
                <a:t> </a:t>
              </a: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華康楷書體注音"/>
                </a:rPr>
                <a:t>造詞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華康楷書體注音"/>
                <a:ea typeface="華康楷書體注音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華康楷書體注音"/>
                </a:rPr>
                <a:t>大      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華康楷書體注音"/>
                <a:ea typeface="華康楷書體注音"/>
              </a:endParaRPr>
            </a:p>
          </p:txBody>
        </p:sp>
        <p:sp>
          <p:nvSpPr>
            <p:cNvPr id="43" name=""/>
            <p:cNvSpPr txBox="1"/>
            <p:nvPr/>
          </p:nvSpPr>
          <p:spPr>
            <a:xfrm>
              <a:off x="3719520" y="3246840"/>
              <a:ext cx="1782000" cy="159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華康楷書體破音一"/>
                </a:rPr>
                <a:t>挑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華康楷書體破音一"/>
                <a:ea typeface="華康楷書體破音一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843280" y="0"/>
            <a:ext cx="31687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0" spc="-1" strike="noStrike">
                <a:solidFill>
                  <a:srgbClr val="000000"/>
                </a:solidFill>
                <a:latin typeface="Arial"/>
              </a:rPr>
              <a:t>ㄋ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2708280"/>
            <a:ext cx="31687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0" spc="-1" strike="noStrike">
                <a:solidFill>
                  <a:srgbClr val="000000"/>
                </a:solidFill>
                <a:latin typeface="Arial"/>
              </a:rPr>
              <a:t>ㄧ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88000" y="2205000"/>
            <a:ext cx="30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0" spc="-1" strike="noStrike">
                <a:solidFill>
                  <a:srgbClr val="000000"/>
                </a:solidFill>
                <a:latin typeface="Arial"/>
              </a:rPr>
              <a:t>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 rot="5400000">
            <a:off x="4686120" y="2090520"/>
            <a:ext cx="5327640" cy="2244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泥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  <p:sp>
        <p:nvSpPr>
          <p:cNvPr id="72" name=""/>
          <p:cNvSpPr txBox="1"/>
          <p:nvPr/>
        </p:nvSpPr>
        <p:spPr>
          <a:xfrm rot="5400000">
            <a:off x="2129400" y="2054520"/>
            <a:ext cx="5256000" cy="2244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泥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  <p:sp>
        <p:nvSpPr>
          <p:cNvPr id="73" name=""/>
          <p:cNvSpPr txBox="1"/>
          <p:nvPr/>
        </p:nvSpPr>
        <p:spPr>
          <a:xfrm rot="5400000">
            <a:off x="-570240" y="2090520"/>
            <a:ext cx="5327640" cy="2244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尼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916360" y="-316080"/>
            <a:ext cx="3168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0" spc="-1" strike="noStrike">
                <a:solidFill>
                  <a:srgbClr val="000000"/>
                </a:solidFill>
                <a:latin typeface="Arial"/>
              </a:rPr>
              <a:t>ㄋ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16360" y="2781360"/>
            <a:ext cx="3168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0" spc="-1" strike="noStrike">
                <a:solidFill>
                  <a:srgbClr val="000000"/>
                </a:solidFill>
                <a:latin typeface="Arial"/>
              </a:rPr>
              <a:t>ㄚ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88000" y="2205000"/>
            <a:ext cx="30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0" spc="-1" strike="noStrike">
                <a:solidFill>
                  <a:srgbClr val="000000"/>
                </a:solidFill>
                <a:latin typeface="Arial"/>
              </a:rPr>
              <a:t>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 rot="5400000">
            <a:off x="4794120" y="1982520"/>
            <a:ext cx="5111640" cy="2244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納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  <p:sp>
        <p:nvSpPr>
          <p:cNvPr id="78" name=""/>
          <p:cNvSpPr txBox="1"/>
          <p:nvPr/>
        </p:nvSpPr>
        <p:spPr>
          <a:xfrm rot="5400000">
            <a:off x="2129400" y="2054520"/>
            <a:ext cx="5256000" cy="2244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收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  <p:sp>
        <p:nvSpPr>
          <p:cNvPr id="79" name=""/>
          <p:cNvSpPr txBox="1"/>
          <p:nvPr/>
        </p:nvSpPr>
        <p:spPr>
          <a:xfrm rot="5400000">
            <a:off x="-570240" y="2090520"/>
            <a:ext cx="5327640" cy="2244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吶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916360" y="-316080"/>
            <a:ext cx="3168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0" spc="-1" strike="noStrike">
                <a:solidFill>
                  <a:srgbClr val="000000"/>
                </a:solidFill>
                <a:latin typeface="Arial"/>
                <a:ea typeface="標楷體"/>
              </a:rPr>
              <a:t>ㄋ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87640" y="2637000"/>
            <a:ext cx="31687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0" spc="-1" strike="noStrike">
                <a:solidFill>
                  <a:srgbClr val="000000"/>
                </a:solidFill>
                <a:latin typeface="Arial"/>
                <a:ea typeface="標楷體"/>
              </a:rPr>
              <a:t>ㄞ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8000" y="2205000"/>
            <a:ext cx="30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0" spc="-1" strike="noStrike">
                <a:solidFill>
                  <a:srgbClr val="000000"/>
                </a:solidFill>
                <a:latin typeface="Arial"/>
                <a:ea typeface="標楷體"/>
              </a:rPr>
              <a:t>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 rot="5400000">
            <a:off x="4686120" y="2090520"/>
            <a:ext cx="5327640" cy="2244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忍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  <p:sp>
        <p:nvSpPr>
          <p:cNvPr id="84" name=""/>
          <p:cNvSpPr txBox="1"/>
          <p:nvPr/>
        </p:nvSpPr>
        <p:spPr>
          <a:xfrm rot="5400000">
            <a:off x="2129400" y="2054520"/>
            <a:ext cx="5256000" cy="2244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耐力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  <p:sp>
        <p:nvSpPr>
          <p:cNvPr id="85" name=""/>
          <p:cNvSpPr txBox="1"/>
          <p:nvPr/>
        </p:nvSpPr>
        <p:spPr>
          <a:xfrm rot="5400000">
            <a:off x="-570240" y="2090520"/>
            <a:ext cx="5327640" cy="2244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耐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916360" y="-316080"/>
            <a:ext cx="3168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0" spc="-1" strike="noStrike">
                <a:solidFill>
                  <a:srgbClr val="000000"/>
                </a:solidFill>
                <a:latin typeface="Arial"/>
                <a:ea typeface="標楷體"/>
              </a:rPr>
              <a:t>ㄋ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88000" y="2205000"/>
            <a:ext cx="30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0" spc="-1" strike="noStrike">
                <a:solidFill>
                  <a:srgbClr val="000000"/>
                </a:solidFill>
                <a:latin typeface="Arial"/>
                <a:ea typeface="標楷體"/>
              </a:rPr>
              <a:t>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492360" y="3573360"/>
            <a:ext cx="30956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標楷體"/>
              </a:rPr>
              <a:t>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 rot="5400000">
            <a:off x="5478480" y="1298160"/>
            <a:ext cx="3743280" cy="2244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內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  <p:sp>
        <p:nvSpPr>
          <p:cNvPr id="90" name=""/>
          <p:cNvSpPr txBox="1"/>
          <p:nvPr/>
        </p:nvSpPr>
        <p:spPr>
          <a:xfrm rot="5400000">
            <a:off x="2129400" y="2054520"/>
            <a:ext cx="5256000" cy="2244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內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  <p:sp>
        <p:nvSpPr>
          <p:cNvPr id="91" name=""/>
          <p:cNvSpPr txBox="1"/>
          <p:nvPr/>
        </p:nvSpPr>
        <p:spPr>
          <a:xfrm rot="5400000">
            <a:off x="-570240" y="2090520"/>
            <a:ext cx="5327640" cy="2244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國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43280" y="0"/>
            <a:ext cx="31687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0" spc="-1" strike="noStrike">
                <a:solidFill>
                  <a:srgbClr val="000000"/>
                </a:solidFill>
                <a:latin typeface="Arial"/>
              </a:rPr>
              <a:t>ㄌ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43280" y="2708280"/>
            <a:ext cx="31687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0" spc="-1" strike="noStrike">
                <a:solidFill>
                  <a:srgbClr val="000000"/>
                </a:solidFill>
                <a:latin typeface="Arial"/>
              </a:rPr>
              <a:t>ㄧ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2205000"/>
            <a:ext cx="30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0" spc="-1" strike="noStrike">
                <a:solidFill>
                  <a:srgbClr val="000000"/>
                </a:solidFill>
                <a:latin typeface="Arial"/>
              </a:rPr>
              <a:t>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 rot="5400000">
            <a:off x="4578120" y="2198520"/>
            <a:ext cx="5543640" cy="2244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離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  <p:sp>
        <p:nvSpPr>
          <p:cNvPr id="96" name=""/>
          <p:cNvSpPr txBox="1"/>
          <p:nvPr/>
        </p:nvSpPr>
        <p:spPr>
          <a:xfrm rot="5400000">
            <a:off x="2129400" y="2054520"/>
            <a:ext cx="5256000" cy="2244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隔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  <p:sp>
        <p:nvSpPr>
          <p:cNvPr id="97" name=""/>
          <p:cNvSpPr txBox="1"/>
          <p:nvPr/>
        </p:nvSpPr>
        <p:spPr>
          <a:xfrm rot="5400000">
            <a:off x="-570240" y="2090520"/>
            <a:ext cx="5327640" cy="2244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梨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43280" y="0"/>
            <a:ext cx="31687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0" spc="-1" strike="noStrike">
                <a:solidFill>
                  <a:srgbClr val="000000"/>
                </a:solidFill>
                <a:latin typeface="Arial"/>
              </a:rPr>
              <a:t>ㄆ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43280" y="2708280"/>
            <a:ext cx="31687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0" spc="-1" strike="noStrike">
                <a:solidFill>
                  <a:srgbClr val="000000"/>
                </a:solidFill>
                <a:latin typeface="Arial"/>
              </a:rPr>
              <a:t>ㄧ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88000" y="2205000"/>
            <a:ext cx="30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0" spc="-1" strike="noStrike">
                <a:solidFill>
                  <a:srgbClr val="000000"/>
                </a:solidFill>
                <a:latin typeface="Arial"/>
              </a:rPr>
              <a:t>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916360" y="-316080"/>
            <a:ext cx="3168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0" spc="-1" strike="noStrike">
                <a:solidFill>
                  <a:srgbClr val="000000"/>
                </a:solidFill>
                <a:latin typeface="Arial"/>
              </a:rPr>
              <a:t>ㄌ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2781360"/>
            <a:ext cx="3168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0" spc="-1" strike="noStrike">
                <a:solidFill>
                  <a:srgbClr val="000000"/>
                </a:solidFill>
                <a:latin typeface="Arial"/>
              </a:rPr>
              <a:t>ㄚ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8000" y="2205000"/>
            <a:ext cx="30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0" spc="-1" strike="noStrike">
                <a:solidFill>
                  <a:srgbClr val="000000"/>
                </a:solidFill>
                <a:latin typeface="Arial"/>
              </a:rPr>
              <a:t>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 rot="5400000">
            <a:off x="4649400" y="2126880"/>
            <a:ext cx="5400720" cy="2244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辣椒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  <p:sp>
        <p:nvSpPr>
          <p:cNvPr id="102" name=""/>
          <p:cNvSpPr txBox="1"/>
          <p:nvPr/>
        </p:nvSpPr>
        <p:spPr>
          <a:xfrm rot="5400000">
            <a:off x="2129400" y="2054520"/>
            <a:ext cx="5256000" cy="2244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臘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  <p:sp>
        <p:nvSpPr>
          <p:cNvPr id="103" name=""/>
          <p:cNvSpPr txBox="1"/>
          <p:nvPr/>
        </p:nvSpPr>
        <p:spPr>
          <a:xfrm rot="5400000">
            <a:off x="-570240" y="2090520"/>
            <a:ext cx="5327640" cy="2244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蠟燭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916360" y="-316080"/>
            <a:ext cx="3168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0" spc="-1" strike="noStrike">
                <a:solidFill>
                  <a:srgbClr val="000000"/>
                </a:solidFill>
                <a:latin typeface="Arial"/>
                <a:ea typeface="標楷體"/>
              </a:rPr>
              <a:t>ㄌ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2637000"/>
            <a:ext cx="31687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0" spc="-1" strike="noStrike">
                <a:solidFill>
                  <a:srgbClr val="000000"/>
                </a:solidFill>
                <a:latin typeface="Arial"/>
                <a:ea typeface="標楷體"/>
              </a:rPr>
              <a:t>ㄞ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2205000"/>
            <a:ext cx="30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0" spc="-1" strike="noStrike">
                <a:solidFill>
                  <a:srgbClr val="000000"/>
                </a:solidFill>
                <a:latin typeface="Arial"/>
                <a:ea typeface="標楷體"/>
              </a:rPr>
              <a:t>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 rot="5400000">
            <a:off x="4794120" y="1982520"/>
            <a:ext cx="5111640" cy="2244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賴皮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  <p:sp>
        <p:nvSpPr>
          <p:cNvPr id="108" name=""/>
          <p:cNvSpPr txBox="1"/>
          <p:nvPr/>
        </p:nvSpPr>
        <p:spPr>
          <a:xfrm rot="5400000">
            <a:off x="2129400" y="2054520"/>
            <a:ext cx="5256000" cy="2244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耍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  <p:sp>
        <p:nvSpPr>
          <p:cNvPr id="109" name=""/>
          <p:cNvSpPr txBox="1"/>
          <p:nvPr/>
        </p:nvSpPr>
        <p:spPr>
          <a:xfrm rot="5400000">
            <a:off x="-570240" y="2090520"/>
            <a:ext cx="5327640" cy="2244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賴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916360" y="-316080"/>
            <a:ext cx="3168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0" spc="-1" strike="noStrike">
                <a:solidFill>
                  <a:srgbClr val="000000"/>
                </a:solidFill>
                <a:latin typeface="Arial"/>
                <a:ea typeface="標楷體"/>
              </a:rPr>
              <a:t>ㄌ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88000" y="2205000"/>
            <a:ext cx="30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0" spc="-1" strike="noStrike">
                <a:solidFill>
                  <a:srgbClr val="000000"/>
                </a:solidFill>
                <a:latin typeface="Arial"/>
                <a:ea typeface="標楷體"/>
              </a:rPr>
              <a:t>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492360" y="3573360"/>
            <a:ext cx="30956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標楷體"/>
              </a:rPr>
              <a:t>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 rot="5400000">
            <a:off x="4686120" y="2090520"/>
            <a:ext cx="5327640" cy="2244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眼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  <p:sp>
        <p:nvSpPr>
          <p:cNvPr id="114" name=""/>
          <p:cNvSpPr txBox="1"/>
          <p:nvPr/>
        </p:nvSpPr>
        <p:spPr>
          <a:xfrm rot="5400000">
            <a:off x="2129400" y="2054520"/>
            <a:ext cx="5256000" cy="2244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分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  <p:sp>
        <p:nvSpPr>
          <p:cNvPr id="115" name=""/>
          <p:cNvSpPr txBox="1"/>
          <p:nvPr/>
        </p:nvSpPr>
        <p:spPr>
          <a:xfrm rot="5400000">
            <a:off x="-570240" y="2090520"/>
            <a:ext cx="5327640" cy="2244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勞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333360"/>
            <a:ext cx="8496000" cy="612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22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00000" y="620640"/>
            <a:ext cx="734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華康楷書體注音"/>
              </a:rPr>
              <a:t>造詞大富翁遊戲說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華康楷書體注音"/>
              <a:ea typeface="華康楷書體注音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11280" y="1844640"/>
            <a:ext cx="3286080" cy="466560"/>
            <a:chOff x="611280" y="1844640"/>
            <a:chExt cx="3286080" cy="466560"/>
          </a:xfrm>
        </p:grpSpPr>
        <p:grpSp>
          <p:nvGrpSpPr>
            <p:cNvPr id="119" name=""/>
            <p:cNvGrpSpPr/>
            <p:nvPr/>
          </p:nvGrpSpPr>
          <p:grpSpPr>
            <a:xfrm>
              <a:off x="1116000" y="1844640"/>
              <a:ext cx="2781360" cy="466560"/>
              <a:chOff x="1116000" y="1844640"/>
              <a:chExt cx="2781360" cy="466560"/>
            </a:xfrm>
          </p:grpSpPr>
          <p:sp>
            <p:nvSpPr>
              <p:cNvPr id="120" name=""/>
              <p:cNvSpPr txBox="1"/>
              <p:nvPr/>
            </p:nvSpPr>
            <p:spPr>
              <a:xfrm>
                <a:off x="1116000" y="1844640"/>
                <a:ext cx="2781360" cy="466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華康楷書體注音"/>
                  </a:rPr>
                  <a:t>兩人     組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華康楷書體注音"/>
                  <a:ea typeface="華康楷書體注音"/>
                </a:endParaRPr>
              </a:p>
            </p:txBody>
          </p:sp>
          <p:sp>
            <p:nvSpPr>
              <p:cNvPr id="121" name=""/>
              <p:cNvSpPr txBox="1"/>
              <p:nvPr/>
            </p:nvSpPr>
            <p:spPr>
              <a:xfrm>
                <a:off x="2628720" y="1844640"/>
                <a:ext cx="432000" cy="368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華康楷書體破音二"/>
                  </a:rPr>
                  <a:t>一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華康楷書體破音二"/>
                  <a:ea typeface="華康楷書體破音二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611280" y="184464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0000"/>
                  </a:solidFill>
                  <a:latin typeface="Arial"/>
                </a:rPr>
                <a:t>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11280" y="2492280"/>
            <a:ext cx="7286400" cy="1763640"/>
            <a:chOff x="611280" y="2492280"/>
            <a:chExt cx="7286400" cy="1763640"/>
          </a:xfrm>
        </p:grpSpPr>
        <p:grpSp>
          <p:nvGrpSpPr>
            <p:cNvPr id="124" name=""/>
            <p:cNvGrpSpPr/>
            <p:nvPr/>
          </p:nvGrpSpPr>
          <p:grpSpPr>
            <a:xfrm>
              <a:off x="3276720" y="3141720"/>
              <a:ext cx="2609640" cy="466560"/>
              <a:chOff x="3276720" y="3141720"/>
              <a:chExt cx="2609640" cy="466560"/>
            </a:xfrm>
          </p:grpSpPr>
          <p:sp>
            <p:nvSpPr>
              <p:cNvPr id="125" name=""/>
              <p:cNvSpPr txBox="1"/>
              <p:nvPr/>
            </p:nvSpPr>
            <p:spPr>
              <a:xfrm>
                <a:off x="3276720" y="3141720"/>
                <a:ext cx="2609640" cy="466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華康楷書體注音"/>
                  </a:rPr>
                  <a:t>骰子     個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華康楷書體注音"/>
                  <a:ea typeface="華康楷書體注音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4787640" y="3141720"/>
                <a:ext cx="33624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華康楷書體破音一"/>
                  </a:rPr>
                  <a:t>一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華康楷書體破音一"/>
                  <a:ea typeface="華康楷書體破音一"/>
                </a:endParaRPr>
              </a:p>
            </p:txBody>
          </p:sp>
        </p:grpSp>
        <p:sp>
          <p:nvSpPr>
            <p:cNvPr id="127" name=""/>
            <p:cNvSpPr txBox="1"/>
            <p:nvPr/>
          </p:nvSpPr>
          <p:spPr>
            <a:xfrm>
              <a:off x="3276720" y="3789360"/>
              <a:ext cx="278136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華康楷書體注音"/>
                </a:rPr>
                <a:t>跳棋兩個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華康楷書體注音"/>
                <a:ea typeface="華康楷書體注音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1116000" y="2492280"/>
              <a:ext cx="6781680" cy="466560"/>
              <a:chOff x="1116000" y="2492280"/>
              <a:chExt cx="6781680" cy="466560"/>
            </a:xfrm>
          </p:grpSpPr>
          <p:sp>
            <p:nvSpPr>
              <p:cNvPr id="129" name=""/>
              <p:cNvSpPr txBox="1"/>
              <p:nvPr/>
            </p:nvSpPr>
            <p:spPr>
              <a:xfrm>
                <a:off x="6732720" y="2492280"/>
                <a:ext cx="431640" cy="368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華康楷書體破音二"/>
                  </a:rPr>
                  <a:t>一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華康楷書體破音二"/>
                  <a:ea typeface="華康楷書體破音二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1116000" y="2492280"/>
                <a:ext cx="6781680" cy="466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華康楷書體注音"/>
                  </a:rPr>
                  <a:t>道具：造詞大富翁     張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華康楷書體注音"/>
                  <a:ea typeface="華康楷書體注音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611280" y="249228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0000"/>
                  </a:solidFill>
                  <a:latin typeface="Arial"/>
                </a:rPr>
                <a:t>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11280" y="4437000"/>
            <a:ext cx="7357680" cy="466920"/>
            <a:chOff x="611280" y="4437000"/>
            <a:chExt cx="7357680" cy="466920"/>
          </a:xfrm>
        </p:grpSpPr>
        <p:grpSp>
          <p:nvGrpSpPr>
            <p:cNvPr id="133" name=""/>
            <p:cNvGrpSpPr/>
            <p:nvPr/>
          </p:nvGrpSpPr>
          <p:grpSpPr>
            <a:xfrm>
              <a:off x="1187280" y="4437000"/>
              <a:ext cx="6781680" cy="466920"/>
              <a:chOff x="1187280" y="4437000"/>
              <a:chExt cx="6781680" cy="466920"/>
            </a:xfrm>
          </p:grpSpPr>
          <p:sp>
            <p:nvSpPr>
              <p:cNvPr id="134" name=""/>
              <p:cNvSpPr txBox="1"/>
              <p:nvPr/>
            </p:nvSpPr>
            <p:spPr>
              <a:xfrm>
                <a:off x="6156000" y="4508640"/>
                <a:ext cx="360360" cy="288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華康楷書體破音二"/>
                  </a:rPr>
                  <a:t>一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華康楷書體破音二"/>
                  <a:ea typeface="華康楷書體破音二"/>
                </a:endParaRPr>
              </a:p>
            </p:txBody>
          </p:sp>
          <p:sp>
            <p:nvSpPr>
              <p:cNvPr id="135" name=""/>
              <p:cNvSpPr txBox="1"/>
              <p:nvPr/>
            </p:nvSpPr>
            <p:spPr>
              <a:xfrm>
                <a:off x="1187280" y="4437000"/>
                <a:ext cx="6781680" cy="466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華康楷書體注音"/>
                  </a:rPr>
                  <a:t>兩個跳棋放在同     格中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華康楷書體注音"/>
                  <a:ea typeface="華康楷書體注音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611280" y="443700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0000"/>
                  </a:solidFill>
                  <a:latin typeface="Arial"/>
                </a:rPr>
                <a:t>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11280" y="5084640"/>
            <a:ext cx="7529400" cy="1043280"/>
            <a:chOff x="611280" y="5084640"/>
            <a:chExt cx="7529400" cy="1043280"/>
          </a:xfrm>
        </p:grpSpPr>
        <p:grpSp>
          <p:nvGrpSpPr>
            <p:cNvPr id="138" name=""/>
            <p:cNvGrpSpPr/>
            <p:nvPr/>
          </p:nvGrpSpPr>
          <p:grpSpPr>
            <a:xfrm>
              <a:off x="1187280" y="5084640"/>
              <a:ext cx="6953400" cy="466560"/>
              <a:chOff x="1187280" y="5084640"/>
              <a:chExt cx="6953400" cy="466560"/>
            </a:xfrm>
          </p:grpSpPr>
          <p:sp>
            <p:nvSpPr>
              <p:cNvPr id="139" name=""/>
              <p:cNvSpPr txBox="1"/>
              <p:nvPr/>
            </p:nvSpPr>
            <p:spPr>
              <a:xfrm>
                <a:off x="1187280" y="5084640"/>
                <a:ext cx="6953400" cy="466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華康楷書體注音"/>
                  </a:rPr>
                  <a:t>猜拳決定由哪     方開始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華康楷書體注音"/>
                  <a:ea typeface="華康楷書體注音"/>
                </a:endParaRPr>
              </a:p>
            </p:txBody>
          </p:sp>
          <p:sp>
            <p:nvSpPr>
              <p:cNvPr id="140" name=""/>
              <p:cNvSpPr txBox="1"/>
              <p:nvPr/>
            </p:nvSpPr>
            <p:spPr>
              <a:xfrm>
                <a:off x="5506920" y="5155920"/>
                <a:ext cx="504720" cy="250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華康楷書體破音二"/>
                  </a:rPr>
                  <a:t>一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華康楷書體破音二"/>
                  <a:ea typeface="華康楷書體破音二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1187280" y="5661000"/>
              <a:ext cx="5562360" cy="466920"/>
              <a:chOff x="1187280" y="5661000"/>
              <a:chExt cx="5562360" cy="466920"/>
            </a:xfrm>
          </p:grpSpPr>
          <p:sp>
            <p:nvSpPr>
              <p:cNvPr id="142" name=""/>
              <p:cNvSpPr txBox="1"/>
              <p:nvPr/>
            </p:nvSpPr>
            <p:spPr>
              <a:xfrm>
                <a:off x="1187280" y="5661000"/>
                <a:ext cx="5562360" cy="466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華康楷書體注音"/>
                  </a:rPr>
                  <a:t>贏的     方先擲骰子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華康楷書體注音"/>
                  <a:ea typeface="華康楷書體注音"/>
                </a:endParaRPr>
              </a:p>
            </p:txBody>
          </p:sp>
          <p:sp>
            <p:nvSpPr>
              <p:cNvPr id="143" name=""/>
              <p:cNvSpPr txBox="1"/>
              <p:nvPr/>
            </p:nvSpPr>
            <p:spPr>
              <a:xfrm>
                <a:off x="2700000" y="5661000"/>
                <a:ext cx="432000" cy="368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華康楷書體破音二"/>
                  </a:rPr>
                  <a:t>一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華康楷書體破音二"/>
                  <a:ea typeface="華康楷書體破音二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611280" y="508464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0000"/>
                  </a:solidFill>
                  <a:latin typeface="Arial"/>
                </a:rPr>
                <a:t>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260280"/>
            <a:ext cx="8496000" cy="612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22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00000" y="620640"/>
            <a:ext cx="734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華康楷書體注音"/>
              </a:rPr>
              <a:t>造詞大富翁遊戲說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華康楷書體注音"/>
              <a:ea typeface="華康楷書體注音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11280" y="2421000"/>
            <a:ext cx="6067440" cy="466560"/>
            <a:chOff x="611280" y="2421000"/>
            <a:chExt cx="6067440" cy="466560"/>
          </a:xfrm>
        </p:grpSpPr>
        <p:sp>
          <p:nvSpPr>
            <p:cNvPr id="148" name=""/>
            <p:cNvSpPr txBox="1"/>
            <p:nvPr/>
          </p:nvSpPr>
          <p:spPr>
            <a:xfrm>
              <a:off x="1116000" y="2421000"/>
              <a:ext cx="556272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華康楷書體注音"/>
                </a:rPr>
                <a:t>依順時針方向前進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華康楷書體注音"/>
                <a:ea typeface="華康楷書體注音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1280" y="242100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0000"/>
                  </a:solidFill>
                  <a:latin typeface="Arial"/>
                </a:rPr>
                <a:t>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11280" y="2997360"/>
            <a:ext cx="7877160" cy="466560"/>
            <a:chOff x="611280" y="2997360"/>
            <a:chExt cx="7877160" cy="466560"/>
          </a:xfrm>
        </p:grpSpPr>
        <p:grpSp>
          <p:nvGrpSpPr>
            <p:cNvPr id="151" name=""/>
            <p:cNvGrpSpPr/>
            <p:nvPr/>
          </p:nvGrpSpPr>
          <p:grpSpPr>
            <a:xfrm>
              <a:off x="1116000" y="2997360"/>
              <a:ext cx="7372440" cy="466560"/>
              <a:chOff x="1116000" y="2997360"/>
              <a:chExt cx="7372440" cy="466560"/>
            </a:xfrm>
          </p:grpSpPr>
          <p:sp>
            <p:nvSpPr>
              <p:cNvPr id="152" name=""/>
              <p:cNvSpPr txBox="1"/>
              <p:nvPr/>
            </p:nvSpPr>
            <p:spPr>
              <a:xfrm>
                <a:off x="1116000" y="2997360"/>
                <a:ext cx="7372440" cy="466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華康楷書體注音"/>
                  </a:rPr>
                  <a:t>依停住時的注音造     個詞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華康楷書體注音"/>
                  <a:ea typeface="華康楷書體注音"/>
                </a:endParaRPr>
              </a:p>
            </p:txBody>
          </p:sp>
          <p:sp>
            <p:nvSpPr>
              <p:cNvPr id="153" name=""/>
              <p:cNvSpPr txBox="1"/>
              <p:nvPr/>
            </p:nvSpPr>
            <p:spPr>
              <a:xfrm>
                <a:off x="6732720" y="2997360"/>
                <a:ext cx="33624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華康楷書體破音一"/>
                  </a:rPr>
                  <a:t>一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華康楷書體破音一"/>
                  <a:ea typeface="華康楷書體破音一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611280" y="299736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0000"/>
                  </a:solidFill>
                  <a:latin typeface="Arial"/>
                </a:rPr>
                <a:t>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11280" y="3645000"/>
            <a:ext cx="7992720" cy="1114200"/>
            <a:chOff x="611280" y="3645000"/>
            <a:chExt cx="7992720" cy="1114200"/>
          </a:xfrm>
        </p:grpSpPr>
        <p:grpSp>
          <p:nvGrpSpPr>
            <p:cNvPr id="156" name=""/>
            <p:cNvGrpSpPr/>
            <p:nvPr/>
          </p:nvGrpSpPr>
          <p:grpSpPr>
            <a:xfrm>
              <a:off x="611280" y="3645000"/>
              <a:ext cx="7992720" cy="466560"/>
              <a:chOff x="611280" y="3645000"/>
              <a:chExt cx="7992720" cy="466560"/>
            </a:xfrm>
          </p:grpSpPr>
          <p:sp>
            <p:nvSpPr>
              <p:cNvPr id="157" name=""/>
              <p:cNvSpPr txBox="1"/>
              <p:nvPr/>
            </p:nvSpPr>
            <p:spPr>
              <a:xfrm>
                <a:off x="1152000" y="3645000"/>
                <a:ext cx="7452000" cy="466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華康楷書體注音"/>
                  </a:rPr>
                  <a:t>造出正確的語詞就可以在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華康楷書體注音"/>
                  <a:ea typeface="華康楷書體注音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11280" y="3645000"/>
                <a:ext cx="615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ff0000"/>
                    </a:solidFill>
                    <a:latin typeface="Arial"/>
                  </a:rPr>
                  <a:t>◎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 txBox="1"/>
            <p:nvPr/>
          </p:nvSpPr>
          <p:spPr>
            <a:xfrm>
              <a:off x="1187280" y="4292640"/>
              <a:ext cx="583272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華康楷書體注音"/>
                </a:rPr>
                <a:t>中間的大格子畫記號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華康楷書體注音"/>
                <a:ea typeface="華康楷書體注音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11280" y="4941720"/>
            <a:ext cx="7458120" cy="1114200"/>
            <a:chOff x="611280" y="4941720"/>
            <a:chExt cx="7458120" cy="1114200"/>
          </a:xfrm>
        </p:grpSpPr>
        <p:sp>
          <p:nvSpPr>
            <p:cNvPr id="161" name=""/>
            <p:cNvSpPr txBox="1"/>
            <p:nvPr/>
          </p:nvSpPr>
          <p:spPr>
            <a:xfrm>
              <a:off x="1187280" y="5589360"/>
              <a:ext cx="417204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華康楷書體注音"/>
                </a:rPr>
                <a:t>多就是獲勝者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華康楷書體注音"/>
                <a:ea typeface="華康楷書體注音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611280" y="4941720"/>
              <a:ext cx="7458120" cy="466560"/>
              <a:chOff x="611280" y="4941720"/>
              <a:chExt cx="7458120" cy="466560"/>
            </a:xfrm>
          </p:grpSpPr>
          <p:sp>
            <p:nvSpPr>
              <p:cNvPr id="163" name=""/>
              <p:cNvSpPr txBox="1"/>
              <p:nvPr/>
            </p:nvSpPr>
            <p:spPr>
              <a:xfrm>
                <a:off x="1116000" y="4941720"/>
                <a:ext cx="6953400" cy="466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華康楷書體注音"/>
                  </a:rPr>
                  <a:t>遊戲結束時，誰的記號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華康楷書體注音"/>
                  <a:ea typeface="華康楷書體注音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11280" y="494172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ff0000"/>
                    </a:solidFill>
                    <a:latin typeface="Arial"/>
                  </a:rPr>
                  <a:t>◎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611280" y="1773360"/>
            <a:ext cx="7391160" cy="466560"/>
            <a:chOff x="611280" y="1773360"/>
            <a:chExt cx="7391160" cy="466560"/>
          </a:xfrm>
        </p:grpSpPr>
        <p:sp>
          <p:nvSpPr>
            <p:cNvPr id="166" name=""/>
            <p:cNvSpPr txBox="1"/>
            <p:nvPr/>
          </p:nvSpPr>
          <p:spPr>
            <a:xfrm>
              <a:off x="6012000" y="1773360"/>
              <a:ext cx="64764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華康楷書體破音一"/>
                </a:rPr>
                <a:t>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華康楷書體破音一"/>
                <a:ea typeface="華康楷書體破音一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11280" y="1773360"/>
              <a:ext cx="7391160" cy="466560"/>
              <a:chOff x="611280" y="1773360"/>
              <a:chExt cx="7391160" cy="466560"/>
            </a:xfrm>
          </p:grpSpPr>
          <p:sp>
            <p:nvSpPr>
              <p:cNvPr id="168" name=""/>
              <p:cNvSpPr txBox="1"/>
              <p:nvPr/>
            </p:nvSpPr>
            <p:spPr>
              <a:xfrm>
                <a:off x="1116000" y="1773360"/>
                <a:ext cx="6886440" cy="466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華康楷書體注音"/>
                  </a:rPr>
                  <a:t>按照骰子上的點      前進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華康楷書體注音"/>
                  <a:ea typeface="華康楷書體注音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11280" y="177336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ff0000"/>
                    </a:solidFill>
                    <a:latin typeface="Arial"/>
                  </a:rPr>
                  <a:t>◎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 rot="5400000">
            <a:off x="4686120" y="2090520"/>
            <a:ext cx="5327640" cy="2244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疲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  <p:sp>
        <p:nvSpPr>
          <p:cNvPr id="48" name=""/>
          <p:cNvSpPr txBox="1"/>
          <p:nvPr/>
        </p:nvSpPr>
        <p:spPr>
          <a:xfrm rot="5400000">
            <a:off x="2273760" y="1910160"/>
            <a:ext cx="4967280" cy="2244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書皮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  <p:sp>
        <p:nvSpPr>
          <p:cNvPr id="49" name=""/>
          <p:cNvSpPr txBox="1"/>
          <p:nvPr/>
        </p:nvSpPr>
        <p:spPr>
          <a:xfrm rot="5400000">
            <a:off x="-570240" y="2090520"/>
            <a:ext cx="5327640" cy="2244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琵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16360" y="-316080"/>
            <a:ext cx="3168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0" spc="-1" strike="noStrike">
                <a:solidFill>
                  <a:srgbClr val="000000"/>
                </a:solidFill>
                <a:latin typeface="Arial"/>
              </a:rPr>
              <a:t>ㄆ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16360" y="2781360"/>
            <a:ext cx="3168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0" spc="-1" strike="noStrike">
                <a:solidFill>
                  <a:srgbClr val="000000"/>
                </a:solidFill>
                <a:latin typeface="Arial"/>
              </a:rPr>
              <a:t>ㄚ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2205000"/>
            <a:ext cx="30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0" spc="-1" strike="noStrike">
                <a:solidFill>
                  <a:srgbClr val="000000"/>
                </a:solidFill>
                <a:latin typeface="Arial"/>
              </a:rPr>
              <a:t>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 rot="5400000">
            <a:off x="4686120" y="2090520"/>
            <a:ext cx="5327640" cy="2244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害怕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  <p:sp>
        <p:nvSpPr>
          <p:cNvPr id="54" name=""/>
          <p:cNvSpPr txBox="1"/>
          <p:nvPr/>
        </p:nvSpPr>
        <p:spPr>
          <a:xfrm rot="5400000">
            <a:off x="2129400" y="2054520"/>
            <a:ext cx="5256000" cy="2244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可帕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  <p:sp>
        <p:nvSpPr>
          <p:cNvPr id="55" name=""/>
          <p:cNvSpPr txBox="1"/>
          <p:nvPr/>
        </p:nvSpPr>
        <p:spPr>
          <a:xfrm rot="5400000">
            <a:off x="-570240" y="2090520"/>
            <a:ext cx="5327640" cy="2244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手怕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916360" y="-316080"/>
            <a:ext cx="3168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0" spc="-1" strike="noStrike">
                <a:solidFill>
                  <a:srgbClr val="000000"/>
                </a:solidFill>
                <a:latin typeface="Arial"/>
                <a:ea typeface="標楷體"/>
              </a:rPr>
              <a:t>ㄆ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87640" y="2637000"/>
            <a:ext cx="31687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0" spc="-1" strike="noStrike">
                <a:solidFill>
                  <a:srgbClr val="000000"/>
                </a:solidFill>
                <a:latin typeface="Arial"/>
                <a:ea typeface="標楷體"/>
              </a:rPr>
              <a:t>ㄞ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2205000"/>
            <a:ext cx="30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0" spc="-1" strike="noStrike">
                <a:solidFill>
                  <a:srgbClr val="000000"/>
                </a:solidFill>
                <a:latin typeface="Arial"/>
                <a:ea typeface="標楷體"/>
              </a:rPr>
              <a:t>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 rot="5400000">
            <a:off x="4686120" y="2090520"/>
            <a:ext cx="5327640" cy="2244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派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  <p:sp>
        <p:nvSpPr>
          <p:cNvPr id="60" name=""/>
          <p:cNvSpPr txBox="1"/>
          <p:nvPr/>
        </p:nvSpPr>
        <p:spPr>
          <a:xfrm rot="5400000">
            <a:off x="2129400" y="2054520"/>
            <a:ext cx="5256000" cy="2244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派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  <p:sp>
        <p:nvSpPr>
          <p:cNvPr id="61" name=""/>
          <p:cNvSpPr txBox="1"/>
          <p:nvPr/>
        </p:nvSpPr>
        <p:spPr>
          <a:xfrm rot="5400000">
            <a:off x="-570240" y="2090520"/>
            <a:ext cx="5327640" cy="2244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推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916360" y="-316080"/>
            <a:ext cx="3168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0" spc="-1" strike="noStrike">
                <a:solidFill>
                  <a:srgbClr val="000000"/>
                </a:solidFill>
                <a:latin typeface="Arial"/>
                <a:ea typeface="標楷體"/>
              </a:rPr>
              <a:t>ㄆ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2205000"/>
            <a:ext cx="30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0" spc="-1" strike="noStrike">
                <a:solidFill>
                  <a:srgbClr val="000000"/>
                </a:solidFill>
                <a:latin typeface="Arial"/>
                <a:ea typeface="標楷體"/>
              </a:rPr>
              <a:t>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492360" y="3573360"/>
            <a:ext cx="30956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標楷體"/>
              </a:rPr>
              <a:t>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 rot="5400000">
            <a:off x="4649400" y="2126880"/>
            <a:ext cx="5400720" cy="2244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敬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  <p:sp>
        <p:nvSpPr>
          <p:cNvPr id="66" name=""/>
          <p:cNvSpPr txBox="1"/>
          <p:nvPr/>
        </p:nvSpPr>
        <p:spPr>
          <a:xfrm rot="5400000">
            <a:off x="2236680" y="2090520"/>
            <a:ext cx="5041800" cy="2244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配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  <p:sp>
        <p:nvSpPr>
          <p:cNvPr id="67" name=""/>
          <p:cNvSpPr txBox="1"/>
          <p:nvPr/>
        </p:nvSpPr>
        <p:spPr>
          <a:xfrm rot="5400000">
            <a:off x="-246240" y="2414520"/>
            <a:ext cx="4680000" cy="2244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注音寬字"/>
              </a:rPr>
              <a:t>玉珮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注音寬字"/>
              <a:ea typeface="文鼎注音寬字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09:21:18Z</dcterms:created>
  <dc:creator>MC SYSTEM</dc:creator>
  <dc:description/>
  <dc:language>en-US</dc:language>
  <cp:lastModifiedBy>MC SYSTEM</cp:lastModifiedBy>
  <dcterms:modified xsi:type="dcterms:W3CDTF">2011-10-30T11:47:18Z</dcterms:modified>
  <cp:revision>19</cp:revision>
  <dc:subject/>
  <dc:title>造詞 大考驗</dc:title>
</cp:coreProperties>
</file>