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773-C359-419B-915E-E4FD618F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08D-F6C5-4FB6-A01D-2D24B77B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4A6-729F-4820-B8D6-9D7032FA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1F7-2E34-4A64-8AD8-2CB4E455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9DB-13F7-4F0A-AF96-17991706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8A9-105D-4390-AA13-733E72B6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AC7-E79E-45B5-A242-6B5BAAAA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647-738E-4A64-A925-80A11FE3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CD9-56DF-423C-A187-9107A93F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0C4-7C58-4CE4-8746-D84F1801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83C-954F-40E2-B676-55B8153D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2A8-A020-4785-A29F-B4539868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5EED-2F34-4F70-BBEC-67EDB348C3B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w.image.search.yahoo.com/images/view;_ylt=A3eg.xQ8JclOPBwAi1Ft1gt.;_ylu=X3oDMTBlMTQ4cGxyBHNlYwNzcgRzbGsDaW1n?back=http%3A%2F%2Ftw.image.search.yahoo.com%2Fsearch%2Fimages%3Fp%3D%25E8%25A1%2597%25E8%2588%259E%25E6%259C%258D%25E8%25A3%259D%26ei%3DUTF-8%26fr%3Dfp-yie8%26b%3D1%26tab%3Dorganic&amp;w=700&amp;h=700&amp;imgurl=tw.zuo3.com%2Fimg.ashx%3Ff%3D1img02%2F1%2F0%2Fbao%2Fuploaded%2Fi2%2FT1EFp2XjNjXXaNOXZ._110905.jpg&amp;rurl=http%3A%2F%2Ftw.zuo3.com%2Fgood4923%2F&amp;size=256.1+KB&amp;name=HOP&#22075;&#21704;&#34903;&#33310;&#35122;+ds&#28436;&#20986;&#26381;8422+2011&#26178;&#23578;&amp;p=&#34903;&#33310;&#26381;&#35037;&amp;oid=42a7def46c6caf0eb6524d339f814d44&amp;fr2=&amp;fr=fp-yie8&amp;tt=HOP&#22075;&#21704;&#34903;&#33310;&#35122;+ds&#28436;&#20986;&#26381;8422+2011&#26178;&#23578;&amp;b=1&amp;ni=30&amp;no=18&amp;tab=organic&amp;ts=&amp;sigr=10slsokn9&amp;sigb=13pt78cbm&amp;sigi=12f33m3i1&amp;.crumb=NIdjFfSG2Vp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芭蕾服飾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.s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街舞服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3178080"/>
            <a:ext cx="4206960" cy="3679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享受樂趣,人手,人物,令人愉快的事,伸手可及,團體,女人,手抬起來,揮手,樂趣,消遣,照相,男人,臉部表情,舉手,舞者,舞蹈,表情,跳舞,迪斯可,閒暇,面"/>
          <p:cNvPicPr/>
          <p:nvPr/>
        </p:nvPicPr>
        <p:blipFill>
          <a:blip r:embed="rId3"/>
          <a:srcRect l="0" t="10594" r="0" b="11687"/>
          <a:stretch/>
        </p:blipFill>
        <p:spPr>
          <a:xfrm>
            <a:off x="4859280" y="2997360"/>
            <a:ext cx="41036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iphop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服裝 比其它舞蹈多了什麼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2557440" y="1413000"/>
            <a:ext cx="6769080" cy="5445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Hiphop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動作多樣化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427640" cy="5445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71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TW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54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189000"/>
            <a:ext cx="3425760" cy="3857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3500280" cy="388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90760" y="170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設計草稿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5148360" cy="544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4500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上色後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8064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換你當設計師</a:t>
            </a: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br>
              <a:rPr sz="4400"/>
            </a:b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你也可以是下一個吳季剛</a:t>
            </a: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檢視詳細資料"/>
          <p:cNvPicPr/>
          <p:nvPr/>
        </p:nvPicPr>
        <p:blipFill>
          <a:blip r:embed="rId2"/>
          <a:stretch/>
        </p:blipFill>
        <p:spPr>
          <a:xfrm>
            <a:off x="1403280" y="2852640"/>
            <a:ext cx="280836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檢視詳細資料"/>
          <p:cNvPicPr/>
          <p:nvPr/>
        </p:nvPicPr>
        <p:blipFill>
          <a:blip r:embed="rId3"/>
          <a:stretch/>
        </p:blipFill>
        <p:spPr>
          <a:xfrm>
            <a:off x="5364000" y="2924280"/>
            <a:ext cx="2808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依照下圖說出芭蕾服飾的特色有……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643280" cy="566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572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袖子的特色是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6705" t="0" r="8772" b="0"/>
          <a:stretch/>
        </p:blipFill>
        <p:spPr>
          <a:xfrm>
            <a:off x="0" y="1268280"/>
            <a:ext cx="4572000" cy="542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7252" t="0" r="3766" b="0"/>
          <a:stretch/>
        </p:blipFill>
        <p:spPr>
          <a:xfrm>
            <a:off x="4572000" y="1268280"/>
            <a:ext cx="4572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芭蕾服裝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!!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427640" cy="573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56000" y="1125360"/>
            <a:ext cx="4788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芭蕾舞的服裝、舞鞋、髮型與頭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049640"/>
            <a:ext cx="3780000" cy="2808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708360" y="1341360"/>
            <a:ext cx="5435640" cy="551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1341360"/>
            <a:ext cx="3708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緊身衣讓人覺得動作優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762440" cy="544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4427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下圖二者有什麼差別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339920"/>
            <a:ext cx="4788000" cy="551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1341360"/>
            <a:ext cx="4572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比較下列有哪裡不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0" t="16949" r="0" b="0"/>
          <a:stretch/>
        </p:blipFill>
        <p:spPr>
          <a:xfrm>
            <a:off x="0" y="1413000"/>
            <a:ext cx="4716360" cy="5445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4608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anc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穿什麼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6502320" cy="544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-1405080" y="1413000"/>
            <a:ext cx="6502680" cy="544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-900000" y="1413000"/>
            <a:ext cx="2987640" cy="5445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169040" y="1413000"/>
            <a:ext cx="19749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3:34:27Z</dcterms:created>
  <dc:creator>mypc</dc:creator>
  <dc:description/>
  <dc:language>en-US</dc:language>
  <cp:lastModifiedBy>mypc</cp:lastModifiedBy>
  <dcterms:modified xsi:type="dcterms:W3CDTF">2011-11-21T00:26:54Z</dcterms:modified>
  <cp:revision>17</cp:revision>
  <dc:subject/>
  <dc:title>投影片 1</dc:title>
</cp:coreProperties>
</file>