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5D2-EE67-417F-8400-6CF51A9B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647-33FD-403C-8EA3-5182C183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E2D-A37A-4C9E-8768-F0EA181C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EF8-B040-40E0-98C1-CAA5B344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E24-3CDB-4E53-82A1-126CAF7A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0F9-D9C2-4B38-A0EF-AA43416B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666-3E66-4B81-AA10-5486AECE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586-AC2B-46F6-A30B-0DBAF33D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DCA-B24B-4E34-9953-EB765910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A47-46F6-4287-A9B1-7999E9FE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035-300E-45D4-AFA5-3967489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83F-99E9-4391-8BB0-A350960F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86D8-F179-4A49-9D16-48388672B34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99"/>
                </a:solidFill>
                <a:latin typeface="Arial"/>
              </a:rPr>
              <a:t>隨後火鳥指示伊凡偷到藏有凱齊許靈魂的巨蛋，也就是魔王凱齊許的生命源頭，伊凡將其搗碎讓凱齊許斃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105440" cy="5661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067280" y="1125360"/>
            <a:ext cx="5076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Arial"/>
              </a:rPr>
              <a:t>凱齊許死後魔咒解除，所有成為石頭的路人、騎士都恢復正常自由，火鳥促成伊凡與莎莉芙娜這對戀人之後，魔法之國成為快樂之國，火鳥便飛向不知名的天際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254560" y="1628640"/>
            <a:ext cx="3889440" cy="522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52927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66cc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899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ff"/>
                </a:solidFill>
                <a:latin typeface="Arial"/>
              </a:rPr>
              <a:t>在濃密森林中凱齊許支配著魔法之國，凶惡的他將迷失的過路者囚禁在古堡黑牢，或是變成一座座石像，永遠站立在「凱齊許的魔法花園」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85672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因為打獵而迷失在森林中的伊凡薩里維奇王子，忽然傳說中的「火鳥出現」，王子趁其大跳「火鳥之舞」時將牠捉住，在火鳥央求下王子決定還其自由之身，火鳥遂回贈王子一支魔力羽毛。</a:t>
            </a:r>
            <a:r>
              <a:rPr b="0" lang="zh-TW" sz="24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27280" y="1744560"/>
            <a:ext cx="5616720" cy="511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388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99"/>
                </a:solidFill>
                <a:latin typeface="Arial"/>
              </a:rPr>
              <a:t>伊凡接到羽毛後，面前忽然出現一座城堡，城門打開「十三位美麗公主出現」，她們繞著一顆金蘋果樹跳著「少女們的輪旋曲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43280" cy="530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500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99"/>
                </a:solidFill>
                <a:latin typeface="Arial"/>
              </a:rPr>
              <a:t>公主們翩翩起舞，伊凡因而愛上莎莉芙娜，兩人擁吻產生感情，但是她們必須在「日出」時回到城堡，號角響起，女孩們紛紛跑回堡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Arial"/>
              </a:rPr>
              <a:t>伊凡也尾隨公主進入城堡，「魔鐘響起」時，一批凱齊許的鬼怪手下衝出，並將伊凡王子捉住，「凱齊許出現」想把伊凡變成石頭，兩人展開對話，而「公主們也為伊凡求情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64000" y="2205000"/>
            <a:ext cx="4680000" cy="465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2320920"/>
            <a:ext cx="4427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ff"/>
                </a:solidFill>
                <a:latin typeface="Arial"/>
              </a:rPr>
              <a:t>霎時，伊凡將火鳥的魔力羽毛一揮，「火鳥再度出現」並迫使凱齊許手下不  斷地跳著「煉獄之舞」，直到他們筋疲力竭、紛紛倒地。這個時候火鳥唱起優美的「催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ff"/>
                </a:solidFill>
                <a:latin typeface="Arial"/>
              </a:rPr>
              <a:t>                                                     </a:t>
            </a:r>
            <a:r>
              <a:rPr b="0" lang="zh-TW" sz="2600" spc="-1" strike="noStrike">
                <a:solidFill>
                  <a:srgbClr val="3333ff"/>
                </a:solidFill>
                <a:latin typeface="Arial"/>
              </a:rPr>
              <a:t>曲」，讓群妖酣然入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211640" cy="522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46560" y="2205000"/>
            <a:ext cx="48974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1:27:33Z</dcterms:created>
  <dc:creator>YuTien</dc:creator>
  <dc:description/>
  <dc:language>en-US</dc:language>
  <cp:lastModifiedBy>mypc</cp:lastModifiedBy>
  <dcterms:modified xsi:type="dcterms:W3CDTF">2011-11-21T15:14:29Z</dcterms:modified>
  <cp:revision>13</cp:revision>
  <dc:subject/>
  <dc:title>火鳥</dc:title>
</cp:coreProperties>
</file>