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4FDA-DC55-4299-AF0B-6CE3851C1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0D5D-0692-4573-BAF9-922817CB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AD64-022A-410C-AA91-C0ABD109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A043-65DC-4B3B-A05B-8AC2FEFDA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9940-98B8-4781-8FD4-3A3104D7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AF54-7C35-401F-BC93-4FC21540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3A31-7F18-48CC-85EC-DF76441D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A21E-846F-4E74-869D-0F85595F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149E-B28B-4750-A2C0-7C542441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3AB3-8FC6-4740-A808-BB866A6F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4A21-640F-46B9-8838-01FEC9FD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9580-C73C-41F4-B45E-8263AEE1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E58E-5AEB-49C1-AD9F-BFECE8FC629F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神像身上的金牌，看起來很大，但都只有幾兩重，請問這和黃金的那一種特性有關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延展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導電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導熱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熔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下列那一項是化合物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石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鑽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石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黃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357720"/>
            <a:ext cx="8229600" cy="13737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石墨和鑽石都是碳所構成，石英是二氧化矽，黃金又稱為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金屬與非金屬元素的區分主要是根據什麼性質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導電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延展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導熱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熔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金屬與非金屬元素的區分主要是根據什麼性質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導電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延展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導熱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熔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3357720"/>
            <a:ext cx="8229600" cy="13737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金屬元素具有導電性，多數具高熔點、延展性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非金屬元素多為熱與電的不良導體，常溫時可能以固態、液態、氣態存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黃銅是銅和鋅的合金，熔點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934~967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度，請問依物質的分類，黃銅屬於那一種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元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化合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純物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混合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黃銅是銅和鋅的合金，熔點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934~967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度，請問依物質的分類，黃銅屬於那一種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元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化合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純物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混合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3914640"/>
            <a:ext cx="8229600" cy="947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純物質有一定的特性，混合物的特性會隨成分所占比例而不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多數金屬延展性佳，所以可以拉成細絲，同樣的大小，下列金屬那一種可以拉得最長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金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多數金屬延展性佳，所以可以拉成細絲，同樣的大小，下列金屬那一種可以拉得最長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金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914640"/>
            <a:ext cx="8229600" cy="947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延展性愈好，就可以拉成更長的細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怡君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戴著銀項鍊去陽明山泡溫泉，結果項鍊變成黑色，請問是為什麼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溫泉水溫太高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陽明山海拔太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陽明山氣溫太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空氣中有硫化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怡君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戴著銀項鍊去陽明山泡溫泉，結果項鍊變成黑色，請問是為什麼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溫泉水溫太高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陽明山海拔太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陽明山氣溫太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空氣中有硫化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005360"/>
            <a:ext cx="8229600" cy="947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銀表面的黑色物質是硫化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 u="sng">
                <a:solidFill>
                  <a:srgbClr val="000000"/>
                </a:solidFill>
                <a:uFillTx/>
                <a:latin typeface="Arial"/>
              </a:rPr>
              <a:t>法國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科學家</a:t>
            </a:r>
            <a:r>
              <a:rPr b="0" lang="zh-TW" sz="3400" spc="-1" strike="noStrike" u="sng">
                <a:solidFill>
                  <a:srgbClr val="000000"/>
                </a:solidFill>
                <a:uFillTx/>
                <a:latin typeface="Arial"/>
              </a:rPr>
              <a:t>拉瓦節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利用氫氣和氧氣燃燒產生水，所以水是屬於那一種物質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元素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化合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合成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混合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神像身上的金牌，看起來很大，但都只有幾兩重，請問這和黃金的那一種特性有關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延展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導電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導熱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熔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618000"/>
            <a:ext cx="8229600" cy="947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物質具延長及展開的性質，稱為「延展性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 u="sng">
                <a:solidFill>
                  <a:srgbClr val="000000"/>
                </a:solidFill>
                <a:uFillTx/>
                <a:latin typeface="Arial"/>
              </a:rPr>
              <a:t>法國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科學家</a:t>
            </a:r>
            <a:r>
              <a:rPr b="0" lang="zh-TW" sz="3400" spc="-1" strike="noStrike" u="sng">
                <a:solidFill>
                  <a:srgbClr val="000000"/>
                </a:solidFill>
                <a:uFillTx/>
                <a:latin typeface="Arial"/>
              </a:rPr>
              <a:t>拉瓦節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利用氫氣和氧氣燃燒產生水，所以水是屬於那一種物質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元素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化合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合成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混合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005360"/>
            <a:ext cx="8229600" cy="13737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物質可以用物理方法分解的是混合物，不可以用物理方法分解的是純物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純物質可以用化學方法分解的是化合物，不可以再分解的是元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一般電線都是以銅為材質，如果不考慮成本價格的話，下列那一種材料更好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金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銀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一般電線都是以銅為材質，如果不考慮成本價格的話，下列那一種材料更好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金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銀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4005360"/>
            <a:ext cx="8229600" cy="947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金的延展性最佳；銀的導電性和導熱性最好；鐵依含碳量不同而有不同的性質；鈦是耐腐蝕的優良材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金的純度可以用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來表示，純金為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24K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，則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兩的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18K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金項鍊含金幾兩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A) 4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兩半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B) 6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C) 7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兩半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D) 9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21844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金的純度可以用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來表示，純金為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24K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，則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兩的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18K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金項鍊含金幾兩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 4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兩半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 6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 7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兩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 9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137120"/>
            <a:ext cx="8229600" cy="13737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8K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金表示金的含量佔總重量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5508720" y="4365720"/>
                <a:ext cx="57312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下列何種性質可用來區分純物質與混合物？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是否具有導電性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是否具有延展性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沸點是否固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常溫常壓下是否為固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下列何種性質可用來區分純物質與混合物？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是否具有導電性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是否具有延展性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沸點是否固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常溫常壓下是否為固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4137120"/>
            <a:ext cx="8229600" cy="13737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混合物的性質不穩定，會依成份比例不同而變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下列哪一個為化合物？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紅葡萄酒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奶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空氣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二氧化錳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下列哪一個為化合物？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紅葡萄酒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奶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空氣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二氧化錳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716280"/>
            <a:ext cx="8229600" cy="13737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化合物是元素因化學變化而成的純物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金、銀、銅、鐵等物質不能再分解出別種物質，故化學上稱其為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？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元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化合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純物質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混合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下列那一項文具有導電性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塑膠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修正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鉛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橡皮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金、銀、銅、鐵等物質不能再分解出別種物質，故化學上稱其為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？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元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化合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純物質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混合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4221000"/>
            <a:ext cx="8229600" cy="13737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元素是指無法用化學方法再分解的物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下列有關金屬及其化合物的敘述，何者錯誤？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電腦磁片上的磁性物質是鐵的氧化物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金的化合物可作為照像底片和印相紙的感光材料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不鏽鋼是鋼中含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的合金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鎢的熔點很高，可做電燈泡內的燈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下列有關金屬及其化合物的敘述，何者錯誤？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電腦磁片上的磁性物質是鐵的氧化物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金的化合物可作為照像底片和印相紙的感光材料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不鏽鋼是鋼中含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的合金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鎢的熔點很高，可做電燈泡內的燈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352760"/>
            <a:ext cx="8229600" cy="947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金的延展性最佳；銀的導電性和導熱性最好；鐵依含碳量不同而有不同的性質；鈦是耐腐蝕的優良材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下列有關金屬的相關敘述，何者正確？　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所有金屬中金最活潑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所有金屬中鐵的導電性最大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所有金屬中汞的熔點最高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所有金屬中金的延展性最佳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下列有關金屬的相關敘述，何者正確？　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所有金屬中金最活潑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所有金屬中鐵的導電性最大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所有金屬中汞的熔點最高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所有金屬中金的延展性最佳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789360"/>
            <a:ext cx="8229600" cy="947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金的延展性最佳；銀的導電性和導熱性最好；鐵依含碳量不同而有不同的性質；鈦是耐腐蝕的優良材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下列何種物質是晶圓中的主要元素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碳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氧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銅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下列何種物質是晶圓中的主要元素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碳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氧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銅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789360"/>
            <a:ext cx="8229600" cy="947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晶圓是用來製作半導體的材料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用鐵製成的器具容易生鏽，而用鋁製成的器具則不易鏽蝕，此現象可用下列哪一項來解釋？　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對氧活性：鐵＞鋁　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鐵熔點比鋁高　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鐵密度比鋁大　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氧化鋁比氧化鐵的質地較緻密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用鐵製成的器具容易生鏽，而用鋁製成的器具則不易鏽蝕，此現象可用下列哪一項來解釋？　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對氧活性：鐵＞鋁　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鐵熔點比鋁高　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鐵密度比鋁大　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氧化鋁比氧化鐵的質地較緻密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4775040"/>
            <a:ext cx="8229600" cy="947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金屬生鏽與活性有關，但生鏽後產生的氧化物有的反而會保護金屬不繼續生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家中使用的電線，塑膠外皮包著內部的金屬是銅，是因為它的導電效果不錯且便宜，如果不考量價錢，應選擇何種金屬作為導電的電線效果更好？　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金　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銀　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鋁　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下列那一項文具有導電性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塑膠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修正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鉛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橡皮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838680"/>
            <a:ext cx="8229600" cy="947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石墨是唯一可以導電的非金屬元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家中使用的電線，塑膠外皮包著內部的金屬是銅，是因為它的導電效果不錯且便宜，如果不考量價錢，應選擇何種金屬作為導電的電線效果更好？　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金　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銀　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鋁　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5000760"/>
            <a:ext cx="8229600" cy="947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金的延展性最佳；銀的導電性和導熱性最好；鐵依含碳量不同而有不同的性質；鈦是耐腐蝕的優良材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下列何者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不是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元素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石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硫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硫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水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下列何者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不是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元素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石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硫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硫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水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843360"/>
            <a:ext cx="8229600" cy="13737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石墨是碳元素所構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硫磺是硫的俗稱，水銀是汞的俗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21844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淑芬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者整理四種常見元素的性質如表所示，請問Ａ、Ｂ應該分別填入什麼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固態、液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液態、固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導電、不導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不導電、導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292720" y="1341360"/>
          <a:ext cx="3394080" cy="2189160"/>
        </p:xfrm>
        <a:graphic>
          <a:graphicData uri="http://schemas.openxmlformats.org/drawingml/2006/table">
            <a:tbl>
              <a:tblPr/>
              <a:tblGrid>
                <a:gridCol w="792000"/>
                <a:gridCol w="1079640"/>
                <a:gridCol w="1522440"/>
              </a:tblGrid>
              <a:tr h="73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屬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非金屬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汞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溴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鐵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碘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21844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000000"/>
                </a:solidFill>
                <a:uFillTx/>
                <a:latin typeface="Arial"/>
              </a:rPr>
              <a:t>淑芬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者整理四種常見元素的性質如表所示，請問Ａ、Ｂ應該分別填入什麼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固態、液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液態、固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導電、不導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不導電、導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292720" y="1341360"/>
          <a:ext cx="3394080" cy="2189160"/>
        </p:xfrm>
        <a:graphic>
          <a:graphicData uri="http://schemas.openxmlformats.org/drawingml/2006/table">
            <a:tbl>
              <a:tblPr/>
              <a:tblGrid>
                <a:gridCol w="792000"/>
                <a:gridCol w="1079640"/>
                <a:gridCol w="1522440"/>
              </a:tblGrid>
              <a:tr h="73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屬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非金屬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汞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溴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鐵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碘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457200" y="4005360"/>
            <a:ext cx="8229600" cy="13737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在常溫常壓下，汞是具導電性的液體；溴是不導電的液體；鐵是導電的固體；碘是不導電的固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下列那一項是化合物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石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鑽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石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黃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3:36:12Z</dcterms:created>
  <dc:creator>Froggy Chang</dc:creator>
  <dc:description/>
  <dc:language>en-US</dc:language>
  <cp:lastModifiedBy>Froggy Chang</cp:lastModifiedBy>
  <dcterms:modified xsi:type="dcterms:W3CDTF">2011-11-08T05:38:28Z</dcterms:modified>
  <cp:revision>14</cp:revision>
  <dc:subject/>
  <dc:title>投影片 1</dc:title>
</cp:coreProperties>
</file>