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889-4A9E-4B31-B933-E18A743A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512-6740-48D1-9BEF-F8D9141A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9D0-6153-4998-AF65-5C5E934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2C4-5223-4EB2-89BB-ECFF63D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9F2-0B45-4ACE-89F9-BED8A32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6BD-D1D8-4C30-ACDC-588F3474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16E-CA83-4DF7-850E-24FAEBC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849-1A4A-445E-9C3D-1067B25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F74-9C44-416D-832C-E8771051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1D0-50E8-4B23-AFCD-85B596A7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E3C-1BC8-4CE1-AF2D-78263D3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9B2-AFBF-4ED7-B736-10D9990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F3A-31A6-4530-BF87-957943A8E7A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蠟燭燃燒、鐵生鏽、削好的蘋果會變色都是因為空氣中哪個成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氮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氧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二氧化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水蒸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進行製氧實驗時，那個方式是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薊頭漏斗長管末端要在水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剛開始產生的氣體要立刻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雙氧水要慢慢滴入以免反應太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集滿氧氣的廣口瓶蓋上玻璃片正立放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005360"/>
            <a:ext cx="8280360" cy="18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剛開始產生的氣體會混合瓶中的空氣，為了收集純度較高的氧氣，可等待一段時間等空氣都排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克大理石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毫升鹽酸做二氧化碳製備實驗，待反應結束，反應前後大理石的質量變化為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變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不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變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不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大理石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毫升鹽酸做二氧化碳製備實驗，待反應結束，反應前後大理石的質量變化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變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變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不一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508640"/>
            <a:ext cx="8209080" cy="1511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理石中的碳酸鈣成分會參與反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毫升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％的雙氧水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克的二氧化錳做製氧實驗，待反應結束，反應前後二氧化錳的質量變化為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不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變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不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毫升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％的雙氧水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克的二氧化錳做製氧實驗，待反應結束，反應前後二氧化錳的質量變化為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變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不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變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不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716280"/>
            <a:ext cx="8208720" cy="216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二氧化錳作為催化劑所以質量不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小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小心打翻廁所的鹽酸，大理石地板表面產生許多氣泡，這些氣泡內為何種氣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氮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</a:rPr>
              <a:t>小新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小心打翻廁所的鹽酸，大理石地板表面產生許多氣泡，這些氣泡內為何種氣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氮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716280"/>
            <a:ext cx="8208720" cy="1368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鹽酸和大理石會產生二氧化碳氣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甲）二氧化碳密度比空氣大（乙）二氧化碳溶與水呈酸性（丙）二氧化碳不助燃。以上為二氧化碳的三個性質，我們用二氧化碳來滅火，是根據哪些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甲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甲乙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甲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乙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甲）二氧化碳密度比空氣大（乙）二氧化碳溶與水呈酸性（丙）二氧化碳不助燃。以上為二氧化碳的三個性質，我們用二氧化碳來滅火，是根據哪些特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甲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甲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甲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34920" y="4941720"/>
            <a:ext cx="8209080" cy="151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二氧化碳比空氣重所以可覆蓋可燃物隔絕空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關於收集氣體的方法，下列敘述何者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並非所有氣體都可用排水集氣法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利用排水集氣法收集氧氣，是因為氧氣不能溶於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二氧化碳比空氣重，所以裝滿二氧化碳的廣口瓶要正立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氫氣比空氣輕，所以裝滿二氧化碳的廣口瓶要倒立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蠟燭燃燒、鐵生鏽、削好的蘋果會變色都是因為空氣中哪個成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氮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氧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二氧化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水蒸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4437000"/>
            <a:ext cx="8209080" cy="963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題示：空氣中活性最大的氣體是氧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關於收集氣體的方法，下列敘述何者錯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並非所有氣體都可用排水集氣法收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利用排水集氣法收集氧氣，是因為氧氣不能溶於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二氧化碳比空氣重，所以裝滿二氧化碳的廣口瓶要正立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氫氣比空氣輕，所以裝滿二氧化碳的廣口瓶要倒立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71628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易溶於水的氣體不適用排水集氣法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氧氣不易溶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點燃的線香放入充滿氧氣的瓶中，線香會有什麼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熄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燃燒得更旺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沒有任何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熄滅後又燃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點燃的線香放入充滿氧氣的瓶中，線香會有什麼變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熄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燃燒得更旺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沒有任何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熄滅後又燃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076640"/>
            <a:ext cx="8208720" cy="1728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氧氣有助燃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點燃的線香放入充滿二氧化碳的瓶中，線香會有什麼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熄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燃燒得更旺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沒有任何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熄滅後又燃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點燃的線香放入充滿二氧化碳的瓶中，線香會有什麼變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熄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燃燒得更旺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沒有任何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熄滅後又燃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221000"/>
            <a:ext cx="8208720" cy="1656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二氧化碳不助燃不可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噴乾冰可製造白煙瀰漫的舞台效果，關於此現象下列說法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這些白煙是氣態的二氧化碳，因為乾冰是固態的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這些白煙和燒開水產生白煙一樣都是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噴乾冰時周圍空氣變冷，這些白煙是水蒸氣遇冷凝結而成的小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乾冰遇熱熔化，所以這些白煙是液態的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噴乾冰可製造白煙瀰漫的舞台效果，關於此現象下列說法何者正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這些白煙是氣態的二氧化碳，因為乾冰是固態的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這些白煙和燒開水產生白煙一樣都是水蒸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噴乾冰時周圍空氣變冷，這些白煙是水蒸氣遇冷凝結而成的小水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乾冰遇熱熔化，所以這些白煙是液態的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378936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乾冰昇華為氣態時會吸熱，周圍氣溫變低，原本空氣的水蒸氣凝結為小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氣態水蒸氣和二氧化碳為無色無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近年來改以氦氣取代氫氣來填充氣球，下列的敘述何者最合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氦氣密度比氫氣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氦氣活性比氫氣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氦氣比氫氣容易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氦氣安全性比氫氣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近年來改以氦氣取代氫氣來填充氣球，下列的敘述何者最合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氦氣密度比氫氣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氦氣活性比氫氣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氦氣比氫氣容易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氦氣安全性比氫氣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34920" y="3789360"/>
            <a:ext cx="7885080" cy="18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氫氣為自然界最輕的氣體，但有可燃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氦氣比氫氣略重，但為惰性氣體，不具可燃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哪一種氣體在空氣中的含量比例不易隨地點或時間改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臭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深吸一口氣，吸進最多的氣體是哪一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氮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下列哪一種氣體在空氣中的含量比例不易隨地點或時間改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臭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3860640"/>
            <a:ext cx="87487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氧氣屬固定氣體，臭氧、二氧化碳、水蒸氣為變動氣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氧氣製備的實驗中，何者敘述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準備的藥品為雙氧水和二氧化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利用排水集氣法收集氧氣是為了收集純度較高的氧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若反應太快可將橡皮管移離水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反應進行時周圍溫度會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氧氣製備的實驗中，何者敘述錯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準備的藥品為雙氧水和二氧化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利用排水集氣法收集氧氣是為了收集純度較高的氧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若反應太快可將橡皮管移離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反應進行時周圍溫度會變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365720"/>
            <a:ext cx="7704000" cy="86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此反應為放熱反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氧化碳製備的實驗中，何者敘述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準備的藥品為大理石和鹽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可用貝殼或蛋殼取代大理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裝滿二氧化碳的瓶中若倒入澄清石灰水會變白色混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裝滿二氧化碳的瓶中放入潮濕的石蕊試紙會由紅色變為藍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二氧化碳製備的實驗中，何者敘述錯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準備的藥品為大理石和鹽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可用貝殼或蛋殼取代大理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裝滿二氧化碳的瓶中若倒入澄清石灰水會變白色混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裝滿二氧化碳的瓶中放入潮濕的石蕊試紙會由紅色變為藍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221000"/>
            <a:ext cx="8208720" cy="1008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二氧化碳溶於水呈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瓶子分別裝滿空氣、氮氣、氧氣，利用下列哪一種檢驗方式可分辨出瓶子裝的是哪一種氣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直接聞聞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放入點燃線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放入潮濕石蕊試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倒入少許澄清石灰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個瓶子分別裝滿空氣、氮氣、氧氣，利用下列哪一種檢驗方式可分辨出瓶子裝的是哪一種氣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直接聞聞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放入點燃線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放入潮濕石蕊試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倒入少許澄清石灰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21300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空氣中主要成分有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4/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氧氣，兩氣體皆無色無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燃燒程度與瓶中氧氣濃度有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氣的成分含量前三名依次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氮氣、氧氣、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氮氣、氧氣、氬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氧氣、二氧化碳、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氧氣、二氧化碳、氮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氣的成分含量前三名依次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氮氣、氧氣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氮氣、氧氣、氬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氧氣、二氧化碳、水蒸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氧氣、二氧化碳、氮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21300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78.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％氧氣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％氬氣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氧氣製備實驗中，錐形瓶內為什麼要倒入少許的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因為水也是參與反應的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因為需將二氧化錳溶於水中，反應比較容易進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因為倒入少許的水可將葪頭漏斗長管末端置於水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因為水可吸收反應時放出的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深吸一口氣，吸進最多的氣體是哪一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氮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氧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水蒸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437000"/>
            <a:ext cx="8209080" cy="963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題示：空氣中含量最多的氣體是氮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氧氣製備實驗中，錐形瓶內為什麼要倒入少許的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因為水也是參與反應的物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因為需將二氧化錳溶於水中，反應比較容易進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因為倒入少許的水可將葪頭漏斗長管末端置於水面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因為水可吸收反應時放出的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321300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製氧反應中，雙氧水的溶質是反應物，二氧化錳為催化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為了收集純度較高的氧氣，必須使錐形瓶密閉，以免新空氣從薊頭漏斗進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關於氮氣的用途，那項敘述是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液態氮可用於低溫冷凍技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食品填充氮氣可延長食品保存期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植物成長需要土壤中的氮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氮氣因活性小可填充在氣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關於氮氣的用途，那項敘述是錯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液態氮可用於低溫冷凍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食品填充氮氣可延長食品保存期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植物成長需要土壤中的氮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氮氣因活性小可填充在氣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21300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態氮是將氮氣液化，溫度可低於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96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的活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元素是構成生物體蛋白質的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的密度與空氣密度相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關於惰性氣體的敘述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空氣中含量最多的惰性氣體是氫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最輕的惰性氣體是氖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填充氖氣的霓虹燈會發出白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所有的惰性氣體活性都極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關於惰性氣體的敘述何者正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空氣中含量最多的惰性氣體是氫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最輕的惰性氣體是氖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填充氖氣的霓虹燈會發出白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）所有的惰性氣體活性都極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213000"/>
            <a:ext cx="8208720" cy="266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題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態氮是將氮氣液化，溫度可低於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96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的活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元素是構成生物體蛋白質的元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氮氣的密度與空氣密度相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進行製氧實驗時，那個方式是錯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薊頭漏斗長管末端要在水面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剛開始產生的氣體要立刻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雙氧水要慢慢滴入以免反應太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集滿氧氣的廣口瓶蓋上玻璃片正立放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50:15Z</dcterms:created>
  <dc:creator>lsjh04</dc:creator>
  <dc:description/>
  <dc:language>en-US</dc:language>
  <cp:lastModifiedBy>user</cp:lastModifiedBy>
  <dcterms:modified xsi:type="dcterms:W3CDTF">2011-10-31T03:24:08Z</dcterms:modified>
  <cp:revision>8</cp:revision>
  <dc:subject/>
  <dc:title>投影片 1</dc:title>
</cp:coreProperties>
</file>