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BE08-7268-4A39-8072-7F911ED0A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D0C7-00EA-45F7-BE41-C7750CEB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B544-A787-412A-B8D4-7F86CC659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EECD-01A7-4788-B602-08CED51EE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65AD-6AC0-42E8-A4F4-47818AE1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75C2-01A6-447B-B944-5D3626A1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F331-E02E-47C0-A874-3E998C98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36DF-9070-4372-9B49-688F1046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7222-9367-4F37-9D6B-5A5F945B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6163-FC53-422F-B70C-40D6EDA1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F82F-E626-4E39-818C-F194E637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A278-11BF-4871-B1B9-76C152B5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19B4-7765-4515-AD84-B7B2E7BFEBFA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68360" y="-3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美國大聯盟冠軍賽，王建民投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最後一球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甲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打者揮棒斷棒，遭封殺一壘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乙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主場國民隊立刻釋放美麗的煙火慶祝。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以上甲乙兩途述各屬於何種變化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皆為物理變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兩者皆為化學變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甲屬於化學變化，乙屬於物理變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甲屬於物理變化，乙屬於化學變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020000" y="115920"/>
            <a:ext cx="163044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68000" y="-360"/>
            <a:ext cx="86756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小郭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在實驗室點了蠟燭後，觀察到下列的現象：固態的蠟熔化成液態後，液體隨燭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芯上升，受熱後再汽化，最後燃燒產生光、熱及二氧化碳、水，由此可得知整個過程應為什麼變化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先物理變化後化學變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先化學變化後物理變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物理變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化學變化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395280" y="5084640"/>
            <a:ext cx="8424720" cy="151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755640" y="5157720"/>
            <a:ext cx="772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提示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: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蠟燭燃燒的過程為先物理變化後化學變化：固態的蠟熔化成液態為物理變化、燃燒產生光、熱及二氧化碳、水為化學變化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000" y="-360"/>
            <a:ext cx="86756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墾丁春吶是時下愛好音樂的年輕人每年的最愛，但有時所穿的鮮豔衣物會因為泡在水中或曝晒在太陽光底下太久，而有褪色現象，試問下列敘述何者正確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日晒時色素被蒸發，所以為物理變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衣物泡在水中色素被水溶解，所以為物理變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衣物褪色都是化學變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衣物褪色都是先物理變化之後，再化學變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000" y="-360"/>
            <a:ext cx="86756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墾丁春吶是時下愛好音樂的年輕人每年的最愛，但有時所穿的鮮豔衣物會因為泡在水中或曝晒在太陽光底下太久，而有褪色現象，試問下列敘述何者正確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日晒時色素被蒸發，所以為物理變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衣物泡在水中色素被水溶解，所以為物理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衣物褪色都是化學變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衣物褪色都是先物理變化之後，再化學變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395280" y="5084640"/>
            <a:ext cx="8424720" cy="151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755640" y="5157720"/>
            <a:ext cx="772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提示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: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衣物色素泡在水中被溶解屬於物理變化；曝晒太陽光太久變質屬於化學變化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000" y="-360"/>
            <a:ext cx="86756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爸爸最愛在晚上來小酌一下「威士忌」，威士忌是以穀物為原料所釀出來的蒸餾酒，但開瓶後長時間沒有飲用將會酸化，請問釀酒及酸化的過程各屬於何種變化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前者為物理變化，後者為化學變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前者為化學變化，後者為物理變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皆為物理變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皆為化學變化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000" y="-360"/>
            <a:ext cx="86756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爸爸最愛在晚上來小酌一下「威士忌」，威士忌是以穀物為原料所釀出來的蒸餾酒，但開瓶後長時間沒有飲用將會酸化，請問釀酒及酸化的過程各屬於何種變化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前者為物理變化，後者為化學變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前者為化學變化，後者為物理變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皆為物理變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皆為化學變化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95280" y="5084640"/>
            <a:ext cx="8424720" cy="151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755640" y="5157720"/>
            <a:ext cx="79930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提示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: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釀酒：葡萄糖變成醇類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乙醇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的過程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酸化：為乙醇變成有機酸類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醋酸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的過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程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000" y="-360"/>
            <a:ext cx="86756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甲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紙張經燃燒而成灰燼；乙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水轉變為水蒸氣；丙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鐵球受熱體積膨脹；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鐵球在潮溼的空氣中生鏽。以上屬於物理變化者有哪些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甲乙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丙丁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甲丁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乙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68000" y="-360"/>
            <a:ext cx="86756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甲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紙張經燃燒而成灰燼；乙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水轉變為水蒸氣；丙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鐵球受熱體積膨脹；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鐵球在潮溼的空氣中生鏽。以上屬於物理變化者有哪些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甲乙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丙丁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甲丁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乙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395280" y="5084640"/>
            <a:ext cx="8424720" cy="151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755640" y="5157720"/>
            <a:ext cx="7993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提示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: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狀態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體積改變為物理變化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燃燒、生鏽為化學變化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8000" y="-360"/>
            <a:ext cx="86756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下列哪一組物質之間的轉變屬於產生新物質的化學變化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二氧化碳氣體→乾冰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水→冰塊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蠟油→蠟蒸氣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鐵→鐵鏽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8000" y="-360"/>
            <a:ext cx="86756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下列哪一組物質之間的轉變屬於產生新物質的化學變化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二氧化碳氣體→乾冰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水→冰塊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蠟油→蠟蒸氣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鐵→鐵鏽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95280" y="5084640"/>
            <a:ext cx="8424720" cy="151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755640" y="5157720"/>
            <a:ext cx="799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提示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: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化學變化會產生新物質，物理變化則物質的組成成分不變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000" y="-360"/>
            <a:ext cx="86756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有天媽媽煲湯要給全家喝，結果因為電視太好看而忘了，湯不斷持續沸騰現象直到燒乾、鍋子底部焦黑才發現，則下列敘述何者正確？甲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湯為混合物；乙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可藉由加熱方法將食物與水分離；丙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溶液的量逐漸減少，是因為溶液發生物理變化；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鍋底顏色改變為物理變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甲、乙、丙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甲、丙、丁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乙、丙　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乙、丁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-3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美國大聯盟冠軍賽，王建民投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最後一球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甲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打者揮棒斷棒，遭封殺一壘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乙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主場國民隊立刻釋放美麗的煙火慶祝。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以上甲乙兩途述各屬於何種變化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皆為物理變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兩者皆為化學變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甲屬於化學變化，乙屬於物理變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甲屬於物理變化，乙屬於化學變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020000" y="115920"/>
            <a:ext cx="1630440" cy="13557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395280" y="5084640"/>
            <a:ext cx="8424720" cy="151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755640" y="5157720"/>
            <a:ext cx="772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提示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: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斷棒屬於物理變化；煙火爆炸屬於化學變化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8000" y="-360"/>
            <a:ext cx="86756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有天媽媽煲湯要給全家喝，結果因為電視太好看而忘了，湯不斷持續沸騰現象直到燒乾、鍋子底部焦黑才發現，則下列敘述何者正確？甲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湯為混合物；乙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可藉由加熱方法將食物與水分離；丙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溶液的量逐漸減少，是因為溶液發生物理變化；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鍋底顏色改變為物理變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甲、乙、丙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甲、丙、丁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乙、丙　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乙、丁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95280" y="5084640"/>
            <a:ext cx="8424720" cy="151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755640" y="5157720"/>
            <a:ext cx="799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提示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: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沸騰使水變為水蒸氣應為物理變化；燒焦碳化為化學變化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8000" y="-360"/>
            <a:ext cx="86756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觀察生活中常見的現象：生米煮熟、食物消化、鐵釘生鏽、食物腐敗、光合作用、汽油燃燒、開水沸騰、酒精蒸發、方糖溶於水、冰塊融化、火藥爆炸、木棒折斷、脂質變為脂肪酸。以上屬於物理變化者有多少種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5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種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6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種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7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種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8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種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000" y="-360"/>
            <a:ext cx="86756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觀察生活中常見的現象：生米煮熟、食物消化、鐵釘生鏽、食物腐敗、光合作用、汽油燃燒、開水沸騰、酒精蒸發、方糖溶於水、冰塊融化、火藥爆炸、木棒折斷、脂質變為脂肪酸。以上屬於物理變化者有多少種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5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種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6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種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7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種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8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種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95280" y="5084640"/>
            <a:ext cx="8424720" cy="151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755640" y="5157720"/>
            <a:ext cx="799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提示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: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方糖溶於水、開水沸騰、酒精蒸發、冰塊融化、木棒折斷，以上五種屬於物理變化。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000" y="-360"/>
            <a:ext cx="86756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一級方程式賽車亞洲賽，法拉利車隊的車輛因高速造成爆胎、翻車而爆炸，車頭凹陷、汽油燃燒並放出火光，所幸駕駛安全逃脫」。上述各屬於何種變化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爆胎屬於化學變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爆炸屬於物理變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車頭凹陷屬於物理變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汽油燃燒物理變化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8000" y="-360"/>
            <a:ext cx="86756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一級方程式賽車亞洲賽，法拉利車隊的車輛因高速造成爆胎、翻車而爆炸，車頭凹陷、汽油燃燒並放出火光，所幸駕駛安全逃脫」。上述各屬於何種變化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爆胎屬於化學變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爆炸屬於物理變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車頭凹陷屬於物理變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汽油燃燒物理變化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395280" y="5084640"/>
            <a:ext cx="8424720" cy="151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755640" y="5157720"/>
            <a:ext cx="799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提示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: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爆胎屬於物理變化；爆炸屬於化學變化；汽油燃燒化學變化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000" y="-360"/>
            <a:ext cx="86756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超馬英雄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林義傑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冬天對抗極考寒冷，最常用暖暖包溫暖雙手，其主要成分是鐵粉、水及食鹽，使用時只要用力搓揉隨即產生反應並放出熱量，握在手中或放在身上可以取暖，試問暖暖包內反應為何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化學變化的放熱反應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化學變化的吸熱反應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物理變化的放熱反應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物理變化的吸熱反應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000" y="-360"/>
            <a:ext cx="86756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超馬英雄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林義傑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冬天對抗極考寒冷，最常用暖暖包溫暖雙手，其主要成分是鐵粉、水及食鹽，使用時只要用力搓揉隨即產生反應並放出熱量，握在手中或放在身上可以取暖，試問暖暖包內反應為何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化學變化的放熱反應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化學變化的吸熱反應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物理變化的放熱反應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物理變化的吸熱反應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95280" y="5084640"/>
            <a:ext cx="8424720" cy="151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755640" y="5157720"/>
            <a:ext cx="799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提示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: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暖暖包的反應是屬於化學變化的放熱反應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000" y="-360"/>
            <a:ext cx="86756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物質變化時產生與原來物質不同的新物質，此種變化屬於化學變化，試問下列何者屬於此種變化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碘溶於酒精中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葡萄製成葡萄乾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牛奶變酸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紙撕成碎片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000" y="-360"/>
            <a:ext cx="86756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物質變化時產生與原來物質不同的新物質，此種變化屬於化學變化，試問下列何者屬於此種變化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碘溶於酒精中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葡萄製成葡萄乾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牛奶變酸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紙撕成碎片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95280" y="5084640"/>
            <a:ext cx="8424720" cy="151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755640" y="5157720"/>
            <a:ext cx="7993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提示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: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牛奶變酸屬於化學變化；碘溶於酒精中、葡萄製成葡萄乾、紙撕成碎片屬於物理變化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000" y="-360"/>
            <a:ext cx="86756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物質變化的過程中，若物質只是外觀或狀態改變，則為物理變化，下列何者為物理變化？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煙火施放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光合作用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食鹽溶於水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燃燒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000" y="-360"/>
            <a:ext cx="86756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小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在假日午後悠閒的喝著下午茶，先將</a:t>
            </a:r>
            <a:r>
              <a:rPr b="1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開水沸騰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泡茶；配上美味蛋糕，在和煦的陽光下等待</a:t>
            </a:r>
            <a:r>
              <a:rPr b="1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消化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。以上有哪些屬於物理變化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皆為物理變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兩者皆為化學變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前者屬於物理變化，後者屬於化學變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前者屬於化學變化，後者屬於物理變化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000" y="-360"/>
            <a:ext cx="86756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物質變化的過程中，若物質只是外觀或狀態改變，則為物理變化，下列何者為物理變化？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煙火施放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光合作用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食鹽溶於水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燃燒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395280" y="5084640"/>
            <a:ext cx="8424720" cy="151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755640" y="5157720"/>
            <a:ext cx="799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提示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: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食鹽溶於水為物理變化；鐵生鏽、光合作用、燃燒為化學變化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000" y="-360"/>
            <a:ext cx="86756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當純物質發生物理變化時，下列敘述何者正確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物理性質發生改變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沒有產生新物質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有新物質生成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轉變為另一純物質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000" y="-360"/>
            <a:ext cx="86756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當純物質發生物理變化時，下列敘述何者正確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物理性質發生改變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沒有產生新物質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有新物質生成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轉變為另一純物質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95280" y="5084640"/>
            <a:ext cx="8424720" cy="151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755640" y="5157720"/>
            <a:ext cx="799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提示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: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純物質無法經物理作用改變其性質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000" y="-360"/>
            <a:ext cx="86756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海底總動員中的小丑魚馬林和他的兒子尼莫最後決定，搬到水族館住，但他們常常發現睡覺隔天醒來水量好像變少了，請問此現象屬於何種變化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化學變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物理變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化學變化與物理變化兼具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熱脹冷縮現象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000" y="-360"/>
            <a:ext cx="86756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海底總動員中的小丑魚馬林和他的兒子尼莫最後決定，搬到水族館住，但他們常常發現睡覺隔天醒來水量好像變少了，請問此現象屬於何種變化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化學變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物理變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化學變化與物理變化兼具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熱脹冷縮現象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95280" y="5084640"/>
            <a:ext cx="8424720" cy="151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755640" y="5157720"/>
            <a:ext cx="799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提示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: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水蒸發屬於物理變化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8000" y="-360"/>
            <a:ext cx="86756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物理變化和化學變化最主要的差別為何？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有無發生新的物質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有無發生狀態改變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有無產生密度增減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有無產生溫度變化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000" y="-360"/>
            <a:ext cx="86756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物理變化和化學變化最主要的差別為何？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有無發生新的物質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有無發生狀態改變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有無產生密度增減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有無產生溫度變化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395280" y="5084640"/>
            <a:ext cx="8424720" cy="151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755640" y="5157720"/>
            <a:ext cx="799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提示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: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化學變化會產生新物質，物理變化則物質的組成成分不變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000" y="-360"/>
            <a:ext cx="86756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小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挑戰登上玉山，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甲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因為溼氣太重，下起大雨而使衣服全部溼透，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乙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只好用營火將衣服烤乾。請問上述兩過程發生何種變化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皆為物理變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兩者皆為化學變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甲屬於化學變化，乙屬於物理變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甲屬於物理變化，乙屬於化學變化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000" y="-360"/>
            <a:ext cx="86756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小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挑戰登上玉山，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甲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因為溼氣太重，下起大雨而使衣服全部溼透，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乙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只好用營火將衣服烤乾。請問上述兩過程發生何種變化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皆為物理變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兩者皆為化學變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甲屬於化學變化，乙屬於物理變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甲屬於物理變化，乙屬於化學變化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395280" y="5084640"/>
            <a:ext cx="8424720" cy="151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755640" y="5157720"/>
            <a:ext cx="799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提示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: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化學變化會產生新物質，物理變化則物質的組成成分不變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000" y="-360"/>
            <a:ext cx="86756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下列何者屬於化學變化？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磁鐵吸引鐵釘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打開汽水瓶蓋冒出氣泡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將大銅板切割成兩片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將蛋浸泡於醋中製作軟殼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000" y="-360"/>
            <a:ext cx="86756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小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在假日午後悠閒的喝著下午茶，先將</a:t>
            </a:r>
            <a:r>
              <a:rPr b="1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開水沸騰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泡茶；配上美味蛋糕，在和煦的陽光下等待</a:t>
            </a:r>
            <a:r>
              <a:rPr b="1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消化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。以上有哪些屬於物理變化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皆為物理變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兩者皆為化學變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前者屬於物理變化，後者屬於化學變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前者屬於化學變化，後者屬於物理變化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95280" y="5084640"/>
            <a:ext cx="8424720" cy="151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755640" y="5157720"/>
            <a:ext cx="772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提示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: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水沸騰蒸發為物理變化；食物消化為化學變化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000" y="-360"/>
            <a:ext cx="86756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下列何者屬於化學變化？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磁鐵吸引鐵釘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打開汽水瓶蓋冒出氣泡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將大銅板切割成兩片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將蛋浸泡於醋中製作軟殼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95280" y="5084640"/>
            <a:ext cx="8424720" cy="151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755640" y="5157720"/>
            <a:ext cx="799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提示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: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殼蛋中的碳酸鈣遇酸分解產生二氧化碳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8000" y="-360"/>
            <a:ext cx="86756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請問下列哪一種變化，不能以簡單的物理方法使它恢復原狀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方糖溶於水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冰融化成水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木材燃燒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蠟燭折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8000" y="-360"/>
            <a:ext cx="86756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請問下列哪一種變化，不能以簡單的物理方法使它恢復原狀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方糖溶於水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冰融化成水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木材燃燒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蠟燭折斷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95280" y="5084640"/>
            <a:ext cx="8424720" cy="151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755640" y="5157720"/>
            <a:ext cx="772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提示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: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為化學變化，因此不能以簡單的物理方法使它回覆原狀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000" y="-360"/>
            <a:ext cx="86756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海棉寶寶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與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派大星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相約在家邊看電視邊吃爆米花和冰淇淋，後來冰淇淋漸漸融化，眼見快滴到地板，他覺得可惜開始舔糖水…，關於這段敘述下列何者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正確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冰淇淋融化是化學變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製作爆米花的過程是化學變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冰淇淋在肚子裡消化是物理變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爆米花在肚子裡消化是物理變化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8000" y="-360"/>
            <a:ext cx="86756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海棉寶寶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與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派大星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相約在家邊看電視邊吃爆米花和冰淇淋，後來冰淇淋漸漸融化，眼見快滴到地板，他覺得可惜開始舔糖水…，關於這段敘述下列何者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正確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冰淇淋融化是化學變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製作爆米花的過程是化學變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冰淇淋在肚子裡消化是物理變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爆米花在肚子裡消化是物理變化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395280" y="5084640"/>
            <a:ext cx="8424720" cy="151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755640" y="5157720"/>
            <a:ext cx="772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提示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: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冰淇淋融化是物理變化、消化是化學變化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000" y="-360"/>
            <a:ext cx="86756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小郭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在實驗室點了蠟燭後，觀察到下列的現象：固態的蠟熔化成液態後，液體隨燭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芯上升，受熱後再汽化，最後燃燒產生光、熱及二氧化碳、水，由此可得知整個過程應為什麼變化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先物理變化後化學變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先化學變化後物理變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物理變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化學變化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01:50:56Z</dcterms:created>
  <dc:creator>admin</dc:creator>
  <dc:description/>
  <dc:language>en-US</dc:language>
  <cp:lastModifiedBy>admin</cp:lastModifiedBy>
  <dcterms:modified xsi:type="dcterms:W3CDTF">2011-11-01T05:00:42Z</dcterms:modified>
  <cp:revision>66</cp:revision>
  <dc:subject/>
  <dc:title>投影片 1</dc:title>
</cp:coreProperties>
</file>