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9BF-B9C0-4483-A596-13469900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2FF-2B28-4CCF-840A-771EF19E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F26-FD9D-4583-B1DC-9F5B49F8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E2E-97FA-46AD-A696-7FD0F428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F75-F294-47E4-A393-C4A62B47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B27-49B3-4FED-8F29-DC3E85AF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8AC-9FCC-4EB0-9804-55A726C6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298-65B4-4FC8-8DBC-2FCD3EA8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6D2-8578-4965-9C66-0BA2FED0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1E3-A70D-4958-B876-69BC1CFB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01A-60BB-4092-8F2A-B5D92DFE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866-A080-445C-99B6-B30105B3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6343-0613-4339-AD16-1AF6E8ADB54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間，為何水不適宜作測量溫度的材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的熱脹冷縮效果不明顯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以上不滿足熱脹冷縮的性質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附近的體積、溫度關係特殊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有對流現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24000" y="188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的水，溫度升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，則對水所加的熱量等於多少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m/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m+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m-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M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熱量公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=mxS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的比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=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的水加熱上升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，需要多少熱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15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2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1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2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千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的水加熱上升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，需要多少熱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15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2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1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2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千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(1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熱量公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=mxS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的比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=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甲、乙、丙三個質量相同的不同物質，比熱分別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，若欲使其上升相同的溫度，何者需較多的熱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甲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乙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丙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一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甲、乙、丙三個質量相同的不同物質，比熱分別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，若欲使其上升相同的溫度，何者需較多的熱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甲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乙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丙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一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(1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小、中、大量筒分別表示小、中、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比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使三個量筒水位高度相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溫度相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哪一個量筒需要的水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熱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最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49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甲、乙、丙三個質量相同的不同物質，比熱分別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，若欲使加熱相同的時間，何者溫度變化量較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甲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乙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丙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一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甲、乙、丙三個質量相同的不同物質，比熱分別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5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，若欲使加熱相同的時間，何者溫度變化量較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甲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乙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丙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一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在三個小、中、大量筒中加入相同水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熱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，哪一量筒水位明顯改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溫度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化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、乙、丙三個質量相同而且溫度皆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的不同金屬球，各放入三杯相同水溫及水量，最後平衡溫度為甲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℃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、乙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℃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、丙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℃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、乙、丙誰的比熱最大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一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若三顆金屬球改放入同一杯水，則最後三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金屬球的溫度誰最大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一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承第二題，這過程中哪一個金屬球放出的熱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量比較多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一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甲、乙、丙三個質量相同而且溫度皆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的不同金屬球，各放入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杯相同水溫及水量，最後平衡溫度為甲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℃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、乙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℃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、丙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  ℃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甲、乙、丙誰的比熱最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甲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乙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丙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一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比熱大溫度變化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若三顆金屬球改放入同一杯水，則最後三顆 金屬球的溫度誰最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甲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乙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丙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一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三個金屬球放在同一杯水，最後會達成熱平衡，溫度皆相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承第二題，這過程中哪一個金屬球放出的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量比較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甲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乙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丙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一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相同水位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溫度皆相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的小、中、大量筒，大量筒倒出的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熱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最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鐵軌每隔一段距離必須預留空隙，其目的為何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避免鐵軌受熱膨脹而彎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增加美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節省材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增加火車行車效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030502052A"/>
          <p:cNvPicPr/>
          <p:nvPr/>
        </p:nvPicPr>
        <p:blipFill>
          <a:blip r:embed="rId1"/>
          <a:stretch/>
        </p:blipFill>
        <p:spPr>
          <a:xfrm>
            <a:off x="2627280" y="4076640"/>
            <a:ext cx="20890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95280" y="11592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間，為何水不適宜作測量溫度的材料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水的熱脹冷縮效果不明顯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水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以上不滿足熱脹冷縮的性質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水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附近的體積、溫度關係特殊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水有對流現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水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℃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~4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的範圍內受熱時，溫度升高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體積反而縮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水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℃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~10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的範圍內受熱時，溫度升高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體積會膨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鐵軌每隔一段距離必須預留空隙，其目的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何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避免鐵軌受熱膨脹而彎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增加美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節省材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增加火車行車效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鐵有熱脹冷縮性質，所以鋪設鐵軌時，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須預留空隙，以防夏天鐵軌膨脹，因為空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隙不足而彎曲，造成火車出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舉一反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那架設電線不能繃得太緊，是怕夏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熱脹還是冬天冷縮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有關保溫瓶的敘述，下列何者正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瓶口的塞子最好是金屬材料製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內層抽成真空，主要是為了防止熱輻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內壁鍍銀，主要是為了防止熱傳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保溫瓶可儲存熱水，也可用來儲存碎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030502141A"/>
          <p:cNvPicPr/>
          <p:nvPr/>
        </p:nvPicPr>
        <p:blipFill>
          <a:blip r:embed="rId1"/>
          <a:stretch/>
        </p:blipFill>
        <p:spPr>
          <a:xfrm>
            <a:off x="3276720" y="3789360"/>
            <a:ext cx="2232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有關保溫瓶的敘述，下列何者正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瓶口的塞子最好是金屬材料製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內層抽成真空，主要是為了防止熱輻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內壁鍍銀，主要是為了防止熱傳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保溫瓶可儲存熱水，也可用來儲存碎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熱量傳遞的方式有三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傳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為固體的主要傳熱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對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為液體及氣體的主要傳熱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輻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不需任何介質，而能將熱傳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到別處的傳送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煮稀飯時容易燒焦，熱得稀飯也比水不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冷卻，主要是因為煮稀飯時，哪一種熱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傳播特性比較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傳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對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輻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以上皆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煮稀飯時容易燒焦，熱得稀飯也比水不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冷卻，主要是因為煮稀飯時，哪一種熱的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傳播特性比較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傳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對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輻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以上皆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稀飯流動性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2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的水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的水混合後的平衡溫度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若不考慮熱量散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36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B)46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C)56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D)66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2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的水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的水混合後的平衡溫度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若不考慮熱量散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3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B)4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C)5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D)6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設平衡溫度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Calibri"/>
              </a:rPr>
              <a:t>吸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Calibri"/>
              </a:rPr>
              <a:t>放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xSxt=mxS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x1x(T-20)=300x1x(80-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持續用酒精燈加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的熱油，油上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置鋼杯，鋼杯內裝有水，問最後達到熱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衡的水溫為何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13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12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11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1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836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持續用酒精燈加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的熱油，油上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置鋼杯，鋼杯內裝有水，問最後達到熱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衡的水溫為何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13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12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11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1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的沸點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，水超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就汽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比較在洗三溫暖時，處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的水蒸氣裡，與泡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的溫水中，在相同時間內何者燙傷較為嚴重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為什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蒸氣室中，因為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水蒸氣溫度大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溫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蒸氣室中，因為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水蒸氣熱含量大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溫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蒸氣中，因為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水蒸氣有大量汽化熱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放出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溫水中，因為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的溫水密度遠高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的水蒸氣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68°F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相當於幾度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20 (B)55 (C)64.8 (D)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比較在洗三溫暖時，處於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的水蒸氣裡，與泡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的溫水中，在相同時間內何者燙傷較為嚴重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為什麼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蒸氣室中，因為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水蒸氣溫度大於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溫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蒸氣室中，因為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水蒸氣熱含量大於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蒸氣中，因為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水蒸氣有大量汽化熱釋放出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溫水中，因為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的溫水密度遠高於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的水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氣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(1)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水蒸氣體積是水的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00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倍，所以接觸在皮膚表面的水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氣粒子數目為水粒子數目的千分之一倍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2)1mole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=18cc,1mole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水蒸氣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=22400cc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，兩者體積差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00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倍，密度也差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000</a:t>
            </a: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倍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拿一個古代圓形銅幣                 放入冰水中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等過一 陣子，觀察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外圈縮小，內圈加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外圈加大，內圈加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外圈縮小，內圈縮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外圈加大，內圈縮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橢圓 3"/>
          <p:cNvSpPr/>
          <p:nvPr/>
        </p:nvSpPr>
        <p:spPr>
          <a:xfrm rot="552600">
            <a:off x="5006880" y="141120"/>
            <a:ext cx="1008000" cy="1006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橢圓 4"/>
          <p:cNvSpPr/>
          <p:nvPr/>
        </p:nvSpPr>
        <p:spPr>
          <a:xfrm>
            <a:off x="5362560" y="476280"/>
            <a:ext cx="289080" cy="288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拿一個古代圓形銅幣                 放入冰水中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等過一 陣子，觀察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外圈縮小，內圈加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外圈加大，內圈加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外圈縮小，內圈縮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外圈加大，內圈縮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銅幣遇冷收縮，是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Calibri"/>
              </a:rPr>
              <a:t>整塊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金屬往內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橢圓 7"/>
          <p:cNvSpPr/>
          <p:nvPr/>
        </p:nvSpPr>
        <p:spPr>
          <a:xfrm>
            <a:off x="5003640" y="333360"/>
            <a:ext cx="1008360" cy="10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橢圓 8"/>
          <p:cNvSpPr/>
          <p:nvPr/>
        </p:nvSpPr>
        <p:spPr>
          <a:xfrm>
            <a:off x="5362560" y="692280"/>
            <a:ext cx="289080" cy="287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所含的熱量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的水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所含的熱量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的水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的水本身的熱量無法直接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知，但可以用比較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Calibri"/>
              </a:rPr>
              <a:t>小秋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以同一穩定的熱源分別加熱質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與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的水，得到溫度變化與加熱時間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關係圖如下所示，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的大小關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資料不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全，無法判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29"/>
          <p:cNvPicPr/>
          <p:nvPr/>
        </p:nvPicPr>
        <p:blipFill>
          <a:blip r:embed="rId1"/>
          <a:srcRect l="0" t="5253" r="0" b="0"/>
          <a:stretch/>
        </p:blipFill>
        <p:spPr>
          <a:xfrm>
            <a:off x="2203560" y="2494080"/>
            <a:ext cx="2297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Calibri"/>
              </a:rPr>
              <a:t>小秋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以同一穩定的熱源分別加熱質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與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的水，得到溫度變化與加熱時間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關係圖如右所示，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的大小關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資料不全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無法判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量愈多，燒開水愈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29"/>
          <p:cNvPicPr/>
          <p:nvPr/>
        </p:nvPicPr>
        <p:blipFill>
          <a:blip r:embed="rId1"/>
          <a:srcRect l="0" t="5253" r="0" b="0"/>
          <a:stretch/>
        </p:blipFill>
        <p:spPr>
          <a:xfrm>
            <a:off x="2203560" y="2133720"/>
            <a:ext cx="2297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塗了氯化亞鈷水溶液的濾紙，放在酒精燈上烘乾時，顏色變化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粉紅→藍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藍→粉紅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粉紅→無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無色→粉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塗了氯化亞鈷水溶液的濾紙，放在酒精燈上烘乾時，顏色變化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粉紅→藍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藍→粉紅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粉紅→無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無色→粉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氯化亞鈷用來檢驗水，無水氯化亞鈷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色，遇水則變成粉紅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環保署明定於民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日起禁止水銀體溫計輸入及販賣予一般民眾或非醫療機構，請問為什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銀價格昂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銀受熱膨脹不均，測體溫誤差大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銀會造成環境汙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水銀成銀白色，較不易觀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68°F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相當於幾度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20 (B)55 (C)64.8 (D)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5/9x(°F-3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(100-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:(100-0)=(212-°F):(212-3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24"/>
          <p:cNvPicPr/>
          <p:nvPr/>
        </p:nvPicPr>
        <p:blipFill>
          <a:blip r:embed="rId1"/>
          <a:stretch/>
        </p:blipFill>
        <p:spPr>
          <a:xfrm>
            <a:off x="2120760" y="4178160"/>
            <a:ext cx="3891240" cy="18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Object 3"/>
          <p:cNvGraphicFramePr/>
          <p:nvPr/>
        </p:nvGraphicFramePr>
        <p:xfrm>
          <a:off x="0" y="0"/>
          <a:ext cx="1647720" cy="3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77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Rectangle 5"/>
          <p:cNvSpPr/>
          <p:nvPr/>
        </p:nvSpPr>
        <p:spPr>
          <a:xfrm>
            <a:off x="0" y="0"/>
            <a:ext cx="25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0"/>
            <a:ext cx="2190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4740120" cy="517680"/>
        </p:xfrm>
        <a:graphic>
          <a:graphicData uri="http://schemas.openxmlformats.org/drawingml/2006/table">
            <a:tbl>
              <a:tblPr/>
              <a:tblGrid>
                <a:gridCol w="2549520"/>
                <a:gridCol w="21906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環保署明定於民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日起禁止水銀體溫計輸入及販賣予一般民眾或非醫療機構，請問為什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水銀價格昂貴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水銀受熱膨脹不均，測體溫誤差大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水銀會造成環境汙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水銀成銀白色，較不易觀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水銀具生物累積毒性，蓄積在人體內會造成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經病變，亦會造成胎兒畸形。因水銀體溫計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為玻璃製品，使用前又需要甩針等動作，稍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不慎就可能摔破，或是孩童好奇拿來啃咬造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危險，因此為有效降低水銀對環境產生的毒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及污染，環保署採取「先限制、後禁止」的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略，限制水銀體溫計輸入及販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360" y="47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當兩物體互相接觸時，下列敘述何者正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比熱大的物體把熱傳給比熱小的物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密度大的物體把熱傳給密度小的物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溫度大的物體把熱傳給溫度小的物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質量大的物體把熱傳給質量小的物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當兩物體互相接觸時，下列敘述何者正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比熱大的物體把熱傳給比熱小的物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密度大的物體把熱傳給密度小的物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溫度大的物體把熱傳給溫度小的物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質量大的物體把熱傳給質量小的物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溫度不同的兩個物體間，會有熱能在轉移傳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460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下列有關比熱的敘述，何者是正確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1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的物質上升℃所需的熱量，稱為該物質的比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同一物質的比熱與質量成正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比熱大的物質，易冷易熱，溫度變化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金屬的比熱比水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下列有關比熱的敘述，何者是正確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)1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公克的物質上升℃所需的熱量，稱為該物質的比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同一物質的比熱與質量成正比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比熱大的物質，易冷易熱，溫度變化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金屬的比熱比水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提示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(1)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比熱與密度皆為比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固定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，故相同物質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不會因質量、體積變化而改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比熱大就像大量筒，注入水量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熱量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雖多，但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升高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溫度變化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並不明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金屬溫度變化大，就像小量筒注入，水量雖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zh-TW" sz="2600" spc="-1" strike="noStrike">
                <a:solidFill>
                  <a:srgbClr val="000000"/>
                </a:solidFill>
                <a:latin typeface="Calibri"/>
              </a:rPr>
              <a:t>少，但上升高度很明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75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公克的水，溫度升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℃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，則對水所加的熱量等於多少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)m/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)m+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m-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)m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2:54:10Z</dcterms:created>
  <dc:creator>user</dc:creator>
  <dc:description/>
  <dc:language>en-US</dc:language>
  <cp:lastModifiedBy>LiuWeiLiang</cp:lastModifiedBy>
  <dcterms:modified xsi:type="dcterms:W3CDTF">2011-11-07T00:56:18Z</dcterms:modified>
  <cp:revision>59</cp:revision>
  <dc:subject/>
  <dc:title>在0℃與100℃間，為何水不適宜作測量溫度的材料? (A)水的熱脹冷縮效果不明顯 (B)水在4℃以上不滿足熱脹冷縮的性質 (C)水在4℃附近的體積、溫度關係特殊 (D)水有對流現象</dc:title>
</cp:coreProperties>
</file>