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EF3D-CF96-4BD0-91AB-D35F92DE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3155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4804-2CB4-4060-A6AD-EEF10CF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F546-868C-4D0B-B5A4-8C9E93CD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2EA4-8B1C-4330-9390-6854898B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88CE-F037-4F46-A983-8EA5B00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A3D3-5C80-4A38-A21B-554E80E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6C23-1FF2-4D40-9BEA-EDE26AC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016A-152C-406F-BB61-899C227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3DD8-1822-4895-A5CF-14C7A62E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11C3-661C-42F8-AFDD-AB1739D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E968-7E5E-43AE-88A3-67BC23B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4641-4A1E-4F23-923B-B17AA5F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942-8BD8-41CE-82D9-47A96ED72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71280" y="54900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煮綠豆湯時，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砂糖溶於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的水中，則該糖水的重量百分濃度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                                   (B)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                                   (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物件 5"/>
              <p:cNvSpPr txBox="1"/>
              <p:nvPr/>
            </p:nvSpPr>
            <p:spPr>
              <a:xfrm>
                <a:off x="1854360" y="1700280"/>
                <a:ext cx="807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物件 7"/>
              <p:cNvSpPr txBox="1"/>
              <p:nvPr/>
            </p:nvSpPr>
            <p:spPr>
              <a:xfrm>
                <a:off x="5796000" y="1844640"/>
                <a:ext cx="1512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物件 8"/>
              <p:cNvSpPr txBox="1"/>
              <p:nvPr/>
            </p:nvSpPr>
            <p:spPr>
              <a:xfrm>
                <a:off x="1762200" y="2451240"/>
                <a:ext cx="2090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物件 9"/>
              <p:cNvSpPr txBox="1"/>
              <p:nvPr/>
            </p:nvSpPr>
            <p:spPr>
              <a:xfrm>
                <a:off x="5691240" y="2421000"/>
                <a:ext cx="16174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9"/>
          <p:cNvSpPr/>
          <p:nvPr/>
        </p:nvSpPr>
        <p:spPr>
          <a:xfrm>
            <a:off x="1332000" y="3429000"/>
            <a:ext cx="54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提示：水的密度為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1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/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毫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0920" y="620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63640" y="476280"/>
            <a:ext cx="802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生物實驗室配製了一杯食鹽水，用來浸泡從青蛙身上割下來的一小塊肌肉，結果三天後他再去觀察這塊標本時，發現杯底竟然出現食鹽的結晶。請問，下列那些是造成食鹽結晶的可能原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溫度較低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氣壓較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部分的水蒸發掉了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濕度較大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403280" y="4941720"/>
            <a:ext cx="73454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使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未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變成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為何</a:t>
            </a:r>
            <a:r>
              <a:rPr b="1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字方塊 4"/>
          <p:cNvSpPr/>
          <p:nvPr/>
        </p:nvSpPr>
        <p:spPr>
          <a:xfrm>
            <a:off x="324000" y="620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477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寒冷的冬天，媽媽在瓦斯爐上煮了一鍋糖水，準備做「湯圓」給大家吃。糖水煮完後媽媽將它擺在餐桌上冷卻，過了不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盈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發現鍋子底部有糖的晶體析出，請問下列敘述何者錯誤？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媽媽剛煮好的糖水可能是不飽和的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後來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盈怡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看到的糖水是飽和的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盈怡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如果用筷子攪拌，那些析出的糖便能再溶於糖水中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媽媽剛煮好的糖水，其濃度比冷卻後的糖水要來得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03280" y="5589720"/>
            <a:ext cx="774072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使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未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變成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為何</a:t>
            </a:r>
            <a:r>
              <a:rPr b="1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字方塊 4"/>
          <p:cNvSpPr/>
          <p:nvPr/>
        </p:nvSpPr>
        <p:spPr>
          <a:xfrm>
            <a:off x="324000" y="620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姐弟三人都喜吃甜食。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各倒了一杯汽水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裡面加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塊方糖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裡面加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塊方糖，經攪拌後，杯底都還有未溶解的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但是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杯底剩下的糖比較少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趁姐姐不注意時，各將她們的汽水倒了約三分之一到他自己的杯子裡。請問，他們姐弟三人的汽水甜度大小如何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＝曉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莉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曉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字方塊 4"/>
          <p:cNvSpPr/>
          <p:nvPr/>
        </p:nvSpPr>
        <p:spPr>
          <a:xfrm>
            <a:off x="468360" y="404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187280" y="5734080"/>
            <a:ext cx="79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同溫、同溶質的飽和溶液，濃度相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8137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步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打算做有關結晶的實驗來參加科展，首先想到的就是美麗的硝酸鉀晶體，已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 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時硝酸鉀的溶解度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0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。氣溫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 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步美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稱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硝酸鉀粉末，使之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中，下列何者為該溶液的重量百分率濃度？（請考慮溶液是否已達飽和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20000"/>
              </a:lnSpc>
              <a:spcBef>
                <a:spcPts val="1874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        ×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　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       ×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20000"/>
              </a:lnSpc>
              <a:spcBef>
                <a:spcPts val="1874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         ×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　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       ×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Rectangle 15"/>
              <p:cNvSpPr txBox="1"/>
              <p:nvPr/>
            </p:nvSpPr>
            <p:spPr>
              <a:xfrm>
                <a:off x="2014560" y="3753000"/>
                <a:ext cx="520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246720" y="375300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16000" y="4832280"/>
                <a:ext cx="519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29440" y="4797360"/>
                <a:ext cx="555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文字方塊 4"/>
          <p:cNvSpPr/>
          <p:nvPr/>
        </p:nvSpPr>
        <p:spPr>
          <a:xfrm>
            <a:off x="25092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187280" y="5904000"/>
            <a:ext cx="79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飽和溶液的溶質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溶液質量各多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喬巴跟小紅在籃球場打籃球。喬巴買了一杯大杯檸檬水，然後倒了杯（體積）要給小紅喝。請問喬巴與小紅手上的兩杯檸檬水重量百分率濃度比為：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2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3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字方塊 4"/>
          <p:cNvSpPr/>
          <p:nvPr/>
        </p:nvSpPr>
        <p:spPr>
          <a:xfrm>
            <a:off x="179280" y="476280"/>
            <a:ext cx="57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187280" y="371628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倒出前後的濃度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小綱參加表姊的婚禮，他注意到啤酒瓶上的部分標示，如附圖所示。下列敘述何者正確？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這瓶啤酒含酒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這瓶啤酒含酒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升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這瓶啤酒含酒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這瓶啤酒含酒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56000" y="4149720"/>
            <a:ext cx="4465800" cy="1631880"/>
          </a:xfrm>
          <a:prstGeom prst="rect">
            <a:avLst/>
          </a:prstGeom>
          <a:ln w="0">
            <a:noFill/>
          </a:ln>
        </p:spPr>
      </p:pic>
      <p:sp>
        <p:nvSpPr>
          <p:cNvPr id="104" name="文字方塊 4"/>
          <p:cNvSpPr/>
          <p:nvPr/>
        </p:nvSpPr>
        <p:spPr>
          <a:xfrm>
            <a:off x="179280" y="476280"/>
            <a:ext cx="57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258920" y="6021360"/>
            <a:ext cx="75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體積百分濃度的單位為毫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6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最適合製作泡菜的鹽水濃度是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，則下列哪一種比例適合用來製作泡菜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4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鹽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 鹽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2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鹽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8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  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8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鹽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2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字方塊 4"/>
          <p:cNvSpPr/>
          <p:nvPr/>
        </p:nvSpPr>
        <p:spPr>
          <a:xfrm>
            <a:off x="0" y="54936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26920" y="5013360"/>
            <a:ext cx="8317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提示：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4 % 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的意義為每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100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克的溶液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(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溶質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+ 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溶劑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           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中含溶質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4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47916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壞皇后因為嫉妒白雪公主，想配置毒藥來害白雪公主；壞皇后拿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個燒杯，每杯放入相同的水量，甲杯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克藥粉，乙丙丁杯放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克藥粉，並使其完全溶解，丙杯的溶液直接倒掉一半，乙杯加熱使水蒸發了一半。如果你是魔鏡，要怎樣幫助你的主人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杯毒液依濃度大小做排列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乙＞丙＞丁＞甲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乙＞丁＝丙＞甲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甲＝乙＝丙＝丁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乙＝丙＝丁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字方塊 4"/>
          <p:cNvSpPr/>
          <p:nvPr/>
        </p:nvSpPr>
        <p:spPr>
          <a:xfrm>
            <a:off x="179280" y="476280"/>
            <a:ext cx="57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258920" y="6021360"/>
            <a:ext cx="75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的水蒸發一半後濃度會上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「毒奶粉」事件，乃因奶粉中添加「三聚氫胺」，其常用於製造美耐皿餐具、建材、塗料等，具毒性。衛生署曾訂定人工食品添加標準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5 ppm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ppm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升溶液含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克溶質）。已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斤成人累積超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克有致命危險。則攝入濃度恰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5 ppm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的牛奶，累積多少公升時將可能致命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6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9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12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字方塊 4"/>
          <p:cNvSpPr/>
          <p:nvPr/>
        </p:nvSpPr>
        <p:spPr>
          <a:xfrm>
            <a:off x="25092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476360" y="5157720"/>
            <a:ext cx="7272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2.5 ppm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表示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1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公升溶液含有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2.5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毫克溶質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珊寶點了一杯「不要汽的汽水」，為了除去汽水中的氣體，她可以怎麼做？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將汽水加溫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將汽水急速冷凍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將汽水放入壓力瓶中，加壓處理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乾冰到汽水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字方塊 4"/>
          <p:cNvSpPr/>
          <p:nvPr/>
        </p:nvSpPr>
        <p:spPr>
          <a:xfrm>
            <a:off x="0" y="54936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26920" y="5013360"/>
            <a:ext cx="83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提示：氣體在低溫高壓的環境溶解度較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560" y="476280"/>
            <a:ext cx="777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2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溫下，將砂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中，經充分攪拌後靜置，發現還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砂糖尚未溶解，則下列敘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何者正確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此溶液為不飽和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，可以使水溶液濃度變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加入任何物質，以玻璃棒繼續攪拌，可使水溶液濃度加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砂糖的溶解度為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可以溶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砂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50920" y="692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03280" y="530064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尚有</a:t>
            </a:r>
            <a:r>
              <a:rPr b="1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20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公克的砂糖未溶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岺珊喝著加了冰塊的檸檬紅茶，她發覺紅茶愈喝愈不甜，這是因為什麼原因呢？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因為喝掉紅茶中的糖，使紅茶中糖水的濃度降低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溫度升高，溶解度下降，紅茶中糖水的濃度降低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因為冰融化成水，所以紅茶中糖水的濃度降低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因為冰融化，糖就被析出，所以紅茶中糖水的濃度降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字方塊 4"/>
          <p:cNvSpPr/>
          <p:nvPr/>
        </p:nvSpPr>
        <p:spPr>
          <a:xfrm>
            <a:off x="0" y="54936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332000" y="5013360"/>
            <a:ext cx="74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提示：冰塊溶化後，溶劑的質量增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55640" y="475920"/>
            <a:ext cx="813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凱凱欲配置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糖水，下列方法中何者最為適當？  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中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中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的鹽水中      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，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重量百分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鹽水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4"/>
          <p:cNvSpPr/>
          <p:nvPr/>
        </p:nvSpPr>
        <p:spPr>
          <a:xfrm>
            <a:off x="108000" y="83520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547640" y="551664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稀釋溶液時，加入和溶液同體積的水時，濃度減半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4000" y="549360"/>
            <a:ext cx="81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319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6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鹽酸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，需要再加入多少 克的水，才能使鹽酸的濃度變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13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4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90         (D) 2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4"/>
          <p:cNvSpPr/>
          <p:nvPr/>
        </p:nvSpPr>
        <p:spPr>
          <a:xfrm>
            <a:off x="0" y="76500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116000" y="256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2920" y="549360"/>
            <a:ext cx="7850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下，將密度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5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重量百分濃度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糖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濃縮成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，則濃縮後的溶液質量為多少克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1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37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11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5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4"/>
          <p:cNvSpPr/>
          <p:nvPr/>
        </p:nvSpPr>
        <p:spPr>
          <a:xfrm>
            <a:off x="468360" y="54936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547640" y="3141720"/>
            <a:ext cx="72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濃縮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549000"/>
            <a:ext cx="8137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時，甲、乙、丙三個燒杯中均裝有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小康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甲、乙、丙三個燒杯中依序加入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食鹽，充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攪拌後，發現三個燒杯底部均有食鹽固體殘留。請問：哪一個燒杯中的食鹽濃度最大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甲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乙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丙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三杯濃度都相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字方塊 4"/>
          <p:cNvSpPr/>
          <p:nvPr/>
        </p:nvSpPr>
        <p:spPr>
          <a:xfrm>
            <a:off x="0" y="620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187280" y="4221000"/>
            <a:ext cx="79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同溫、同溶質的飽和溶液，濃度相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18920" y="477360"/>
            <a:ext cx="81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甲杯中盛有果汁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媽媽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倒了一半到乙杯中，嚐  一口乙杯的果汁後覺得太甜了，於是加了一些水將乙杯果汁稀釋。下列敘述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前，乙杯果汁比甲杯果汁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所含的糖仍和沖淡前 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樣多，但比較不甜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所含的糖仍和沖淡前 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樣多，所以仍然一樣甜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果汁比較不甜，乙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中所含的糖變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字方塊 4"/>
          <p:cNvSpPr/>
          <p:nvPr/>
        </p:nvSpPr>
        <p:spPr>
          <a:xfrm>
            <a:off x="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258920" y="580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806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ts val="36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小禹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之藥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升，因為濃度太大，便加水稀釋，在稀釋的過程中，溶質之質量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，溶液之總體積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，則下圖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115"/>
          <p:cNvPicPr/>
          <p:nvPr/>
        </p:nvPicPr>
        <p:blipFill>
          <a:blip r:embed="rId1">
            <a:lum bright="-42000"/>
          </a:blip>
          <a:srcRect l="0" t="32031" r="0" b="32031"/>
          <a:stretch/>
        </p:blipFill>
        <p:spPr>
          <a:xfrm>
            <a:off x="1116000" y="2565360"/>
            <a:ext cx="78487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文字方塊 4"/>
          <p:cNvSpPr/>
          <p:nvPr/>
        </p:nvSpPr>
        <p:spPr>
          <a:xfrm>
            <a:off x="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58920" y="580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040" y="549000"/>
            <a:ext cx="79786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ts val="36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小嬋做蛋糕時，稱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5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葡萄糖粉置於杯子內，再加入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水，攪拌至完全溶解時，葡萄糖水的重量百分濃度為何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25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20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1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32000" y="285264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先找出溶液質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字方塊 4"/>
          <p:cNvSpPr/>
          <p:nvPr/>
        </p:nvSpPr>
        <p:spPr>
          <a:xfrm>
            <a:off x="32544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47:53Z</dcterms:created>
  <dc:creator>Test User</dc:creator>
  <dc:description/>
  <dc:language>en-US</dc:language>
  <cp:lastModifiedBy>user1</cp:lastModifiedBy>
  <dcterms:modified xsi:type="dcterms:W3CDTF">2011-11-05T23:32:38Z</dcterms:modified>
  <cp:revision>688</cp:revision>
  <dc:subject/>
  <dc:title>投影片 1</dc:title>
</cp:coreProperties>
</file>