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06F-2F2D-49B9-9062-BCD2F59A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44B-92C6-4EF1-A180-31FC4FD1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6CB-FE12-4094-9181-9C311782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AEA-644F-4E34-B9B5-9A84C789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489-4D36-43B6-8199-7F8DB79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663-5E68-433B-AFF6-5B97867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BA8-5038-441F-9554-E42B4EB3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A60-2073-4C2C-B655-DF48F62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D2C-0693-442A-AD6E-4B913B41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833-D001-4FCF-9968-7FE75DB7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842-BB2D-4190-BEEB-B37FEC3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82B-0EE5-4060-8618-C456FEF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C04D-F103-476E-922A-E6D7400A200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tw.rd.yahoo.com/referurl/bid/list/search/1/10/aidimage/*http:/tw.page.bid.yahoo.com/tw/auction/f22436745?u=Y78603925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tw.rd.yahoo.com/referurl/bid/list/search/1/10/aidimage/*http:/tw.page.bid.yahoo.com/tw/auction/f22436745?u=Y78603925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溫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鐵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放入裝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臉盆中，則鐵塊和水之間的熱量是如何的傳播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水的質量大，所以熱量由水傳向鐵塊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水的比熱大，所以熱量由水傳向鐵塊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鐵的比熱小，所以熱量由鐵塊傳向水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鐵的溫度大，所以熱量由鐵塊傳向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333360"/>
            <a:ext cx="8497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已知酒精燈每分鐘可供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，小聰明欲將裝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溫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的燒杯煮沸，則需加熱多少分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2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4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4076640"/>
            <a:ext cx="8496000" cy="2077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變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加熱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20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00-2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-45864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49360"/>
            <a:ext cx="86421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已知酒精燈每分鐘可供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，小聰明欲將裝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溫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的燒杯煮沸，但加熱過程中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量才會被水有效的吸收，其餘都散逸到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中，請問需加熱多少分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2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4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50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4797000"/>
            <a:ext cx="8496000" cy="15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提示：熱量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zh-TW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溫度變化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加熱時間</a:t>
            </a:r>
            <a:r>
              <a:rPr b="0" lang="zh-TW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60%=200</a:t>
            </a:r>
            <a:r>
              <a:rPr b="0" lang="zh-TW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(100-2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49360"/>
            <a:ext cx="86421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已知酒精燈每分鐘可供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，小聰明欲將裝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溫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的燒杯煮沸，但加熱過程中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量才會被水有效的吸收，其餘都散逸到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中，請問需加熱多少分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2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4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50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一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水與另一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冷水混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假設混合的過程中無熱量損失，且其混和溫度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的關係如右圖所示，則冷水的質量為多少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6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圖片 1" descr="img103.jpg"/>
          <p:cNvPicPr/>
          <p:nvPr/>
        </p:nvPicPr>
        <p:blipFill>
          <a:blip r:embed="rId1"/>
          <a:stretch/>
        </p:blipFill>
        <p:spPr>
          <a:xfrm>
            <a:off x="5435640" y="2060640"/>
            <a:ext cx="2952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3644640"/>
            <a:ext cx="8424720" cy="2809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混和後由圖可知水溫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°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式：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變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水的放熱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水的吸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60-30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水質量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30-10)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圖片 1" descr="img103.jpg"/>
          <p:cNvPicPr/>
          <p:nvPr/>
        </p:nvPicPr>
        <p:blipFill>
          <a:blip r:embed="rId1"/>
          <a:stretch/>
        </p:blipFill>
        <p:spPr>
          <a:xfrm>
            <a:off x="5076720" y="1700280"/>
            <a:ext cx="2808360" cy="1817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89000"/>
            <a:ext cx="8569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一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水與另一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冷水混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假設混合的過程中無熱量損失，且其混和溫度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的關係如右圖所示，則冷水的質量為多少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4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6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酒精，溫度上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所需熱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酒精，溫度要上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所需熱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4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6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96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16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404640"/>
            <a:ext cx="8642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酒精，溫度上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所需熱量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酒精，溫度要上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所需熱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為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48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6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96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16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3933720"/>
            <a:ext cx="8569080" cy="2664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酒精，溫度上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需熱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，可知酒精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0.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式：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變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H=8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 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鐵塊，當溫度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升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，需吸熱多少卡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4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6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20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40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4076280"/>
            <a:ext cx="8447040" cy="180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式：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變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)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H=10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60-20)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33360"/>
            <a:ext cx="8642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鐵塊，當溫度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升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，需吸熱多少卡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4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6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20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40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549360"/>
            <a:ext cx="86421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一裝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水的絕熱容器中，加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鐵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的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最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平衡的溫度為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3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4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6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10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溫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8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鐵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放入裝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臉盆中，則鐵塊和水之間的熱量是如何的傳播？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水的質量大，所以熱量由水傳向鐵塊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水的比熱大，所以熱量由水傳向鐵塊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鐵的比熱小，所以熱量由鐵塊傳向水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鐵的溫度大，所以熱量由鐵塊傳向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體溫度高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物體溫度低，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量會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傳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也會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傳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但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傳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) &gt;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傳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所以淨熱量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    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4365720"/>
            <a:ext cx="8640720" cy="2077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公式：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變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)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水所放的熱量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水所吸收的熱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 1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00-t)=20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t-10)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一裝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水的絕熱容器中，加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鐵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的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最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平衡的溫度為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3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4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60°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100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關熱的傳播，下列敘述何者錯誤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海邊白天常吹海風、晚上常吹陸風主要是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熱的對流效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烤香腸時利用金屬針穿透香腸加熱，是利用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傳導效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營火晚會時，站在火焰旁邊會感覺熱，主要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藉由熱的傳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太陽底下撐傘，可以隔絕部分的熱輻射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640720" cy="187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火焰旁邊會感覺熱，主是藉由熱的幅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火焰上方會感覺熱，主是藉由熱的幅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對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關熱的傳播，下列敘述何者錯誤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海邊白天常吹海風、晚上常吹陸風主要是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由熱的對流效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烤香腸時利用金屬針穿透香腸加熱，是利用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傳導效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營火晚會時，站在火焰旁邊會感覺熱，主要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藉由熱的傳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太陽底下撐傘，可以隔絕部分的熱輻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大氣壓下，酒精、水銀、水的沸點、熔點如右表所示。已知一物體的溫度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應使用何種溫度計測量較為合適？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酒精溫度計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銀溫度計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溫度計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上三種皆可以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35640" y="1700280"/>
          <a:ext cx="3034800" cy="2120040"/>
        </p:xfrm>
        <a:graphic>
          <a:graphicData uri="http://schemas.openxmlformats.org/drawingml/2006/table">
            <a:tbl>
              <a:tblPr/>
              <a:tblGrid>
                <a:gridCol w="1011600"/>
                <a:gridCol w="1011600"/>
                <a:gridCol w="101160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沸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熔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酒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水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8.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大氣壓下，酒精、水銀、水的沸點、熔點如右表所示。已知一物體的溫度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應使用何種溫度計測量較為合適？ 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酒精溫度計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銀溫度計 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溫度計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以上三種皆可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4365360"/>
            <a:ext cx="856908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此三種溫度計皆是利用「液體」的熱漲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縮性質製成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 -5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介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78.5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~-114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之間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219640" y="1557360"/>
          <a:ext cx="3250800" cy="2120040"/>
        </p:xfrm>
        <a:graphic>
          <a:graphicData uri="http://schemas.openxmlformats.org/drawingml/2006/table">
            <a:tbl>
              <a:tblPr/>
              <a:tblGrid>
                <a:gridCol w="1083600"/>
                <a:gridCol w="1083600"/>
                <a:gridCol w="108360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沸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熔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酒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水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8.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333360"/>
            <a:ext cx="88930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兩相同的錐形瓶上插玻璃管，甲瓶玻璃管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瓶細，如右圖所示，且在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，水面在等高處，則下列敘述何者錯誤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錐形瓶內的水染成紅色，是為了方便觀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瓶同時浸入熱水中，最後平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水面高度：甲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瓶同時浸入冰水中，最後平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水面高度：甲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若將甲錐形瓶放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水中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則細玻璃管中水面剛開始的變化為先降而後升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圖片 2" descr="3"/>
          <p:cNvPicPr/>
          <p:nvPr/>
        </p:nvPicPr>
        <p:blipFill>
          <a:blip r:embed="rId1"/>
          <a:stretch/>
        </p:blipFill>
        <p:spPr>
          <a:xfrm>
            <a:off x="6372360" y="2349360"/>
            <a:ext cx="23763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5157720"/>
            <a:ext cx="8640720" cy="1511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錐形瓶壁先遇冷，所以管內水面會先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升；而後瓶內氣體遇冷，所以管內水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會下降。                                        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圖片 2" descr="3"/>
          <p:cNvPicPr/>
          <p:nvPr/>
        </p:nvPicPr>
        <p:blipFill>
          <a:blip r:embed="rId1"/>
          <a:stretch/>
        </p:blipFill>
        <p:spPr>
          <a:xfrm>
            <a:off x="6443640" y="2349360"/>
            <a:ext cx="2376360" cy="1805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333360"/>
            <a:ext cx="8640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、乙兩相同的錐形瓶上插玻璃管，甲瓶玻璃管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瓶細，如右圖所示，且在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，水面在等高處，則下列敘述何者錯誤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錐形瓶內的水染成紅色，是為了方便觀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瓶同時浸入熱水中，最後平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水面高度：甲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瓶同時浸入冰水中，最後平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水面高度：甲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若將甲錐形瓶放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水中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則細玻璃管中水面剛開始的變化為先降而後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333360"/>
            <a:ext cx="864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自助餐店常將盛菜餚的鐵盤浸在熱水中保溫，這是利用水的哪一個特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重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易傳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大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3933720"/>
            <a:ext cx="8640720" cy="1657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水的比熱大，所以下降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會釋出大量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3360"/>
            <a:ext cx="864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自助餐店常將盛菜餚的鐵盤浸在熱水中保溫，這是利用水的哪一個特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重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易傳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一溫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銅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投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水中，達到平衡時水的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塊放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吸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淨熱量由銅塊傳至水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散失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強今天因為感冒發燒，到健康中心請護士阿姨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體溫，結果護士阿姨拿到華氏溫標體溫計，量得小強的體溫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°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請為小強到底發燒到多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41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40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39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38.5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4220640"/>
            <a:ext cx="8640720" cy="207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塊放熱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10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00-3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吸熱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3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30-2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塊放熱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吸熱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散失的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一溫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銅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投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水中，達到平衡時水的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度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塊放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63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吸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淨熱量由銅塊傳至水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散失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549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天才、小科學家兩人模仿古人鑽木取火，小天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拿銅棒、小科學家拿木棒，各在相同材質的乾木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不斷快速摩擦。若銅棒與木棒外形、大小皆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同，則下列敘述何者正確？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天才可鑽出火來，因銅棒比熱較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天才可鑽出火來，因銅棒導熱較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科學家可鑽出火來，因木棒比熱較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科學家可鑽出火來，因木棒導熱差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4365360"/>
            <a:ext cx="8640720" cy="143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木棒可鑽出火來，因木棒不易導熱，產生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量較能集中於摩擦處，使乾木材燃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天才、小科學家兩人模仿古人鑽木取火，小天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拿銅棒、小科學家拿木棒，各在相同材質的乾木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上不斷快速摩擦。若銅棒與木棒外形、大小皆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同，則下列敘述何者正確？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天才可鑽出火來，因銅棒比熱較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天才可鑽出火來，因銅棒導熱較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科學家可鑽出火來，因木棒比熱較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科學家可鑽出火來，因木棒導熱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692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種情況下會放出熱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高山上的雪融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上的一攤水蒸發成水蒸氣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中的水氣凝結成雲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早晨的霧變成水蒸氣消散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424720" cy="2438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體變液體：要吸熱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體變固體：要放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體變氣體：要吸熱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氣體變液體：要放熱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49360"/>
            <a:ext cx="8642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種情況下會放出熱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高山上的雪融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上的一攤水蒸發成水蒸氣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大氣中的水氣凝結成雲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早晨的霧變成水蒸氣消散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933480"/>
            <a:ext cx="86421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09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實驗家做「硫酸銅晶體受熱變化」實驗，他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硫酸銅晶體置於蒸發皿內，並蓋上錶玻璃，以酒精燈緩緩加熱，如右圖所示。下列敘述何者錯誤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9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酸銅的顏色由藍變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9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此反應屬於放熱的化學反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9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錶玻璃內凝結的無色液體為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9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若將水滴入白色硫酸銅中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09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則溫度上升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圖片 3" descr="img397"/>
          <p:cNvPicPr/>
          <p:nvPr/>
        </p:nvPicPr>
        <p:blipFill>
          <a:blip r:embed="rId1"/>
          <a:stretch/>
        </p:blipFill>
        <p:spPr>
          <a:xfrm>
            <a:off x="6443640" y="1700280"/>
            <a:ext cx="1847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4868640"/>
            <a:ext cx="8640720" cy="136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硫酸銅晶體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含水、藍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熱 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無水硫酸銅粉末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白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33360"/>
            <a:ext cx="8642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實驗家做「硫酸銅晶體受熱變化」實驗，他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硫酸銅晶體置於蒸發皿內，並蓋上錶玻璃，以酒精燈緩緩加熱，如右圖所示。下列敘述何者錯誤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酸銅的顏色由藍變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此反應屬於放熱的化學反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錶玻璃內凝結的無色液體為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若將水滴入白色硫酸銅中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則溫度上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圖片 3" descr="img397"/>
          <p:cNvPicPr/>
          <p:nvPr/>
        </p:nvPicPr>
        <p:blipFill>
          <a:blip r:embed="rId1"/>
          <a:stretch/>
        </p:blipFill>
        <p:spPr>
          <a:xfrm>
            <a:off x="6300720" y="1844640"/>
            <a:ext cx="1847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692280"/>
            <a:ext cx="8642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唐代古錢如右圖所示，正方形的邊長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今將此古錢均勻加熱，則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變大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變小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變 </a:t>
            </a: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能變大也可能變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圖片 1" descr="史考特小舖~!! 保真~!! 白銅開元通寶 精美初鑄品, 唐 武德四年 (公元621年) 鑄~!!b5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628640"/>
            <a:ext cx="18003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333360"/>
            <a:ext cx="8642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有一唐代古錢如右圖所示，正方形的邊長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今將此古錢均勻加熱，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變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變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可能變大也可能變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圖片 1" descr="史考特小舖~!! 保真~!! 白銅開元通寶 精美初鑄品, 唐 武德四年 (公元621年) 鑄~!!b5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628640"/>
            <a:ext cx="1727280" cy="163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806640"/>
            <a:ext cx="8713800" cy="192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此正方形小孔可視為，由一銅線所圍繞而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邊長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的正方形，所以加熱時，此邊長會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線膨脹，所以邊長變長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333360"/>
            <a:ext cx="8642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5720"/>
            <a:ext cx="84963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敘述何者有誤？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舞台上的乾冰，會製造出白色的煙霧，這白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煙霧是小水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攜帶式瓦斯爐在加熱時，發現裝有液態丁烷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瓦斯罐會變冰冷，且罐身四周附著有液滴。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丁烷汽化時瓦斯罐變冰冷，使空氣中的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汽凝結於罐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雨前，天氣總是令人感覺悶熱，是因水蒸汽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凝結成水滴會放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雪熔化時，感覺天氣較冷，是因為雪熔化時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會放出熱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447040" cy="2077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9/5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+32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所以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 = 9/5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 +3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小強今天因為感冒發燒，到健康中心請護士阿姨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體溫，結果護士阿姨拿到華氏溫標體溫計，量得小強的體溫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4°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請為小強到底發燒到多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41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40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39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38.5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5502240"/>
            <a:ext cx="8640720" cy="102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雪熔化成水時要吸熱，所以周圍的空氣會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冷。                                                  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89000"/>
            <a:ext cx="8785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敘述何者有誤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舞台上的乾冰，會製造出白色的煙霧，這白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煙霧是小水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攜帶式瓦斯爐在加熱時，發現裝有液態丁烷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瓦斯罐會變冰冷，且罐身四周附著有液滴。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因為丁烷汽化時瓦斯罐變冰冷，使空氣中的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汽凝結於罐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雨前，天氣總是令人感覺悶熱，是因水蒸汽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凝結成水滴會放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雪熔化時，感覺天氣較冷，是因為雪熔化時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會放出熱量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阿福想到美國洛杉磯的姑姑家玩，他看洛杉磯地區的旅遊天氣本週溫度介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°F~77°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間，請問以攝氏溫度來說溫度應是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5~15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8~17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10~25°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25~35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229600" cy="2077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°F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9/5</a:t>
            </a: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°C+32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0=9/5</a:t>
            </a: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°C+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9/5</a:t>
            </a:r>
            <a:r>
              <a:rPr b="0" lang="zh-TW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°C+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阿福想到美國洛杉磯的姑姑家玩，他看洛杉磯地區的旅遊天氣本週溫度介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°F~77°F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間，請問以攝氏溫度來說溫度應是多少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5~15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8~17°C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10~25°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25~35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549360"/>
            <a:ext cx="86421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水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加熱至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水需吸收多少的熱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25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50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75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100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549360"/>
            <a:ext cx="8642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3789360"/>
            <a:ext cx="8569080" cy="172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提示：熱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H)=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質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比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度變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)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H=100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100-2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76280"/>
            <a:ext cx="8353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的水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加熱至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0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水需吸收多少的熱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25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50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7500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100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76280"/>
            <a:ext cx="83534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已知酒精燈每分鐘可供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卡，小聰明欲將裝有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克、溫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5°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的燒杯煮沸，則需加熱多少分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2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4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5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0:38:23Z</dcterms:created>
  <dc:creator>user</dc:creator>
  <dc:description/>
  <dc:language>en-US</dc:language>
  <cp:lastModifiedBy>user</cp:lastModifiedBy>
  <dcterms:modified xsi:type="dcterms:W3CDTF">2011-10-24T01:48:54Z</dcterms:modified>
  <cp:revision>5</cp:revision>
  <dc:subject/>
  <dc:title>一質量10克溫度80°C的鐵塊(比熱0.1卡/克°C)，放入裝有1000克20°C水(比熱1卡/克°C)的臉盆中，則鐵塊和水之間的熱量是如何的傳播？ (A)因為水的質量大，所以熱量由水傳向鐵塊  (B)因為水的比熱大，所以熱量由水傳向鐵塊  (C)因為鐵的比熱小，所以熱量由鐵塊傳向水  (D)因為鐵的溫度大，所以熱量由鐵塊傳向水</dc:title>
</cp:coreProperties>
</file>