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706-D306-400C-8148-5160DD94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277-4009-43AD-B5C3-C25BC39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9D9-E62F-47F3-A8BE-84AD0194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FB7-972B-480F-AF2F-2C5D564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3DD-C41D-4463-B8B3-9046427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86D-FCC2-4FEF-AE87-622C4820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B7F-4D0B-4E62-BA42-D0B772E9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E4F-2C65-4A9C-A621-F6F41898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8D1-2E06-43F6-B042-5664919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26C-A3C5-4166-B6D9-001AEF5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52A-9D43-4EAC-85A3-4FBB412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3D1-3529-4CF1-A2D8-193557C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871E-7CC7-4874-9C0F-EB8E5EC924D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關針孔成像的說法，下列敘述是何者正確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成的像是倒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像一定是放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針孔和物體的距離不變，向後拉動紙屏，物體的像會變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針孔和物體的距離不變，向後拉動紙屏，物體的像更明亮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紅、橙、黃、綠、藍、靛、紫七種色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紅、藍、綠三種色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藍、紫兩種色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黃、藍兩種色光；上列哪些光線的組合可以形成相同的色光？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丙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丁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丁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6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65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光的三原色：紅、綠、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其他的色光都是由光的三原色依不同的強度混合而成。例如：同強度紅光和綠光混合成黃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相同強度的紅、綠、藍三原色混合在一起後會形成白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近視鏡片的使用；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皮影戲；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針孔成像；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中倒影；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市蜃樓。以上是日常生活中常會看到的一些現象，請問哪些和光的折射有關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丙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戊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丁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近視鏡片的使用；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皮影戲；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針孔成像；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中倒影；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市蜃樓。以上是日常生活中常會看到的一些現象，請問哪些和光的折射有關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丙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戊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丁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74240"/>
            <a:ext cx="877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的折射：當光由一介質進入另一介質時，由於光傳播速度的改變，使光前進方向發生偏折的現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的反射：光遇到障礙物時，有部分的光會回到原介質，循另一方向繼續前進的現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的直進性：在真空和組織均勻的介質中，是以直線前進的方式傳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入射光線與平面鏡的夾角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反射角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；若入射角增大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反射角將增大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為何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 (3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°) (B) (3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°) (C) (6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°) (D) (6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入射光線與平面鏡的夾角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反射角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；若入射角增大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反射角將增大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為何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 (3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°) (B) (3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°) (C) (6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°) (D) (6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645000"/>
            <a:ext cx="8642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提示：反射定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入射線、反射線和法線在同一平面，入射線、反射線在法線兩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入射角＝反射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圖片 211" descr="反射定律"/>
          <p:cNvPicPr/>
          <p:nvPr/>
        </p:nvPicPr>
        <p:blipFill>
          <a:blip r:embed="rId1"/>
          <a:stretch/>
        </p:blipFill>
        <p:spPr>
          <a:xfrm>
            <a:off x="6516720" y="4653000"/>
            <a:ext cx="16002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光由水進入空氣中，會發生下列哪些現象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光速減慢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入射角大於折射角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折射線偏向法線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時有反射和折射現象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入射角等於反射角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丁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丁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由水進入空氣中，會發生下列哪些現象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速減慢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入射角大於折射角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折射線偏向法線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同時有反射和折射現象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入射角等於反射角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甲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乙丙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丁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甲丁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1040" y="3233880"/>
            <a:ext cx="615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781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在不同介質中的速率大小為：真空＞空氣＞水＞玻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的折射定律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入射線、折射線、法線必在同一平面上，且入射線、折射線必在法線的兩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速慢的介質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速快的介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入射角＜折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折射線偏離法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發生折射現象時亦會產生反射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燭焰通過凸透鏡恰好在光屏上得到一個縮小倒立的像，若保持透鏡位置不變，把燭焰與光屏的位置對調一下，則會產生下列何者？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仍能呈現出一個縮小的像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將能呈現出一個放大的像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不能呈現出像，但眼睛透過透鏡能看到像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沒有像，需調節光屏的位置像才能呈現出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燭焰通過凸透鏡恰好在光屏上得到一個縮小倒立的像，若保持透鏡位置不變，把燭焰與光屏的位置對調一下，則會產生下列何者？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仍能呈現出一個縮小的像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將能呈現出一個放大的像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不能呈現出像，但眼睛透過透鏡能看到像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光屏上沒有像，需調節光屏的位置像才能呈現出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4149720"/>
          <a:ext cx="8351640" cy="2371680"/>
        </p:xfrm>
        <a:graphic>
          <a:graphicData uri="http://schemas.openxmlformats.org/drawingml/2006/table">
            <a:tbl>
              <a:tblPr/>
              <a:tblGrid>
                <a:gridCol w="2469960"/>
                <a:gridCol w="2978280"/>
                <a:gridCol w="29034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凸透鏡成像性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物體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像的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成像性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無限遠與兩倍焦距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另一側焦點與兩倍焦距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倒立縮小實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兩倍焦距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另一側兩倍焦距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倒立相等實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兩倍焦距與焦點之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另一側兩倍焦距之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倒立放大實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焦距之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同側遠透鏡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正立放大虛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786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把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螢光棒立於焦距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5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凸透鏡前，在凸透鏡後的光屏上成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高的像，物體離凸透鏡的距離可能是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4.5 cm  (B)5 cm  (C)7.5 cm  (D) 12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280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關針孔成像的說法，下列敘述是何者正確的？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成的像是倒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像一定是放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針孔和物體的距離不變，向後拉動紙屏，物體的像會變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針孔和物體的距離不變，向後拉動紙屏，物體的像更明亮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4076640"/>
            <a:ext cx="806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針孔成像，所成的像為倒立實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體與針孔的距離不變時，針孔與紙屏距離愈大時，成像愈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針孔大小會影響成像的清晰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786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把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螢光棒立於焦距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5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凸透鏡前，在凸透鏡後的光屏上成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高的像，物體離凸透鏡的距離可能是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4.5 cm  (B)5 cm  (C)7.5 cm  (D) 12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3284640"/>
          <a:ext cx="8497800" cy="2439720"/>
        </p:xfrm>
        <a:graphic>
          <a:graphicData uri="http://schemas.openxmlformats.org/drawingml/2006/table">
            <a:tbl>
              <a:tblPr/>
              <a:tblGrid>
                <a:gridCol w="2511360"/>
                <a:gridCol w="3033720"/>
                <a:gridCol w="2952720"/>
              </a:tblGrid>
              <a:tr h="423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凸透鏡成像性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物體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像的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成像性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無限遠與兩倍焦距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另一側焦點與兩倍焦距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倒立縮小實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兩倍焦距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另一側兩倍焦距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倒立相等實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兩倍焦距與焦點之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另一側兩倍焦距之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倒立放大實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焦距之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同側遠透鏡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正立放大虛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786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把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螢光棒立於焦距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5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凸透鏡前，在凸透鏡後的光屏上成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 c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高的像，物體離凸透鏡的距離可能是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4.5 cm  (B)5 cm  (C)7.5 cm  (D) 12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17570" b="0"/>
          <a:stretch/>
        </p:blipFill>
        <p:spPr>
          <a:xfrm>
            <a:off x="6227640" y="1484280"/>
            <a:ext cx="1871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三束不同顏色的光線以不同入射角射向平面鏡，如圖所示。若此三束光線，交會在平面鏡上，則在平面鏡上所看到的光點顏色何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綠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藍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紅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白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17570" b="0"/>
          <a:stretch/>
        </p:blipFill>
        <p:spPr>
          <a:xfrm>
            <a:off x="6877080" y="1268280"/>
            <a:ext cx="1871640" cy="1685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3716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光的三原色：紅、綠、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其他的色光都是由光的三原色依不同的強度混合而成。例如：同強度紅光和綠光混合成黃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相同強度的紅、綠、藍三原色混合在一起後會形成白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圖所示，在甲、乙兩個焦距不同的凸透鏡左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分別放置一根點燃的蠟燭。若於凸透鏡右側放置白色紙幕，調整紙幕位置使成像清晰，蠟燭光線經過凸透鏡甲、乙在白色紙幕上分別看到倒立縮小及倒立相等的像，則下列敘述何者正確？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凸透鏡所成的像為虛像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凸透鏡所成的像為虛像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凸透鏡的焦距小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 cm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凸透鏡的焦距等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997360"/>
            <a:ext cx="1943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如圖所示，在甲、乙兩個焦距不同的凸透鏡左側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分別放置一根點燃的蠟燭。若於凸透鏡右側放置白色紙幕，調整紙幕位置使成像清晰，蠟燭光線經過凸透鏡甲、乙在白色紙幕上分別看到倒立縮小及倒立相等的像，則下列敘述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凸透鏡所成的像為虛像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凸透鏡所成的像為虛像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凸透鏡的焦距小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 cm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凸透鏡的焦距等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 c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1943280" cy="21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26920" y="4869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提示：凸透鏡成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體在焦距以外為倒立實像，物體在焦點以內為正立虛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體在兩倍焦距外為縮小實像；物體在兩倍焦距內為放大實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在兩倍焦距時，在另一側兩倍焦距上，成倒立相等實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已知一焦點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凸透鏡，在此凸透鏡前（左邊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5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5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 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標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五個位置，並將燭火在這幾個位置上移動，另置一可移動屏幕於凸透鏡後（右邊），以觀察出成像，如附圖所示。請問：將燭火放上述哪個位置時，可在屏幕上看到一放大的像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A  (B)B  (C)C  (D)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33829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已知一焦點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凸透鏡，在此凸透鏡前（左邊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5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 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標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五個位置，並將燭火在這幾個位置上移動，另置一可移動屏幕於凸透鏡後（右邊），以觀察出成像，如附圖所示。請問：將燭火放上述哪個位置時，可在屏幕上看到一放大的像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A  (B)B  (C)C  (D)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382920" cy="847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365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提示：凸透鏡成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體在焦距以外為倒立實像，物體在焦點以內為正立虛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體在兩倍焦距外為縮小實像；物體在兩倍焦距內為放大實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在兩倍焦距時，在另一側兩倍焦距上，成倒立相等實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</a:rPr>
              <a:t>小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做凸透鏡成像實驗，記錄如下表，請問此一凸透鏡的焦距可能是多少公分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18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20  (C) 25 (D)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390920" y="2637000"/>
          <a:ext cx="4753080" cy="720720"/>
        </p:xfrm>
        <a:graphic>
          <a:graphicData uri="http://schemas.openxmlformats.org/drawingml/2006/table">
            <a:tbl>
              <a:tblPr/>
              <a:tblGrid>
                <a:gridCol w="1189080"/>
                <a:gridCol w="1187280"/>
                <a:gridCol w="1189080"/>
                <a:gridCol w="118764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距（公分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像性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倒立縮小實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倒立相等實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立虛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</a:rPr>
              <a:t>小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做凸透鏡成像實驗，記錄如下表，請問此一凸透鏡的焦距可能是多少公分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18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20  (C) 25 (D)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140360" y="2997360"/>
          <a:ext cx="4397040" cy="704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距（公分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像性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倒立縮小實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倒立相等實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17560"/>
                          <a:tab algn="l" pos="2489040"/>
                          <a:tab algn="l" pos="4195800"/>
                          <a:tab algn="l" pos="589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立虛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971640" y="4005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提示：凸透鏡成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體在焦距以外為倒立實像，物體在焦點以內為正立虛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體在兩倍焦距外為縮小實像；物體在兩倍焦距內為放大實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物在兩倍焦距時，在另一側兩倍焦距上，成倒立相等實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根據右圖所示，下列哪一個敘述是正確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反射線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入射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法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∠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 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線在同一平面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88000" y="155736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湖畔垂柳成蔭，水面倒影如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物理學角度看“垂柳成蔭”及“倒影如鏡”分別是由於光的什麼原理所形成的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直進、反射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反射、折射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直進、折射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反射、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根據右圖所示，下列哪一個敘述是正確的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反射線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入射線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法線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I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三線在同一平面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105264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圖片 211" descr="反射定律"/>
          <p:cNvPicPr/>
          <p:nvPr/>
        </p:nvPicPr>
        <p:blipFill>
          <a:blip r:embed="rId2"/>
          <a:stretch/>
        </p:blipFill>
        <p:spPr>
          <a:xfrm>
            <a:off x="6443640" y="4365720"/>
            <a:ext cx="1600200" cy="97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321300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提示：反射定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入射線、反射線和法線在同一平面，入射線、反射線在法線兩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入射角＝反射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阿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觀察用藍光照射在由白色花盆所裝的聖誕紅時，試問他所看到花盆、紅花、綠葉三者的顏色結果依序應為何？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黑、藍、綠　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藍、藍、黑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藍、黑、黑　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藍、藍、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阿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觀察用藍光照射在由白色花盆所裝的聖誕紅時，試問他所看到花盆、紅花、綠葉三者的顏色結果依序應為何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、藍、綠　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藍、藍、黑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藍、黑、黑　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藍、藍、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3068640"/>
            <a:ext cx="87645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藍紙所以是藍色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是因它反射藍光而吸收其它顏色的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白光照射在藍紙上，藍紙呈現藍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藍光照射在藍紙上，藍紙呈現藍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紅光照射在藍紙上，藍紙呈現黑色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會顯現綠色是因為下列何種原因？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反射綠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折射綠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吸收綠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放射綠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會顯現綠色是因為下列何種原因？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反射綠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折射綠光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吸收綠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葉放射綠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3933720"/>
            <a:ext cx="81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不透明體的顏色：經選擇吸收其他的色光，而將本身的色光反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例：藍紙所以是藍色，是因它反射藍光而吸收其它顏色的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暗室內有一個發出白光的燈泡，若以紅色、綠色、藍色三種透明玻璃紙同時包住燈泡後，則燈泡發出何種色光？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黃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黑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白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幾乎沒有光發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暗室內有一個發出白光的燈泡，若以紅色、綠色、藍色三種透明玻璃紙同時包住燈泡後，則燈泡發出何種色光？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黃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黑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白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幾乎沒有光發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3645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當白光照射透明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如玻璃紙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後，只讓某些色光   通過，而吸收了其他的色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例：白光照射紅色玻璃紙，只有紅光能夠通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小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湖邊看到水面倒影的景色，此時湖面上的像是何種像，又是由何種原理造成的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實像，反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虛像，反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實像，折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虛像，折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小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湖邊看到水面倒影的景色，此時湖面上的像是何種像，又是由何種原理造成的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實像，反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虛像，反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實像，折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虛像，折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005360"/>
            <a:ext cx="7993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鏡子的表面如為平面，就稱為平面鏡。是利用光的反射，使我們可以看到成像的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實像是真實光線所形成的像，虛像則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光射於水平位置的平面鏡上，入射角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，則反射線的方向與該平面鏡所成的角度為多少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 1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30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 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 9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湖畔垂柳成蔭，水面倒影如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物理學角度看“垂柳成蔭”及“倒影如鏡”分別是由於光的什麼原理所形成的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直進、反射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反射、折射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直進、折射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反射、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42900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光直線傳播：光線遇到不透明物體時，在其後方形成陰影，如：柵欄形成陰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鏡子的表面如為平面，就稱為平面鏡。是利用光的反射，使我們可以看到成像的物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光射於水平位置的平面鏡上，入射角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，則反射線的方向與該平面鏡所成的角度為多少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 1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30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 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 9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圖片 211" descr="反射定律"/>
          <p:cNvPicPr/>
          <p:nvPr/>
        </p:nvPicPr>
        <p:blipFill>
          <a:blip r:embed="rId1"/>
          <a:stretch/>
        </p:blipFill>
        <p:spPr>
          <a:xfrm>
            <a:off x="2268360" y="4508640"/>
            <a:ext cx="1600200" cy="97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4076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蠟燭放在離凸透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處時，在透鏡另一側的光屏上得到清晰相等的像．若把蠟燭在原來位置遠離透鏡方向移動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所成清晰的像—定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立放大虛像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正立放大實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正立縮小實像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立縮小實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蠟燭放在離凸透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處時，在透鏡另一側的光屏上得到清晰相等的像．若把蠟燭在原來位置遠離透鏡方向移動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所成清晰的像—定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立放大虛像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正立放大實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正立縮小實像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立縮小實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5772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提示：凸透鏡成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體在焦距以外為倒立實像，物體在焦點以內為正立虛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體在兩倍焦距外為縮小實像；物體在兩倍焦距內為放大實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物在兩倍焦距時，在另一側兩倍焦距上，成倒立相等實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暗室內有一個發出白光的燈泡，若以綠色透明玻璃紙同時包住燈泡後，光線照在一朵紅花上，則紅花會變成下列何者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白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紅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黑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暗室內有一個發出白光的燈泡，若以綠色透明玻璃紙同時包住燈泡後，光線照在一朵紅花上，則紅花會變成下列何者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白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綠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紅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黑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784680"/>
            <a:ext cx="8640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當白光照射透明物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如玻璃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後，只讓某些色光通過，而吸收了其他的色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例：白光照射紅色玻璃紙，只有紅光能夠通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不透明體的顏色：經選擇吸收其他的色光，而將本身的色光反射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紅、橙、黃、綠、藍、靛、紫七種色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紅、藍、綠三種色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藍、紫兩種色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黃、藍兩種色光；上列哪些光線的組合可以形成相同的色光？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丙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丁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乙丁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丙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0:52:10Z</dcterms:created>
  <dc:creator>命題光碟</dc:creator>
  <dc:description/>
  <dc:language>en-US</dc:language>
  <cp:lastModifiedBy>命題光碟</cp:lastModifiedBy>
  <dcterms:modified xsi:type="dcterms:W3CDTF">2011-10-21T05:27:18Z</dcterms:modified>
  <cp:revision>50</cp:revision>
  <dc:subject/>
  <dc:title>投影片 1</dc:title>
</cp:coreProperties>
</file>