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0.png" ContentType="image/png"/>
  <Override PartName="/ppt/media/image6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7.jpeg" ContentType="image/jpeg"/>
  <Override PartName="/ppt/media/image11.png" ContentType="image/png"/>
  <Override PartName="/ppt/media/image9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9A32-A6CC-4C1E-A45B-45CA4433C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F918-AC02-452D-AF12-85A530679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EFF2-93AE-49C3-AB27-76B874A58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0293-3350-49AF-964A-06A185FE6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3EA5-5C07-4B43-BD06-95DBBD327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D9EC-ED39-4460-BC44-CEFF12D13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47B5-48FB-4A64-81EB-328C1C87F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D66D-6A3D-438D-9900-38EE0703A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ECBA-25D4-427D-B6AC-CE9828779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C8E1-D71E-4AEE-9FB9-B39AC8299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C365-9D06-4EAF-B936-832A5DD64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F53B-8EB1-4321-94C6-4148B602C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A4624-32D0-44BA-A9A9-8158915FD129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1880" y="360"/>
            <a:ext cx="7038360" cy="32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根據「質量守恆定律」，下列敘述何者正確？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(A)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化學反應若產生氣體，則不遵守質量守恆定律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(B)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化學反應進行中，若產生熱反應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     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則不遵守質量守恆定律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(C)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質量守恆定律在一般的化學反應中皆能成立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(D)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化學反應在密閉容器內進行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     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才會遵守質量守恆定律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41520" y="0"/>
            <a:ext cx="499680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關於原子量，下列敘述何者</a:t>
            </a:r>
            <a:r>
              <a:rPr b="0" lang="zh-TW" sz="3000" spc="-1" strike="noStrike" u="sng">
                <a:solidFill>
                  <a:srgbClr val="000000"/>
                </a:solidFill>
                <a:uFillTx/>
                <a:latin typeface="新細明體"/>
                <a:ea typeface="Times New Roman"/>
              </a:rPr>
              <a:t>錯誤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？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(A)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以碳原子為標準的比較量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(B)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是比較量所以沒有單位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(C)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氫的原子量是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1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(D)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原子量都是整數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-84960" y="-360"/>
            <a:ext cx="672516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下列化學式何者正確？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(A)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硫酸銨：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(NH)SO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　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(B)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蔗糖：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CHO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(C)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硝酸鉀：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KNO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　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(D)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碳酸：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HCO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23440" y="0"/>
            <a:ext cx="787788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一化學反應式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碳酸鈣＋鹽酸→氯化鈣＋水＋二氧化碳，若已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反應物中有鈣原子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20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個，則生成物中有多少個鈣原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？　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(A)10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個　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(B)20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個　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(C)30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個　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(D)40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個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940320" y="360"/>
            <a:ext cx="706608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以下何者是氫氣和氧氣反應產生水的正確反應式？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(A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(B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(C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(D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826920" y="476280"/>
                <a:ext cx="316080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+</m:t>
                    </m:r>
                    <m:r>
                      <m:t xml:space="preserve">O</m:t>
                    </m:r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HO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755640" y="1268280"/>
                <a:ext cx="4432320" cy="69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755640" y="2133720"/>
                <a:ext cx="408924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826920" y="3068640"/>
                <a:ext cx="370872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O</m:t>
                    </m:r>
                    <m:r>
                      <m:t xml:space="preserve">→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461240" y="-29880"/>
            <a:ext cx="5207040" cy="60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已知氫氣燃燒產生水的化學反應式為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2H</a:t>
            </a:r>
            <a:r>
              <a:rPr b="0" lang="zh-TW" sz="3000" spc="-1" strike="noStrike" baseline="-25000">
                <a:solidFill>
                  <a:srgbClr val="000000"/>
                </a:solidFill>
                <a:latin typeface="新細明體"/>
                <a:ea typeface="Times New Roman"/>
              </a:rPr>
              <a:t>2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＋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O</a:t>
            </a:r>
            <a:r>
              <a:rPr b="0" lang="zh-TW" sz="3000" spc="-1" strike="noStrike" baseline="-25000">
                <a:solidFill>
                  <a:srgbClr val="000000"/>
                </a:solidFill>
                <a:latin typeface="新細明體"/>
              </a:rPr>
              <a:t>2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 →2H</a:t>
            </a:r>
            <a:r>
              <a:rPr b="0" lang="zh-TW" sz="3000" spc="-1" strike="noStrike" baseline="-25000">
                <a:solidFill>
                  <a:srgbClr val="000000"/>
                </a:solidFill>
                <a:latin typeface="新細明體"/>
              </a:rPr>
              <a:t>2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O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。則下列哪一個圖形可用來說明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此反應式？</a:t>
            </a:r>
            <a:br>
              <a:rPr sz="3000"/>
            </a:b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(A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(B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(C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(D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050608" descr=""/>
          <p:cNvPicPr/>
          <p:nvPr/>
        </p:nvPicPr>
        <p:blipFill>
          <a:blip r:embed="rId1"/>
          <a:stretch/>
        </p:blipFill>
        <p:spPr>
          <a:xfrm>
            <a:off x="826920" y="1341360"/>
            <a:ext cx="2916360" cy="1316160"/>
          </a:xfrm>
          <a:prstGeom prst="rect">
            <a:avLst/>
          </a:prstGeom>
          <a:ln w="0">
            <a:noFill/>
          </a:ln>
        </p:spPr>
      </p:pic>
      <p:pic>
        <p:nvPicPr>
          <p:cNvPr id="64" name="050609" descr=""/>
          <p:cNvPicPr/>
          <p:nvPr/>
        </p:nvPicPr>
        <p:blipFill>
          <a:blip r:embed="rId2"/>
          <a:stretch/>
        </p:blipFill>
        <p:spPr>
          <a:xfrm>
            <a:off x="611280" y="2617920"/>
            <a:ext cx="2916000" cy="1315800"/>
          </a:xfrm>
          <a:prstGeom prst="rect">
            <a:avLst/>
          </a:prstGeom>
          <a:ln w="0">
            <a:noFill/>
          </a:ln>
        </p:spPr>
      </p:pic>
      <p:pic>
        <p:nvPicPr>
          <p:cNvPr id="65" name="050610" descr=""/>
          <p:cNvPicPr/>
          <p:nvPr/>
        </p:nvPicPr>
        <p:blipFill>
          <a:blip r:embed="rId3"/>
          <a:stretch/>
        </p:blipFill>
        <p:spPr>
          <a:xfrm>
            <a:off x="611280" y="3789360"/>
            <a:ext cx="2916000" cy="1316160"/>
          </a:xfrm>
          <a:prstGeom prst="rect">
            <a:avLst/>
          </a:prstGeom>
          <a:ln w="0">
            <a:noFill/>
          </a:ln>
        </p:spPr>
      </p:pic>
      <p:pic>
        <p:nvPicPr>
          <p:cNvPr id="66" name="050611" descr=""/>
          <p:cNvPicPr/>
          <p:nvPr/>
        </p:nvPicPr>
        <p:blipFill>
          <a:blip r:embed="rId4"/>
          <a:stretch/>
        </p:blipFill>
        <p:spPr>
          <a:xfrm>
            <a:off x="682560" y="5110200"/>
            <a:ext cx="2916360" cy="13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97280" y="0"/>
            <a:ext cx="854424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一平衡化學式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A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＋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3B→2C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，若分子量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A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＝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32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、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B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＝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2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C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為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X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，將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Y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公克的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A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與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36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公克的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B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反應，當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B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完全用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時，還剩下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12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公克的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A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。下列關於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X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與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Y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的組合，何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正確？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(A)X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＝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19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，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Y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＝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204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　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(B)X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＝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19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，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Y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＝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192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(C)X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＝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38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，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Y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＝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204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　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(D)X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＝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38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，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Y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＝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204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418760" y="0"/>
            <a:ext cx="470124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下列有關莫耳的敘述何者</a:t>
            </a:r>
            <a:r>
              <a:rPr b="0" lang="zh-TW" sz="3000" spc="-1" strike="noStrike" u="sng">
                <a:solidFill>
                  <a:srgbClr val="000000"/>
                </a:solidFill>
                <a:uFillTx/>
                <a:latin typeface="新細明體"/>
                <a:ea typeface="Times New Roman"/>
              </a:rPr>
              <a:t>錯誤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？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(A)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莫耳是計算數量的單位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(B)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計算分子個數可以莫耳為單位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(C)1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莫耳等於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6×10</a:t>
            </a:r>
            <a:r>
              <a:rPr b="0" lang="zh-TW" sz="3000" spc="-1" strike="noStrike" baseline="30000">
                <a:solidFill>
                  <a:srgbClr val="000000"/>
                </a:solidFill>
                <a:latin typeface="新細明體"/>
                <a:ea typeface="Times New Roman"/>
              </a:rPr>
              <a:t>23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個粒子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(D)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計算水蜜桃個數以莫耳作單位比較適當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538560" y="-31680"/>
            <a:ext cx="7869600" cy="15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 u="sng">
                <a:solidFill>
                  <a:srgbClr val="000000"/>
                </a:solidFill>
                <a:uFillTx/>
                <a:latin typeface="新細明體"/>
                <a:ea typeface="Times New Roman"/>
              </a:rPr>
              <a:t>小郁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下課時，共喝了由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90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公克的葡萄糖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(C</a:t>
            </a:r>
            <a:r>
              <a:rPr b="0" lang="zh-TW" sz="3000" spc="-1" strike="noStrike" baseline="-25000">
                <a:solidFill>
                  <a:srgbClr val="000000"/>
                </a:solidFill>
                <a:latin typeface="新細明體"/>
                <a:ea typeface="Times New Roman"/>
              </a:rPr>
              <a:t>6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H</a:t>
            </a:r>
            <a:r>
              <a:rPr b="0" lang="zh-TW" sz="3000" spc="-1" strike="noStrike" baseline="-25000">
                <a:solidFill>
                  <a:srgbClr val="000000"/>
                </a:solidFill>
                <a:latin typeface="新細明體"/>
                <a:ea typeface="Times New Roman"/>
              </a:rPr>
              <a:t>12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O</a:t>
            </a:r>
            <a:r>
              <a:rPr b="0" lang="zh-TW" sz="3000" spc="-1" strike="noStrike" baseline="-25000">
                <a:solidFill>
                  <a:srgbClr val="000000"/>
                </a:solidFill>
                <a:latin typeface="新細明體"/>
                <a:ea typeface="Times New Roman"/>
              </a:rPr>
              <a:t>6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所沖泡出的糖水，請問</a:t>
            </a:r>
            <a:r>
              <a:rPr b="0" lang="zh-TW" sz="3000" spc="-1" strike="noStrike" u="sng">
                <a:solidFill>
                  <a:srgbClr val="000000"/>
                </a:solidFill>
                <a:uFillTx/>
                <a:latin typeface="Arial"/>
              </a:rPr>
              <a:t>小郁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大約喝進多少葡萄糖？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A)90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個　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B)180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個　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C)0.5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莫耳　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D)6×10</a:t>
            </a:r>
            <a:r>
              <a:rPr b="0" lang="zh-TW" sz="3000" spc="-1" strike="noStrike" baseline="30000">
                <a:solidFill>
                  <a:srgbClr val="000000"/>
                </a:solidFill>
                <a:latin typeface="Arial"/>
              </a:rPr>
              <a:t>23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982800" y="0"/>
            <a:ext cx="698112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 u="sng">
                <a:solidFill>
                  <a:srgbClr val="000000"/>
                </a:solidFill>
                <a:uFillTx/>
                <a:latin typeface="新細明體"/>
                <a:ea typeface="Times New Roman"/>
              </a:rPr>
              <a:t>岑珊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操作碳酸鈉加氯化鈣的實驗，試問碳酸鈉溶液與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氯化鈣溶液倒在一起後，會產生何種變化？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(A)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產生白色沉澱　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(B)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溶液由無色轉變為紅色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(C)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產生黃色沉澱　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(D)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溶液由無色轉變為綠色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40320" y="-360"/>
            <a:ext cx="706608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 u="sng">
                <a:solidFill>
                  <a:srgbClr val="000000"/>
                </a:solidFill>
                <a:uFillTx/>
                <a:latin typeface="新細明體"/>
                <a:ea typeface="Times New Roman"/>
              </a:rPr>
              <a:t>道耳吞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所提出的原子說可以說明下列哪一個定律？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(A)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虎克定律　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(B)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牛頓定律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(C)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定比定律　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(D)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質量守恆定律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63320" y="-360"/>
            <a:ext cx="78091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若甲對碳原子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(C-12)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的質量比為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2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：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1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，則甲的原子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為何？　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(A)6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　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(B)12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　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(C)24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　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(D)48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955800" y="0"/>
            <a:ext cx="70354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以粒子的觀點說明物質的變化，下列敘述何者</a:t>
            </a:r>
            <a:r>
              <a:rPr b="0" lang="zh-TW" sz="3000" spc="-1" strike="noStrike" u="sng">
                <a:solidFill>
                  <a:srgbClr val="000000"/>
                </a:solidFill>
                <a:uFillTx/>
                <a:latin typeface="新細明體"/>
                <a:ea typeface="Times New Roman"/>
              </a:rPr>
              <a:t>錯誤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(A)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化學變化中，原有的分子發生改變產生新的分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(B)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化學變化中，原子發生改變產生新的原子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(C)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化學變化中，原子的排列結合方式會發生改變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(D)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物理變化中，原有的分子並未改變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586800" y="-360"/>
            <a:ext cx="777348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 u="sng">
                <a:solidFill>
                  <a:srgbClr val="000000"/>
                </a:solidFill>
                <a:uFillTx/>
                <a:latin typeface="新細明體"/>
                <a:ea typeface="Times New Roman"/>
              </a:rPr>
              <a:t>大華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將小蘇打放在密閉的試管中加熱，發現反應後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有氣體產生，此時小蘇打與試管之總質量會如何改變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？　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(A)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變輕　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(B)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變重　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(C)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不會改變　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(D)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不一定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116000" y="981000"/>
            <a:ext cx="1147680" cy="13287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4427640" y="981000"/>
            <a:ext cx="1147680" cy="12985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1116000" y="3429000"/>
            <a:ext cx="1147680" cy="13287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4427640" y="3429000"/>
            <a:ext cx="1147680" cy="1298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384120" y="360"/>
            <a:ext cx="6274080" cy="32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氮的分子若以圖表示，下列何者正確？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新細明體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                              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(B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(C)                              (D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003320" y="0"/>
            <a:ext cx="638964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鉀、鈉和水作用之後，除產生氫氣外，還有哪些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生成物？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(A)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氫氧化鈉、氯化鉀　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(B)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氯化鈉、氯化鉀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(C)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氯化鈉、氫氧化鉀　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(D)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氫氧化鉀、氫氧化鈉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940320" y="-360"/>
            <a:ext cx="66852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將一密閉的化學裝置放在天平上秤量，如圖所示；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當在碳酸鈉溶液中注入氯化鈣水溶液後，下列敘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何者正確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030603F1" descr=""/>
          <p:cNvPicPr/>
          <p:nvPr/>
        </p:nvPicPr>
        <p:blipFill>
          <a:blip r:embed="rId1"/>
          <a:srcRect l="-3831" t="-8995" r="-5237" b="0"/>
          <a:stretch/>
        </p:blipFill>
        <p:spPr>
          <a:xfrm>
            <a:off x="4319640" y="3463920"/>
            <a:ext cx="4824360" cy="33940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907200" y="1413000"/>
            <a:ext cx="724860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(A)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反應後產生黃色沉澱，但是天平左右兩端仍然保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     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水平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(B)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此實驗可以證明質量守恆定律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(C)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若將錐形瓶塞打開，則天平會向右傾斜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(D)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沉澱物為氯化鈉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932760" y="0"/>
            <a:ext cx="529236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有關化學式的寫法，下列何者</a:t>
            </a:r>
            <a:r>
              <a:rPr b="0" lang="zh-TW" sz="3000" spc="-1" strike="noStrike" u="sng">
                <a:solidFill>
                  <a:srgbClr val="000000"/>
                </a:solidFill>
                <a:uFillTx/>
                <a:latin typeface="新細明體"/>
                <a:ea typeface="Times New Roman"/>
              </a:rPr>
              <a:t>錯誤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？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(A)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氧化物中的氧寫在右邊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(B)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金屬化合物中金屬放右邊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(C)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正、負原子價必須相等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(D)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有機化合物碳、氫、氧的排列順序中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     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碳排在最左邊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417240" y="-32040"/>
            <a:ext cx="7731360" cy="10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燃燒是物質和空氣中的氧劇烈反應，則下列何者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氧氣的化學式？　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(A)O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　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(B)2O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　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(C)O</a:t>
            </a:r>
            <a:r>
              <a:rPr b="0" lang="zh-TW" sz="3000" spc="-1" strike="noStrike" baseline="-25000">
                <a:solidFill>
                  <a:srgbClr val="000000"/>
                </a:solidFill>
                <a:latin typeface="新細明體"/>
                <a:ea typeface="Times New Roman"/>
              </a:rPr>
              <a:t>2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   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(D)O</a:t>
            </a:r>
            <a:r>
              <a:rPr b="0" lang="zh-TW" sz="3000" spc="-1" strike="noStrike" baseline="-25000">
                <a:solidFill>
                  <a:srgbClr val="000000"/>
                </a:solidFill>
                <a:latin typeface="新細明體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902520" y="0"/>
            <a:ext cx="647532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關於化學反應式的寫法原則，以下何者</a:t>
            </a:r>
            <a:r>
              <a:rPr b="0" lang="zh-TW" sz="3000" spc="-1" strike="noStrike" u="sng">
                <a:solidFill>
                  <a:srgbClr val="000000"/>
                </a:solidFill>
                <a:uFillTx/>
                <a:latin typeface="新細明體"/>
                <a:ea typeface="Times New Roman"/>
              </a:rPr>
              <a:t>錯誤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？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(A)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「→」表示反應進行方向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(B)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反應物和生成物不只一種時，以「＋」連接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(C)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反應式左、右的分子數目相同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(D)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必須加上係數平衡才算完成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983160" y="-360"/>
            <a:ext cx="698076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蠟燭燃燒後其生成物的總質量，大於蠟燭減少的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總質量，其增加的質量是來自於空氣中的何種物質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(A)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氧　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(B)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氮　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(C)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二氧化碳　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(D)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水蒸氣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510120" y="0"/>
            <a:ext cx="789840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有關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4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莫耳的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NaOH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分子所含的分子個數、質量等敘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，下列何者</a:t>
            </a:r>
            <a:r>
              <a:rPr b="0" lang="zh-TW" sz="3000" spc="-1" strike="noStrike" u="sng">
                <a:solidFill>
                  <a:srgbClr val="000000"/>
                </a:solidFill>
                <a:uFillTx/>
                <a:latin typeface="新細明體"/>
                <a:ea typeface="Times New Roman"/>
              </a:rPr>
              <a:t>錯誤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？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(Na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＝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23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；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O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＝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16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；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H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＝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1)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(A)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含有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1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個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Na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原子、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1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個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O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原子、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1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個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H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原子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(B)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含有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2.4×10</a:t>
            </a:r>
            <a:r>
              <a:rPr b="0" lang="zh-TW" sz="3000" spc="-1" strike="noStrike" baseline="30000">
                <a:solidFill>
                  <a:srgbClr val="000000"/>
                </a:solidFill>
                <a:latin typeface="新細明體"/>
                <a:ea typeface="Times New Roman"/>
              </a:rPr>
              <a:t>24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個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NaOH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分子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(C)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含有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160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克的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NaOH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分子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(D)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含有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2.4×10</a:t>
            </a:r>
            <a:r>
              <a:rPr b="0" lang="zh-TW" sz="3000" spc="-1" strike="noStrike" baseline="30000">
                <a:solidFill>
                  <a:srgbClr val="000000"/>
                </a:solidFill>
                <a:latin typeface="新細明體"/>
              </a:rPr>
              <a:t>24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個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Na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原子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560600" y="-63360"/>
            <a:ext cx="5873040" cy="15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1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莫耳的氫氣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(H</a:t>
            </a:r>
            <a:r>
              <a:rPr b="0" lang="zh-TW" sz="3000" spc="-1" strike="noStrike" baseline="-25000">
                <a:solidFill>
                  <a:srgbClr val="000000"/>
                </a:solidFill>
                <a:latin typeface="新細明體"/>
                <a:ea typeface="Times New Roman"/>
              </a:rPr>
              <a:t>2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 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)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與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1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莫耳的臭氧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(O</a:t>
            </a:r>
            <a:r>
              <a:rPr b="0" lang="zh-TW" sz="3000" spc="-1" strike="noStrike" baseline="-25000">
                <a:solidFill>
                  <a:srgbClr val="000000"/>
                </a:solidFill>
                <a:latin typeface="新細明體"/>
              </a:rPr>
              <a:t>2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)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，哪一個原子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較多？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(A)H</a:t>
            </a:r>
            <a:r>
              <a:rPr b="0" lang="zh-TW" sz="3000" spc="-1" strike="noStrike" baseline="-25000">
                <a:solidFill>
                  <a:srgbClr val="000000"/>
                </a:solidFill>
                <a:latin typeface="新細明體"/>
              </a:rPr>
              <a:t>2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  (B)O</a:t>
            </a:r>
            <a:r>
              <a:rPr b="0" lang="zh-TW" sz="3000" spc="-1" strike="noStrike" baseline="-25000">
                <a:solidFill>
                  <a:srgbClr val="000000"/>
                </a:solidFill>
                <a:latin typeface="新細明體"/>
              </a:rPr>
              <a:t>2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  (C)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一樣多　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(D)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不同氣體之間無法比較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-548280" y="-31680"/>
            <a:ext cx="7540200" cy="15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3×10</a:t>
            </a:r>
            <a:r>
              <a:rPr b="0" lang="zh-TW" sz="3000" spc="-1" strike="noStrike" baseline="30000">
                <a:solidFill>
                  <a:srgbClr val="000000"/>
                </a:solidFill>
                <a:latin typeface="新細明體"/>
                <a:ea typeface="Times New Roman"/>
              </a:rPr>
              <a:t>22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個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H</a:t>
            </a:r>
            <a:r>
              <a:rPr b="0" lang="zh-TW" sz="3000" spc="-1" strike="noStrike" baseline="-25000">
                <a:solidFill>
                  <a:srgbClr val="000000"/>
                </a:solidFill>
                <a:latin typeface="新細明體"/>
              </a:rPr>
              <a:t>2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SO</a:t>
            </a:r>
            <a:r>
              <a:rPr b="0" lang="zh-TW" sz="3000" spc="-1" strike="noStrike" baseline="-25000">
                <a:solidFill>
                  <a:srgbClr val="000000"/>
                </a:solidFill>
                <a:latin typeface="新細明體"/>
              </a:rPr>
              <a:t>4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分子質量為多少克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(H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＝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1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，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O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＝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16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，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S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＝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32)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(A)0.5g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　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(B)9.8g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　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(C)4.9g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　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(D)3×10g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762840" y="-204840"/>
            <a:ext cx="7421040" cy="370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 u="sng">
                <a:solidFill>
                  <a:srgbClr val="000000"/>
                </a:solidFill>
                <a:uFillTx/>
                <a:latin typeface="新細明體"/>
                <a:ea typeface="Times New Roman"/>
              </a:rPr>
              <a:t>岑珊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操作碳酸鈉加氯化鈣的實驗：反應前所有溶液與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容器的質量總和為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W</a:t>
            </a:r>
            <a:r>
              <a:rPr b="0" lang="zh-TW" sz="3000" spc="-1" strike="noStrike" baseline="-30000">
                <a:solidFill>
                  <a:srgbClr val="000000"/>
                </a:solidFill>
                <a:latin typeface="新細明體"/>
                <a:ea typeface="Times New Roman"/>
              </a:rPr>
              <a:t>1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，反應後測得總質量為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W</a:t>
            </a:r>
            <a:r>
              <a:rPr b="0" lang="zh-TW" sz="3000" spc="-1" strike="noStrike" baseline="-30000">
                <a:solidFill>
                  <a:srgbClr val="000000"/>
                </a:solidFill>
                <a:latin typeface="新細明體"/>
                <a:ea typeface="Times New Roman"/>
              </a:rPr>
              <a:t>2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，則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W</a:t>
            </a:r>
            <a:r>
              <a:rPr b="0" lang="zh-TW" sz="3000" spc="-1" strike="noStrike" baseline="-30000">
                <a:solidFill>
                  <a:srgbClr val="000000"/>
                </a:solidFill>
                <a:latin typeface="新細明體"/>
                <a:ea typeface="Times New Roman"/>
              </a:rPr>
              <a:t>1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與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W</a:t>
            </a:r>
            <a:r>
              <a:rPr b="0" lang="zh-TW" sz="3000" spc="-1" strike="noStrike" baseline="-30000">
                <a:solidFill>
                  <a:srgbClr val="000000"/>
                </a:solidFill>
                <a:latin typeface="新細明體"/>
                <a:ea typeface="Times New Roman"/>
              </a:rPr>
              <a:t>2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的大小比較，下列何者正確？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(A)W</a:t>
            </a:r>
            <a:r>
              <a:rPr b="0" lang="zh-TW" sz="3000" spc="-1" strike="noStrike" baseline="-30000">
                <a:solidFill>
                  <a:srgbClr val="000000"/>
                </a:solidFill>
                <a:latin typeface="新細明體"/>
                <a:ea typeface="Times New Roman"/>
              </a:rPr>
              <a:t>1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＝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W</a:t>
            </a:r>
            <a:r>
              <a:rPr b="0" lang="zh-TW" sz="3000" spc="-1" strike="noStrike" baseline="-30000">
                <a:solidFill>
                  <a:srgbClr val="000000"/>
                </a:solidFill>
                <a:latin typeface="新細明體"/>
                <a:ea typeface="Times New Roman"/>
              </a:rPr>
              <a:t>2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(B)W</a:t>
            </a:r>
            <a:r>
              <a:rPr b="0" lang="zh-TW" sz="3000" spc="-1" strike="noStrike" baseline="-30000">
                <a:solidFill>
                  <a:srgbClr val="000000"/>
                </a:solidFill>
                <a:latin typeface="新細明體"/>
                <a:ea typeface="Times New Roman"/>
              </a:rPr>
              <a:t>1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＜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W</a:t>
            </a:r>
            <a:r>
              <a:rPr b="0" lang="zh-TW" sz="3000" spc="-1" strike="noStrike" baseline="-30000">
                <a:solidFill>
                  <a:srgbClr val="000000"/>
                </a:solidFill>
                <a:latin typeface="新細明體"/>
                <a:ea typeface="Times New Roman"/>
              </a:rPr>
              <a:t>2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(C)W</a:t>
            </a:r>
            <a:r>
              <a:rPr b="0" lang="zh-TW" sz="3000" spc="-1" strike="noStrike" baseline="-30000">
                <a:solidFill>
                  <a:srgbClr val="000000"/>
                </a:solidFill>
                <a:latin typeface="新細明體"/>
                <a:ea typeface="Times New Roman"/>
              </a:rPr>
              <a:t>1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＞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W</a:t>
            </a:r>
            <a:r>
              <a:rPr b="0" lang="zh-TW" sz="3000" spc="-1" strike="noStrike" baseline="-30000">
                <a:solidFill>
                  <a:srgbClr val="000000"/>
                </a:solidFill>
                <a:latin typeface="新細明體"/>
                <a:ea typeface="Times New Roman"/>
              </a:rPr>
              <a:t>2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(D)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資料不足，無法判斷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897840" y="0"/>
            <a:ext cx="677052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燃燒後的蠟燭，質量會越來越輕，其原因為何？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(A)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不遵守質量守恆定律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(B)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燃燒後的部分產物散失到空氣中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(C)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蠟燭燃燒為化學變化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(D)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蠟燭並非純物質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25640" y="-31680"/>
            <a:ext cx="8393760" cy="15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在化學反應式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aN 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＋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bH</a:t>
            </a:r>
            <a:r>
              <a:rPr b="0" lang="zh-TW" sz="3000" spc="-1" strike="noStrike" baseline="-25000">
                <a:solidFill>
                  <a:srgbClr val="000000"/>
                </a:solidFill>
                <a:latin typeface="新細明體"/>
              </a:rPr>
              <a:t>2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→cNH</a:t>
            </a:r>
            <a:r>
              <a:rPr b="0" lang="zh-TW" sz="3000" spc="-1" strike="noStrike" baseline="-25000">
                <a:solidFill>
                  <a:srgbClr val="000000"/>
                </a:solidFill>
                <a:latin typeface="新細明體"/>
              </a:rPr>
              <a:t>3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中，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a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、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b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、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c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各為平衡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係數。請問下列敘述何者正確？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(A)a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＝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3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　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(B)b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＝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2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　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(C)c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＝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1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　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(D)a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＋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b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＋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c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＝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6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695240" y="-360"/>
            <a:ext cx="573444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1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莫耳的氧氣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(O 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)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與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1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莫耳的臭氧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(O )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相比較，哪一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較重？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(A)O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　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(B)O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　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(C)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一樣多　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(D)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不同氣體之間無法比較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40320" y="0"/>
            <a:ext cx="668520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 u="sng">
                <a:solidFill>
                  <a:srgbClr val="000000"/>
                </a:solidFill>
                <a:uFillTx/>
                <a:latin typeface="新細明體"/>
                <a:ea typeface="Times New Roman"/>
              </a:rPr>
              <a:t>岑珊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操作加熱小蘇打的實驗，試問</a:t>
            </a:r>
            <a:r>
              <a:rPr b="0" lang="zh-TW" sz="3000" spc="-1" strike="noStrike" u="sng">
                <a:solidFill>
                  <a:srgbClr val="000000"/>
                </a:solidFill>
                <a:uFillTx/>
                <a:latin typeface="新細明體"/>
                <a:ea typeface="Times New Roman"/>
              </a:rPr>
              <a:t>岑珊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必須在密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容器中進行此實驗的主要目的為何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(A)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為了讓反應前後符合質量守恆定律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(B)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使得熱量能存留在試管內加速反應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(C)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隔絕空氣中的氧氣加入反應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(D)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讓內容物與試管內的氧氣反應完全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050606" descr=""/>
          <p:cNvPicPr/>
          <p:nvPr/>
        </p:nvPicPr>
        <p:blipFill>
          <a:blip r:embed="rId1"/>
          <a:stretch/>
        </p:blipFill>
        <p:spPr>
          <a:xfrm>
            <a:off x="3708360" y="3573360"/>
            <a:ext cx="338148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27240" y="0"/>
            <a:ext cx="829224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 u="sng">
                <a:solidFill>
                  <a:srgbClr val="000000"/>
                </a:solidFill>
                <a:uFillTx/>
                <a:latin typeface="新細明體"/>
                <a:ea typeface="Times New Roman"/>
              </a:rPr>
              <a:t>岑珊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在密閉容器內置入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40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公克碳酸鈉水溶液及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20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公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氯化鈣水溶液，反應後會生成碳酸鈣沉澱與氯化鈉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此時密閉容器內物質總質量應為多少公克？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(A)40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公克　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(B)30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公克　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(C)20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公克　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(D)60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公克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654480" y="360"/>
            <a:ext cx="763812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 u="sng">
                <a:solidFill>
                  <a:srgbClr val="000000"/>
                </a:solidFill>
                <a:uFillTx/>
                <a:latin typeface="新細明體"/>
                <a:ea typeface="Times New Roman"/>
              </a:rPr>
              <a:t>小樺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分別取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1.5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公克及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3.0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公克的鎂粉，放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甲、乙培養皿上，接著依序在小瓦斯爐上加熱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直到鎂完全燃燒成氧化鎂，冷卻後稱量氧化鎂的質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，甲培養皿為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2.5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公克、乙培養皿為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5.0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公克，試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甲、乙培養皿中，參與化合的氧氣質量各為多少公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？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(A)2.5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公克、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5.0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公克　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(B)1.0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公克、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2.0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公克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(C)4.0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公克、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8.0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公克　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(D)3.0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公克、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3.0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公克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516680" y="-63000"/>
            <a:ext cx="5294160" cy="20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1g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的氫氣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(H</a:t>
            </a:r>
            <a:r>
              <a:rPr b="0" lang="zh-TW" sz="3000" spc="-1" strike="noStrike" baseline="-25000">
                <a:solidFill>
                  <a:srgbClr val="000000"/>
                </a:solidFill>
                <a:latin typeface="新細明體"/>
                <a:ea typeface="Times New Roman"/>
              </a:rPr>
              <a:t>2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 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)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與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1g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的臭氧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(O</a:t>
            </a:r>
            <a:r>
              <a:rPr b="0" lang="zh-TW" sz="3000" spc="-1" strike="noStrike" baseline="-25000">
                <a:solidFill>
                  <a:srgbClr val="000000"/>
                </a:solidFill>
                <a:latin typeface="新細明體"/>
              </a:rPr>
              <a:t>3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)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，哪一個所含原子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較多？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(A)H</a:t>
            </a:r>
            <a:r>
              <a:rPr b="0" lang="zh-TW" sz="3000" spc="-1" strike="noStrike" baseline="-25000">
                <a:solidFill>
                  <a:srgbClr val="000000"/>
                </a:solidFill>
                <a:latin typeface="新細明體"/>
              </a:rPr>
              <a:t>2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　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(B)O</a:t>
            </a:r>
            <a:r>
              <a:rPr b="0" lang="zh-TW" sz="3000" spc="-1" strike="noStrike" baseline="-25000">
                <a:solidFill>
                  <a:srgbClr val="000000"/>
                </a:solidFill>
                <a:latin typeface="新細明體"/>
              </a:rPr>
              <a:t>3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　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(C)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一樣多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(D)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不同氣體之間無法比較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-445680" y="-31680"/>
            <a:ext cx="9838800" cy="15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已知原子量：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C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＝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12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，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H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＝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1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，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O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＝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16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，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Na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＝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23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，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S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＝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3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；請問在下列已知的物質中，哪一個的分子量最大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(A)C</a:t>
            </a:r>
            <a:r>
              <a:rPr b="0" lang="zh-TW" sz="3000" spc="-1" strike="noStrike" baseline="-25000">
                <a:solidFill>
                  <a:srgbClr val="000000"/>
                </a:solidFill>
                <a:latin typeface="新細明體"/>
                <a:ea typeface="Times New Roman"/>
              </a:rPr>
              <a:t>4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H</a:t>
            </a:r>
            <a:r>
              <a:rPr b="0" lang="zh-TW" sz="3000" spc="-1" strike="noStrike" baseline="-25000">
                <a:solidFill>
                  <a:srgbClr val="000000"/>
                </a:solidFill>
                <a:latin typeface="新細明體"/>
                <a:ea typeface="Times New Roman"/>
              </a:rPr>
              <a:t>10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　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(B)Na</a:t>
            </a:r>
            <a:r>
              <a:rPr b="0" lang="zh-TW" sz="3000" spc="-1" strike="noStrike" baseline="-25000">
                <a:solidFill>
                  <a:srgbClr val="000000"/>
                </a:solidFill>
                <a:latin typeface="新細明體"/>
                <a:ea typeface="Times New Roman"/>
              </a:rPr>
              <a:t>2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SO</a:t>
            </a:r>
            <a:r>
              <a:rPr b="0" lang="zh-TW" sz="3000" spc="-1" strike="noStrike" baseline="-25000">
                <a:solidFill>
                  <a:srgbClr val="000000"/>
                </a:solidFill>
                <a:latin typeface="新細明體"/>
                <a:ea typeface="Times New Roman"/>
              </a:rPr>
              <a:t>4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　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(C)Na</a:t>
            </a:r>
            <a:r>
              <a:rPr b="0" lang="zh-TW" sz="3000" spc="-1" strike="noStrike" baseline="-25000">
                <a:solidFill>
                  <a:srgbClr val="000000"/>
                </a:solidFill>
                <a:latin typeface="新細明體"/>
                <a:ea typeface="Times New Roman"/>
              </a:rPr>
              <a:t>2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S</a:t>
            </a:r>
            <a:r>
              <a:rPr b="0" lang="zh-TW" sz="3000" spc="-1" strike="noStrike" baseline="-25000">
                <a:solidFill>
                  <a:srgbClr val="000000"/>
                </a:solidFill>
                <a:latin typeface="新細明體"/>
                <a:ea typeface="Times New Roman"/>
              </a:rPr>
              <a:t>2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O</a:t>
            </a:r>
            <a:r>
              <a:rPr b="0" lang="zh-TW" sz="3000" spc="-1" strike="noStrike" baseline="-25000">
                <a:solidFill>
                  <a:srgbClr val="000000"/>
                </a:solidFill>
                <a:latin typeface="新細明體"/>
                <a:ea typeface="Times New Roman"/>
              </a:rPr>
              <a:t>3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　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(D)NaHCO</a:t>
            </a:r>
            <a:r>
              <a:rPr b="0" lang="zh-TW" sz="3000" spc="-1" strike="noStrike" baseline="-25000">
                <a:solidFill>
                  <a:srgbClr val="000000"/>
                </a:solidFill>
                <a:latin typeface="新細明體"/>
                <a:ea typeface="Times New Roman"/>
              </a:rPr>
              <a:t>3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101240" y="-31320"/>
            <a:ext cx="6452640" cy="28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試問有關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C</a:t>
            </a:r>
            <a:r>
              <a:rPr b="0" lang="zh-TW" sz="3000" spc="-1" strike="noStrike" baseline="-25000">
                <a:solidFill>
                  <a:srgbClr val="000000"/>
                </a:solidFill>
                <a:latin typeface="新細明體"/>
                <a:ea typeface="Times New Roman"/>
              </a:rPr>
              <a:t>6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H</a:t>
            </a:r>
            <a:r>
              <a:rPr b="0" lang="zh-TW" sz="3000" spc="-1" strike="noStrike" baseline="-25000">
                <a:solidFill>
                  <a:srgbClr val="000000"/>
                </a:solidFill>
                <a:latin typeface="新細明體"/>
              </a:rPr>
              <a:t>12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O</a:t>
            </a:r>
            <a:r>
              <a:rPr b="0" lang="zh-TW" sz="3000" spc="-1" strike="noStrike" baseline="-25000">
                <a:solidFill>
                  <a:srgbClr val="000000"/>
                </a:solidFill>
                <a:latin typeface="新細明體"/>
              </a:rPr>
              <a:t>6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此符號的敘述，下列何者</a:t>
            </a:r>
            <a:r>
              <a:rPr b="0" lang="zh-TW" sz="3000" spc="-1" strike="noStrike" u="sng">
                <a:solidFill>
                  <a:srgbClr val="000000"/>
                </a:solidFill>
                <a:uFillTx/>
                <a:latin typeface="新細明體"/>
              </a:rPr>
              <a:t>錯誤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？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(A)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此符號為某物質的分子式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(B)C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、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H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、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O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表示組成該物質的原子種類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(C)H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右方數字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12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表示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H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原子的數目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(D)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由此符號可知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C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原子、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H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原子、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O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原子的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     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質量比為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1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：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2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：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1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971640" y="2133720"/>
          <a:ext cx="6408720" cy="79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2133720"/>
                    <a:ext cx="6408720" cy="79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2556000" y="3141720"/>
          <a:ext cx="3528720" cy="1193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56000" y="3141720"/>
                    <a:ext cx="3528720" cy="119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1240920" y="-31680"/>
            <a:ext cx="662688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如圖為雙氧水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(H</a:t>
            </a:r>
            <a:r>
              <a:rPr b="0" lang="zh-TW" sz="3000" spc="-1" strike="noStrike" baseline="-25000">
                <a:solidFill>
                  <a:srgbClr val="000000"/>
                </a:solidFill>
                <a:latin typeface="新細明體"/>
                <a:ea typeface="Times New Roman"/>
              </a:rPr>
              <a:t>2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O</a:t>
            </a:r>
            <a:r>
              <a:rPr b="0" lang="zh-TW" sz="3000" spc="-1" strike="noStrike" baseline="-25000">
                <a:solidFill>
                  <a:srgbClr val="000000"/>
                </a:solidFill>
                <a:latin typeface="新細明體"/>
                <a:ea typeface="Times New Roman"/>
              </a:rPr>
              <a:t>2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)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分解出氧及水的化學反應分子模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，如果參與反應的雙氧水中共有氧原子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40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個，則生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水分子中的氧原子共有多少個？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(A)1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個　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(B)2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個　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(C)20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個　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(D)40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</a:rPr>
              <a:t>個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770040" y="0"/>
            <a:ext cx="738432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二氧化碳分子的分子量為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44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，則下列敘述何者正確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(A)1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個二氧化碳分子的質量為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44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克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(B)44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個二氧化碳分子的質量為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1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克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(C)1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個二氧化碳分子的質量為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1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個碳原子的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44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倍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(D)1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個二氧化碳分子所含碳原子與氧原子的原子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     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總和為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44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55640" y="-360"/>
            <a:ext cx="743544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蠟燭燃燒後，其生成物之總質量大於蠟燭減少的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總質量，請問質量增加的來源是空氣中的何種物質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(A)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氧氣　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(B)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氫氣　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(C)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水蒸氣　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(D)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二氧化碳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776520" y="360"/>
            <a:ext cx="737136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溫度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25℃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、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1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大氣壓時，氦氣與氮氣兩氣體混合加熱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至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50℃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，下列哪一選項可表示當時混合氣體的狀態？</a:t>
            </a:r>
            <a:br>
              <a:rPr sz="3000"/>
            </a:b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(A)                                     (B)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(C)                                      (D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1-2-09" descr=""/>
          <p:cNvPicPr/>
          <p:nvPr/>
        </p:nvPicPr>
        <p:blipFill>
          <a:blip r:embed="rId1"/>
          <a:stretch/>
        </p:blipFill>
        <p:spPr>
          <a:xfrm>
            <a:off x="1116000" y="1268280"/>
            <a:ext cx="1981080" cy="1694160"/>
          </a:xfrm>
          <a:prstGeom prst="rect">
            <a:avLst/>
          </a:prstGeom>
          <a:ln w="0">
            <a:noFill/>
          </a:ln>
        </p:spPr>
      </p:pic>
      <p:pic>
        <p:nvPicPr>
          <p:cNvPr id="49" name="1-2-12" descr=""/>
          <p:cNvPicPr/>
          <p:nvPr/>
        </p:nvPicPr>
        <p:blipFill>
          <a:blip r:embed="rId2"/>
          <a:stretch/>
        </p:blipFill>
        <p:spPr>
          <a:xfrm>
            <a:off x="5076720" y="1268280"/>
            <a:ext cx="1981440" cy="1694160"/>
          </a:xfrm>
          <a:prstGeom prst="rect">
            <a:avLst/>
          </a:prstGeom>
          <a:ln w="0">
            <a:noFill/>
          </a:ln>
        </p:spPr>
      </p:pic>
      <p:pic>
        <p:nvPicPr>
          <p:cNvPr id="50" name="1-2-11" descr=""/>
          <p:cNvPicPr/>
          <p:nvPr/>
        </p:nvPicPr>
        <p:blipFill>
          <a:blip r:embed="rId3"/>
          <a:stretch/>
        </p:blipFill>
        <p:spPr>
          <a:xfrm>
            <a:off x="1150920" y="3716280"/>
            <a:ext cx="1981080" cy="16938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5076720" y="3716280"/>
            <a:ext cx="1979640" cy="16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-106920" y="-360"/>
            <a:ext cx="8937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鎂和氧加熱生成氧化鎂，鎂用去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15g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，請問必須用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氧多少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g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？　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(A)10g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　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(B)20g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　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(C)30g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　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(D)40g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41880" y="0"/>
            <a:ext cx="499644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鐵生鏽後質量會增加，原因為何？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(A)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鐵生鏽是質量守恆定律的例外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(B)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測量的天平有問題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(C)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空氣中的氧也參加反應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(D)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鐵吸收空氣中的二氧化碳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4T12:54:33Z</dcterms:created>
  <dc:creator>LiuWeiLiang</dc:creator>
  <dc:description/>
  <dc:language>en-US</dc:language>
  <cp:lastModifiedBy>LiuWeiLiang</cp:lastModifiedBy>
  <dcterms:modified xsi:type="dcterms:W3CDTF">2011-02-26T02:42:00Z</dcterms:modified>
  <cp:revision>18</cp:revision>
  <dc:subject/>
  <dc:title>投影片 1</dc:title>
</cp:coreProperties>
</file>