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FAF-8838-496D-A1F0-BEBA00ED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B76-1C82-41B5-A876-B7D6B16F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029-B07E-4DBA-B44A-8FB7E34A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AAD-6724-4C62-8F2D-48BD995C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E61-AE93-4AF5-BCE9-6C068E7B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287-D4F1-4EF4-83D7-2009B678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7A8-AF81-4F66-AB78-A18D6BCF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D20-154D-4D50-A1A3-16407505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9D7-8152-44F0-8CDD-A2EAB250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20A-3130-4762-89A5-03AAEAB1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B26-1EF9-4276-B877-246AAEDB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7B8-D90A-4992-9A7E-8135FAB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B44C-62ED-43BE-B8D0-B51F4976785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密度命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義竹國中張順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某長方體金屬，其長、寬、高分別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將其放在上皿天平測量質量，當天平平衡時，計算砝碼共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。四種金屬常溫時的密度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鋁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鐵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7.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銅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.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金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9.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單位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根據實驗結果，可知此金屬為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83534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某長方體金屬，其長、寬、高分別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將其放在上皿天平測量質量，當天平平衡時，計算砝碼共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。四種金屬常溫時的密度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鋁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鐵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7.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銅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.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金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9.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單位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，根據實驗結果，可知此金屬為何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鋁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鐵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銅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4941720"/>
            <a:ext cx="8147160" cy="1617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上皿天平測的之質量等於所有砝碼克數相加，物質密度＝質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體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把質量為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的冰（密度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9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放在燒杯內，待冰完全熔化後，測得水的體積為多少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8.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把質量為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的冰（密度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9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放在燒杯內，待冰完全熔化後，測得水的體積為多少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8.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9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4508640"/>
            <a:ext cx="8147160" cy="1800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冰融化成水後質量不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乙、丙三種物質，其體積依序為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0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密度依序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.8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.2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8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每次取兩個放在等臂天平兩端，可以平衡的是哪兩種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、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任何兩個皆無法平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4508640"/>
            <a:ext cx="8147160" cy="1800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等臂天平平衡代表質量相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＝體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密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227160"/>
            <a:ext cx="8209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甲、乙、丙三種物質，其體積依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0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0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0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密度依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.8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.2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.8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每次取兩個放在等臂天平兩端，可以平衡的是哪兩種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乙、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甲、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甲、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任何兩個皆無法平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</a:rPr>
              <a:t>莊鎮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想測量豆漿的密度，於是他利用量筒分別倒入不同體積的豆漿後測得結果如表。則該豆漿密度為多少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5.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.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.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0.8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64000" y="3284640"/>
          <a:ext cx="4536720" cy="1153800"/>
        </p:xfrm>
        <a:graphic>
          <a:graphicData uri="http://schemas.openxmlformats.org/drawingml/2006/table">
            <a:tbl>
              <a:tblPr/>
              <a:tblGrid>
                <a:gridCol w="2887200"/>
                <a:gridCol w="412200"/>
                <a:gridCol w="411480"/>
                <a:gridCol w="414000"/>
                <a:gridCol w="411840"/>
              </a:tblGrid>
              <a:tr h="48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漿體積（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m</a:t>
                      </a:r>
                      <a:r>
                        <a:rPr b="0" lang="zh-TW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量筒裝豆漿的總質量（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g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4508640"/>
            <a:ext cx="8207280" cy="1800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先算出量筒之質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豆漿之質量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＝總質量－量筒質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04640"/>
            <a:ext cx="821844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</a:rPr>
              <a:t>莊鎮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想測量豆漿的密度，於是他利用量筒分別倒入不同體積的豆漿後測得結果如表。則該豆漿密度為多少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5.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.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.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0.8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564000" y="2637000"/>
          <a:ext cx="4320720" cy="1152000"/>
        </p:xfrm>
        <a:graphic>
          <a:graphicData uri="http://schemas.openxmlformats.org/drawingml/2006/table">
            <a:tbl>
              <a:tblPr/>
              <a:tblGrid>
                <a:gridCol w="2749680"/>
                <a:gridCol w="392400"/>
                <a:gridCol w="392400"/>
                <a:gridCol w="393840"/>
                <a:gridCol w="392400"/>
              </a:tblGrid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漿體積（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m</a:t>
                      </a:r>
                      <a:r>
                        <a:rPr b="0" lang="zh-TW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量筒裝豆漿的總質量（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g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兩物體之質量比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密度比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之體積比為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4508640"/>
            <a:ext cx="8147160" cy="1800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體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＝質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密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476280"/>
            <a:ext cx="813600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兩物體之質量比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密度比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之體積比為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用手擠壓一條麵包，針對這條被壓扁的麵包，請問下列敘述何者正確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麵包體積變大，質量變大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麵包體積變小，質量變小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麵包的密度變小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麵包密度變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今有兩正立方體鐵塊各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及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k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則兩鐵塊的邊長比為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0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4508640"/>
            <a:ext cx="8147160" cy="1800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相同物質密度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體積與質量成正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76280"/>
            <a:ext cx="813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今有兩正立方體鐵塊各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及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k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則兩鐵塊的邊長比為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0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密度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／立方公分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金屬與密度為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／立方公分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金屬，取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金屬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金屬質量比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製成合金，則此合金密度為多少公克／立方公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/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/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b/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   3ab/(2a+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4581360"/>
            <a:ext cx="8147160" cy="172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設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的質量分別是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合金密度＝總質量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÷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總體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333360"/>
            <a:ext cx="8136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密度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／立方公分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金屬與密度為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／立方公分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金屬，取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金屬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金屬質量比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製成合金，則此合金密度為多少公克／立方公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/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/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b/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   3ab/(2a+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</a:rPr>
              <a:t>小明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要測量一形狀不規則銅塊的密度時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</a:rPr>
              <a:t>小明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可使用下列哪些器材來進行測量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量筒、燒杯、水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直尺、天平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直尺、試管、水、天平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量筒、水、天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4581360"/>
            <a:ext cx="8147160" cy="172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測量質量器材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測量體積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器材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333360"/>
            <a:ext cx="813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要測量一形狀不規則銅塊的密度時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可使用下列哪些器材來進行測量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量筒、燒杯、水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直尺、天平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直尺、試管、水、天平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量筒、水、天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有一密度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.24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的物質，若改用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kg/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為單位，則其數值為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240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24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2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2.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4581360"/>
            <a:ext cx="8147160" cy="172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-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k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-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33360"/>
            <a:ext cx="813600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有一密度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.24g/cm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的物質，若改用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kg/m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為單位，則其數值為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240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24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2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2.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數個體積不等的同一物質，以體積為橫座標，密度為縱座標，則下列關係圖何者正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　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 B )                ( C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 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119232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48000" y="2708280"/>
            <a:ext cx="119232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119196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03280" y="4437000"/>
            <a:ext cx="1200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4581360"/>
            <a:ext cx="8147160" cy="172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同一物質密度相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333360"/>
            <a:ext cx="81360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數個體積不等的同一物質，以體積為橫座標，密度為縱座標，則下列關係圖何者正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　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 B )                ( C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 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19196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64000" y="1557360"/>
            <a:ext cx="119232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12000" y="1557360"/>
            <a:ext cx="119196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403280" y="3141720"/>
            <a:ext cx="1200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用手擠壓一條麵包，針對這條被壓扁的麵包，請問下列敘述何者正確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麵包體積變大，質量變大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麵包體積變小，質量變小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麵包的密度變小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麵包密度變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3933720"/>
            <a:ext cx="8147160" cy="2192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麵包擠壓後質量不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在試管中注入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8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密度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的水，若水凝固成冰時，體積增加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則冰的密度將為多少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.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0.95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0.9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4581360"/>
            <a:ext cx="8147160" cy="172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凝固成冰時質量不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33360"/>
            <a:ext cx="813600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在試管中注入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8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密度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的水，若水凝固成冰時，體積增加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則冰的密度將為多少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.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0.95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0.9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由實驗得知，甲、乙、丙三種物質的體積（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V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）和質量（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）的關係如附圖所示，則三種物質的密度大小關係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甲＞乙＞丙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甲＝乙＝丙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丙＞乙＞甲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無法比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80000" y="3500280"/>
            <a:ext cx="19447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4581360"/>
            <a:ext cx="8147160" cy="172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體積固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密度與質量成正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333360"/>
            <a:ext cx="813600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實驗得知，甲、乙、丙三種物質的體積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和質量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的關係如附圖所示，則三種物質的密度大小關係為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＞乙＞丙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＝乙＝丙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＞乙＞甲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無法比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19447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同一個正立方的物體，當每邊長加倍時，下列敘述何者正確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質量也加倍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密度也加倍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體積也加倍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密度不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4581360"/>
            <a:ext cx="8147160" cy="172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常溫常壓下同一物質密度不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邊長加倍體積變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333360"/>
            <a:ext cx="813600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同一個正立方的物體，當每邊長加倍時，下列敘述何者正確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質量也加倍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密度也加倍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體積也加倍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密度不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已知鐵的密度小於金，則相同質量的鐵塊和金塊作成實心圓球時，何者的體積會比較大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金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鐵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兩者一樣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無法判斷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4581360"/>
            <a:ext cx="8147160" cy="172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質量相同時密度與體積成反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333360"/>
            <a:ext cx="813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已知鐵的密度小於金，則相同質量的鐵塊和金塊作成實心圓球時，何者的體積會比較大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金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鐵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兩者一樣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）無法判斷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如圖，甲、乙兩個組織均勻的實心球體置於已歸零的等臂天平左右兩秤盤中，天平兩臂呈現水平，則甲、乙兩球體密度何者較大？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甲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乙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兩者相等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無法判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1-31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20876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4581360"/>
            <a:ext cx="8147160" cy="172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天平平衡質量相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質量相同時密度與體積成反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33360"/>
            <a:ext cx="813600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如圖，甲、乙兩個組織均勻的實心球體置於已歸零的等臂天平左右兩秤盤中，天平兩臂呈現水平，則甲、乙兩球體密度何者較大？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者相等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無法判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1-31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08764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阿基米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測得國王王冠的體積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質量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40.0g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若純金密度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9.3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請問製作國王王冠的金匠是否有偷工減料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不一定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無法計算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一質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的瓶子，當瓶中裝滿水後總質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5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，若改為裝滿汽油則總質量僅有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5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，請問汽油的密度為多少公克／立方公分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0.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0.5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0.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4581360"/>
            <a:ext cx="8147160" cy="172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汽油實際質量須減去瓶子之質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227160"/>
            <a:ext cx="820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333360"/>
            <a:ext cx="813600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一質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的瓶子，當瓶中裝滿水後總質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5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，若改為裝滿汽油則總質量僅有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5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公克，請問汽油的密度為多少公克／立方公分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Ｂ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0.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0.5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0.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阿基米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測得國王王冠的體積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質量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40.0g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。若純金密度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9.3 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請問製作國王王冠的金匠是否有偷工減料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是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否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不一定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無法計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3933720"/>
            <a:ext cx="8147160" cy="2192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一種物質密度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密度＝質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體積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一長方體鐵塊，長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寬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高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測得質量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264g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求此鐵塊的密度為多少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.9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7.9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.9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9.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一長方體鐵塊，長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寬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高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測得質量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264g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求此鐵塊的密度為多少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.9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7.9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.9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3933720"/>
            <a:ext cx="8147160" cy="2192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長方體體積＝長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寬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密度＝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體積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一長方體金磚（密度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9.3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0" lang="zh-TW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，放在一家銀樓展示，銀樓外貼了一個告示：「能夠單手拿起這塊金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秒鐘，就能把金磚免費帶回家！」經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年，這塊金磚仍在銀樓展示，這是因為看似磚頭大小的金磚，重量高達約多少公斤？（此金磚的長、寬、高各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5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2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200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4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436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一長方體金磚（密度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9.3 g/cm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，放在一家銀樓展示，銀樓外貼了一個告示：「能夠單手拿起這塊金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秒鐘，就能把金磚免費帶回家！」經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年，這塊金磚仍在銀樓展示，這是因為看似磚頭大小的金磚，重量高達約多少公斤？（此金磚的長、寬、高各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5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2cm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2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4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2000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4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5661000"/>
            <a:ext cx="8147160" cy="750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質質量＝體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密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0:31:27Z</dcterms:created>
  <dc:creator>user</dc:creator>
  <dc:description/>
  <dc:language>en-US</dc:language>
  <cp:lastModifiedBy>user</cp:lastModifiedBy>
  <dcterms:modified xsi:type="dcterms:W3CDTF">2011-10-20T02:03:52Z</dcterms:modified>
  <cp:revision>3</cp:revision>
  <dc:subject/>
  <dc:title>密度命題</dc:title>
</cp:coreProperties>
</file>