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5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media/image2.png" ContentType="image/png"/>
  <Override PartName="/ppt/media/image10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A912-670F-4968-93B5-D8056DCFAD5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4725-DBDE-47FB-AA42-FDEE2B52036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C1E5-59E0-40A1-9BE2-7E121E07303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D2D-E170-4BB7-81F7-DA7905D8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D76-C831-4EED-9835-0DFC74F1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A71-C03B-4C99-8D7D-FC0EA1F6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BC2-D748-4666-B4E4-DFAC5841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A96-D082-468D-A02B-8682C289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2BA1-1C2A-4176-BA38-B46FAEB2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40F-7367-44AB-8C92-1D08DC92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3AF-0383-4ACB-AFCC-9E3CA4DE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86F-0210-42DA-886D-209BDEEF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137-7445-4E6B-AF94-CEB23721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6E5-C07F-4AA7-9DBD-6C8C9C5D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02E-58E1-4B1B-9961-5B362074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78A2-48CA-45A8-9BA2-D84FFF1D971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4152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二氧化碳可用來滅火的理由是什麼？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不自燃、比空氣重。　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不助燃、不可燃，且比空氣重。　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不自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燃、比空氣輕。　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不助燃、比空氣輕。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4869000"/>
            <a:ext cx="435276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7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碳、硫、鎂、酒精燃燒時，皆會產生？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產生二氧化碳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產生氣體  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放出熱量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產生白光。</a:t>
            </a:r>
            <a:br>
              <a:rPr sz="39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6920" y="2565360"/>
            <a:ext cx="734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反應物須含碳元素，燃燒時才會產生二氧化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燃燒產物不一定都是氣體，例如氧化鎂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燃燒必為放熱反應， 但火焰顏色不固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有四個廣口瓶分別裝入氧氣、二氧化硫、氮氣和二氧化碳，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Calibri"/>
              </a:rPr>
              <a:t>林芳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想要利用：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潮溼的藍色石蕊試紙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乙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點燃的線香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丙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澄清的石灰水 等方法，依次找出二氧化碳、氧氣、二氧化硫和氮氣，則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Calibri"/>
              </a:rPr>
              <a:t>林芳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依序使用的方法須為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甲乙丙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乙丙甲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丙乙甲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甲丙乙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有四個廣口瓶分別裝入氧氣、二氧化硫、氮氣和二氧化碳，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Calibri"/>
              </a:rPr>
              <a:t>林芳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想要利用：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潮溼的藍色石蕊試紙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乙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點燃的線香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丙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澄清的石灰水 等方法，依次找出二氧化碳、氧氣、二氧化硫和氮氣則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Calibri"/>
              </a:rPr>
              <a:t>林芳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依序使用的方法須為：</a:t>
            </a:r>
            <a:br>
              <a:rPr sz="3000"/>
            </a:b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丙乙甲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乙丙甲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甲乙丙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甲丙乙。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4"/>
          <p:cNvSpPr/>
          <p:nvPr/>
        </p:nvSpPr>
        <p:spPr>
          <a:xfrm>
            <a:off x="1116000" y="3573360"/>
            <a:ext cx="7056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氧氣有助燃性， 可使線香燃燒旺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二氧化硫水溶液為酸性， 可使石蕊試紙呈紅色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二氧化碳遇石灰水，呈白色混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氮氣無助燃性，也無可燃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飄浮的氫氣球，若觸及火花，可能爆炸而冒出火焰。要避免這種意外，可改用哪種氣體填充汽球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二氧化碳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氧氣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甲烷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氦氣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2803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飄浮的氫氣球，若觸及火花，可能爆炸而冒出火焰。要避免這種意外，可改用哪種氣體填充汽球？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二氧化碳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氧氣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甲烷  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氦氣。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826920" y="2852640"/>
            <a:ext cx="71298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氧氣有助燃性， 且密度比空氣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二氧化碳密度比空氣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氦氣密度僅次於氫氣，且為惰性氣體， 不助燃也不可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甲烷密度雖小於空氣，但有可燃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雙氧水製取氧氣的過程中，為何要將薊頭漏斗的長管末端插入液面下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可增加產生氧氣的量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可增加反應速率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防止水槽內的水倒灌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產生的氧氣不致於由薊頭漏斗散失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2303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95280" y="69228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雙氧水製取氧氣的過程中，為何要將薊頭漏斗的長管末端插入液面下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可增加產生氧氣的量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可增加反應速率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防止水槽內的水倒灌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產生的氧氣不致於由薊頭漏斗散失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2305080" cy="2016360"/>
          </a:xfrm>
          <a:prstGeom prst="rect">
            <a:avLst/>
          </a:prstGeom>
          <a:ln w="0">
            <a:noFill/>
          </a:ln>
        </p:spPr>
      </p:pic>
      <p:sp>
        <p:nvSpPr>
          <p:cNvPr id="82" name="矩形 4"/>
          <p:cNvSpPr/>
          <p:nvPr/>
        </p:nvSpPr>
        <p:spPr>
          <a:xfrm>
            <a:off x="611280" y="4076640"/>
            <a:ext cx="79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若薊頭漏斗的長管末端在液面上，則反應產生的氣體，不會經由導管進入水槽內的廣口瓶中，會從薊頭漏斗逸散而收集不到產生的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68360" y="620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若將液態空氣緩緩加熱，發現氮氣比氧氣先沸騰，且氮與氧的組成體積比約為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，則下列推論何者正確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氮氣的性質比氧氣活潑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氮氣的沸點比氧氣高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因為氮與氧的體積比約為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，所以空氣為純物質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因為液態空氣有兩種沸騰溫度，所以液態空氣為混合物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360" y="620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若將液態空氣緩緩加熱，發現氮氣比氧氣先沸騰，且氮與氧的組成體積比約為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，則下列推論何者正確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氮氣的性質比氧氣活潑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氮氣的沸點比氧氣高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因為氮與氧的體積比約為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，所以空氣為純物質      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因為液態空氣有兩種沸騰溫度，所以液態空氣為混合物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1187280" y="4076640"/>
            <a:ext cx="6985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愈先沸騰的氣體，代表沸點愈低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氮氣和氧氣沸點不同，代表空氣的組成氣體各具有不同性質，此為混合物的特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26920" y="260280"/>
            <a:ext cx="777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下表是在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大氣壓下，甲、乙、丙三種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氣體與空氣的密度及溶解度表，則表中哪一種氣體適何用 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Calibri"/>
              </a:rPr>
              <a:t>排水集氣法</a:t>
            </a: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收集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新細明體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C)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300" spc="-1" strike="noStrike">
                <a:solidFill>
                  <a:srgbClr val="000000"/>
                </a:solidFill>
                <a:latin typeface="Calibri"/>
              </a:rPr>
              <a:t>　 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059280" y="2349360"/>
          <a:ext cx="5111640" cy="259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349360"/>
                    <a:ext cx="51116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二氧化碳可用來滅火的理由是什麼？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不可燃、比空氣重。　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不助燃、不可燃，且比空氣重。　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不可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燃、比空氣輕。　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不助燃、比空氣輕。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6000" y="4508280"/>
            <a:ext cx="5688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Calibri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Calibri"/>
              </a:rPr>
              <a:t>二氧化碳會沉積到地面上</a:t>
            </a:r>
            <a:r>
              <a:rPr b="0" lang="zh-TW" sz="3000" spc="-1" strike="noStrike">
                <a:solidFill>
                  <a:srgbClr val="ff0000"/>
                </a:solidFill>
                <a:latin typeface="新細明體"/>
              </a:rPr>
              <a:t>，使氧氣無法與燃燒中的物品繼續接觸</a:t>
            </a:r>
            <a:r>
              <a:rPr b="0" lang="zh-TW" sz="30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26920" y="260280"/>
            <a:ext cx="777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下表是在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大氣壓下，甲、乙、丙三種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氣體與空氣的密度及溶解度表，則表中哪一種氣體適何用 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Calibri"/>
              </a:rPr>
              <a:t>排水集氣法</a:t>
            </a: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收集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新細明體"/>
              </a:rPr>
              <a:t>   </a:t>
            </a:r>
            <a:r>
              <a:rPr b="0" lang="en-US" sz="3000" spc="-1" strike="noStrike">
                <a:solidFill>
                  <a:srgbClr val="00b0f0"/>
                </a:solidFill>
                <a:latin typeface="新細明體"/>
              </a:rPr>
              <a:t>(A)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  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C)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300" spc="-1" strike="noStrike">
                <a:solidFill>
                  <a:srgbClr val="000000"/>
                </a:solidFill>
                <a:latin typeface="Calibri"/>
              </a:rPr>
              <a:t>　 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2916360" y="1916280"/>
          <a:ext cx="496872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916280"/>
                    <a:ext cx="496872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矩形 8"/>
          <p:cNvSpPr/>
          <p:nvPr/>
        </p:nvSpPr>
        <p:spPr>
          <a:xfrm>
            <a:off x="684360" y="4437000"/>
            <a:ext cx="7991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氣體溶解度愈小者，適合用排水集氣法收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68360" y="549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下表是在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大氣壓下，甲、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、丙三種氣體與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氣的密度及溶解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表，則收集到乙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體後應如何放置保存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　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)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　 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2-58"/>
          <p:cNvPicPr/>
          <p:nvPr/>
        </p:nvPicPr>
        <p:blipFill>
          <a:blip r:embed="rId1"/>
          <a:stretch/>
        </p:blipFill>
        <p:spPr>
          <a:xfrm>
            <a:off x="1258920" y="4076640"/>
            <a:ext cx="1204920" cy="12970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4140360" y="692280"/>
          <a:ext cx="4360680" cy="2520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692280"/>
                    <a:ext cx="436068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5" descr="2-59"/>
          <p:cNvPicPr/>
          <p:nvPr/>
        </p:nvPicPr>
        <p:blipFill>
          <a:blip r:embed="rId4"/>
          <a:stretch/>
        </p:blipFill>
        <p:spPr>
          <a:xfrm>
            <a:off x="3348000" y="4076640"/>
            <a:ext cx="1081080" cy="1251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2-60"/>
          <p:cNvPicPr/>
          <p:nvPr/>
        </p:nvPicPr>
        <p:blipFill>
          <a:blip r:embed="rId5"/>
          <a:stretch/>
        </p:blipFill>
        <p:spPr>
          <a:xfrm>
            <a:off x="5364000" y="4076640"/>
            <a:ext cx="935280" cy="115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2-61"/>
          <p:cNvPicPr/>
          <p:nvPr/>
        </p:nvPicPr>
        <p:blipFill>
          <a:blip r:embed="rId6"/>
          <a:stretch/>
        </p:blipFill>
        <p:spPr>
          <a:xfrm>
            <a:off x="7236000" y="4005360"/>
            <a:ext cx="1242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259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下表是在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大氣壓下，甲、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、丙三種氣體與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氣的密度及溶解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表，則收集到乙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體後應如何放置保存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　            </a:t>
            </a:r>
            <a:r>
              <a:rPr b="0" lang="en-US" sz="3000" spc="-1" strike="noStrike">
                <a:solidFill>
                  <a:srgbClr val="00b0f0"/>
                </a:solidFill>
                <a:latin typeface="新細明體"/>
              </a:rPr>
              <a:t>(B)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)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　 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2-58"/>
          <p:cNvPicPr/>
          <p:nvPr/>
        </p:nvPicPr>
        <p:blipFill>
          <a:blip r:embed="rId1"/>
          <a:stretch/>
        </p:blipFill>
        <p:spPr>
          <a:xfrm>
            <a:off x="1258920" y="3716280"/>
            <a:ext cx="1204920" cy="1297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140360" y="404640"/>
          <a:ext cx="4360680" cy="2519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404640"/>
                    <a:ext cx="436068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5" descr="2-59"/>
          <p:cNvPicPr/>
          <p:nvPr/>
        </p:nvPicPr>
        <p:blipFill>
          <a:blip r:embed="rId4"/>
          <a:stretch/>
        </p:blipFill>
        <p:spPr>
          <a:xfrm>
            <a:off x="3276720" y="3716280"/>
            <a:ext cx="1081080" cy="1251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2-60"/>
          <p:cNvPicPr/>
          <p:nvPr/>
        </p:nvPicPr>
        <p:blipFill>
          <a:blip r:embed="rId5"/>
          <a:stretch/>
        </p:blipFill>
        <p:spPr>
          <a:xfrm>
            <a:off x="5364000" y="3716280"/>
            <a:ext cx="935280" cy="1150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2-61"/>
          <p:cNvPicPr/>
          <p:nvPr/>
        </p:nvPicPr>
        <p:blipFill>
          <a:blip r:embed="rId6"/>
          <a:stretch/>
        </p:blipFill>
        <p:spPr>
          <a:xfrm>
            <a:off x="7236000" y="3645000"/>
            <a:ext cx="1242720" cy="1224000"/>
          </a:xfrm>
          <a:prstGeom prst="rect">
            <a:avLst/>
          </a:prstGeom>
          <a:ln w="0">
            <a:noFill/>
          </a:ln>
        </p:spPr>
      </p:pic>
      <p:sp>
        <p:nvSpPr>
          <p:cNvPr id="111" name="矩形 8"/>
          <p:cNvSpPr/>
          <p:nvPr/>
        </p:nvSpPr>
        <p:spPr>
          <a:xfrm>
            <a:off x="826920" y="5084640"/>
            <a:ext cx="720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氣體密度大於空氣者，愈易沉降在空氣下方，所以瓶口向上，氣體較不會逸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4360" y="18900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下表是在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大氣壓下，甲、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、丙三種氣體與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氣的密度及溶解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表，則右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裝置適合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來收集哪一種氣體？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乙 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　 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427640" y="907920"/>
          <a:ext cx="4146480" cy="295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907920"/>
                    <a:ext cx="4146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Picture 6" descr="2-60"/>
          <p:cNvPicPr/>
          <p:nvPr/>
        </p:nvPicPr>
        <p:blipFill>
          <a:blip r:embed="rId3"/>
          <a:stretch/>
        </p:blipFill>
        <p:spPr>
          <a:xfrm>
            <a:off x="2700360" y="2924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4360" y="-36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下表是在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大氣壓下，甲、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、丙三種氣體與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氣的密度及溶解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表，則右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裝置適合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來收集哪一種氣體？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乙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b0f0"/>
                </a:solidFill>
                <a:latin typeface="新細明體"/>
              </a:rPr>
              <a:t>(</a:t>
            </a:r>
            <a:r>
              <a:rPr b="0" lang="zh-TW" sz="3000" spc="-1" strike="noStrike">
                <a:solidFill>
                  <a:srgbClr val="00b0f0"/>
                </a:solidFill>
                <a:latin typeface="新細明體"/>
              </a:rPr>
              <a:t>Ｃ</a:t>
            </a:r>
            <a:r>
              <a:rPr b="0" lang="en-US" sz="3000" spc="-1" strike="noStrike">
                <a:solidFill>
                  <a:srgbClr val="00b0f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b0f0"/>
                </a:solidFill>
                <a:latin typeface="新細明體"/>
              </a:rPr>
              <a:t>丙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。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　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4500720" y="765000"/>
          <a:ext cx="4248000" cy="259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765000"/>
                    <a:ext cx="424800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6" descr="2-60"/>
          <p:cNvPicPr/>
          <p:nvPr/>
        </p:nvPicPr>
        <p:blipFill>
          <a:blip r:embed="rId3"/>
          <a:stretch/>
        </p:blipFill>
        <p:spPr>
          <a:xfrm>
            <a:off x="2771640" y="2781360"/>
            <a:ext cx="1009800" cy="1008000"/>
          </a:xfrm>
          <a:prstGeom prst="rect">
            <a:avLst/>
          </a:prstGeom>
          <a:ln w="0">
            <a:noFill/>
          </a:ln>
        </p:spPr>
      </p:pic>
      <p:sp>
        <p:nvSpPr>
          <p:cNvPr id="122" name="矩形 5"/>
          <p:cNvSpPr/>
          <p:nvPr/>
        </p:nvSpPr>
        <p:spPr>
          <a:xfrm>
            <a:off x="826920" y="4508640"/>
            <a:ext cx="756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氣體溶解度大，且密度小於空氣者，適合用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瓶口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向下排氣法收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68000" y="692280"/>
            <a:ext cx="82803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有關二氧化錳和雙氧水製造氧氣的敘述，何者正確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雙氧水是氧氣的水溶液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不加二氧化錳，只加雙氧水仍可製造氧氣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二氧化錳可分解出氧氣，所以二氧化錳加愈多，產生的氧氣也愈多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雙氧水的濃度，會隨著反應時間而愈來愈少 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000" y="692280"/>
            <a:ext cx="82803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有關二氧化錳和雙氧水製造氧氣的敘述，何者正確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雙氧水是氧氣的水溶液   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(B)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不加二氧化錳，只加雙氧水仍可製造氧氣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二氧化錳加愈多，產生的氧也愈多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雙氧水的濃度，會隨著反應時間而愈來愈多 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826920" y="4076640"/>
            <a:ext cx="7345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雙氧水是過氧化氫的水溶液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催化劑只能加快反應速率，無法增加生成物的產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反應物的質量隨反應時間而減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68360" y="691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.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利用大理石和稀鹽酸製備的氣體，與下列哪種氣體成分相同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植物行呼吸作用產生的氣體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雙氧水分解出的氣體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開水沸騰時茶壺嘴所噴出的氣體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乾冰製造舞台效果時，所產生的白色煙霧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549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.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利用大理石和稀鹽酸製備的氣體，與下列哪種氣體成分相同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(A)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植物行呼吸作用產生的氣體 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雙氧水分解出的氣體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開水沸騰時茶壺嘴所噴出的氣體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乾冰製造舞台效果時，所產生的白色煙霧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684360" y="3789360"/>
            <a:ext cx="79912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大理石和稀鹽酸製備的氣體為二氧化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生物行呼吸作用時，產生二氧化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雙氧水分解出氧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水沸騰時，汽化為水蒸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乾冰周圍的白色煙霧為小水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69192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已知魚在水中，須靠水中的溶氧來生存；如果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Calibri"/>
              </a:rPr>
              <a:t>恬恬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想替家裡的金魚水族箱換水，使用哪一種溫度的水，會較適合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)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的水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B)2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的水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)8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的水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煮沸過的水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41528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甲、乙、丙三試管各裝滿二氧化碳、氧氣和氮氣，然後倒插入水槽中，哪一支試管內的水位上升最高？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甲試管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乙試管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丙試管　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三支試管的水位等高。</a:t>
            </a:r>
            <a:br>
              <a:rPr sz="2900"/>
            </a:b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240" y="4869000"/>
            <a:ext cx="435276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360" y="69192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已知魚在水中，須靠水中的溶氧來生存；如果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Calibri"/>
              </a:rPr>
              <a:t>恬恬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想替家裡的金魚水族箱換水，使用哪一種溫度的水，會較適合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)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的水      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(B)20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℃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的水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)80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的水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煮沸過的水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755640" y="3573360"/>
            <a:ext cx="6985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水溫愈低，氧氣溶解度愈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水溫過低時，魚會失溫而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91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.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關於惰性氣體的敘述，下列何者正確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氫氣是最輕的惰性氣體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氮氣是大氣中含量最多的惰性氣體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氖氣常填充在日光燈管內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焊接金屬時使用氬氣，可防止金屬在高溫下與氧反應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9152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.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關於惰性氣體的敘述，下列何者正確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氫氣是最輕的惰性氣體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氮氣是大氣中含量最多的惰性氣體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氖氣常填充在日光燈管內      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焊接金屬時使用氬氣，可防止金屬在高溫下與氧反應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755640" y="4221000"/>
            <a:ext cx="770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氦氣是最輕的惰性氣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氬氣是大氣中含量最多的惰性氣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氖氣常填充在霓虹燈管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焊接金屬時使用氬氣，可防止金屬在高溫下與氧反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68360" y="765000"/>
            <a:ext cx="822960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.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下列哪種物質，加入水中能使石蕊試紙呈藍色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鎂帶燃燒的產物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硫粉燃燒的產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煤炭燃燒的產物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生鏽的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76500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.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下列哪種物質，加入水中能使石蕊試紙呈藍色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煤炭燃燒的產物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硫粉燃燒的產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b0f0"/>
                </a:solidFill>
                <a:latin typeface="Calibri"/>
              </a:rPr>
              <a:t>Ｃ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b0f0"/>
                </a:solidFill>
                <a:latin typeface="Calibri"/>
              </a:rPr>
              <a:t>鎂帶燃燒的產物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生鏽的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"/>
          <p:cNvSpPr/>
          <p:nvPr/>
        </p:nvSpPr>
        <p:spPr>
          <a:xfrm>
            <a:off x="971640" y="3357720"/>
            <a:ext cx="73454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金屬燃燒的產物，若溶於水則呈鹼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非金屬燃燒的產物，若溶於水則呈鹼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石蕊試紙遇到鹼性溶液，呈藍色；遇到酸性溶液，呈紅色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生鏽的鐵不溶於水，水溶液呈中性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8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有關乾冰與二氧化碳的敘述，何者錯誤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乾冰是固態的二氧化碳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乾冰周圍的白色煙霧是乾冰昇華後的氣體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二氧化碳可使澄清石灰水變白色混濁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壓力加大，二氧化碳在水中的溶解度會變大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8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有關乾冰與二氧化碳的敘述，何者錯誤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乾冰是固態的二氧化碳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二氧化碳可使澄清石灰水變白色混濁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(C)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乾冰周圍的白色煙霧是乾冰昇華後的氣體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壓力加大，二氧化碳在水中的溶解度會變大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684360" y="3533760"/>
            <a:ext cx="770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乾冰昇華是固態二氧化碳直接變為氣態的現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二氧化碳為無色、無味的氣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昇華時乾冰會吸取其周圍空氣的熱量，空氣中的水汽因放熱而凝結出小水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476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.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有關空氣的敘述，下列何者正確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空氣不占空間，所以沒有體積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利用高溫低壓法， 可使空氣完全液化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空氣是氮與氧的化合物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空氣中二氧化碳、水蒸氣的含量非常固定，大約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05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％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68360" y="26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.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有關空氣的敘述，下列何者正確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空氣不占空間，所以沒有體積   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利用低溫高壓法， 可使空氣完全液化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空氣是氮與氧的化合物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空氣中二氧化碳、水蒸氣的含量非常固定，大約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05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％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900000" y="2708280"/>
            <a:ext cx="7704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右圖證明空氣具有體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水蒸氣、二氧化碳約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空氣的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0.05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％ ， 但其含量隨季節、不同地點而變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低溫高壓法，有助於縮短空氣分子之間的距離，使空氣液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混合物的組成比例不固定，且無固定性質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圖片 9" descr="F:\理化銜接教材灰階圖\B34168.eps"/>
          <p:cNvPicPr/>
          <p:nvPr/>
        </p:nvPicPr>
        <p:blipFill>
          <a:blip r:embed="rId1"/>
          <a:srcRect l="0" t="0" r="0" b="3436"/>
          <a:stretch/>
        </p:blipFill>
        <p:spPr>
          <a:xfrm>
            <a:off x="5796000" y="2781360"/>
            <a:ext cx="1440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50920" y="549360"/>
            <a:ext cx="83628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. 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Calibri"/>
              </a:rPr>
              <a:t>小瑄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想在實驗室製造二氧化碳，則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Calibri"/>
              </a:rPr>
              <a:t>小瑄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應該使用下列哪一組實驗裝置較為恰當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)                    (B)                    (C)                    (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7" descr="2-47"/>
          <p:cNvPicPr/>
          <p:nvPr/>
        </p:nvPicPr>
        <p:blipFill>
          <a:blip r:embed="rId1"/>
          <a:stretch/>
        </p:blipFill>
        <p:spPr>
          <a:xfrm>
            <a:off x="324000" y="206064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2-48"/>
          <p:cNvPicPr/>
          <p:nvPr/>
        </p:nvPicPr>
        <p:blipFill>
          <a:blip r:embed="rId2"/>
          <a:stretch/>
        </p:blipFill>
        <p:spPr>
          <a:xfrm>
            <a:off x="2556000" y="2133720"/>
            <a:ext cx="1909800" cy="172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2-49"/>
          <p:cNvPicPr/>
          <p:nvPr/>
        </p:nvPicPr>
        <p:blipFill>
          <a:blip r:embed="rId3"/>
          <a:stretch/>
        </p:blipFill>
        <p:spPr>
          <a:xfrm>
            <a:off x="4716360" y="2133720"/>
            <a:ext cx="1882800" cy="165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2-50"/>
          <p:cNvPicPr/>
          <p:nvPr/>
        </p:nvPicPr>
        <p:blipFill>
          <a:blip r:embed="rId4"/>
          <a:stretch/>
        </p:blipFill>
        <p:spPr>
          <a:xfrm>
            <a:off x="6875640" y="2133720"/>
            <a:ext cx="1752480" cy="1655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596160" y="1319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593640" y="44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41528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甲、乙、丙三試管各裝滿二氧化碳、氧氣和氮氣，然後倒插入水槽中，哪一支試管內的水位上升最高？</a:t>
            </a:r>
            <a:br>
              <a:rPr sz="2700"/>
            </a:br>
            <a:r>
              <a:rPr b="0" lang="en-US" sz="27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lang="zh-TW" sz="2700" spc="-1" strike="noStrike">
                <a:solidFill>
                  <a:srgbClr val="00b0f0"/>
                </a:solidFill>
                <a:latin typeface="Calibri"/>
              </a:rPr>
              <a:t>Ａ</a:t>
            </a:r>
            <a:r>
              <a:rPr b="0" lang="en-US" sz="2700" spc="-1" strike="noStrike">
                <a:solidFill>
                  <a:srgbClr val="00b0f0"/>
                </a:solidFill>
                <a:latin typeface="Calibri"/>
              </a:rPr>
              <a:t>)</a:t>
            </a:r>
            <a:r>
              <a:rPr b="0" lang="zh-TW" sz="2700" spc="-1" strike="noStrike">
                <a:solidFill>
                  <a:srgbClr val="00b0f0"/>
                </a:solidFill>
                <a:latin typeface="Calibri"/>
              </a:rPr>
              <a:t>甲試管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乙試管　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丙試管　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2700" spc="-1" strike="noStrike">
                <a:solidFill>
                  <a:srgbClr val="000000"/>
                </a:solidFill>
                <a:latin typeface="Calibri"/>
              </a:rPr>
              <a:t>三支試管的水位等高。</a:t>
            </a:r>
            <a:br>
              <a:rPr sz="2600"/>
            </a:br>
            <a:br>
              <a:rPr sz="36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71280" y="4076640"/>
            <a:ext cx="6337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Calibri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0" lang="zh-TW" sz="3000" spc="-1" strike="noStrike">
                <a:solidFill>
                  <a:srgbClr val="ff0000"/>
                </a:solidFill>
                <a:latin typeface="Calibri"/>
              </a:rPr>
              <a:t>試管內氣體溶於水時，水面因試管內壓力變小而上升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0" lang="zh-TW" sz="3000" spc="-1" strike="noStrike">
                <a:solidFill>
                  <a:srgbClr val="ff0000"/>
                </a:solidFill>
                <a:latin typeface="Calibri"/>
              </a:rPr>
              <a:t>氣體溶解度愈大，水面上升愈高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50920" y="549360"/>
            <a:ext cx="83628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. 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Calibri"/>
              </a:rPr>
              <a:t>小瑄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想在實驗室製造二氧化碳，則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Calibri"/>
              </a:rPr>
              <a:t>小瑄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應該使用下列哪一組實驗裝置較為恰當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(B)                    (C)                    (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7" descr="2-47"/>
          <p:cNvPicPr/>
          <p:nvPr/>
        </p:nvPicPr>
        <p:blipFill>
          <a:blip r:embed="rId1"/>
          <a:stretch/>
        </p:blipFill>
        <p:spPr>
          <a:xfrm>
            <a:off x="324000" y="206064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2-48"/>
          <p:cNvPicPr/>
          <p:nvPr/>
        </p:nvPicPr>
        <p:blipFill>
          <a:blip r:embed="rId2"/>
          <a:stretch/>
        </p:blipFill>
        <p:spPr>
          <a:xfrm>
            <a:off x="2556000" y="2133720"/>
            <a:ext cx="1909800" cy="172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2-49"/>
          <p:cNvPicPr/>
          <p:nvPr/>
        </p:nvPicPr>
        <p:blipFill>
          <a:blip r:embed="rId3"/>
          <a:stretch/>
        </p:blipFill>
        <p:spPr>
          <a:xfrm>
            <a:off x="4716360" y="2133720"/>
            <a:ext cx="1882800" cy="1655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2-50"/>
          <p:cNvPicPr/>
          <p:nvPr/>
        </p:nvPicPr>
        <p:blipFill>
          <a:blip r:embed="rId4"/>
          <a:stretch/>
        </p:blipFill>
        <p:spPr>
          <a:xfrm>
            <a:off x="6875640" y="2133720"/>
            <a:ext cx="1752480" cy="1655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596160" y="1319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93640" y="44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/>
          <p:cNvSpPr/>
          <p:nvPr/>
        </p:nvSpPr>
        <p:spPr>
          <a:xfrm>
            <a:off x="611280" y="4292640"/>
            <a:ext cx="79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薊頭漏斗底端要浸入水中，而導管應在水面上，如此生成的二氧化碳，才能沿著導管進入廣口瓶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Calibri"/>
              </a:rPr>
              <a:t>賈柏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想檢驗他呼出的氣體，其水溶液的酸鹼性為何？於是用圖中的裝置做實驗，則他應該由何處吹氣或吸氣？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由乙吹氣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由甲吹氣　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由乙吸氣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由甲吸氣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2-30"/>
          <p:cNvPicPr/>
          <p:nvPr/>
        </p:nvPicPr>
        <p:blipFill>
          <a:blip r:embed="rId1"/>
          <a:stretch/>
        </p:blipFill>
        <p:spPr>
          <a:xfrm>
            <a:off x="6084720" y="2421000"/>
            <a:ext cx="19605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08720" cy="31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Calibri"/>
              </a:rPr>
              <a:t>賈柏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想檢驗他呼出的氣體，其水溶液的酸鹼性為何？於是用圖中的裝置做實驗，則他應該由何處吹氣或吸氣？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由乙吹氣　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由甲吹氣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由乙吸氣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由甲吸氣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3141720"/>
            <a:ext cx="7848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Calibri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Calibri"/>
              </a:rPr>
              <a:t>由甲吹氣，氣體直接進入液體中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Calibri"/>
              </a:rPr>
              <a:t>由乙吹氣，氣體容易停留在液面上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Calibri"/>
              </a:rPr>
              <a:t>由甲吸氣，會直接吸入液體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Calibri"/>
              </a:rPr>
              <a:t>由乙吸氣，試管內的氣體減少，氣壓變小，造成外面空氣經由甲管進入液體中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2-30"/>
          <p:cNvPicPr/>
          <p:nvPr/>
        </p:nvPicPr>
        <p:blipFill>
          <a:blip r:embed="rId1"/>
          <a:stretch/>
        </p:blipFill>
        <p:spPr>
          <a:xfrm>
            <a:off x="6588000" y="1341360"/>
            <a:ext cx="19605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觀察硫粉、鎂帶的外觀與燃燒情形，下列何者正確？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硫粉為白色固體粉末。 　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硫粉燃燒時是直接由固體燒起來。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硫粉燃燒會產生黃色火焰。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鎂帶燃燒時會產生強光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觀察硫粉、鎂帶的外觀與燃燒情形，下列何者正確？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硫粉為白色固體粉末。 　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硫粉燃燒會產生黃色火焰。 </a:t>
            </a:r>
            <a:br>
              <a:rPr sz="3000"/>
            </a:b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b0f0"/>
                </a:solidFill>
                <a:latin typeface="Calibri"/>
              </a:rPr>
              <a:t>鎂帶為銀灰色固體。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鎂帶燃燒時會產生紫色強光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900000" y="3933720"/>
            <a:ext cx="6842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題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硫粉為黃色固體，燃燒時先由固態熔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化成液態，再由液態氣化成氣態著火燃燒，燃燒時有藍紫色火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zh-TW" sz="3000" spc="-1" strike="noStrike">
                <a:solidFill>
                  <a:srgbClr val="ff0000"/>
                </a:solidFill>
                <a:latin typeface="Arial"/>
              </a:rPr>
              <a:t>鎂燃燒時有強烈白光不可直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0" t="0" r="48086" b="0"/>
          <a:stretch/>
        </p:blipFill>
        <p:spPr>
          <a:xfrm>
            <a:off x="6732720" y="1989000"/>
            <a:ext cx="151128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碳、硫、鎂、酒精燃燒時，皆會產生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產生二氧化碳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產生氣體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放出熱量  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Ｄ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Calibri"/>
              </a:rPr>
              <a:t>產生白光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4:00:59Z</dcterms:created>
  <dc:creator>user</dc:creator>
  <dc:description/>
  <dc:language>en-US</dc:language>
  <cp:lastModifiedBy>LWL</cp:lastModifiedBy>
  <dcterms:modified xsi:type="dcterms:W3CDTF">2011-10-24T13:00:01Z</dcterms:modified>
  <cp:revision>74</cp:revision>
  <dc:subject/>
  <dc:title>二氧化碳可用來滅火的理由是什麼？ (Ａ)不自燃、比空氣重　 (Ｂ)不助燃、不可燃，且比空氣重　 (Ｃ)不自燃、比空氣輕　 (Ｄ)不助燃、比空氣輕。</dc:title>
</cp:coreProperties>
</file>