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48DF-A6F4-4693-840D-6821400CD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A6C4-45FA-44B4-8C6B-4C3D790D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B35A-0340-4090-B1FD-0460D6575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2136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856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057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22136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856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764D-5530-49BD-8FC5-F7434AB10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CC60-5CC7-45D7-8F7E-A77A211C2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0CD4-C75D-48A0-93E8-D33E359A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F355-FABE-4E6A-99FF-3FE128CE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1A36-089F-420E-B0A8-E4370A99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B28C-FECE-47DB-8915-DED9648C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89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A40F-4675-4230-9EF9-8FE1EA23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6784-3762-47BB-80F3-D287568A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8C52-A641-4D53-92C8-5B4BE8B0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AC1B6-D610-4F0A-96F1-EA1A23D0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D617-B65F-4E7E-9C5A-A54D7C20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29D0-2515-426F-AD39-D2462D87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3E77-F03D-43E0-B8BA-567EB3B8A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2136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856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057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22136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856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4707-98FE-4E69-961E-5BDFD08B6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4FB4-00BC-45DA-B395-E4881A15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E352-61BE-4648-8AF4-226A3A11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DD1A-B61F-4FEF-97B3-DF7F0E19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89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57F9-CDA8-413B-B90A-14B551BC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26B8-EDDF-4512-984F-B537D238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9620-BCFB-4FA8-B738-FABD4622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6126-11E6-427D-82AD-AB3A079E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2E04-871E-4935-BE44-B01D9E65A612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F0E9-710B-4832-8A6F-924746E4B9DE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下列何種性質可用來區分純物質與混合物？　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是否具有導電性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是否具有延展性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沸點是否固定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常溫常壓下是否為固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小嘉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進行導電性的測試，哪一個與其他三者不同？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鐵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銅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石墨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硫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755640" y="3499920"/>
            <a:ext cx="7702560" cy="2808360"/>
          </a:xfrm>
          <a:prstGeom prst="rect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金屬均具有良好的導電、導熱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非金屬導電、導熱性不佳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石墨容易導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有一新元素，其延展性不佳，無法導電，常溫下為固體，則該元素中文命名應以何種部首較合理？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石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金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水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有一新元素，其延展性不佳，無法導電，常溫下為固體，則該元素中文命名應以何種部首較合理？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石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金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水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5640" y="4081320"/>
            <a:ext cx="7702560" cy="2372040"/>
          </a:xfrm>
          <a:prstGeom prst="rect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金屬元素延展性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金屬元素為熱與電的良導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液態存在的元素，從「水」或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氵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」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氣態非金屬元素從「气」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在地殼中含量最豐富的元素是：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氫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氯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鋁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在地殼中含量最豐富的金屬元素是：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氫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氯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鋁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5640" y="3505320"/>
            <a:ext cx="7702560" cy="2371680"/>
          </a:xfrm>
          <a:prstGeom prst="rect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地殼中元素含量多寡：氧矽鋁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37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物質的分類方式如附圖所示，下列敘述何者正確？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甲為混合物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乙為純物質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丙可能為臭氧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丁可能為鹽酸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627280" y="2276640"/>
            <a:ext cx="4873680" cy="22269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37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物質的分類方式如附圖所示，下列敘述何者正確？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甲為混合物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乙為純物質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丙可能為臭氧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丁可能為鹽酸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987640" y="1844640"/>
            <a:ext cx="4873680" cy="2227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826920" y="4292640"/>
            <a:ext cx="7702560" cy="2371680"/>
          </a:xfrm>
          <a:prstGeom prst="rect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物質可分為純物質、混合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純物質可分為元素、化合物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不能以普通的化學方法分解出其他物質者，稱為元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有四顆裝有不同氣體的氣球，在常溫常壓下，哪個氣球會在空氣中向上飄？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 He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 CO</a:t>
            </a:r>
            <a:r>
              <a:rPr b="0" lang="zh-TW" sz="3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 O</a:t>
            </a:r>
            <a:r>
              <a:rPr b="0" lang="zh-TW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 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00" y="1180440"/>
            <a:ext cx="4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Arial"/>
              </a:rPr>
              <a:t>　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162828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有四顆裝有下列不同氣體的氣球，在常溫常壓下，哪個氣球會在空氣中向上飄？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 He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 CO</a:t>
            </a:r>
            <a:r>
              <a:rPr b="0" lang="zh-TW" sz="3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 O</a:t>
            </a:r>
            <a:r>
              <a:rPr b="0" lang="zh-TW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 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00" y="1180440"/>
            <a:ext cx="4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Arial"/>
              </a:rPr>
              <a:t>　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3789360"/>
            <a:ext cx="7702560" cy="2371680"/>
          </a:xfrm>
          <a:prstGeom prst="rect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氣球裝盛比空氣輕的物質，便能在空氣中向上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空氣分子量大約為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28.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8 K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金含金幾％？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 80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％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 70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％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 75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％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 100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％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00" y="1180440"/>
            <a:ext cx="4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Arial"/>
              </a:rPr>
              <a:t>　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下列何種性質可用來區分純物質與混合物？　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是否具有導電性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是否具有延展性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沸點是否固定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常溫常壓下是否為固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55640" y="3505320"/>
            <a:ext cx="7702560" cy="1752480"/>
          </a:xfrm>
          <a:prstGeom prst="rect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純物質具有一定的組成與性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純物質保括元素與化合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8 K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金含金幾％？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 80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％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 70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％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 75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％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 100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％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00" y="1180440"/>
            <a:ext cx="4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Arial"/>
              </a:rPr>
              <a:t>　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00000" y="3789360"/>
            <a:ext cx="7702560" cy="2371680"/>
          </a:xfrm>
          <a:prstGeom prst="rect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金是指黃金和其他金屬熔煉在一起的合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純金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4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下列有關鐵、鋼的敘述，何者正確？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由高爐冶煉所得到的鐵叫做熟鐵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熟鐵富延展性，故不適合用於鍛接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鋼的含碳量低於熟鐵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生鐵是由碳和鐵組成的合金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00" y="1180440"/>
            <a:ext cx="4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Arial"/>
              </a:rPr>
              <a:t>　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下列有關鐵、鋼的敘述，何者正確？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由高爐冶煉所得到的鐵叫做熟鐵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熟鐵富延展性，故不適合用於鍛接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鋼的含碳量低於熟鐵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生鐵是由碳和鐵組成的合金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00" y="1180440"/>
            <a:ext cx="4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Arial"/>
              </a:rPr>
              <a:t>　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00000" y="3789360"/>
            <a:ext cx="7702560" cy="2371680"/>
          </a:xfrm>
          <a:prstGeom prst="rect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高爐冶煉所得到的鐵叫做生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熟鐵富延展性，適合鍛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含碳量多寡：生鐵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熟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非金屬元素在常溫下的狀態為：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全為固態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全為液態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全為氣態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固態、液態、氣態均有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00" y="1180440"/>
            <a:ext cx="4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Arial"/>
              </a:rPr>
              <a:t>　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非金屬元素在常溫下的狀態為：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全為固態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全為液態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全為氣態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固態、液態、氣態均有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00" y="1180440"/>
            <a:ext cx="4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Arial"/>
              </a:rPr>
              <a:t>　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3789360"/>
            <a:ext cx="7702560" cy="2371680"/>
          </a:xfrm>
          <a:prstGeom prst="rect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固態非金屬元素從「石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液態存在的元素，從「水」或「氵」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氣態非金屬元素從「气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種不同的元素：鎢、鉛、碳、汞、硫、金、磷、鎂、砷、鐵。被敲擊後容易破裂的有幾種？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 4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 5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 6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 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00" y="1180440"/>
            <a:ext cx="4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Arial"/>
              </a:rPr>
              <a:t>　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種不同的元素：鎢、鉛、碳、汞、硫、金、磷、鎂、砷、鐵。被敲擊後容易破裂的有幾種？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 4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 5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 6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 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00" y="1180440"/>
            <a:ext cx="4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Arial"/>
              </a:rPr>
              <a:t>　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00000" y="3789360"/>
            <a:ext cx="7702560" cy="2371680"/>
          </a:xfrm>
          <a:prstGeom prst="rect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非金屬元素無延展性，易被敲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下列有關合金的敘述，何者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錯誤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？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黃銅是由銅、鋅組成的合金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白金是由金、銀組成的合金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不鏽鋼是由鋼、鎳、鉻組成的合金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青銅是由銅、錫組成的合金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00" y="1180440"/>
            <a:ext cx="4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Arial"/>
              </a:rPr>
              <a:t>　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下列有關合金的敘述，何者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錯誤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？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黃銅是由銅、鋅組成的合金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白金是由金、銀組成的合金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不鏽鋼是由鋼、鎳、鉻組成的合金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青銅是由銅、錫組成的合金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00" y="1180440"/>
            <a:ext cx="4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Arial"/>
              </a:rPr>
              <a:t>　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00000" y="3789360"/>
            <a:ext cx="7702560" cy="2371680"/>
          </a:xfrm>
          <a:prstGeom prst="rect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一金屬跟其他金屬或非金屬所組成具有金屬特性的物質，稱為「合金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白金是元素，又稱為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P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氮氣、水、糖水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金、黃銅、碳酸鈉、氧氣、氬氣、氯化鈉、汞、鋼，以上物質屬於化合物的有幾種？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  2   (B)  3   (C)  4  (D)  5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00" y="1180440"/>
            <a:ext cx="4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Arial"/>
              </a:rPr>
              <a:t>　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lnSpc>
                <a:spcPct val="100000"/>
              </a:lnSpc>
              <a:buClr>
                <a:srgbClr val="000000"/>
              </a:buClr>
              <a:buFont typeface="新細明體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以下哪一組物質在常溫常壓下都是液態？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溴、汞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溴、碘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汞、氮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碘、汞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氮氣、水、糖水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金、黃銅、碳酸鈉、氧氣、氬氣、氯化鈉、汞、鋼，以上物質屬於化合物的有幾種？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  2   (B)  3   (C)  4  (D)  5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00" y="1180440"/>
            <a:ext cx="4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Arial"/>
              </a:rPr>
              <a:t>　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00000" y="3789360"/>
            <a:ext cx="7702560" cy="2371680"/>
          </a:xfrm>
          <a:prstGeom prst="rect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由單一原子所組成的物質，稱為元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由兩種或兩種以上元素，依一定比例組成的物質，稱為化合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等七個元素中，有幾個在常溫下為氣體？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 4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 5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 6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 7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　個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00" y="1180440"/>
            <a:ext cx="4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Arial"/>
              </a:rPr>
              <a:t>　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等七個元素中，有幾個在常溫下為氣體？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 4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 5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 6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 7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　個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00" y="1180440"/>
            <a:ext cx="4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Arial"/>
              </a:rPr>
              <a:t>　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00000" y="3789360"/>
            <a:ext cx="7702560" cy="2371680"/>
          </a:xfrm>
          <a:prstGeom prst="rect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氣態非金屬元素從「气」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下列有關碳元素的敘述，何者正確？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石墨會導電，所以為金屬材料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石墨、鑽石皆由碳元素構成，故性質相似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鑽石與玻璃組成相同，所以會透光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石墨受外力易剝落，為製作筆芯好材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00" y="1180440"/>
            <a:ext cx="4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Arial"/>
              </a:rPr>
              <a:t>　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下列有關碳元素的敘述，何者正確？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石墨會導電，所以為金屬材料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石墨、鑽石皆由碳元素構成，故性質相似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鑽石與玻璃組成相同，所以會透光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石墨受外力易剝落，為製作筆芯好材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00" y="1180440"/>
            <a:ext cx="4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Arial"/>
              </a:rPr>
              <a:t>　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3789360"/>
            <a:ext cx="7702560" cy="2371680"/>
          </a:xfrm>
          <a:prstGeom prst="rect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石墨為非金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石墨、鑽石的性質不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鑽石、玻璃組成不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下列關於操作鈉、鉀實驗的注意事項，何者敘述正確？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新切面皆為黃色光澤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皆為軟金屬，可用手測試其硬度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皆應儲存在石油中，以隔離空氣與水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表面的氧化層削下來後，皆可直接丟入水槽中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600" y="1180440"/>
            <a:ext cx="4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Arial"/>
              </a:rPr>
              <a:t>　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下列關於操作鈉、鉀實驗的注意事項，何者敘述正確？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新切面皆為黃色光澤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皆為軟金屬，可用手測試其硬度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皆應儲存在石油中，以隔離空氣與水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表面的氧化層削下來後，皆可直接丟入水槽中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00" y="1180440"/>
            <a:ext cx="4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Arial"/>
              </a:rPr>
              <a:t>　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00000" y="3789360"/>
            <a:ext cx="7702560" cy="2371680"/>
          </a:xfrm>
          <a:prstGeom prst="rect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金屬新切面大多為銀白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不可用手直接測試硬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鈉、鉀活性大，易與水、氧產生反應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碳、鋅、氬、溴、氫、銀、氟、磷、汞；請由以上各元素中，分別依序選出固態、液態及氣態的數目：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 3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4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 1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 5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 4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3 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600" y="1180440"/>
            <a:ext cx="4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Arial"/>
              </a:rPr>
              <a:t>　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碳、鋅、氬、溴、氫、銀、氟、磷、汞；請由以上各元素中，分別依序選出固態、液態及氣態的數目：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 3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4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 1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 5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 4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3 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600" y="1180440"/>
            <a:ext cx="4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Arial"/>
              </a:rPr>
              <a:t>　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00000" y="3789360"/>
            <a:ext cx="7702560" cy="2371680"/>
          </a:xfrm>
          <a:prstGeom prst="rect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固態金屬元素從「金」、固態非金屬元素從「石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液態存在的元素，從「水」或「氵」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氣態非金屬元素從「气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9640" y="177300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列哪一種氣體中，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只含有一個原子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？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氬氣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水蒸氣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氧氣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氮氣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00" y="1180440"/>
            <a:ext cx="4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Arial"/>
              </a:rPr>
              <a:t>　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lnSpc>
                <a:spcPct val="100000"/>
              </a:lnSpc>
              <a:buClr>
                <a:srgbClr val="000000"/>
              </a:buClr>
              <a:buFont typeface="新細明體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以下哪一組物質在常溫常壓下都是液態？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溴、汞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溴、碘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汞、氮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碘、汞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55640" y="3505320"/>
            <a:ext cx="7702560" cy="2371680"/>
          </a:xfrm>
          <a:prstGeom prst="rect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固態金屬元素從「金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固態非金屬元素從「石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液態存在的元素，從「水」或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氵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」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氣態非金屬元素從「气」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640" y="177300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列哪一種氣體中，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只含有一個原子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？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氬氣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水蒸氣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氧氣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氮氣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00" y="1180440"/>
            <a:ext cx="4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Arial"/>
              </a:rPr>
              <a:t>　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3284640"/>
            <a:ext cx="7702560" cy="2665440"/>
          </a:xfrm>
          <a:prstGeom prst="rect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惰性氣體為單原子氣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lnSpc>
                <a:spcPct val="100000"/>
              </a:lnSpc>
              <a:buClr>
                <a:srgbClr val="000000"/>
              </a:buClr>
              <a:buFont typeface="新細明體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下列何者為混合物？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純水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乾冰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二氧化碳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空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lnSpc>
                <a:spcPct val="100000"/>
              </a:lnSpc>
              <a:buClr>
                <a:srgbClr val="000000"/>
              </a:buClr>
              <a:buFont typeface="新細明體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下列何者為混合物？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純水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乾冰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二氧化碳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空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755640" y="3499920"/>
            <a:ext cx="7702560" cy="2808360"/>
          </a:xfrm>
          <a:prstGeom prst="rect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純水為不含任何雜質的水，屬純物質中的化合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乾冰為固體二氧化碳，屬純物質中的化合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二氧化碳，屬純物質中的化合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下列何者是合金？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水銀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黃金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硫黃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黃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下列何者是合金？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水銀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黃金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硫黃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青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55640" y="3499920"/>
            <a:ext cx="7702560" cy="2808360"/>
          </a:xfrm>
          <a:prstGeom prst="rect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汞為唯一液態金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金為金黃色金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硫為黃色固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純銅為紅色金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小嘉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進行導電性的測試，哪一個與其他三者不同？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鐵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銅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石墨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硫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07:32:54Z</dcterms:created>
  <dc:creator>Users</dc:creator>
  <dc:description/>
  <dc:language>en-US</dc:language>
  <cp:lastModifiedBy>Owner</cp:lastModifiedBy>
  <dcterms:modified xsi:type="dcterms:W3CDTF">2011-11-08T15:43:43Z</dcterms:modified>
  <cp:revision>40</cp:revision>
  <dc:subject/>
  <dc:title>下列何種性質可用來區分純物質與混合物？　 (A)是否具有導電性 (B)是否具有延展性 (C)沸點是否固定 (D)常溫常壓下是否為固態</dc:title>
</cp:coreProperties>
</file>