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B43-D2BB-41C3-807C-27AB61C1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4EA-5B66-4E43-AABD-84A6534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04F-E80F-41A1-9E77-476D4A72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A87-4771-4330-9979-5BB4423E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ED1-C751-41DE-86DB-B33E3C0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A95-A60F-4321-98AB-9D6F32E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14F-C9A2-4F60-8683-706BF0E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08F-6DAB-4B93-AA09-D35BCD9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D11-D67C-4850-8823-4911086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2DA-5FCE-4014-9F17-BE1CD01B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02F-DA30-49F0-870D-93C0025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374-B8DC-4C3A-AF11-C78F902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AD9-F77F-4DED-A996-F80E1970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3141720"/>
            <a:ext cx="867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   D   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關於水溶液的敘述，下列何者正確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     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碘酒是一種水溶液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是很好的溶劑，可溶解所有物質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溶液一定是透明無色的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固體、液體或氣體都有可能溶於水中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-181080" y="260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、已知硝酸鉀的溶解度隨溫度增加而增加，設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℃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時，硝酸鉀的溶解度為</a:t>
            </a: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36g/100g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水，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            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示在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 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一杯裝有</a:t>
            </a: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100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克的水中最多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            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以溶解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新細明體"/>
              </a:rPr>
              <a:t>_______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克硝酸鉀。若在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 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將一杯裝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配製成飽和硝酸鉀水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液，則須加入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______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硝酸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08000" y="3213000"/>
            <a:ext cx="90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硝酸鉀的溶解度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6g/10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，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示在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一杯裝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的水中最多可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溶解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36_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硝酸鉀，因此，若有一杯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最多能溶解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7.2g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硝酸鉀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2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量是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/5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，因此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能夠溶解的硝酸鉀是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/5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倍，也就是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/5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6 =7.2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79280" y="3357720"/>
            <a:ext cx="8640720" cy="30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4920" y="1552680"/>
            <a:ext cx="90741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A  )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6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、下列有關溶液的敘述，何者正確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?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在平地的空氣中，氮氣是溶劑</a:t>
            </a:r>
            <a:br>
              <a:rPr sz="3000"/>
            </a:b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只要沒有溶質沉澱，就不是飽和溶液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溶液是一種非均勻的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麻油雞湯裡，麻油和水可以形成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4920" y="476280"/>
            <a:ext cx="907416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A  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下列有關溶液的敘述，何者正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平地空氣中的氮氣是溶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只要沒有溶質沉澱，就不是飽和溶液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溶液是一種非均勻的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麻油雞湯裡，麻油和水可以形成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95280" y="3213000"/>
            <a:ext cx="867564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070360" y="3141720"/>
            <a:ext cx="55573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空氣中氮氣含量最多，為溶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一定，恰達到最大溶解量時並沒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質沉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為均勻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7030a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7030a0"/>
                </a:solidFill>
                <a:latin typeface="新細明體"/>
              </a:rPr>
              <a:t>麻油和水不互溶，無法形成均勻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新細明體"/>
              </a:rPr>
              <a:t>              </a:t>
            </a:r>
            <a:r>
              <a:rPr b="0" lang="zh-TW" sz="3000" spc="-1" strike="noStrike">
                <a:solidFill>
                  <a:srgbClr val="7030a0"/>
                </a:solidFill>
                <a:latin typeface="新細明體"/>
              </a:rPr>
              <a:t>，因此無法形成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-541440" y="1197000"/>
            <a:ext cx="968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、一瓶標示酒精濃度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高樑酒，表示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 ml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當中，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若今天有一瓶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，則該瓶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樑酒當中，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181080" y="260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、一瓶標示酒精濃度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高樑酒，表示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 ml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當中，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若今天有一瓶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，則該瓶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樑酒當中，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08000" y="2997360"/>
            <a:ext cx="9036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ff0000"/>
                </a:solidFill>
                <a:latin typeface="新細明體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一瓶標示酒精濃度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高樑酒，表示每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 ml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當中，有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58__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若今天有一瓶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%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，則該瓶高樑酒當中，有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232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酒精，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_168_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。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4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高樑酒中，其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酒精含量是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高樑酒的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倍，因此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00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高樑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酒中，酒精含量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8 × 4=232ml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，而水的含量為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00-232=168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2997360"/>
            <a:ext cx="8785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-181080" y="765000"/>
            <a:ext cx="9325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C  ) 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壓力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量。以上那些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影響硝酸鉀在水中溶解度的主要因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-181080" y="33336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C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) 8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溫度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壓力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水量。以上那些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影響硝酸鉀在水中溶解度的主要因素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甲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甲乙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7030a0"/>
                </a:solidFill>
                <a:latin typeface="Arial"/>
              </a:rPr>
              <a:t>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8360" y="3500280"/>
            <a:ext cx="8424720" cy="20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59640" y="3519360"/>
            <a:ext cx="4920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溫度對固體的溶解度影響最大，壓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對固體的溶解度影響不明顯，而水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並不會影響溶解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-181080" y="106380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壓力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量。以上那些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影響二氧化碳在水中溶解度的主要因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181080" y="33336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壓力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量。以上那些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影響二氧化碳在水中溶解度的主要因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3500280"/>
            <a:ext cx="8496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927800" y="3519360"/>
            <a:ext cx="49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溫度愈低、壓力愈大都會增加氣體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中的溶解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79280" y="1065240"/>
            <a:ext cx="9324720" cy="4527360"/>
            <a:chOff x="-179280" y="1065240"/>
            <a:chExt cx="9324720" cy="4527360"/>
          </a:xfrm>
        </p:grpSpPr>
        <p:sp>
          <p:nvSpPr>
            <p:cNvPr id="78" name="Rectangle 4"/>
            <p:cNvSpPr/>
            <p:nvPr/>
          </p:nvSpPr>
          <p:spPr>
            <a:xfrm>
              <a:off x="-179280" y="1065240"/>
              <a:ext cx="9324720" cy="45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   B  )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10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、右圖為</a:t>
              </a: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硝酸鉀在不同溫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 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下對水的溶解度</a:t>
              </a:r>
              <a:r>
                <a:rPr b="0" lang="zh-TW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，在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20</a:t>
              </a:r>
              <a:r>
                <a:rPr b="0" lang="en-US" sz="3000" spc="-1" strike="noStrike">
                  <a:solidFill>
                    <a:srgbClr val="7030a0"/>
                  </a:solidFill>
                  <a:latin typeface="新細明體"/>
                </a:rPr>
                <a:t>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  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時，有一杯完全溶解且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好飽和的硝酸鉀水溶液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若將溫度升高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設水量不變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，則該杯硝酸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鉀水溶液的濃度將如何改變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A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仍然為飽和，且濃度不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B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不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C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變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D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變大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6423120" y="1125360"/>
              <a:ext cx="2181240" cy="18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1989000"/>
            <a:ext cx="8675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   D   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關於水溶液的敘述，下列何者正確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     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碘酒是一種水溶液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是很好的溶劑，可溶解所有物質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溶液一定是透明無色的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固體、液體或氣體都有可能溶於水中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8360" y="3141720"/>
            <a:ext cx="835164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3800" y="3068640"/>
            <a:ext cx="4840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溶液必須以水作為溶劑，而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酒是以酒精為溶劑的非水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有些物質難溶於水，例如沙拉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一定是透明無色的，例如糖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468360" y="4941720"/>
            <a:ext cx="84247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35240" y="4889520"/>
            <a:ext cx="5247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溫度升高，硝酸鉀的溶解度增加，因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定量的水可以溶解的硝酸鉀變多，但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時並未再加入硝酸鉀，因此濃度不變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但溶液變為未飽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179280" y="44280"/>
            <a:ext cx="9324720" cy="4527360"/>
            <a:chOff x="-179280" y="44280"/>
            <a:chExt cx="9324720" cy="4527360"/>
          </a:xfrm>
        </p:grpSpPr>
        <p:sp>
          <p:nvSpPr>
            <p:cNvPr id="83" name="Rectangle 4"/>
            <p:cNvSpPr/>
            <p:nvPr/>
          </p:nvSpPr>
          <p:spPr>
            <a:xfrm>
              <a:off x="-179280" y="44280"/>
              <a:ext cx="9324720" cy="45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   B  )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10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、右圖為</a:t>
              </a: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硝酸鉀在不同溫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 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下對水的溶解度</a:t>
              </a:r>
              <a:r>
                <a:rPr b="0" lang="zh-TW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，在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20</a:t>
              </a:r>
              <a:r>
                <a:rPr b="0" lang="en-US" sz="3000" spc="-1" strike="noStrike">
                  <a:solidFill>
                    <a:srgbClr val="7030a0"/>
                  </a:solidFill>
                  <a:latin typeface="新細明體"/>
                </a:rPr>
                <a:t>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新細明體"/>
                </a:rPr>
                <a:t>  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時，有一杯完全溶解且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好飽和的硝酸鉀水溶液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若將溫度升高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設水量不變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，則該杯硝酸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鉀水溶液的濃度將如何改變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A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仍然為飽和，且濃度不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B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不變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C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變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                     </a:t>
              </a:r>
              <a:r>
                <a:rPr b="0" lang="en-US" sz="3000" spc="-1" strike="noStrike">
                  <a:solidFill>
                    <a:srgbClr val="7030a0"/>
                  </a:solidFill>
                  <a:latin typeface="Arial"/>
                </a:rPr>
                <a:t>(D)</a:t>
              </a:r>
              <a:r>
                <a:rPr b="0" lang="zh-TW" sz="3000" spc="-1" strike="noStrike">
                  <a:solidFill>
                    <a:srgbClr val="7030a0"/>
                  </a:solidFill>
                  <a:latin typeface="Arial"/>
                </a:rPr>
                <a:t>變為未飽和，且濃度變大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6423120" y="104400"/>
              <a:ext cx="2181240" cy="18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-181080" y="99072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A  ) 1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媽媽在桌上放了一杯重量百分濃度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飽和糖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小明再去冰箱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加到杯子裡，則糖水的重量百分濃度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為多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4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6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-181080" y="1270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A  ) 1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媽媽在桌上放了一杯重量百分濃度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飽和糖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小明再去冰箱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加到杯子裡，則糖水的重量百分濃度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為多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4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6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68360" y="4294080"/>
            <a:ext cx="8424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35600" y="4313160"/>
            <a:ext cx="514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小明加入的糖不會再溶解了，因此濃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-181080" y="99072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C  ) 1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冰箱裡只剩下一包質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糖，媽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小英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糖全部用掉，配出一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水，則小英須加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多少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1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1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2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1"/>
          <p:cNvSpPr/>
          <p:nvPr/>
        </p:nvSpPr>
        <p:spPr>
          <a:xfrm>
            <a:off x="2054520" y="5400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+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-181080" y="18900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C  ) 1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冰箱裡只剩下一包質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糖，媽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請小英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糖全部用掉，配出一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水，則小英須加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多少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1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1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2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8360" y="4294080"/>
            <a:ext cx="8424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87480" y="4313160"/>
            <a:ext cx="59608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假設小英須加入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克的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050920" y="537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356920" y="485928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95880" y="50338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744360" y="5075280"/>
            <a:ext cx="213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% = 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372720" y="5084640"/>
            <a:ext cx="12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=1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-181080" y="99072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 C  ) 13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室溫下，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小英泡了一杯糖水，喝了一口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得太甜了，而且發現杯子底部有很多糖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有溶解，於是小英又加了一些水到杯子裡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面，但還是有少許的糖尚未溶解，關於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述的現象，下列那個選項正確</a:t>
            </a: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加水後糖水的顏色變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加水後糖水的濃度減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加水前和加水後的糖水一樣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加水後，溶液為未飽和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新細明體"/>
              </a:rPr>
              <a:t>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-181080" y="11592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 C  ) 13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室溫下，小英泡了一杯糖水，喝了一口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得太甜了，而且發現杯子底部有很多糖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有溶解，於是小英又加了一些水到杯子裡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面，但還是有少許的糖尚未溶解，關於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述的現象，下列那個選項正確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加水後糖水的顏色變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加水後糖水的濃度減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加水前和加水後的糖水一樣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加水後，溶液為未飽和溶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8360" y="4510080"/>
            <a:ext cx="8424720" cy="22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87480" y="4435560"/>
            <a:ext cx="7905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加水前和加水後，杯子底部都有未溶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糖，表示皆為飽和溶液，而定溫下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和溶液的濃度皆相同，因此加水前後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度不變。既然濃度不變，則顏色相同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甜度也相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-181080" y="11350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1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食鹽水溶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若再加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食鹽水溶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則混合後食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溶液的重量百分濃度為何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-181080" y="3430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1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食鹽水溶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若再加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食鹽水溶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則混合後食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溶液的重量百分濃度為何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8360" y="4076640"/>
            <a:ext cx="8424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43960" y="4194000"/>
            <a:ext cx="5006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混合兩杯濃度相同的食鹽水，混合後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度仍然相同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-181080" y="11350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D  ) 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下列何種狀態下，水中的溶氧量最大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 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新細明體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   C  ) 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關於溶液的敘述，下列何者正確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     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是混合物，其性質與成分物質完全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同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油倒入水中後可形成水溶液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中所占比例多的稱為溶劑，少的稱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溶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米酒中的溶質是米，溶劑是酒精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-181080" y="692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D  ) 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下列何種狀態下，水中的溶氧量最大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 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 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1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壓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95280" y="3716280"/>
            <a:ext cx="8424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88080" y="4146480"/>
            <a:ext cx="5433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溫度愈低、壓力愈大，氣體的溶解度愈大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-289080" y="91908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B  ) 16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廚房有一壺已經煮沸並且才剛冷卻的開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，小明馬上把它拿去養魚，結果發現魚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死掉了，造成該現象的主要原因為何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沒有養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溶氧量減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所溶解的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氧化碳含量增加，造成水質偏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與這壺開水無關，應該是魚群感染某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病毒造成集體死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-289080" y="18900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B  ) 16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廚房有一壺已經煮沸並且才剛冷卻的開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，小明馬上把它拿去養魚，結果發現魚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都死掉了，造成該現象的原因為何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沒有養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溶氧量減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煮沸後剛冷卻的水中所溶解的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氧化碳含量增加，造成水質偏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與這壺開水無關，應該是魚群感染某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病毒造成集體死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4508640"/>
            <a:ext cx="842472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4506840"/>
            <a:ext cx="7991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中的氣體溶解度隨溫度升高而降低，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因此煮沸後剛冷卻的水中所含的氧氣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量減少是造成魚群死亡的主要原因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-289080" y="99072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C  ) 17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媽媽煮了一鍋泰式酸辣湯，裡面放的材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有食鹽、豆腐、醋、米酒、紅蘿蔔、木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蛋，請問這鍋以水為溶劑的泰式酸辣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中含有幾種溶質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A) 1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B)2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C)3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D)4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-289080" y="-2700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-289080" y="47628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  C  ) 17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媽媽煮了一鍋泰式酸辣湯，裡面放的材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有食鹽、豆腐、醋、米酒、紅蘿蔔、木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、蛋，請問這鍋以水為溶劑的泰式酸辣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中含有幾種溶質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A) 1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B)2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C)3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(D)4</a:t>
            </a:r>
            <a:r>
              <a:rPr b="0" lang="zh-TW" sz="3000" spc="-1" strike="noStrike">
                <a:solidFill>
                  <a:srgbClr val="00b050"/>
                </a:solidFill>
                <a:latin typeface="Arial"/>
              </a:rPr>
              <a:t>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95280" y="3645000"/>
            <a:ext cx="8424720" cy="22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19640" y="3714840"/>
            <a:ext cx="1270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6200" y="3811680"/>
            <a:ext cx="685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溶液中的溶質與溶劑必須完全互溶，形成均勻的混合物，而在這鍋泰式酸辣湯中，能和水完全互溶的有食鹽、醋、米酒，因此溶質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-289080" y="106380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B  ) 1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夏天時，從冷氣房走到屋外的剎那間，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鏡常會糢糊不清，造成這種現象的主要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何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屋外的空氣中有太多灰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蒸氣遇冷凝結成小水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陽光的照射下較容易看清楚鏡片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灰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氣房內的濕度比屋外的濕度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-289080" y="18900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B  ) 1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夏天時，從冷氣房走到屋外的剎那間，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鏡常會糢糊不清，造成這種現象的主要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何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屋外的空氣中有太多灰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蒸氣遇冷凝結成小水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陽光的照射下較容易看清楚鏡片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灰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氣房內的濕度比屋外的濕度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95280" y="4365720"/>
            <a:ext cx="8424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041200" y="4437000"/>
            <a:ext cx="5148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眼鏡上的鏡片溫度較低，走出冷氣房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屋外的水蒸氣遇冷凝結成小水滴在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片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-289080" y="113508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D  ) 1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右圖是甲、乙兩種不同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溶質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克水中其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解度與溫度的關係，則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列何者可能是乙物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硝酸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食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6147360" y="1121400"/>
            <a:ext cx="2459880" cy="2165040"/>
            <a:chOff x="6147360" y="1121400"/>
            <a:chExt cx="2459880" cy="2165040"/>
          </a:xfrm>
        </p:grpSpPr>
        <p:sp>
          <p:nvSpPr>
            <p:cNvPr id="127" name="Line 6"/>
            <p:cNvSpPr/>
            <p:nvPr/>
          </p:nvSpPr>
          <p:spPr>
            <a:xfrm flipV="1">
              <a:off x="6640560" y="1288080"/>
              <a:ext cx="0" cy="15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6640560" y="287136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6640560" y="1340640"/>
              <a:ext cx="1186200" cy="686160"/>
            </a:xfrm>
            <a:custGeom>
              <a:avLst/>
              <a:gdLst/>
              <a:ahLst/>
              <a:rect l="l" t="t" r="r" b="b"/>
              <a:pathLst>
                <a:path w="952" h="590">
                  <a:moveTo>
                    <a:pt x="0" y="590"/>
                  </a:moveTo>
                  <a:cubicBezTo>
                    <a:pt x="87" y="582"/>
                    <a:pt x="174" y="575"/>
                    <a:pt x="272" y="545"/>
                  </a:cubicBezTo>
                  <a:cubicBezTo>
                    <a:pt x="370" y="515"/>
                    <a:pt x="491" y="470"/>
                    <a:pt x="589" y="409"/>
                  </a:cubicBezTo>
                  <a:cubicBezTo>
                    <a:pt x="687" y="348"/>
                    <a:pt x="801" y="250"/>
                    <a:pt x="861" y="182"/>
                  </a:cubicBezTo>
                  <a:cubicBezTo>
                    <a:pt x="921" y="114"/>
                    <a:pt x="936" y="57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6640560" y="2133000"/>
              <a:ext cx="1299600" cy="474480"/>
            </a:xfrm>
            <a:custGeom>
              <a:avLst/>
              <a:gdLst/>
              <a:ahLst/>
              <a:rect l="l" t="t" r="r" b="b"/>
              <a:pathLst>
                <a:path w="1043" h="408">
                  <a:moveTo>
                    <a:pt x="0" y="0"/>
                  </a:moveTo>
                  <a:cubicBezTo>
                    <a:pt x="128" y="18"/>
                    <a:pt x="257" y="37"/>
                    <a:pt x="408" y="90"/>
                  </a:cubicBezTo>
                  <a:cubicBezTo>
                    <a:pt x="559" y="143"/>
                    <a:pt x="801" y="264"/>
                    <a:pt x="907" y="317"/>
                  </a:cubicBezTo>
                  <a:cubicBezTo>
                    <a:pt x="1013" y="370"/>
                    <a:pt x="1028" y="389"/>
                    <a:pt x="1043" y="4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7915320" y="1200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7972200" y="2413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651384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7725600" y="291816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溫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6147360" y="112140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溶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5"/>
          <p:cNvSpPr/>
          <p:nvPr/>
        </p:nvSpPr>
        <p:spPr>
          <a:xfrm>
            <a:off x="-217440" y="343080"/>
            <a:ext cx="961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D  ) 1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右圖是甲、乙兩種不同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溶質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克水中其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解度與溫度的關係，則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列何者可能是乙物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硝酸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食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6"/>
          <p:cNvGrpSpPr/>
          <p:nvPr/>
        </p:nvGrpSpPr>
        <p:grpSpPr>
          <a:xfrm>
            <a:off x="6147360" y="329040"/>
            <a:ext cx="2459880" cy="2165040"/>
            <a:chOff x="6147360" y="329040"/>
            <a:chExt cx="2459880" cy="2165040"/>
          </a:xfrm>
        </p:grpSpPr>
        <p:sp>
          <p:nvSpPr>
            <p:cNvPr id="138" name="Line 17"/>
            <p:cNvSpPr/>
            <p:nvPr/>
          </p:nvSpPr>
          <p:spPr>
            <a:xfrm flipV="1">
              <a:off x="6640560" y="495720"/>
              <a:ext cx="0" cy="15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8"/>
            <p:cNvSpPr/>
            <p:nvPr/>
          </p:nvSpPr>
          <p:spPr>
            <a:xfrm>
              <a:off x="6640560" y="2079000"/>
              <a:ext cx="16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6640560" y="548280"/>
              <a:ext cx="1186200" cy="686160"/>
            </a:xfrm>
            <a:custGeom>
              <a:avLst/>
              <a:gdLst/>
              <a:ahLst/>
              <a:rect l="l" t="t" r="r" b="b"/>
              <a:pathLst>
                <a:path w="952" h="590">
                  <a:moveTo>
                    <a:pt x="0" y="590"/>
                  </a:moveTo>
                  <a:cubicBezTo>
                    <a:pt x="87" y="582"/>
                    <a:pt x="174" y="575"/>
                    <a:pt x="272" y="545"/>
                  </a:cubicBezTo>
                  <a:cubicBezTo>
                    <a:pt x="370" y="515"/>
                    <a:pt x="491" y="470"/>
                    <a:pt x="589" y="409"/>
                  </a:cubicBezTo>
                  <a:cubicBezTo>
                    <a:pt x="687" y="348"/>
                    <a:pt x="801" y="250"/>
                    <a:pt x="861" y="182"/>
                  </a:cubicBezTo>
                  <a:cubicBezTo>
                    <a:pt x="921" y="114"/>
                    <a:pt x="936" y="57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6640560" y="1340640"/>
              <a:ext cx="1299600" cy="474480"/>
            </a:xfrm>
            <a:custGeom>
              <a:avLst/>
              <a:gdLst/>
              <a:ahLst/>
              <a:rect l="l" t="t" r="r" b="b"/>
              <a:pathLst>
                <a:path w="1043" h="408">
                  <a:moveTo>
                    <a:pt x="0" y="0"/>
                  </a:moveTo>
                  <a:cubicBezTo>
                    <a:pt x="128" y="18"/>
                    <a:pt x="257" y="37"/>
                    <a:pt x="408" y="90"/>
                  </a:cubicBezTo>
                  <a:cubicBezTo>
                    <a:pt x="559" y="143"/>
                    <a:pt x="801" y="264"/>
                    <a:pt x="907" y="317"/>
                  </a:cubicBezTo>
                  <a:cubicBezTo>
                    <a:pt x="1013" y="370"/>
                    <a:pt x="1028" y="389"/>
                    <a:pt x="1043" y="4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7915320" y="40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7972200" y="1620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6513840" y="2091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4"/>
            <p:cNvSpPr/>
            <p:nvPr/>
          </p:nvSpPr>
          <p:spPr>
            <a:xfrm>
              <a:off x="7725600" y="2125800"/>
              <a:ext cx="8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溫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新細明體"/>
                </a:rPr>
                <a:t>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6147360" y="329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溶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6"/>
          <p:cNvSpPr/>
          <p:nvPr/>
        </p:nvSpPr>
        <p:spPr>
          <a:xfrm>
            <a:off x="395280" y="4653000"/>
            <a:ext cx="8424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1986840" y="5057640"/>
            <a:ext cx="4549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氣體的溶解度隨溫度上升而下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-289080" y="120816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D  ) 2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小花將一杯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倒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來喝，請問小英喝下的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幾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81440" y="404280"/>
            <a:ext cx="932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   C  ) 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關於溶液的敘述，下列何者正確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       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是混合物，其性質與成分物質完全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同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油倒入水中後可形成水溶液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中所占比例多的稱為溶劑，少的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溶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米酒中的溶質是米，溶劑是酒精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41440" y="4076640"/>
            <a:ext cx="8351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208240" y="4075200"/>
            <a:ext cx="5392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溶液中各成分物質仍保有其原來特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油無法均勻溶於水中，不能視為溶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米酒中溶質是酒精，溶劑是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-289080" y="558720"/>
            <a:ext cx="961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D  ) 2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小花將一杯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糖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，倒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來喝，請問小英喝下的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幾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8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95280" y="4510080"/>
            <a:ext cx="8424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53480" y="4626000"/>
            <a:ext cx="14684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2124720" y="4691160"/>
            <a:ext cx="2469240" cy="1044360"/>
            <a:chOff x="2124720" y="4691160"/>
            <a:chExt cx="2469240" cy="1044360"/>
          </a:xfrm>
        </p:grpSpPr>
        <p:sp>
          <p:nvSpPr>
            <p:cNvPr id="154" name="Line 8"/>
            <p:cNvSpPr/>
            <p:nvPr/>
          </p:nvSpPr>
          <p:spPr>
            <a:xfrm>
              <a:off x="2143080" y="52401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124720" y="5184720"/>
              <a:ext cx="81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2340000" y="47592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2217240" y="469116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2973600" y="49021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3296520" y="495288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3873600" y="4952880"/>
              <a:ext cx="72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81440" y="119700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C   ) 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下列選項中，那一項所描述的成分與其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者不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用水壼燒開水，當水沸騰時從壼口冒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白煙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阿里山上的薄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抽煙時吐出的白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乾冰昇華產生的白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181440" y="26028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C  ) 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下列選項中，那一項所描述的成分與其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者不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用水壼燒開水，當水沸騰時從壼口冒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白煙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阿里山上的薄霧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抽煙時吐出的白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乾冰昇華產生的白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3789360"/>
            <a:ext cx="835164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016000" y="3762360"/>
            <a:ext cx="56210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此白煙為水蒸氣遇冷凝結而成的小水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薄霧的組成為小水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此白煙成份是固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此白煙為水蒸氣遇冷凝結而成的小水滴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181080" y="127944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已知氮氣的沸點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95.8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氧氣的沸點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82.5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若小明將室溫下的空氣逐漸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降溫，則上列那一種氣體會先液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時液化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氣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一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-181080" y="260280"/>
            <a:ext cx="932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  B  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已知氮氣的沸點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95.8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氧氣的沸點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82.5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若小明將室溫下的空氣逐漸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降溫，則上列那一種氣體會先液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時液化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氧氣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氮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一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3789360"/>
            <a:ext cx="835164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59640" y="3787920"/>
            <a:ext cx="4821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氧氣的沸點比氮氣高，因此會先液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-468360" y="1052640"/>
            <a:ext cx="961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、已知硝酸鉀的溶解度隨溫度增加而增加，設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硝酸鉀的溶解度為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6g/10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，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示在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一杯裝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的水中最多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以溶解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______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硝酸鉀。若在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 ℃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時，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將一杯裝有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0g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的水配製成飽和硝酸鉀水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液，則須加入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_______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克硝酸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4:57:47Z</dcterms:created>
  <dc:creator>TIGER-XP</dc:creator>
  <dc:description/>
  <dc:language>en-US</dc:language>
  <cp:lastModifiedBy>TIGER-XP</cp:lastModifiedBy>
  <dcterms:modified xsi:type="dcterms:W3CDTF">2011-10-25T14:56:48Z</dcterms:modified>
  <cp:revision>26</cp:revision>
  <dc:subject/>
  <dc:title>投影片 1</dc:title>
</cp:coreProperties>
</file>