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3BD-F169-4564-BE23-606A2BFA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76B-58FE-4EE1-A1C4-D24A0A3D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073-D613-4952-ADAA-B660BE87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BBB-BAC5-482F-AE9C-C78E6477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A08-5478-4534-8347-010D1E20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BB4-5257-46E3-BEDB-41EA570D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B38-18B5-4258-82D3-98CC680C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5F5-E53A-4912-AB09-CDC4261E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C5E-B157-473F-9F3A-DECB81CB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69D-F1CB-434B-9EC5-43001317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18C-DE22-4F51-ABC1-4204708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0D0-80E3-4A13-9DBF-C7C8B357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69C8-2C17-45A0-873C-8F037A15A79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密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過溝國中黃孝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為質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的鐵塊，乙為質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的鐵塊，則甲、乙密度比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為質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的鐵塊，乙為質量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的鐵塊，則甲、乙密度比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9027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0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質量變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體積也隨之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6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我們知道密度的公式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 /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質量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密度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體積，以數學觀點來看下列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固定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成正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固定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成反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固定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成正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以上皆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6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我們知道密度的公式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 /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質量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密度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是體積，以數學觀點來看下列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固定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成正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固定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成反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當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固定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成正比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以上皆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4920" y="4941000"/>
            <a:ext cx="435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6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Ｍ固定，Ｍ＝Ｄ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　　　　 Ｄ固定，Ｄ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Ｍ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固定，Ｖ＝Ｍ／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7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個完全相同的燒杯，裝有一樣多的水，將質量相同的金塊（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9.3 g/cm3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、銅塊（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.9g/cm3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、鋁塊（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7g/cm3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，分別沉入三個燒杯的水中，若杯內的水皆未溢出，則哪一個燒杯的水面上升最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放入金塊的燒杯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放入銅塊的燒杯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放入鋁塊的燒杯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個燒杯水面上升一樣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14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7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個完全相同的燒杯，裝有一樣多的水，將質量相同的金塊（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9.3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、銅塊（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.9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、鋁塊（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7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，分別沉入三個燒杯的水中，若杯內的水皆未溢出，則哪一個燒杯的水面上升最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放入金塊的燒杯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放入銅塊的燒杯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放入鋁塊的燒杯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個燒杯水面上 升一樣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49760" y="5228280"/>
            <a:ext cx="50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7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質量相同，密度越小體積愈大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8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.7 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空瓶子，盛滿汽油後總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1.0 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已知汽油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空瓶子的容積為多少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5.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61.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7.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6.3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8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.7 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空瓶子，盛滿汽油後總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1.0 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已知汽油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空瓶子的容積為多少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5.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61.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7.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6.3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6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48040" y="4869000"/>
            <a:ext cx="10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8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總質量減掉空瓶質量則為液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9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鋅塊切成體積比為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的甲、乙兩塊，則下列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129440" cy="3240360"/>
        </p:xfrm>
        <a:graphic>
          <a:graphicData uri="http://schemas.openxmlformats.org/drawingml/2006/table">
            <a:tbl>
              <a:tblPr/>
              <a:tblGrid>
                <a:gridCol w="1893600"/>
                <a:gridCol w="1309320"/>
                <a:gridCol w="1309680"/>
                <a:gridCol w="1309680"/>
                <a:gridCol w="1307160"/>
              </a:tblGrid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：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Ａ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Ｂ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Ｃ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Ｄ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質量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密度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7210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9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鋅塊切成體積比為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的甲、乙兩塊，則下列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55640" y="1557360"/>
          <a:ext cx="7129440" cy="3240720"/>
        </p:xfrm>
        <a:graphic>
          <a:graphicData uri="http://schemas.openxmlformats.org/drawingml/2006/table">
            <a:tbl>
              <a:tblPr/>
              <a:tblGrid>
                <a:gridCol w="1893600"/>
                <a:gridCol w="1309320"/>
                <a:gridCol w="1309680"/>
                <a:gridCol w="1309680"/>
                <a:gridCol w="1307160"/>
              </a:tblGrid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甲：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Ａ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Ｂ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Ｃ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Ｄ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質量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密度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：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802880" y="5372640"/>
            <a:ext cx="49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9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切成不同大小，質量亦隨之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(   )0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如圖，兩個大小不同的燒杯，甲杯裝水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乙杯裝水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下列敘述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杯的水質量較大，但兩杯水的密度相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兩杯水的密度相等，質量也相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杯水的質量較大，密度也較大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杯水的體積較大，所以密度較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3800520"/>
            <a:ext cx="38876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5689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(   )10.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</a:rPr>
              <a:t>小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某液體分次倒入量筒中，再利用天平依次測量液體和量筒的總質量，並分別記錄量筒中液體的體積，其實驗的數據如圖所示。下列關於此液體密度的敘述何者正確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液體的體積愈大，密度愈低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液體的體積愈大，密度愈高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體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計算密度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0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體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計算密度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2g/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4200" y="404640"/>
            <a:ext cx="3349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4200" y="1773360"/>
            <a:ext cx="3349800" cy="35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71640" y="537264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0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由圖可知，空量筒重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10g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，則液體密度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D=(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總重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-10)/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液體體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2276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(   )10.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Arial"/>
              </a:rPr>
              <a:t>小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將某液體分次倒入量筒中，再利用天平依次測量液體和量筒的總質量，並分別記錄量筒中液體的體積，其實驗的數據如圖所示。下列關於此液體密度的敘述何者正確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液體的體積愈大，密度愈低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液體的體積愈大，密度愈高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體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計算密度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0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體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計算密度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2g/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銅球投入量筒內，銅完全在水面下，且筒內水面上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已知銅球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.9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下列敘述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球體積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球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量筒內水的體積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球的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9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15880" y="4624920"/>
            <a:ext cx="523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1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沉體的排開液體體積就是沉體體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M=D×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銅球投入量筒內，銅完全在水面下，且筒內水面上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已知銅球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.9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則下列敘述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球體積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球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量筒內水的體積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球的質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9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2.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大頭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測量一物質的密度，他將多次所測得的數據，標示在座標紙上，並做出實驗曲線，如圖所示。由圖上可知該物質之密度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0.25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.0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3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4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34560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2.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大頭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測量一物質的密度，他將多次所測得的數據，標示在座標紙上，並做出實驗曲線，如圖所示。由圖上可知該物質之密度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0.25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.0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3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4g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456000" cy="317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5640" y="57913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2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找出物質質量對應的體積後，兩者相減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=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675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3.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莊鎮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想測量豆漿的密度，於是他利用量筒分別倒入不同體積的豆漿後測得結果如表。則該豆漿密度為多少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28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5.4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2.4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.4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0.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4076640"/>
          <a:ext cx="8208720" cy="2049480"/>
        </p:xfrm>
        <a:graphic>
          <a:graphicData uri="http://schemas.openxmlformats.org/drawingml/2006/table">
            <a:tbl>
              <a:tblPr/>
              <a:tblGrid>
                <a:gridCol w="5040360"/>
                <a:gridCol w="928440"/>
                <a:gridCol w="747720"/>
                <a:gridCol w="746280"/>
                <a:gridCol w="745920"/>
              </a:tblGrid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漿體積（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m</a:t>
                      </a:r>
                      <a:r>
                        <a:rPr b="0" lang="zh-TW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量筒裝豆漿的總質量（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g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4358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3.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莊鎮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想測量豆漿的密度，於是他利用量筒分別倒入不同體積的豆漿後測得結果如表。則該豆漿密度為多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</a:t>
            </a:r>
            <a:r>
              <a:rPr b="0" lang="zh-TW" sz="28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3141720"/>
          <a:ext cx="8208720" cy="2049480"/>
        </p:xfrm>
        <a:graphic>
          <a:graphicData uri="http://schemas.openxmlformats.org/drawingml/2006/table">
            <a:tbl>
              <a:tblPr/>
              <a:tblGrid>
                <a:gridCol w="5040360"/>
                <a:gridCol w="928440"/>
                <a:gridCol w="747720"/>
                <a:gridCol w="746280"/>
                <a:gridCol w="745920"/>
              </a:tblGrid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漿體積（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m</a:t>
                      </a:r>
                      <a:r>
                        <a:rPr b="0" lang="zh-TW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量筒裝豆漿的總質量（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g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829800" y="5272560"/>
            <a:ext cx="56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3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以豆漿的體積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(10  -40)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變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去算質量的變化，再代入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D=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4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有關密度的敘述，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鋁塊密度大於水，所以會浮在水上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鋁塊切成體積相等的兩塊後密度會減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和水蒸氣的密度不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任何物質皆有一定的密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4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有關密度的敘述，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鋁塊密度大於水，所以會浮在水上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鋁塊切成體積相等的兩塊後密度會減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和水蒸氣的密度不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任何物質皆有一定的密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12920" y="5706000"/>
            <a:ext cx="12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4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同一質量的物質在不同溫度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體積不同（熱脹冷縮），密度會因此改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</a:rPr>
              <a:t>(   )0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如圖，兩個大小不同的燒杯，甲杯裝水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乙杯裝水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下列敘述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杯的水質量較大，但兩杯水的密度相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兩杯水的密度相等，質量也相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杯水的質量較大，密度也較大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杯水的體積較大，所以密度較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4308480"/>
            <a:ext cx="3241800" cy="254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31840" y="458064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1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同一個物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質量較大其體積也較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凝固成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／立方公分的冰塊，則冰塊的質量為多少公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11.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9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760" y="5390280"/>
            <a:ext cx="56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5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水凝固變冰時，密度變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但冰結晶後體積變大，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M=D×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5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凝固成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／立方公分的冰塊，則冰塊的質量為多少公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11.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9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何者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不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密度的單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斤／公升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／公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6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何者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不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密度的單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/cm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g/m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斤／公升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／公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5760" y="5875920"/>
            <a:ext cx="57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6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答案：密度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質量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體積，公分為長度單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7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實驗得知，甲、乙、丙三種物質的體積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和質量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的關係如附圖所示，則三種物質的密度大小關係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＞乙＞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＝乙＝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丙＞乙＞甲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法比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27640" y="2276640"/>
            <a:ext cx="26654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實驗得知，甲、乙、丙三種物質的體積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和質量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的關係如附圖所示，則三種物質的密度大小關係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＞乙＞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＝乙＝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丙＞乙＞甲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無法比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78560" y="2276640"/>
            <a:ext cx="2665440" cy="241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10040" y="5561640"/>
            <a:ext cx="548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7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密度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質量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體積，體積固定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密度和質量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、乙、丙三種物質，其體積依序為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0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密度依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2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8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每次取兩個放在等臂天平兩端，可以平衡的是哪兩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、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、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、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任何兩個皆無法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、乙、丙三種物質，其體積依序為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0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密度依序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2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8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每次取兩個放在等臂天平兩端，可以平衡的是哪兩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、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、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、丙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任何兩個皆無法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5561640"/>
            <a:ext cx="609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8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質量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密度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體積，找出兩質量相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天平兩端才會平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9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甲、乙、丙、丁四個金屬球中，有三個是同一種金屬。某生測出各金屬球的體積和質量，請問哪一個是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不同類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金屬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7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2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丙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0.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丁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2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6.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19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甲、乙、丙、丁四個金屬球中，有三個是同一種金屬。某生測出各金屬球的體積和質量，請問哪一個是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不同類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金屬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甲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7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乙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2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丙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0.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丁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2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立方公分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6.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16880" y="5444280"/>
            <a:ext cx="12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19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同一類的金屬物理性質相同，即密度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質量的水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和冰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相互比較，則下列敘述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的體積較冰大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冰的體積較水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者的體積相等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者的密度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20.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小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某液體倒入量筒中，測得液體的體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再置於天平上，測出量筒和液體的總質量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如表所示，則某液體的密度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0.3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0.8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.0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3.0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3141720"/>
          <a:ext cx="8496360" cy="2257200"/>
        </p:xfrm>
        <a:graphic>
          <a:graphicData uri="http://schemas.openxmlformats.org/drawingml/2006/table">
            <a:tbl>
              <a:tblPr/>
              <a:tblGrid>
                <a:gridCol w="2955960"/>
                <a:gridCol w="1380960"/>
                <a:gridCol w="1382040"/>
                <a:gridCol w="1382400"/>
                <a:gridCol w="1395000"/>
              </a:tblGrid>
              <a:tr h="100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立方公分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公克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20.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小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某液體倒入量筒中，測得液體的體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再置於天平上，測出量筒和液體的總質量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如表所示，則某液體的密度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0.3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0.8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1.0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3.0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4000" y="2852640"/>
          <a:ext cx="8424720" cy="2257560"/>
        </p:xfrm>
        <a:graphic>
          <a:graphicData uri="http://schemas.openxmlformats.org/drawingml/2006/table">
            <a:tbl>
              <a:tblPr/>
              <a:tblGrid>
                <a:gridCol w="2931120"/>
                <a:gridCol w="1369080"/>
                <a:gridCol w="1370520"/>
                <a:gridCol w="1370880"/>
                <a:gridCol w="1383120"/>
              </a:tblGrid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立方公分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公克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68360" y="5157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20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以液體的體積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(10 -40)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變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去算質量的變化，再代入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D=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質量的水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和冰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相互比較，則下列敘述何者正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的體積較冰大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冰的體積較水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者的體積相等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者的密度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25160" y="4291560"/>
            <a:ext cx="47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2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質量相同，密度和體積成反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一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鋅塊，分割成體積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兩塊，則其密度比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一密度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g/cm</a:t>
            </a:r>
            <a:r>
              <a:rPr b="0" lang="zh-TW" sz="32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鋅塊，分割成體積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兩塊，則其密度比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3080" y="4121640"/>
            <a:ext cx="366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3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同一物質切成不同大小，質量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體積也隨之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4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何種物質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不適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利用排水法來求體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鐵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食鹽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金項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小石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(   )04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何種物質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Arial"/>
              </a:rPr>
              <a:t>不適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利用排水法來求體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鐵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食鹽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金項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小石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86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Arial"/>
              </a:rPr>
              <a:t>04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提示：會在水裡溶解的物質不適合排水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7:25:30Z</dcterms:created>
  <dc:creator>命題光碟</dc:creator>
  <dc:description/>
  <dc:language>en-US</dc:language>
  <cp:lastModifiedBy>命題光碟</cp:lastModifiedBy>
  <dcterms:modified xsi:type="dcterms:W3CDTF">2011-10-28T02:50:37Z</dcterms:modified>
  <cp:revision>11</cp:revision>
  <dc:subject/>
  <dc:title>投影片 1</dc:title>
</cp:coreProperties>
</file>