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8AC4-5710-44BA-8A2B-5EEF8A71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3155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8357-36A2-47F1-A22F-EF5B6F3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1EE9-3397-4C9C-898A-837BCA8A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3155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C8A5-6B22-4254-AB05-8E8DB453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6609-1806-4A27-B10B-78C477E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DBB2-D54C-43AD-861E-0983CE6B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7EE2-C7D5-4D91-815E-24D0421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F4EE-2D77-4B5B-A075-9A7CDE02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9217-3C0D-47B8-9A3B-7AD72EA7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AF1D-C7C9-4672-BB2B-CF1B2246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3155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1411-9071-4140-836F-291EC86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155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B9CF-2E72-4BFF-9F2F-11DB2E1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93D-F81B-4F98-B38F-F0091A3D7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71280" y="54900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煮綠豆湯時，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砂糖溶於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的水中，則該糖水的重量百分濃度為何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                                   (B)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                                   (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ts val="47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物件 5"/>
              <p:cNvSpPr txBox="1"/>
              <p:nvPr/>
            </p:nvSpPr>
            <p:spPr>
              <a:xfrm>
                <a:off x="1854360" y="1700280"/>
                <a:ext cx="807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物件 7"/>
              <p:cNvSpPr txBox="1"/>
              <p:nvPr/>
            </p:nvSpPr>
            <p:spPr>
              <a:xfrm>
                <a:off x="5796000" y="1844640"/>
                <a:ext cx="1512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物件 8"/>
              <p:cNvSpPr txBox="1"/>
              <p:nvPr/>
            </p:nvSpPr>
            <p:spPr>
              <a:xfrm>
                <a:off x="1762200" y="2451240"/>
                <a:ext cx="2090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物件 9"/>
              <p:cNvSpPr txBox="1"/>
              <p:nvPr/>
            </p:nvSpPr>
            <p:spPr>
              <a:xfrm>
                <a:off x="5691240" y="2421000"/>
                <a:ext cx="16174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9"/>
          <p:cNvSpPr/>
          <p:nvPr/>
        </p:nvSpPr>
        <p:spPr>
          <a:xfrm>
            <a:off x="1332000" y="3429000"/>
            <a:ext cx="54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提示：水的密度為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1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/</a:t>
            </a:r>
            <a:r>
              <a:rPr b="1" lang="zh-TW" sz="3000" spc="-1" strike="noStrike">
                <a:solidFill>
                  <a:srgbClr val="0000ff"/>
                </a:solidFill>
                <a:latin typeface="Times New Roman"/>
                <a:ea typeface="標楷體"/>
              </a:rPr>
              <a:t>毫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0920" y="620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63640" y="476280"/>
            <a:ext cx="802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小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在生物實驗室配製了一杯食鹽水，用來浸泡從青蛙身上割下來的一小塊肌肉，結果三天後他再去觀察這塊標本時，發現杯底竟然出現食鹽的結晶。請問，下列那些是造成食鹽結晶的可能原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溫度較低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氣壓較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部分的水蒸發掉了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當天濕度較大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乙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甲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丙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403280" y="4941720"/>
            <a:ext cx="73454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使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未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變成</a:t>
            </a:r>
            <a:r>
              <a:rPr b="1" lang="zh-TW" sz="30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</a:rPr>
              <a:t>飽和溶液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      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為何</a:t>
            </a:r>
            <a:r>
              <a:rPr b="1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字方塊 4"/>
          <p:cNvSpPr/>
          <p:nvPr/>
        </p:nvSpPr>
        <p:spPr>
          <a:xfrm>
            <a:off x="324000" y="620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560" y="476280"/>
            <a:ext cx="7777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2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溫下，將砂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中，經充分攪拌後靜置，發現還有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砂糖尚未溶解，則下列敘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何者正確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此溶液為不飽和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，可以使水溶液濃度變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加入任何物質，以玻璃棒繼續攪拌，可使水溶液濃度加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砂糖的溶解度為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水可以溶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克的砂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50920" y="692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03280" y="5300640"/>
            <a:ext cx="69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尚有</a:t>
            </a:r>
            <a:r>
              <a:rPr b="1" lang="en-US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20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公克的砂糖未溶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55640" y="475920"/>
            <a:ext cx="813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凱凱欲配置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糖水，下列方法中何者最為適當？  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中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中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鹽溶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重量百分濃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的鹽水中      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水，加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重量百分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鹽水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4"/>
          <p:cNvSpPr/>
          <p:nvPr/>
        </p:nvSpPr>
        <p:spPr>
          <a:xfrm>
            <a:off x="108000" y="83520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547640" y="551664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稀釋溶液時，加入和溶液同體積的水時，濃度減半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4000" y="549360"/>
            <a:ext cx="81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319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6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鹽酸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，需要再加入多少 克的水，才能使鹽酸的濃度變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13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4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90         (D) 2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4"/>
          <p:cNvSpPr/>
          <p:nvPr/>
        </p:nvSpPr>
        <p:spPr>
          <a:xfrm>
            <a:off x="0" y="76500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116000" y="256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42920" y="549360"/>
            <a:ext cx="7850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下，將密度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5 g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重量百分濃度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的糖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濃縮成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％，則濃縮後的溶液質量為多少克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1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37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11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5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4"/>
          <p:cNvSpPr/>
          <p:nvPr/>
        </p:nvSpPr>
        <p:spPr>
          <a:xfrm>
            <a:off x="468360" y="54936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547640" y="3141720"/>
            <a:ext cx="72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濃縮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549000"/>
            <a:ext cx="8137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時，甲、乙、丙三個燒杯中均裝有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小康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在甲、乙、丙三個燒杯中依序加入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的食鹽，充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攪拌後，發現三個燒杯底部均有食鹽固體殘留。請問：哪一個燒杯中的食鹽濃度最大？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甲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乙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丙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三杯濃度都相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字方塊 4"/>
          <p:cNvSpPr/>
          <p:nvPr/>
        </p:nvSpPr>
        <p:spPr>
          <a:xfrm>
            <a:off x="0" y="62064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標楷體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187280" y="4221000"/>
            <a:ext cx="79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同溫、同溶質的飽和溶液，濃度相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18920" y="477360"/>
            <a:ext cx="81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甲杯中盛有果汁，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媽媽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倒了一半到乙杯中，嚐  一口乙杯的果汁後覺得太甜了，於是加了一些水將乙杯果汁稀釋。下列敘述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前，乙杯果汁比甲杯果汁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所含的糖仍和沖淡前 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樣多，但比較不甜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所含的糖仍和沖淡前 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樣多，所以仍然一樣甜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加水沖淡後，乙杯果汁比較不甜，乙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中所含的糖變少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字方塊 4"/>
          <p:cNvSpPr/>
          <p:nvPr/>
        </p:nvSpPr>
        <p:spPr>
          <a:xfrm>
            <a:off x="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258920" y="580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806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ts val="36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Times New Roman"/>
              </a:rPr>
              <a:t>小禹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取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之藥水溶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毫升，因為濃度太大，便加水稀釋，在稀釋的過程中，溶質之質量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，溶液之總體積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，則下圖何者正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115"/>
          <p:cNvPicPr/>
          <p:nvPr/>
        </p:nvPicPr>
        <p:blipFill>
          <a:blip r:embed="rId1">
            <a:lum bright="-42000"/>
          </a:blip>
          <a:srcRect l="0" t="32031" r="0" b="32031"/>
          <a:stretch/>
        </p:blipFill>
        <p:spPr>
          <a:xfrm>
            <a:off x="1116000" y="2565360"/>
            <a:ext cx="78487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文字方塊 4"/>
          <p:cNvSpPr/>
          <p:nvPr/>
        </p:nvSpPr>
        <p:spPr>
          <a:xfrm>
            <a:off x="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258920" y="580536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溶液稀釋前後的溶質質量不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040" y="549000"/>
            <a:ext cx="79786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ts val="36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小嬋做蛋糕時，稱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5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葡萄糖粉置於杯子內，再加入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0.0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公克水，攪拌至完全溶解時，葡萄糖水的重量百分濃度為何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) 25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) 20.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C) 1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D) 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32000" y="2852640"/>
            <a:ext cx="734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提示：先找出溶液質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字方塊 4"/>
          <p:cNvSpPr/>
          <p:nvPr/>
        </p:nvSpPr>
        <p:spPr>
          <a:xfrm>
            <a:off x="325440" y="47628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標楷體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47:53Z</dcterms:created>
  <dc:creator>Test User</dc:creator>
  <dc:description/>
  <dc:language>en-US</dc:language>
  <cp:lastModifiedBy>user1</cp:lastModifiedBy>
  <dcterms:modified xsi:type="dcterms:W3CDTF">2011-11-03T22:41:25Z</dcterms:modified>
  <cp:revision>648</cp:revision>
  <dc:subject/>
  <dc:title>投影片 1</dc:title>
</cp:coreProperties>
</file>