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A71-E82E-4109-8FB1-306AFCF5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61D-41D0-4EFD-B6BF-9B44DD12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C13-23A7-4681-9F0B-B9CA04EE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A49-79DB-4D46-841D-235D9179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205-5B8A-4BAC-ACDB-0B8D3105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201-B8E6-446F-9776-F53DBAD2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532-C0A1-4979-BA4B-2F448708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A36C-0E37-41A0-91E9-EE4C524A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6E5-FE5F-4A9A-991E-24FC2CB2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964-22E8-499E-BFF4-FDBA2721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BED-3E79-493B-B08D-2763B030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C93-35E4-42E1-B9BA-E626C806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324E-F915-47C3-A2BB-87F62751964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把一根粉筆折斷，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炎熱的夏天吹冷氣，是很舒服的一件事情，但走出冷氣房時，眼鏡鏡片常會有一層白霧，是如何形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在冷氣房內就形成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鏡片溫度比較低，室外的水蒸氣凝結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著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室外的霧氣太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沒看過這種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水蒸氣遇冷會容易凝結成水滴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變化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炎熱的夏天吃冰涼的西瓜，是很舒服的一件事情，從冰箱拿出的西瓜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外部常會凝結水滴，請問是如何形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在冰箱內就形成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西瓜溫度比較低，室外的水蒸氣凝結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著而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室外的霧氣太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西瓜內部的汁液滲到外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炎熱的夏天吃冰涼的西瓜，是很舒服的一件事情，從冰箱拿出的西瓜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外部常會凝結水滴，請問是如何形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817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在冰箱內就形成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西瓜溫度比較低，室外的水蒸氣凝結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著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室外的霧氣太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西瓜內部的汁液滲到外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水蒸氣遇冷會容易凝結成水滴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變化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乾冰可以製造白煙，產生舞台效果，請問產生的白煙是何種物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蒸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小水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就是乾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乾冰可以製造白煙，產生舞台效果，請問產生的白煙是何種物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水蒸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小水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就是乾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水蒸氣遇冷會容易凝結成水滴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變化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乾冰是固態的二氧化碳，溫度很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煮開水時會冒出許多白煙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問產生的白煙是何種物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蒸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小水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氮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煮開水時會冒出許多白煙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問產生的白煙是何種物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蒸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小水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氮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蒸氣、二氧化碳及氮氣是無色氣體，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眼看不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空氣中的水蒸氣遇冷會容易凝結成水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質常會熱脹冷縮，請問這個過程是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質常會熱脹冷縮，請問這個過程是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質燃燒需要與氧氣結合，則燃燒的過程為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把一根粉筆折斷，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有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粉筆折斷之後還是粉筆，本質不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質燃燒需要與氧氣結合，則燃燒的過程為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有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燃燒必定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食物經過人體的消化，變成生命活動所需的能量，請問食物的消化過程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食物經過人體的消化，變成生命活動所需的能量，請問食物的消化過程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有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消化必須經由酵素作用，食物經過複雜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過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把黃金加熱至熔點，固體的黃金會變成液態的黃金，方便加工，請問這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及化學變化皆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把黃金加熱至熔點，固體的黃金會變成液態的黃金，方便加工，請問這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及化學變化皆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固態黃金變液態為三態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車禍的發生常因車速過快，撞擊之後車體變形，請問車體變形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車禍的發生常因車速過快，撞擊之後車體變形，請問車體變形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車體變形為形狀改變，本質不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吃熱騰騰的麵時，眼鏡都會變成霧濛濛的，請問這種現象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及化學變化皆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吃熱騰騰的麵時，眼鏡都會變成霧濛濛的，請問這種現象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及化學變化皆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水蒸氣遇冷會容易凝結成水滴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變化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灣之光曾雅妮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日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PG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冠軍獎盃留在台灣，揚名國際。當高爾夫球被球竿揮擊的瞬間，球會產生變形，請問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及化學變化皆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吃一顆蘋果當早餐，咬下一口咀嚼之後，進入體內消化，請問這顆蘋果經過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先物理變化之後再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先化學變化之後再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灣之光曾雅妮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日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PG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冠軍獎盃留在台灣，揚名國際。當高爾夫球被球竿揮擊的瞬間，球會產生變形，請問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及化學變化皆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高爾夫球變形為形狀改變，本質不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灣之光王建民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積極復出，成名的伸卡球頻頻讓對手擊出滾地球。當棒球被球棒揮擊的瞬間，球會產生變形，請問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及化學變化皆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灣之光王建民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積極復出，成名的伸卡球頻頻讓對手擊出滾地球。當棒球被球棒揮擊中的瞬間，球會產生變形，請問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10456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及化學變化皆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棒球變形為形狀改變，本質不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灣之光吳寶春以荔枝麵包榮獲世界烘焙冠軍，為國爭光。製作麵包需要麵粉與酵母發生變化，請問發酵的過程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灣之光吳寶春以荔枝麵包榮獲世界烘焙冠軍，為國爭光。製作麵包需要麵粉與酵母發生變化，請問發酵的過程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有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發酵必須與其他物質發生反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服儀檢查時，需要整理過長凌亂的頭髮，將頭髮剪短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服儀檢查時，需要整理過長凌亂的頭髮，將頭髮剪短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頭髮剪短之後還是頭髮，本質不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未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建國百年國慶煙火，光彩絢麗。煙火燃燒施放的過程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建國百年國慶煙火，光彩絢麗。煙火燃燒施放的過程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燃燒必須與氧氣結合，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會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生米煮成熟飯的過程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吃一顆蘋果當早餐，咬下一口咀嚼之後，進入體內消化，請問這顆蘋果經過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先物理變化之後再化學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先化學變化之後再物理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化學變化有產生新物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過程為咬下蘋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形狀改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及消化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變成其他物質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生米煮成熟飯的過程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米跟飯是不同的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會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蠟燭點火燃燒的過程，蠟油受熱融化，變成蒸氣後燃燒，請問蠟燭經過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先物理變化之後再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先化學變化之後再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蠟燭點火燃燒的過程，蠟油受熱融化，變成蒸氣後燃燒，請問蠟燭經過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先物理變化之後再化學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先化學變化之後再物理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化學變化有產生新物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過程為蠟油融化、汽化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態變化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及燃燒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變成其他物質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颱風帶來大量的雨水，常常造成重大的災情，水蒸氣凝結成水滴的過程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颱風帶來大量的雨水，常常造成重大的災情，水蒸氣凝結成水滴的過程是屬於何種變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有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物理變化沒有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大部分包含形狀、體積及三態的變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態為固態、液態及氣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化學變化有產生新物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炎熱的夏天吹冷氣，是很舒服的一件事情，但走出冷氣房時，眼鏡鏡片常會有一層白霧，是如何形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在冷氣房內就形成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鏡片溫度比較低，室外的水蒸氣凝結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著而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室外的霧氣太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看過這種現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06:10Z</dcterms:created>
  <dc:creator>YIWEN</dc:creator>
  <dc:description/>
  <dc:language>en-US</dc:language>
  <cp:lastModifiedBy>YIWEN</cp:lastModifiedBy>
  <dcterms:modified xsi:type="dcterms:W3CDTF">2001-12-31T16:49:56Z</dcterms:modified>
  <cp:revision>19</cp:revision>
  <dc:subject/>
  <dc:title>投影片 1</dc:title>
</cp:coreProperties>
</file>