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CAF4-0CB5-4EAB-B8A5-CD21A9D6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10E-9980-431A-B42F-1F2757C6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A6D-C5DD-4BCF-9475-D1856D00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23F7-6839-4078-B6F2-56CB79F0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55E5-55C6-49FF-8215-036EC8C0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1BE5-E083-4FE2-BAE3-3948A451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140F-A232-4010-A551-766CF4B8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289D-CA5C-4AE2-BA4D-A3921F41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801C-87E3-4D65-AC19-44E069E2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EAB5-F430-4B25-9E64-0AE74AED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E130-4C92-415D-8C58-74A3DDA1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9D46-35DE-4488-851D-EFE7BC78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4045-BB9F-47EC-BC71-ACEBB030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5790-02F1-440F-9A97-DFDCB397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A447-61E7-4840-9533-8A61904F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8F2F-1BE8-448D-A655-5D4ED4DD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C9A9-3DAB-49E6-AD7F-355B222E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C6F2-F3E1-46ED-8484-97D704B7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C871-15FD-4677-8156-4E14476E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988-6CF8-4378-9206-E72204DC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D8C2-BCA0-4C8E-879F-829B6D7A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CCDA-4C75-4442-B3EA-0067C881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515-4484-4093-81B3-8B67030B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1633-A1B9-4823-9003-0F613A0D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9CF9-F70C-4DAD-8556-86CB47263144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D1EF-1608-41EE-A5D8-6347DC29A5DF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pochtimes.com/b5/10/10/14/n3054629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photo.swcoast-nsa.gov.tw/03photo/view.asp?bull_id=1652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&#36229;&#32879;&#32080;&#22294;&#29255;/60-&#23391;&#20161;&#33609;2%5B1%5D.jpg" TargetMode="External"/><Relationship Id="rId2" Type="http://schemas.openxmlformats.org/officeDocument/2006/relationships/hyperlink" Target="file:///../&#36229;&#32879;&#32080;&#22294;&#29255;/&#40845;&#33909;&#33457;&#23526;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log.nownews.com/article.php?bid=125&amp;tid=154706#ixzz2AJyw8Qm3" TargetMode="External"/><Relationship Id="rId2" Type="http://schemas.openxmlformats.org/officeDocument/2006/relationships/hyperlink" Target="http://blog.nownews.com/article.php?bid=125&amp;tid=154706#ixzz2AJyw8Qm3" TargetMode="External"/><Relationship Id="rId3" Type="http://schemas.openxmlformats.org/officeDocument/2006/relationships/hyperlink" Target="http://blog.nownews.com/article.php?bid=125&amp;tid=154706#ixzz2AJyw8Qm3" TargetMode="External"/><Relationship Id="rId4" Type="http://schemas.openxmlformats.org/officeDocument/2006/relationships/hyperlink" Target="http://blog.nownews.com/article.php?bid=125&amp;tid=154706#ixzz2AJyw8Qm3" TargetMode="External"/><Relationship Id="rId5" Type="http://schemas.openxmlformats.org/officeDocument/2006/relationships/hyperlink" Target="http://blog.nownews.com/article.php?bid=125&amp;tid=154706#ixzz2AJyw8Qm3" TargetMode="External"/><Relationship Id="rId6" Type="http://schemas.openxmlformats.org/officeDocument/2006/relationships/hyperlink" Target="http://blog.nownews.com/article.php?bid=125&amp;tid=154706#ixzz2AJyw8Qm3" TargetMode="External"/><Relationship Id="rId7" Type="http://schemas.openxmlformats.org/officeDocument/2006/relationships/hyperlink" Target="http://blog.nownews.com/article.php?bid=125&amp;tid=154706#ixzz2AJyw8Qm3" TargetMode="External"/><Relationship Id="rId8" Type="http://schemas.openxmlformats.org/officeDocument/2006/relationships/hyperlink" Target="http://blog.nownews.com/article.php?bid=125&amp;tid=154706#ixzz2AJyw8Qm3" TargetMode="External"/><Relationship Id="rId9" Type="http://schemas.openxmlformats.org/officeDocument/2006/relationships/hyperlink" Target="http://blog.nownews.com/article.php?bid=125&amp;tid=154706#ixzz2AJyw8Qm3" TargetMode="External"/><Relationship Id="rId10" Type="http://schemas.openxmlformats.org/officeDocument/2006/relationships/hyperlink" Target="http://blog.nownews.com/article.php?bid=125&amp;tid=154706#ixzz2AJyw8Qm3" TargetMode="External"/><Relationship Id="rId11" Type="http://schemas.openxmlformats.org/officeDocument/2006/relationships/hyperlink" Target="http://blog.nownews.com/article.php?bid=125&amp;tid=154706#ixzz2AJyw8Qm3" TargetMode="External"/><Relationship Id="rId12" Type="http://schemas.openxmlformats.org/officeDocument/2006/relationships/hyperlink" Target="http://blog.nownews.com/article.php?bid=125&amp;tid=154706#ixzz2AJyw8Qm3" TargetMode="External"/><Relationship Id="rId13" Type="http://schemas.openxmlformats.org/officeDocument/2006/relationships/hyperlink" Target="http://blog.nownews.com/article.php?bid=125&amp;tid=154706#ixzz2AJyw8Qm3" TargetMode="External"/><Relationship Id="rId14" Type="http://schemas.openxmlformats.org/officeDocument/2006/relationships/hyperlink" Target="http://blog.nownews.com/article.php?bid=125&amp;tid=154706#ixzz2AJyw8Qm3" TargetMode="External"/><Relationship Id="rId15" Type="http://schemas.openxmlformats.org/officeDocument/2006/relationships/image" Target="../media/image6.jpeg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ff"/>
                </a:solidFill>
                <a:latin typeface="Comic Sans MS"/>
                <a:ea typeface="標楷體"/>
              </a:rPr>
              <a:t>鰲谷賞鳥趣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  <a:ea typeface="標楷體"/>
              </a:rPr>
              <a:t>鰲谷的位置</a:t>
            </a: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鰲鼓濕地位於</a:t>
            </a:r>
            <a:r>
              <a:rPr b="0" lang="zh-TW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嘉義縣東石鄉鰲鼓村西方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，北臨北港溪，南面六腳鄉大排水溝，西至台灣海峽，東以台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17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公路為界。面積廣達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1500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公頃左右。是隸屬於台糖公司的海埔新生地，是</a:t>
            </a:r>
            <a:r>
              <a:rPr b="0" lang="zh-TW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國內目前面積最大的溼地生態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r>
              <a:rPr b="0" lang="zh-TW" sz="1200" spc="-1" strike="noStrike">
                <a:solidFill>
                  <a:srgbClr val="000000"/>
                </a:solidFill>
                <a:latin typeface="Comic Sans MS"/>
              </a:rPr>
              <a:t>http://plog.tcc.edu.tw/post/398/506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3374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  <a:ea typeface="標楷體"/>
              </a:rPr>
              <a:t>鰲谷空拍圖</a:t>
            </a: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omic Sans MS"/>
                <a:ea typeface="標楷體"/>
              </a:rPr>
              <a:t>大紀元新聞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epochtimes.com/b5/10/10/14/n3054629.htm</a:t>
            </a:r>
            <a:r>
              <a:rPr b="0" lang="zh-TW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攝影師陳敏明先生     ▼鰲鼓溼地將成為全國最大森林生態園區，空中鳥瞰圖。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076720" y="4365720"/>
            <a:ext cx="2610000" cy="1752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476360" y="5877000"/>
            <a:ext cx="38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3500280"/>
            <a:ext cx="266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omic Sans MS"/>
                <a:ea typeface="標楷體"/>
              </a:rPr>
              <a:t>雲嘉南國家風景區多媒體管理系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200"/>
                </a:solidFill>
                <a:uFillTx/>
                <a:latin typeface="Comic Sans MS"/>
                <a:ea typeface="標楷體"/>
                <a:hlinkClick r:id="rId4"/>
              </a:rPr>
              <a:t>http://photo.swcoast-nsa.gov.tw/03photo/view.asp?bull_id=1652</a:t>
            </a:r>
            <a:r>
              <a:rPr b="0" lang="zh-TW" sz="1200" spc="-1" strike="noStrike">
                <a:solidFill>
                  <a:srgbClr val="000000"/>
                </a:solidFill>
                <a:latin typeface="Comic Sans MS"/>
                <a:ea typeface="標楷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omic Sans MS"/>
                <a:ea typeface="標楷體"/>
              </a:rPr>
              <a:t>鰲谷草澤區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鰲谷簡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位於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嘉義縣東石鄉六腳大排及北港溪出海口之間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包括有</a:t>
            </a:r>
            <a:r>
              <a:rPr b="0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沙洲地、廢耕地、魚塭、農墾區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及大範圍的</a:t>
            </a:r>
            <a:r>
              <a:rPr b="0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木麻黃防風林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r>
              <a:rPr b="0" lang="zh-TW" sz="2800" spc="-1" strike="noStrike">
                <a:solidFill>
                  <a:srgbClr val="00b200"/>
                </a:solidFill>
                <a:latin typeface="標楷體"/>
                <a:ea typeface="標楷體"/>
              </a:rPr>
              <a:t>吸引了大批的候鳥、水鳥及留鳥來此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其離海岸線不遠的外海，就是以地形特殊而聞名的雲林口湖鄉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外傘頂洲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由於濕地型態複雜且完整，已受到國內外專家學者重視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鰲鼓濕地位於</a:t>
            </a:r>
            <a:r>
              <a:rPr b="0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嘉義縣東石鄉鰲鼓村西方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北為北港溪，南為六腳大排水，西至海，東以台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7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61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公路為界。面積約為</a:t>
            </a:r>
            <a:r>
              <a:rPr b="0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1500</a:t>
            </a:r>
            <a:r>
              <a:rPr b="0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公頃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左右，其中約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300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公頃為台糖公司土地，其餘為私有地。鰲鼓濕地除北港溪河口區域之外，又可分為兩區：一是在鰲鼓農場內部，一是東石農場（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031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公頃）</a:t>
            </a:r>
            <a:r>
              <a:rPr b="0" lang="zh-TW" sz="2200" spc="-1" strike="noStrike">
                <a:solidFill>
                  <a:srgbClr val="000000"/>
                </a:solidFill>
                <a:latin typeface="Comic Sans MS"/>
              </a:rPr>
              <a:t>。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鰲谷生態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鰲谷常見的植物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本區植物非常豐富達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90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種，以本區分布廣大的水田及旱田為例，野生植物較常見的有</a:t>
            </a:r>
            <a:r>
              <a:rPr b="0" lang="zh-TW" sz="2800" spc="-1" strike="noStrike" u="sng">
                <a:solidFill>
                  <a:srgbClr val="00b200"/>
                </a:solidFill>
                <a:uFillTx/>
                <a:latin typeface="標楷體"/>
                <a:ea typeface="標楷體"/>
                <a:hlinkClick r:id="rId1"/>
              </a:rPr>
              <a:t>孟仁草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0" lang="zh-TW" sz="2800" spc="-1" strike="noStrike" u="sng">
                <a:solidFill>
                  <a:srgbClr val="00b200"/>
                </a:solidFill>
                <a:uFillTx/>
                <a:latin typeface="標楷體"/>
                <a:ea typeface="標楷體"/>
                <a:hlinkClick r:id="rId2"/>
              </a:rPr>
              <a:t>龍葵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、長柄菊、咸豐草、野塘蒿、姬牽牛、蒺藜草、狗牙根、龍爪茅等；防風林除木麻黃，還有白千層，此外亦有不少黃槿。僅存的紅樹林為</a:t>
            </a:r>
            <a:r>
              <a:rPr b="0" lang="zh-TW" sz="2800" spc="-1" strike="noStrike">
                <a:solidFill>
                  <a:srgbClr val="00b200"/>
                </a:solidFill>
                <a:latin typeface="標楷體"/>
                <a:ea typeface="標楷體"/>
              </a:rPr>
              <a:t>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茄苳，主要集中在農場西側、南側近海處及水門一帶。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292720" y="4005360"/>
            <a:ext cx="263988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鰲谷生態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鳥類資源，根據調查達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06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種以上，其中屬於</a:t>
            </a:r>
            <a:r>
              <a:rPr b="0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保育類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的有東方白鸛、黑鸛、黑面琵鷺、唐白鷺、雀鷹、赤腹鷹、灰面鷺、魚鷹、諾氏鷸、彩鷸、小燕鷗、紅尾伯勞等。另為</a:t>
            </a:r>
            <a:r>
              <a:rPr b="0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遷徙性猛禽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穩定的度冬區域，除國際瀕危的黑面琵鷺以鰲鼓為覓食區域之一，全球僅剩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000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隻左右的黑嘴鷗也有約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50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隻左右在鰲鼓濕地棲息度冬，更突顯其重要性。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356000" y="4221000"/>
            <a:ext cx="3529080" cy="1673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971640" y="4724280"/>
            <a:ext cx="3313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Comic Sans MS"/>
                <a:ea typeface="標楷體"/>
              </a:rPr>
              <a:t>以上圖文引自</a:t>
            </a:r>
            <a:r>
              <a:rPr b="0" lang="zh-TW" sz="1600" spc="-1" strike="noStrike">
                <a:solidFill>
                  <a:srgbClr val="0000ff"/>
                </a:solidFill>
                <a:latin typeface="Comic Sans MS"/>
                <a:ea typeface="標楷體"/>
              </a:rPr>
              <a:t>:</a:t>
            </a:r>
            <a:r>
              <a:rPr b="0" lang="zh-TW" sz="1600" spc="-1" strike="noStrike">
                <a:solidFill>
                  <a:srgbClr val="0000ff"/>
                </a:solidFill>
                <a:latin typeface="Comic Sans MS"/>
                <a:ea typeface="標楷體"/>
              </a:rPr>
              <a:t>郭長成老師網頁作品集</a:t>
            </a:r>
            <a:r>
              <a:rPr b="0" lang="zh-TW" sz="1200" spc="-1" strike="noStrike">
                <a:solidFill>
                  <a:srgbClr val="0000ff"/>
                </a:solidFill>
                <a:latin typeface="Comic Sans MS"/>
                <a:ea typeface="標楷體"/>
              </a:rPr>
              <a:t>http://www.ttvs.cy.edu.tw/kcc/960101ku/k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  <a:ea typeface="標楷體"/>
              </a:rPr>
              <a:t>賞鳥人的天堂：</a:t>
            </a: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鰲鼓溼地的最大價值，就在於它的面積非常廣大，幾乎相當於台北市一整個大安區的總面積，是世界排名第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7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大的自然溼地，而且整塊溼地未曾遭過任何汙染，整個自然生態體系非常健全，</a:t>
            </a:r>
            <a:r>
              <a:rPr b="0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鳥類的數量與種類更是讓人驚嘆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而且</a:t>
            </a:r>
            <a:r>
              <a:rPr b="0" lang="zh-TW" sz="2800" spc="-1" strike="noStrike">
                <a:solidFill>
                  <a:srgbClr val="00b200"/>
                </a:solidFill>
                <a:latin typeface="標楷體"/>
                <a:ea typeface="標楷體"/>
              </a:rPr>
              <a:t>有許多保育類鳥類與較少見的猛禽類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並且不只冬天才有鳥，而是</a:t>
            </a:r>
            <a:r>
              <a:rPr b="0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一年四季都有鳥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留鳥種類達到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80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多種。</a:t>
            </a:r>
            <a:br>
              <a:rPr sz="2800"/>
            </a:b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原文網址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: </a:t>
            </a:r>
            <a:r>
              <a:rPr b="0" lang="zh-TW" sz="1600" spc="-1" strike="noStrike" u="sng">
                <a:solidFill>
                  <a:srgbClr val="00b200"/>
                </a:solidFill>
                <a:uFillTx/>
                <a:latin typeface="標楷體"/>
                <a:ea typeface="標楷體"/>
                <a:hlinkClick r:id="rId1"/>
              </a:rPr>
              <a:t>嘉義鳥世界／鰲鼓溼地</a:t>
            </a:r>
            <a:r>
              <a:rPr b="0" lang="zh-TW" sz="1600" spc="-1" strike="noStrike" u="sng">
                <a:solidFill>
                  <a:srgbClr val="00b200"/>
                </a:solidFill>
                <a:uFillTx/>
                <a:latin typeface="標楷體"/>
                <a:ea typeface="標楷體"/>
                <a:hlinkClick r:id="rId2"/>
              </a:rPr>
              <a:t>5</a:t>
            </a:r>
            <a:r>
              <a:rPr b="0" lang="zh-TW" sz="1600" spc="-1" strike="noStrike" u="sng">
                <a:solidFill>
                  <a:srgbClr val="00b200"/>
                </a:solidFill>
                <a:uFillTx/>
                <a:latin typeface="標楷體"/>
                <a:ea typeface="標楷體"/>
                <a:hlinkClick r:id="rId3"/>
              </a:rPr>
              <a:t>萬大軍　資深鳥人也嚇成呱噪鴉 </a:t>
            </a:r>
            <a:r>
              <a:rPr b="0" lang="zh-TW" sz="1600" spc="-1" strike="noStrike" u="sng">
                <a:solidFill>
                  <a:srgbClr val="00b200"/>
                </a:solidFill>
                <a:uFillTx/>
                <a:latin typeface="標楷體"/>
                <a:ea typeface="標楷體"/>
                <a:hlinkClick r:id="rId4"/>
              </a:rPr>
              <a:t>| </a:t>
            </a:r>
            <a:r>
              <a:rPr b="0" lang="zh-TW" sz="1600" spc="-1" strike="noStrike" u="sng">
                <a:solidFill>
                  <a:srgbClr val="00b200"/>
                </a:solidFill>
                <a:uFillTx/>
                <a:latin typeface="標楷體"/>
                <a:ea typeface="標楷體"/>
                <a:hlinkClick r:id="rId5"/>
              </a:rPr>
              <a:t>一美三豬頭 </a:t>
            </a:r>
            <a:r>
              <a:rPr b="0" lang="zh-TW" sz="1600" spc="-1" strike="noStrike" u="sng">
                <a:solidFill>
                  <a:srgbClr val="00b200"/>
                </a:solidFill>
                <a:uFillTx/>
                <a:latin typeface="標楷體"/>
                <a:ea typeface="標楷體"/>
                <a:hlinkClick r:id="rId6"/>
              </a:rPr>
              <a:t>| </a:t>
            </a:r>
            <a:r>
              <a:rPr b="0" lang="zh-TW" sz="1600" spc="-1" strike="noStrike" u="sng">
                <a:solidFill>
                  <a:srgbClr val="00b200"/>
                </a:solidFill>
                <a:uFillTx/>
                <a:latin typeface="標楷體"/>
                <a:ea typeface="標楷體"/>
                <a:hlinkClick r:id="rId7"/>
              </a:rPr>
              <a:t>kaas</a:t>
            </a:r>
            <a:r>
              <a:rPr b="0" lang="zh-TW" sz="1600" spc="-1" strike="noStrike" u="sng">
                <a:solidFill>
                  <a:srgbClr val="00b200"/>
                </a:solidFill>
                <a:uFillTx/>
                <a:latin typeface="標楷體"/>
                <a:ea typeface="標楷體"/>
                <a:hlinkClick r:id="rId8"/>
              </a:rPr>
              <a:t> | </a:t>
            </a:r>
            <a:r>
              <a:rPr b="0" lang="zh-TW" sz="1600" spc="-1" strike="noStrike" u="sng">
                <a:solidFill>
                  <a:srgbClr val="00b200"/>
                </a:solidFill>
                <a:uFillTx/>
                <a:latin typeface="標楷體"/>
                <a:ea typeface="標楷體"/>
                <a:hlinkClick r:id="rId9"/>
              </a:rPr>
              <a:t>NOWnews</a:t>
            </a:r>
            <a:r>
              <a:rPr b="0" lang="zh-TW" sz="1600" spc="-1" strike="noStrike" u="sng">
                <a:solidFill>
                  <a:srgbClr val="00b200"/>
                </a:solidFill>
                <a:uFillTx/>
                <a:latin typeface="標楷體"/>
                <a:ea typeface="標楷體"/>
                <a:hlinkClick r:id="rId10"/>
              </a:rPr>
              <a:t> </a:t>
            </a:r>
            <a:r>
              <a:rPr b="0" lang="zh-TW" sz="1600" spc="-1" strike="noStrike" u="sng">
                <a:solidFill>
                  <a:srgbClr val="00b200"/>
                </a:solidFill>
                <a:uFillTx/>
                <a:latin typeface="標楷體"/>
                <a:ea typeface="標楷體"/>
                <a:hlinkClick r:id="rId11"/>
              </a:rPr>
              <a:t>部落格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1600" spc="-1" strike="noStrike" u="sng">
                <a:solidFill>
                  <a:srgbClr val="00b200"/>
                </a:solidFill>
                <a:uFillTx/>
                <a:latin typeface="標楷體"/>
                <a:ea typeface="標楷體"/>
                <a:hlinkClick r:id="rId12"/>
              </a:rPr>
              <a:t>http://</a:t>
            </a:r>
            <a:r>
              <a:rPr b="0" lang="zh-TW" sz="1600" spc="-1" strike="noStrike" u="sng">
                <a:solidFill>
                  <a:srgbClr val="00b200"/>
                </a:solidFill>
                <a:uFillTx/>
                <a:latin typeface="標楷體"/>
                <a:ea typeface="標楷體"/>
                <a:hlinkClick r:id="rId13"/>
              </a:rPr>
              <a:t>blog.nownews.com/article.php?bid</a:t>
            </a:r>
            <a:r>
              <a:rPr b="0" lang="zh-TW" sz="1600" spc="-1" strike="noStrike" u="sng">
                <a:solidFill>
                  <a:srgbClr val="00b200"/>
                </a:solidFill>
                <a:uFillTx/>
                <a:latin typeface="標楷體"/>
                <a:ea typeface="標楷體"/>
                <a:hlinkClick r:id="rId14"/>
              </a:rPr>
              <a:t>=125&amp;tid=154706#ixzz2AJyw8Qm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5"/>
          <a:stretch/>
        </p:blipFill>
        <p:spPr>
          <a:xfrm>
            <a:off x="4716360" y="189000"/>
            <a:ext cx="2484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Comic Sans MS"/>
                <a:ea typeface="標楷體"/>
              </a:rPr>
              <a:t>賞鳥應注意事項</a:t>
            </a: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避免穿著太鮮豔的衣服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，出草叢及林地以長褲及硬質鞋子為宜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b200"/>
                </a:solidFill>
                <a:latin typeface="標楷體"/>
                <a:ea typeface="標楷體"/>
              </a:rPr>
              <a:t>圖鑑、雙筒望眼鏡</a:t>
            </a:r>
            <a:r>
              <a:rPr b="0" lang="zh-TW" sz="2000" spc="-1" strike="noStrike">
                <a:solidFill>
                  <a:srgbClr val="00b200"/>
                </a:solidFill>
                <a:latin typeface="標楷體"/>
                <a:ea typeface="標楷體"/>
              </a:rPr>
              <a:t>(710</a:t>
            </a:r>
            <a:r>
              <a:rPr b="0" lang="zh-TW" sz="2000" spc="-1" strike="noStrike">
                <a:solidFill>
                  <a:srgbClr val="00b200"/>
                </a:solidFill>
                <a:latin typeface="標楷體"/>
                <a:ea typeface="標楷體"/>
              </a:rPr>
              <a:t>倍</a:t>
            </a:r>
            <a:r>
              <a:rPr b="0" lang="zh-TW" sz="2000" spc="-1" strike="noStrike">
                <a:solidFill>
                  <a:srgbClr val="00b2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是最基本的配備，賞水鳥時因距離較遠，最好能有單筒望眼鏡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703dff"/>
                </a:solidFill>
                <a:latin typeface="標楷體"/>
                <a:ea typeface="標楷體"/>
              </a:rPr>
              <a:t>避免對鳥類造成太大的干擾，繁殖期，更應避免接近鳥巢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進出潮間帶應注意事項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: 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＊準備寬邊帽、防曬油、吉泥灘鞋或長統雨鞋。 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＊</a:t>
            </a:r>
            <a:r>
              <a:rPr b="0" lang="zh-TW" sz="2000" spc="-1" strike="noStrike">
                <a:solidFill>
                  <a:srgbClr val="00b200"/>
                </a:solidFill>
                <a:latin typeface="標楷體"/>
                <a:ea typeface="標楷體"/>
              </a:rPr>
              <a:t>進出潮間帶時盡量沿水路前進。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＊</a:t>
            </a:r>
            <a:r>
              <a:rPr b="0" lang="zh-TW" sz="2000" spc="-1" strike="noStrike">
                <a:solidFill>
                  <a:srgbClr val="703dff"/>
                </a:solidFill>
                <a:latin typeface="標楷體"/>
                <a:ea typeface="標楷體"/>
              </a:rPr>
              <a:t>遊潮間帶欣賞之餘得注意漲潮的速度及退出潮間帶路線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海灘遊應注意事項： 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＊</a:t>
            </a: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做好防曬準備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工作，寬邊帽、防曬油都不可少。 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＊</a:t>
            </a:r>
            <a:r>
              <a:rPr b="0" lang="zh-TW" sz="2000" spc="-1" strike="noStrike">
                <a:solidFill>
                  <a:srgbClr val="00b200"/>
                </a:solidFill>
                <a:latin typeface="標楷體"/>
                <a:ea typeface="標楷體"/>
              </a:rPr>
              <a:t>攜帶望眼鏡、相機、及攝影機時注意防潮，並避免拍攝軍事據點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＊標非雷區之範圍請勿進入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;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進出海邊，</a:t>
            </a:r>
            <a:r>
              <a:rPr b="0" lang="zh-TW" sz="2000" spc="-1" strike="noStrike">
                <a:solidFill>
                  <a:srgbClr val="703dff"/>
                </a:solidFill>
                <a:latin typeface="標楷體"/>
                <a:ea typeface="標楷體"/>
              </a:rPr>
              <a:t>盡量使用有足跡踩過的小路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451640" y="2421000"/>
            <a:ext cx="11667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Comic Sans MS"/>
                <a:ea typeface="標楷體"/>
              </a:rPr>
              <a:t>綜合活動：有獎搶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  <a:ea typeface="標楷體"/>
              </a:rPr>
              <a:t>鰲谷濕地行政區域劃分隸屬那個縣市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鰲鼓溼地將成為全國最大森林生態園區，總面積約有多少公頃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鰲鼓溼地僅存的紅樹林是什麼植物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鰲鼓溼地，為什麼被稱為「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  <a:ea typeface="標楷體"/>
              </a:rPr>
              <a:t>賞鳥人的天堂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」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舉出三種鰲鼓溼地可觀察到的鳥類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舉出三點賞鳥時應注意事項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5:34:52Z</dcterms:created>
  <dc:creator>USER</dc:creator>
  <dc:description/>
  <dc:language>en-US</dc:language>
  <cp:lastModifiedBy>USER</cp:lastModifiedBy>
  <dcterms:modified xsi:type="dcterms:W3CDTF">2012-10-25T17:47:29Z</dcterms:modified>
  <cp:revision>24</cp:revision>
  <dc:subject/>
  <dc:title>認識濕地</dc:title>
</cp:coreProperties>
</file>