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377-6301-469C-AD30-664DE05A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9FC-859D-4458-B5B3-DF8E10D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C43-63B9-4184-B860-D4ED5FD8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A58-5B5C-4211-9A7F-66562B29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712-64B8-42DE-8BC5-2104F42B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D3F7-1846-40CF-98A6-66889B46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1274-0579-43E4-AD54-3E7D4207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3E1-8700-4D91-A66D-2B8BC7A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81DE-795B-47AF-8657-58549465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B52-E0FE-4778-9909-1AB9F3D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D424-3E81-4C5E-BC5D-9ADC505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907-406D-4AB6-9EE2-114CC95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E05-4800-409E-A1CD-58D0B0D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B9CD-3CA4-4DA7-83C5-71DF217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019-28C7-4095-8E3F-80F877F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146-E4BC-4BDE-B0B8-739A1C06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94F9-91E6-42A8-8C5C-0A68B4E2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F41-D71E-4776-A309-2BEDC4C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131-8A3F-4238-A8C0-4062BA9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71B-07B8-4064-B47D-6409114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8CF-6ADC-4F8F-B500-85FCF460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3E5-B72C-4396-AB1D-72912CB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6F0-CF32-41F5-BA6C-27F5396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184-0E93-4CA0-8575-CCEDAD2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D34F-8B14-41C7-AFAD-53F6DD47C5C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22F-1886-448A-993F-767D27144C74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lm.ntu.edu.tw/CIDC/95-2/007/activity-1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</a:rPr>
              <a:t>認識濕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標楷體"/>
              </a:rPr>
              <a:t>什麼是濕地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濕地係指</a:t>
            </a:r>
            <a:r>
              <a:rPr b="0" lang="zh-TW" sz="2600" spc="-1" strike="noStrike">
                <a:solidFill>
                  <a:srgbClr val="703dff"/>
                </a:solidFill>
                <a:latin typeface="標楷體"/>
                <a:ea typeface="標楷體"/>
              </a:rPr>
              <a:t>陸域和水域的過度地帶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，經常或間歇地被潮汐、洪水水淹沒，</a:t>
            </a:r>
            <a:r>
              <a:rPr b="0" lang="zh-TW" sz="2600" spc="-1" strike="noStrike">
                <a:solidFill>
                  <a:srgbClr val="00b200"/>
                </a:solidFill>
                <a:latin typeface="標楷體"/>
                <a:ea typeface="標楷體"/>
              </a:rPr>
              <a:t>終年潮濕、泥濘不乾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廣義的濕地泛指河口區、潮汐灘地、潟湖、水塘、魚塭、埤潭、湖泊、水田、低窪地等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狹義的濕地一般是指有水生植物存在的沼澤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濕土</a:t>
            </a: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、</a:t>
            </a:r>
            <a:r>
              <a:rPr b="0" lang="zh-TW" sz="2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水域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0" lang="zh-TW" sz="2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水生植群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是為濕地之三大要素。我們所常見的水稻田、菱角田、蓮花池、茭白筍田、水甕菜田 、藺草田等，都可以算是濕地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濕地是水草與紅樹林的家，是水鳥的驛站，也是水生動物與兩棲動物的棲地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1711440" cy="1285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5640" y="5373720"/>
            <a:ext cx="3671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5516640"/>
            <a:ext cx="3673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嘉義縣政府文化處                    鰲谷濕地一隅    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  <a:ea typeface="標楷體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omic Sans MS"/>
                <a:ea typeface="標楷體"/>
              </a:rPr>
              <a:t>http://www1.cyhg.gov.tw/cyhgcultural/season/02_scenically/01_main.asp?bull_id=4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標楷體"/>
              </a:rPr>
              <a:t>濕地的類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沿海濕地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沿海濕地主要分布於</a:t>
            </a:r>
            <a:r>
              <a:rPr b="0" lang="zh-TW" sz="2400" spc="-1" strike="noStrike">
                <a:solidFill>
                  <a:srgbClr val="ff0000"/>
                </a:solidFill>
                <a:latin typeface="Comic Sans MS"/>
                <a:ea typeface="標楷體"/>
              </a:rPr>
              <a:t>西部沿海一帶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，隨著潮汐漲退而存在。如：關渡沼澤區、竹南濕地、無尾港濕地、高美濕地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內陸濕地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分布於</a:t>
            </a:r>
            <a:r>
              <a:rPr b="0" lang="zh-TW" sz="2400" spc="-1" strike="noStrike">
                <a:solidFill>
                  <a:srgbClr val="00b200"/>
                </a:solidFill>
                <a:latin typeface="Comic Sans MS"/>
                <a:ea typeface="標楷體"/>
              </a:rPr>
              <a:t>內陸的河流、湖泊或高山、平原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，主要受內陸的河流、池塘、雨水、溪流、地下水等水文系統的影響。如：夢幻湖、南仁湖、大坡池濕地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人工濕地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人工濕地除了</a:t>
            </a:r>
            <a:r>
              <a:rPr b="0" lang="zh-TW" sz="2400" spc="-1" strike="noStrike">
                <a:solidFill>
                  <a:srgbClr val="703dff"/>
                </a:solidFill>
                <a:latin typeface="Comic Sans MS"/>
                <a:ea typeface="標楷體"/>
              </a:rPr>
              <a:t>包含水稻田、漁塭、水庫等類型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外，還包含許多為了教學或復育，</a:t>
            </a:r>
            <a:r>
              <a:rPr b="0" lang="zh-TW" sz="2400" spc="-1" strike="noStrike">
                <a:solidFill>
                  <a:srgbClr val="703dff"/>
                </a:solidFill>
                <a:latin typeface="Comic Sans MS"/>
                <a:ea typeface="標楷體"/>
              </a:rPr>
              <a:t>經人為開挖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、種植水生植物而成的。如：澄清湖濕地、高美植物園、桃園臺地埤塘。</a:t>
            </a:r>
            <a:br>
              <a:rPr sz="2400"/>
            </a:b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濕地的功能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00"/>
                </a:solidFill>
                <a:latin typeface="Comic Sans MS"/>
                <a:ea typeface="標楷體"/>
              </a:rPr>
              <a:t>滋養魚貝類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mic Sans MS"/>
                <a:ea typeface="標楷體"/>
              </a:rPr>
              <a:t>海岸濕地為許多魚、蝦與貝類，提供產卵、孵化、育幼的場所。濕地植群的枯枝落葉，豐富了食物鏈，為水生動物提供了豐富的食物來源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00"/>
                </a:solidFill>
                <a:latin typeface="Comic Sans MS"/>
                <a:ea typeface="標楷體"/>
              </a:rPr>
              <a:t>庇護鳥類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mic Sans MS"/>
                <a:ea typeface="標楷體"/>
              </a:rPr>
              <a:t>濕地豐富的魚、蝦、蟹類與底棲動物提供水鳥充足的食物。濕地是水鳥遷徙、補給、渡冬或繁殖之重要棲地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00"/>
                </a:solidFill>
                <a:latin typeface="Comic Sans MS"/>
                <a:ea typeface="標楷體"/>
              </a:rPr>
              <a:t>提供天然產物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mic Sans MS"/>
                <a:ea typeface="標楷體"/>
              </a:rPr>
              <a:t>海岸濕地提供魚類、貝類、魚苗、藥材等豐富資源。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濕地的功能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Comic Sans MS"/>
                <a:ea typeface="標楷體"/>
              </a:rPr>
              <a:t>防風與護岸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濕地植群可抑浪及固土，有效地保護海岸、河岸與塭岸；可擋強風及鹽霧，改善海岸地區之生活與生產環境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Comic Sans MS"/>
                <a:ea typeface="標楷體"/>
              </a:rPr>
              <a:t>蓄水與淨水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由於濕地具備良好的蓄水容量，可減緩洪暴的發生；可補充地下水，減緩地層下陷；經過沉積、淡化、過濾、分解的過程淨化了水質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Comic Sans MS"/>
                <a:ea typeface="標楷體"/>
              </a:rPr>
              <a:t>教育與遊憩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海岸濕地生物多樣性豐富，是生態、地理、生物、環境教育最好的大自然教室。濕地還可以提供民眾賞鳥、賞景及親水是生態旅遊之資源，達到寓教於樂功能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濕地所面臨的危機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由於台灣近十年來土地價格狂飆，海岸管理權責不清，導致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濕地大量被改建為魚塭、工業區、公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等，大大破壞了濕地的生態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內文資料引自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戀戀濕地－高美：「濕」情話「憶」教學活動</a:t>
            </a:r>
            <a:r>
              <a:rPr b="0" lang="zh-TW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dlm.ntu.edu.tw/CIDC/95-2/007/activity-1.htm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34:52Z</dcterms:created>
  <dc:creator>USER</dc:creator>
  <dc:description/>
  <dc:language>en-US</dc:language>
  <cp:lastModifiedBy>USER</cp:lastModifiedBy>
  <dcterms:modified xsi:type="dcterms:W3CDTF">2012-10-25T16:41:26Z</dcterms:modified>
  <cp:revision>5</cp:revision>
  <dc:subject/>
  <dc:title>認識濕地</dc:title>
</cp:coreProperties>
</file>