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CEE-AA50-4447-B54D-1763027D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61C-43A7-4648-9CC2-946D5233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103-44F0-4900-A4BB-48ABB5E2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0BA-8296-4036-9C31-CAB0A915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67D-170A-46FE-95B9-09DD7847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AAC-DF50-4BDD-A181-73984B3F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6FF-4542-4831-9B2A-3D5DBA26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347-C1C9-40DF-A266-D0E19D93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ADC-784A-479E-81B6-1E66434A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E3A-082C-4893-BA9A-D94054C8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E8B-0874-4B63-9BDC-BC389BEC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3E5-3D49-481B-B0CF-D4320953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73D2-0024-42C7-92D7-2182B07C5A6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5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5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2733" r="0" b="5514"/>
          <a:stretch/>
        </p:blipFill>
        <p:spPr>
          <a:xfrm>
            <a:off x="971640" y="2004840"/>
            <a:ext cx="7345440" cy="3953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鯨生鯨世愛你護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44280"/>
            <a:ext cx="7273800" cy="5361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抹香鯨的身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1557360"/>
            <a:ext cx="40384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背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結實渾厚的脂肪，外表如椰子肉般透明，口感柔滑濃膩，但比奶油油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腦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分裂如大布丁般肥厚的兩大瓣，和上麵粉，可煮成近似小牛腦的芬芳佳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04000" y="5373720"/>
            <a:ext cx="1832040" cy="1282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5640" y="4076640"/>
            <a:ext cx="741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鯨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烹煮鯨排，但切記過火，要訣在維持鯨肉鮮嫩的口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58920" y="44280"/>
            <a:ext cx="7273800" cy="5361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抹香鯨的身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乾鯨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呈現透明狀，放置在書頁上，可產生字體放大的錯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鯨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外觀又白又硬，可製成各種奇珍異品，例：手杖、傘骨、馬鞭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4005360"/>
            <a:ext cx="40388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牙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刻上許多逼真的圖畫，作為裝飾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3716280"/>
            <a:ext cx="40388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肋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間肋骨相當彎曲，某些地方可作為小橋的橫木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1960" y="5575320"/>
            <a:ext cx="18320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龍涎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英國ㄧ位小男孩發現沙灘上有一塊米黃色的大「石頭」，「石頭」表面好像塗了一層蠟。最後發現它是鯨魚的嘔吐物，有香水廠商出價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6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萬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3000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美元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約合台幣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189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萬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購買這塊石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19640" y="1773360"/>
            <a:ext cx="27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猜看看那塊石頭是什麼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54721" r="0" b="0"/>
          <a:stretch/>
        </p:blipFill>
        <p:spPr>
          <a:xfrm>
            <a:off x="5003640" y="3284640"/>
            <a:ext cx="338472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龍涎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龍涎香是一種名貴的香料，有「浮金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floating gol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之稱。每磅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約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454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價格高達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萬美元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萬台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法語意為「灰色琥珀」，是抹香鯨腸道中的物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被廣泛使用於香料、香錠、香油或名貴的蠟燭上，有些葡萄酒也會加入幾滴，以增加香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00720" y="1484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109548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8594" r="0" b="5506"/>
          <a:stretch/>
        </p:blipFill>
        <p:spPr>
          <a:xfrm>
            <a:off x="0" y="0"/>
            <a:ext cx="8964720" cy="6819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273800" cy="5361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抹香鯨的身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實用（燃油）：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2" action="ppaction://hlinksldjump"/>
              </a:rPr>
              <a:t>鯨皮　、腦窩和後面腦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食物：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3" action="ppaction://hlinksldjump"/>
              </a:rPr>
              <a:t>背峰　、腦髓　、鯨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其他：</a:t>
            </a:r>
            <a:r>
              <a:rPr b="0" lang="zh-TW" sz="2800" spc="-1" strike="noStrike" u="sng">
                <a:solidFill>
                  <a:srgbClr val="009999"/>
                </a:solidFill>
                <a:uFillTx/>
                <a:latin typeface="標楷體"/>
                <a:ea typeface="標楷體"/>
                <a:hlinkClick r:id="rId4" action="ppaction://hlinksldjump"/>
              </a:rPr>
              <a:t>乾鯨皮、鯨鬚　、肋骨、牙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971640" y="4941720"/>
            <a:ext cx="2736720" cy="134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4076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想ㄧ想，鯨魚何處最具價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4797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油脂→促進美國經濟發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44280"/>
            <a:ext cx="7273800" cy="5361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現今臺灣鯨魚現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因為鯨魚的價值，造成早期鯨類都被濫捕濫殺，直到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986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國際捕鯨委員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通過《全球禁止捕鯨公約》，但現今仍有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日本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冰島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挪威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等國從事捕鯨行動，目前許多鯨類都瀕臨絕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觀賞台灣鯨豚的歷史影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00720" y="4941720"/>
            <a:ext cx="181944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44280"/>
            <a:ext cx="7273800" cy="5361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回答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鯨魚的臺語叫什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臺灣何時開始禁捕鯨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現今為了保育鯨魚，也為了保障漁民的生計，推出何種方式使兩者皆得利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請舉出其中ㄧ個台灣可以賞鯨的地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14842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海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24210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98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3645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乘坐捕鯨船賞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4869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海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7274160" cy="5361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黑鯨之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34936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1844640"/>
            <a:ext cx="5759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哪些國家反對全面停止補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請推測其反對停止補鯨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作者認為為何要保護鯨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就你認為為何要保護鯨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請討論保護鯨魚可行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00720" y="184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日本、蘇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2565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經濟、食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抹香鯨的身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腦窩和後面的腦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無數個相互滲透的細窩，材質為粗糙而具彈性的白色纖維，藏有豐富的鯨腦油，約有五百加侖的油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鯨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四分之三的鯨皮可獲得十噸的油（約ㄧ百桶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72360" y="4869000"/>
            <a:ext cx="1831680" cy="1282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49402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7:35:52Z</dcterms:created>
  <dc:creator>user</dc:creator>
  <dc:description/>
  <dc:language>en-US</dc:language>
  <cp:lastModifiedBy>user</cp:lastModifiedBy>
  <dcterms:modified xsi:type="dcterms:W3CDTF">2012-10-26T02:24:18Z</dcterms:modified>
  <cp:revision>27</cp:revision>
  <dc:subject/>
  <dc:title>鯨生鯨世愛上你</dc:title>
</cp:coreProperties>
</file>