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101-9980-4880-9BF7-F5FC99E2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D28-5FAF-4519-AE3D-B54C4E72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CD41-4A71-4108-922E-FA4B1B86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63E-521E-451E-9ABC-098D0E6B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87FD-1C2D-4E78-9B60-8CAD8218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2AF4-5BA6-46A2-B96A-9FA4989A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69FA-736A-4630-A0DA-AF97B53A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294A-0743-4EBF-AAAF-F24F7543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90B9-9820-4DA4-A064-962BAE72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C4EE-B7CF-410C-B378-9B9DB566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BD3D-F0DF-407D-B2D1-AFD1344A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449-6F09-4579-90FD-7A4180D6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47C6-571B-467B-BBBA-D60DA676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2CC7-BF8B-4A3C-88F9-49A98492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5B6E-3A81-4016-88DC-DC5872A4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D89A-FDCE-4581-B5CE-AA31F86F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300C-8889-4B25-B374-AEBF676D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CBC-6175-4AE3-A6FA-5D092A81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2BC1-BBC2-455E-90CE-1FD1A417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9883-C953-4529-B7AE-73FF93F9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D61-1922-46D8-A37D-8ADA5E8B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1F0-FE20-4B35-9045-EE647354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26B-1390-44A3-A027-015D9A03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1AC-D771-4303-896F-6D753844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5004-C6FF-4689-87BB-C24206F467E1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A1D2-296A-480E-838B-0CE9F94E3A76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log.udn.com/HungGe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cecff"/>
                </a:solidFill>
                <a:latin typeface="Arial"/>
              </a:rPr>
              <a:t>討海人</a:t>
            </a:r>
            <a:r>
              <a:rPr b="0" lang="zh-TW" sz="54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zh-TW" sz="5400" spc="-1" strike="noStrike">
                <a:solidFill>
                  <a:srgbClr val="ccecff"/>
                </a:solidFill>
                <a:latin typeface="Arial"/>
              </a:rPr>
              <a:t>廖鴻基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515772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作者介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作家簡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性別：男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星座：天蠍座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居住地：花蓮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曾經討海、從事鯨豚生態調查、規劃及推動賞鯨活動、發起黑潮海洋文教基金會任創會董事長、隨遠洋漁船從事台灣遠洋漁業報導、率隊執行繞島計畫、隨貨櫃船執行台灣海運報導、受邀香港浸會大學「國際作家工作坊」訪問作家、新加坡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文學論壇“文學四月天”海外主講作家。著有《南方以南：海生館駐館筆記》《飛魚‧百合》《鯨生鯨世》等書。曾獲時報文學獎散文類評審獎、聯合報讀書人文學類最佳書獎等獎項。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以上摘自作家個人部落格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廖鴻基的部落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http://blog.udn.com/HungG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2924280"/>
            <a:ext cx="28098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9:33:13Z</dcterms:created>
  <dc:creator>xp</dc:creator>
  <dc:description/>
  <dc:language>en-US</dc:language>
  <cp:lastModifiedBy>xp</cp:lastModifiedBy>
  <dcterms:modified xsi:type="dcterms:W3CDTF">2012-10-19T09:45:42Z</dcterms:modified>
  <cp:revision>2</cp:revision>
  <dc:subject/>
  <dc:title>討海人-廖鴻基 與他的海洋朋友</dc:title>
</cp:coreProperties>
</file>