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51A-F187-4936-95D1-297B6892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8D3-52E1-4DE5-BD92-BA88A3B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8F1-63A8-47C7-8D6D-1F08419D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C29-53F6-475A-81E0-F415602D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1EF-96EB-4100-8938-E9AC90DB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345-1881-43D7-BF43-9380C730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EAD-3EFA-474D-ADF8-A11274E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4FA-EC07-4419-A6EE-816E2B1B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6B0-B2D7-44DE-B6F3-874BD13A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C6A-2C87-4D14-9F5D-36B6BCF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383-1331-476C-80B6-6402B0A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C19-4DFD-4BAC-803F-6EDD0960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12F3-B0ED-4953-9E74-88E91DE5FC6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飛魚季 補充資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飛魚簡介：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種季節性的迴游魚類，黑色的胸鰭特別延伸，展開如翼狀，廣布於赤道附近的海洋上，每年春夏間開始群集於臺灣附近海域，數量相當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黑鰭飛魚 Cheilopogon cyanopterus／照片由【台灣魚類資料庫】提供"/>
          <p:cNvPicPr/>
          <p:nvPr/>
        </p:nvPicPr>
        <p:blipFill>
          <a:blip r:embed="rId1"/>
          <a:stretch/>
        </p:blipFill>
        <p:spPr>
          <a:xfrm>
            <a:off x="3924360" y="3716280"/>
            <a:ext cx="4613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http://1.bp.blogspot.com/_huetz89EsqY/TQCR-0EHneI/AAAAAAAAAPY/4XBrdNgrOEc/s1600/%25E9%2581%2594%25E6%2582%259F%25E6%2597%258F.jpg"/>
          <p:cNvPicPr/>
          <p:nvPr/>
        </p:nvPicPr>
        <p:blipFill>
          <a:blip r:embed="rId1"/>
          <a:stretch/>
        </p:blipFill>
        <p:spPr>
          <a:xfrm>
            <a:off x="755640" y="3357720"/>
            <a:ext cx="4248000" cy="2840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飛魚季：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每年二月至六月間。達悟男人都將雜務擱置，專心捕魚。達悟族的祭祀和慶典的順序也隨著飛魚季而陸續舉行，可見飛魚季是牢牢維繫達悟族文化的重要根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飛魚季由來：</a:t>
            </a:r>
            <a:br>
              <a:rPr sz="3200"/>
            </a:b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在很久很久以前，有一群沿著海邊尋找食物的達悟族人，看見長了翅膀的魚從海面飛過，於是，大家便共同圍捕這些魚。捕到後，達悟族人便把它叫做飛魚。結果，食用過飛魚的族人，卻染上了怪病。更奇怪的是：連飛魚群也開始有魚染上怪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於是，飛魚群中的頭目黑鰭飛魚，便托夢給達悟族長老，告訴他怪病是如何發生、以及要如何預防。同時，還透過不同種類飛魚的現身，讓他認識飛魚的種類、捕撈季節、捕捉儀式以及不同的捕捉及食用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51080" cy="1685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260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每年定期的飛魚祭，男子均穿著丁字褲，頭戴銀盔，祭典隆重而壯觀。</a:t>
            </a:r>
            <a:br>
              <a:rPr sz="2800"/>
            </a:b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祭典共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次舉行，由「飛魚祈禱祭」揭開序幕。船在海灘集合後，領祭主宣示魚季中的禁忌與規則，並高聲頌唱祭詞，船員們在領祭船主的帶領下，用銀盔、水瓢、手勢等來招呼飛魚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結束後，船員們領取祭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雞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將血用食指點在卵石上，祈求今年魚季能夠平安、豐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常用達悟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Ayo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謝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Mi Ko nan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再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Maran Kong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叔叔您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Kaninan Kong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阿姨您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Akay Kong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祖父您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Akas Kong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祖母您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Kehakay Kong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您好（用於平輩男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Kavakes Kong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您好（用於平輩女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Wari Cyong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您好（用於晚輩，男女皆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4842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1:18:31Z</dcterms:created>
  <dc:creator>Eli</dc:creator>
  <dc:description/>
  <dc:language>en-US</dc:language>
  <cp:lastModifiedBy>Eli</cp:lastModifiedBy>
  <dcterms:modified xsi:type="dcterms:W3CDTF">2012-10-22T03:55:19Z</dcterms:modified>
  <cp:revision>6</cp:revision>
  <dc:subject/>
  <dc:title>飛魚季 補充資料</dc:title>
</cp:coreProperties>
</file>