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F27-4321-468D-813D-7521E19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933-DFDB-4C55-A953-B176315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1E5-D22A-42C6-940C-5CFF44A9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A74-8D1E-41C9-A65B-CB994ECC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B897-4A5C-4A87-BF7E-602D9EEF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505-7F50-4C47-B0C3-DCBF6E9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973C-6A65-4824-8A4A-F11CCFC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E2D3-1503-44AA-BFFA-A8FCAED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9E4-9E12-408F-8ECF-62D36F0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F49-52C8-4D19-BE5B-34E87F2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DA2-8417-48BB-9EB8-6145D28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957-0814-4CA4-BEB2-028C467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7EE-5374-404C-A308-42A0A06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A67-50AE-45E6-A637-034DA70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A460-6B95-42F7-A538-50B8DA6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78C6-5678-4D17-A48C-5D1E374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B54-21F6-4537-B2B3-7A3FEADE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446-98B9-4CE1-948F-4DB71225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F35-1ECE-441F-B424-4C7AEE8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884-24FE-474E-88AF-48663F5C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3F3-EDD5-4F6E-BB9D-83729924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0C5-6A1F-4E4D-885A-D8A3132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15D-E5D4-4872-BA75-1A035DC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401-B797-4744-80D4-A51F6DE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D92B-0F44-4AA8-B27B-471BA86CFA7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69F-5DFA-4B1E-8179-77ED4BB2F8D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99"/>
                </a:solidFill>
                <a:latin typeface="Arial"/>
              </a:rPr>
              <a:t>海洋文學概說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一、什麼是海洋文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二、海洋文學寫什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三、海洋作家有哪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8360" y="312840"/>
            <a:ext cx="820728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什麼是海洋文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海洋文學就是</a:t>
            </a:r>
            <a:r>
              <a:rPr b="0" lang="zh-TW" sz="3600" spc="-1" strike="noStrike">
                <a:solidFill>
                  <a:srgbClr val="99ff33"/>
                </a:solidFill>
                <a:latin typeface="Arial"/>
              </a:rPr>
              <a:t>描寫海洋以及相關的現象、精神、文化以及人在其中生活的意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台灣四面環海，人民和海洋的關係密不可分，所以產生許多和海洋有關的作品，例如鯨魚傳說、海祭傳說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中國神話中的海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共工怒觸不周山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共工是炎帝的子孫，和黃帝的子孫顓頊爭奪天下失敗，一怒之下撞上支撐天地的不周山。不周山應聲倒塌，天地因此傾斜，從此日月星辰開始由東往西流動，江河百川也因此由西向東奔流，形成了大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原住民的鯨魚傳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有個船夫偶然拯救了海龍王的公主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公主為了報答船夫，告訴他某座島上藏有寶藏，只要坐在一塊會移動的石頭上就可以到達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但是每次只能用一手抓取，另一手必須抓住石頭。船夫得到寶藏後卻只想拿更多，忘記公主的囑咐，結果被打入海裡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而那塊會動的石頭，其實就是鯨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感恩海祭的傳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往昔有稱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takio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者，喜歡在人們舂米做糕時大喊失火，引人們出救，他卻乘機入屋盜糕。幾次之後，為人所知，而向其親戚控訴，使其親人深感羞恥。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由於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takio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累犯不止，親人聯合部落之人約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takio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赴綠島打獵，乘他趨趕野獸之際，切斷通行綠島和台灣的大榕樹根，放逐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takio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。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然天神憐憫，命大魚載其渡海。抵岸後魚回頭交待：「在小米收成之後，要依時到海邊來供奉我。」從此以後，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takio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所屬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gamugamut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會所成員，即依言年年到海邊祭謝魚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海洋文學寫什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描寫在海上的體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描寫海洋的特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引發讀者對海洋的喜愛和興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其他直接或間接和海洋有關的事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海洋作家有哪些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早期，台灣作家在描寫海洋的時候，並不刻意限定以海洋為主題，而是根據作者自己與海洋的淵源出發，發揮對海洋的想像，或者關注與海洋相關的人群生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例如：覃子豪《海洋詩抄》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　　　黃春明《看海的日子》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　　　呂則之《荒地》 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　　　王拓《金水嬸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海洋作家有哪些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近年來，開始有人有意識地以海洋為主體進行創作，取材、內容無不是在探討海洋，其中最出名的有兩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廖鴻基：生於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957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年，花蓮縣人，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99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年開始投入海洋工作。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年，他組織「尋鯨小組」，執行調查台灣鯨豚分布的計畫，觀察台灣海域的許多鯨豚生態。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年成立「黑潮海洋文教基金會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著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《討海人》、《鯨生鯨世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Arial"/>
              </a:rPr>
              <a:t>海洋作家有哪些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夏曼．藍波安：早期漢名「施努來」，台東縣蘭嶼鄉紅頭村人。達悟族人。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年回到故鄉，找尋自己的母文化精髓，重建達悟族人的尊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回鄉後，做過短暫的代課老師，有幾年甚至失業。後來成立「蘭嶼公共事務促進會」，在潛水、射魚之外，從事海底世界的導遊、海底生態維護的宣導工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著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《冷海情深—海洋朝聖者》、《黑色的翅膀》、《海浪的記憶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6:16:26Z</dcterms:created>
  <dc:creator>Eli</dc:creator>
  <dc:description/>
  <dc:language>en-US</dc:language>
  <cp:lastModifiedBy>Eli</cp:lastModifiedBy>
  <dcterms:modified xsi:type="dcterms:W3CDTF">2012-10-21T13:38:22Z</dcterms:modified>
  <cp:revision>9</cp:revision>
  <dc:subject/>
  <dc:title>海洋文學概說</dc:title>
</cp:coreProperties>
</file>