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ED1-3614-42A7-A93A-5368F0B1DDA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F6DB-B13C-43F0-948A-3E47B347D05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B9A-BCB3-485B-9C14-086E8597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F20-2E6C-4277-8392-AA22368C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05D-6C72-4419-A75B-070E64E8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89F-E53F-41E2-971A-DCB7CB8A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538-5101-4B95-AD48-26F2F9AB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198-4388-4420-A583-97A91D79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4DB-0049-4435-B8F2-21B7804D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161-207F-46AD-91B8-E81240A2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F73-C797-4D27-BD19-E29A7E0F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87F-FABB-4F14-95EA-AE11EC1A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9F1-F3A4-4E11-809A-DD3FD99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923-19F3-4098-9E39-FB87F6A8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F216-C64D-42E5-BD9C-FB3C0CF78A69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1542-EF13-4E6B-A67A-8C94F531892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hyperlink" Target="mailto:hair0123@ms21.hinet.net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006__99&#24180;&#21488;&#21271;&#24066;&#31038;&#26371;&#35430;&#21367;&#25277;&#26597;/991020&#36763;&#20133;&#22283;&#23567;&#31038;&#26371;&#38936;&#22495;&#35430;&#21367;&#32232;&#36655;&#23526;&#21209;&#20998;&#20139;/&#31038;&#26371;&#32771;&#21367;&#38617;&#21521;&#32048;&#30446;&#34920;.doc" TargetMode="External"/><Relationship Id="rId3" Type="http://schemas.openxmlformats.org/officeDocument/2006/relationships/hyperlink" Target="file:///../006__99&#24180;&#21488;&#21271;&#24066;&#31038;&#26371;&#35430;&#21367;&#25277;&#26597;/991020&#36763;&#20133;&#22283;&#23567;&#31038;&#26371;&#38936;&#22495;&#35430;&#21367;&#32232;&#36655;&#23526;&#21209;&#20998;&#20139;/&#20061;&#21313;&#20843;&#23416;&#24180;&#24230;&#31532;&#20108;&#23416;&#26399;&#31038;&#26371;&#38936;&#22495;&#31532;&#20108;&#27425;&#23450;&#26399;&#35413;&#37327;&#31572;&#26696;&#21367;.doc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392112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040"/>
                </a:solidFill>
                <a:latin typeface="標楷體"/>
                <a:ea typeface="標楷體"/>
              </a:rPr>
              <a:t>社會領域輔導團輔導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040"/>
                </a:solidFill>
                <a:latin typeface="標楷體"/>
                <a:ea typeface="標楷體"/>
              </a:rPr>
              <a:t>臺北市泉源國小教務主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4" descr="IMG_0091_1"/>
          <p:cNvPicPr/>
          <p:nvPr/>
        </p:nvPicPr>
        <p:blipFill>
          <a:blip r:embed="rId2"/>
          <a:stretch/>
        </p:blipFill>
        <p:spPr>
          <a:xfrm>
            <a:off x="7812000" y="260280"/>
            <a:ext cx="106848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IMG_0883"/>
          <p:cNvPicPr/>
          <p:nvPr/>
        </p:nvPicPr>
        <p:blipFill>
          <a:blip r:embed="rId3"/>
          <a:stretch/>
        </p:blipFill>
        <p:spPr>
          <a:xfrm>
            <a:off x="3301920" y="644400"/>
            <a:ext cx="1011240" cy="7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6" descr="IMG_0881"/>
          <p:cNvPicPr/>
          <p:nvPr/>
        </p:nvPicPr>
        <p:blipFill>
          <a:blip r:embed="rId4"/>
          <a:stretch/>
        </p:blipFill>
        <p:spPr>
          <a:xfrm>
            <a:off x="6684840" y="642960"/>
            <a:ext cx="1014480" cy="76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17" descr="IMG_0095"/>
          <p:cNvPicPr/>
          <p:nvPr/>
        </p:nvPicPr>
        <p:blipFill>
          <a:blip r:embed="rId5"/>
          <a:stretch/>
        </p:blipFill>
        <p:spPr>
          <a:xfrm>
            <a:off x="1143000" y="644400"/>
            <a:ext cx="920880" cy="7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59" descr="0"/>
          <p:cNvPicPr/>
          <p:nvPr/>
        </p:nvPicPr>
        <p:blipFill>
          <a:blip r:embed="rId6"/>
          <a:stretch/>
        </p:blipFill>
        <p:spPr>
          <a:xfrm>
            <a:off x="214200" y="5929200"/>
            <a:ext cx="4929480" cy="78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8" descr=""/>
          <p:cNvPicPr/>
          <p:nvPr/>
        </p:nvPicPr>
        <p:blipFill>
          <a:blip r:embed="rId7"/>
          <a:stretch/>
        </p:blipFill>
        <p:spPr>
          <a:xfrm>
            <a:off x="4424400" y="635040"/>
            <a:ext cx="1023840" cy="76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3" descr="IMG_3402_調整大小"/>
          <p:cNvPicPr/>
          <p:nvPr/>
        </p:nvPicPr>
        <p:blipFill>
          <a:blip r:embed="rId8"/>
          <a:stretch/>
        </p:blipFill>
        <p:spPr>
          <a:xfrm>
            <a:off x="5559480" y="642960"/>
            <a:ext cx="1012680" cy="760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MG_1516_調整大小"/>
          <p:cNvPicPr/>
          <p:nvPr/>
        </p:nvPicPr>
        <p:blipFill>
          <a:blip r:embed="rId9"/>
          <a:stretch/>
        </p:blipFill>
        <p:spPr>
          <a:xfrm>
            <a:off x="2176560" y="642960"/>
            <a:ext cx="1012680" cy="760320"/>
          </a:xfrm>
          <a:prstGeom prst="rect">
            <a:avLst/>
          </a:prstGeom>
          <a:ln w="0">
            <a:noFill/>
          </a:ln>
        </p:spPr>
      </p:pic>
      <p:sp>
        <p:nvSpPr>
          <p:cNvPr id="57" name="標題 1"/>
          <p:cNvSpPr/>
          <p:nvPr/>
        </p:nvSpPr>
        <p:spPr>
          <a:xfrm>
            <a:off x="611280" y="2421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社會領域試卷編製與命題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4221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游鴻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661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5157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air0123@ms21.hinet.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09393542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38A-3B5F-430D-9695-87BA62AD64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全年級成績統計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5640" y="2349360"/>
          <a:ext cx="7558200" cy="3743640"/>
        </p:xfrm>
        <a:graphic>
          <a:graphicData uri="http://schemas.openxmlformats.org/drawingml/2006/table">
            <a:tbl>
              <a:tblPr/>
              <a:tblGrid>
                <a:gridCol w="1295280"/>
                <a:gridCol w="1014480"/>
                <a:gridCol w="874800"/>
                <a:gridCol w="874800"/>
                <a:gridCol w="874440"/>
                <a:gridCol w="874800"/>
                <a:gridCol w="874800"/>
                <a:gridCol w="874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應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人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                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成績（分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50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5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6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7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8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9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人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C07-8982-4C82-8F2B-594C52D362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試卷審閱印製流程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9640" y="1628640"/>
            <a:ext cx="8353440" cy="4535640"/>
            <a:chOff x="539640" y="1628640"/>
            <a:chExt cx="8353440" cy="4535640"/>
          </a:xfrm>
        </p:grpSpPr>
        <p:sp>
          <p:nvSpPr>
            <p:cNvPr id="92" name=""/>
            <p:cNvSpPr/>
            <p:nvPr/>
          </p:nvSpPr>
          <p:spPr>
            <a:xfrm>
              <a:off x="2926080" y="2384280"/>
              <a:ext cx="17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80200" y="2384280"/>
              <a:ext cx="0" cy="3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39640" y="1628640"/>
              <a:ext cx="8353440" cy="4535640"/>
              <a:chOff x="539640" y="1628640"/>
              <a:chExt cx="8353440" cy="4535640"/>
            </a:xfrm>
          </p:grpSpPr>
          <p:sp>
            <p:nvSpPr>
              <p:cNvPr id="95" name=""/>
              <p:cNvSpPr/>
              <p:nvPr/>
            </p:nvSpPr>
            <p:spPr>
              <a:xfrm>
                <a:off x="3437640" y="5787000"/>
                <a:ext cx="34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925720" y="5787000"/>
                <a:ext cx="34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80200" y="4274640"/>
                <a:ext cx="0" cy="151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539640" y="1628640"/>
                <a:ext cx="8353440" cy="4535640"/>
                <a:chOff x="539640" y="1628640"/>
                <a:chExt cx="8353440" cy="4535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964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命題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18848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發卷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14260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印製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1948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複閱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85160" y="3518640"/>
                  <a:ext cx="11930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繳交試題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55952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審題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96720" y="2006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修正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221480" y="3896280"/>
                  <a:ext cx="34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244240" y="3896280"/>
                  <a:ext cx="34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778560" y="3896280"/>
                  <a:ext cx="34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801320" y="3896280"/>
                  <a:ext cx="34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824440" y="3896280"/>
                  <a:ext cx="34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4460400" y="2383920"/>
                  <a:ext cx="0" cy="113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3778560" y="2384280"/>
                  <a:ext cx="68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26080" y="2384280"/>
                  <a:ext cx="0" cy="113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1124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收卷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676920" y="5408280"/>
                  <a:ext cx="681840" cy="75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閱卷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32680" y="5408280"/>
                  <a:ext cx="1193040" cy="75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補救教學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78560" y="5408280"/>
                  <a:ext cx="2045520" cy="7560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成績統計及分數應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267360" y="5786640"/>
                  <a:ext cx="170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847200" y="3896280"/>
                  <a:ext cx="34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70320" y="3896280"/>
                  <a:ext cx="34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552160" y="4274640"/>
                  <a:ext cx="0" cy="151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5824080" y="5786640"/>
                  <a:ext cx="85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80200" y="5786640"/>
                  <a:ext cx="85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39640" y="162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教學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80200" y="2762280"/>
                  <a:ext cx="0" cy="75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16536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保管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7358760" y="5786640"/>
                  <a:ext cx="119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BB5-3D40-4B0E-8D36-7733569123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試卷審閱印製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726080"/>
        </p:xfrm>
        <a:graphic>
          <a:graphicData uri="http://schemas.openxmlformats.org/drawingml/2006/table">
            <a:tbl>
              <a:tblPr/>
              <a:tblGrid>
                <a:gridCol w="4253040"/>
                <a:gridCol w="397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流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實施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命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審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繳交試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修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複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印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成績統計及分數應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F53-4494-458A-9D45-16941C6C3F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雙項細目表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300560"/>
        </p:xfrm>
        <a:graphic>
          <a:graphicData uri="http://schemas.openxmlformats.org/drawingml/2006/table">
            <a:tbl>
              <a:tblPr/>
              <a:tblGrid>
                <a:gridCol w="2684520"/>
                <a:gridCol w="792000"/>
                <a:gridCol w="792360"/>
                <a:gridCol w="792000"/>
                <a:gridCol w="792360"/>
                <a:gridCol w="792000"/>
                <a:gridCol w="792360"/>
                <a:gridCol w="792000"/>
              </a:tblGrid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、命題教師：                   命題年級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、命題科目：                   版本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、考試範圍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四、審題教師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認知層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單元名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540-BB60-4924-B9AB-5E8772CBB2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、一般性優點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命題範圍，未超過定期評量的教材內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受試者可在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分鐘的評量時間內完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三）試卷標題、題型及標號清楚、並且妥善註記各類題型計分方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59A-C17E-44BC-92D1-607C476AD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（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、建議事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試卷編制計畫階段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雙向細目表認知層次的內涵，可再釐清其差異，以求精準掌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議依照授課時間、教材份量、教材重要性等，綜合規劃題目分布與配分情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4B2-871B-49BA-87D9-90711D2116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（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命題階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命題要掌握能力指標與教學目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評量範圍須結合「居住地方」範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題目需掌握重要概念，去除瑣碎知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命題依照各類題型命題原則進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命題需教師精心設計，勿過度直接引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試卷內容要能引發正向學習效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630-501A-4657-927C-1F6767E40A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（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三）審題階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立試題審閱機制並充裕作業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強化試卷審視的專業與經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558-82E3-47F5-8423-A75871DE1E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（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三）試後階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整理評量結果，進行「難度」及「鑑別度」及「題目誘答性分析」分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定期評量試題分析的功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回饋給學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回饋給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提供改進課程的依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增進教師命題的技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建立題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055-15A8-424F-8B5A-FCF4583B1E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紙筆評量測驗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（一）確立評量的目的和目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確立評量目的：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學習領域評量、總結性評量、紙筆評量方式、教師命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教學目標與評量目標的結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認知目標的歷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知識、理解、應用、分析、綜合、評鑑</a:t>
            </a:r>
            <a:r>
              <a:rPr b="0" lang="zh-TW" sz="15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m et al,1956</a:t>
            </a:r>
            <a:r>
              <a:rPr b="0" lang="zh-TW" sz="15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記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emember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了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Understand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應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pply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分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nalyze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評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valuate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創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reate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5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derson   Krathwohl ,2001</a:t>
            </a:r>
            <a:r>
              <a:rPr b="0" lang="zh-TW" sz="15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1B2-6708-4FF5-83E6-030183E6B6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教育改革的焦點轉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11280" y="1268280"/>
            <a:ext cx="7921440" cy="5184720"/>
            <a:chOff x="611280" y="1268280"/>
            <a:chExt cx="7921440" cy="5184720"/>
          </a:xfrm>
        </p:grpSpPr>
        <p:sp>
          <p:nvSpPr>
            <p:cNvPr id="63" name=""/>
            <p:cNvSpPr/>
            <p:nvPr/>
          </p:nvSpPr>
          <p:spPr>
            <a:xfrm>
              <a:off x="2124000" y="256392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24000" y="450828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11280" y="1268280"/>
              <a:ext cx="7921440" cy="1584360"/>
              <a:chOff x="611280" y="1268280"/>
              <a:chExt cx="7921440" cy="1584360"/>
            </a:xfrm>
          </p:grpSpPr>
          <p:sp>
            <p:nvSpPr>
              <p:cNvPr id="66" name=""/>
              <p:cNvSpPr/>
              <p:nvPr/>
            </p:nvSpPr>
            <p:spPr>
              <a:xfrm>
                <a:off x="611280" y="1339920"/>
                <a:ext cx="3024000" cy="1224000"/>
              </a:xfrm>
              <a:prstGeom prst="ellipse">
                <a:avLst/>
              </a:prstGeom>
              <a:solidFill>
                <a:srgbClr val="ffff0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200" spc="-1" strike="noStrike">
                    <a:solidFill>
                      <a:srgbClr val="000000"/>
                    </a:solidFill>
                    <a:latin typeface="Arial"/>
                  </a:rPr>
                  <a:t>課程與教材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24360" y="1268280"/>
                <a:ext cx="4608360" cy="1584360"/>
              </a:xfrm>
              <a:prstGeom prst="rect">
                <a:avLst/>
              </a:prstGeom>
              <a:solidFill>
                <a:srgbClr val="ccff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九年一貫課程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教科書編輯一綱多本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校本課程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教師自編教材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11280" y="3068640"/>
              <a:ext cx="7921440" cy="1512720"/>
              <a:chOff x="611280" y="3068640"/>
              <a:chExt cx="7921440" cy="1512720"/>
            </a:xfrm>
          </p:grpSpPr>
          <p:sp>
            <p:nvSpPr>
              <p:cNvPr id="69" name=""/>
              <p:cNvSpPr/>
              <p:nvPr/>
            </p:nvSpPr>
            <p:spPr>
              <a:xfrm>
                <a:off x="611280" y="3284640"/>
                <a:ext cx="3024000" cy="1223640"/>
              </a:xfrm>
              <a:prstGeom prst="ellipse">
                <a:avLst/>
              </a:prstGeom>
              <a:solidFill>
                <a:srgbClr val="ffff0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200" spc="-1" strike="noStrike">
                    <a:solidFill>
                      <a:srgbClr val="000000"/>
                    </a:solidFill>
                    <a:latin typeface="Arial"/>
                  </a:rPr>
                  <a:t>教學策略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24360" y="3068640"/>
                <a:ext cx="4608360" cy="1512720"/>
              </a:xfrm>
              <a:prstGeom prst="rect">
                <a:avLst/>
              </a:prstGeom>
              <a:solidFill>
                <a:srgbClr val="ccff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精進教室課堂教學計畫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創意教學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有效教學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行動研究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11280" y="4868640"/>
              <a:ext cx="7921440" cy="1584360"/>
              <a:chOff x="611280" y="4868640"/>
              <a:chExt cx="7921440" cy="1584360"/>
            </a:xfrm>
          </p:grpSpPr>
          <p:sp>
            <p:nvSpPr>
              <p:cNvPr id="72" name=""/>
              <p:cNvSpPr/>
              <p:nvPr/>
            </p:nvSpPr>
            <p:spPr>
              <a:xfrm>
                <a:off x="611280" y="5229000"/>
                <a:ext cx="3024000" cy="1224000"/>
              </a:xfrm>
              <a:prstGeom prst="ellipse">
                <a:avLst/>
              </a:prstGeom>
              <a:solidFill>
                <a:srgbClr val="ffff0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200" spc="-1" strike="noStrike">
                    <a:solidFill>
                      <a:srgbClr val="000000"/>
                    </a:solidFill>
                    <a:latin typeface="Arial"/>
                  </a:rPr>
                  <a:t>教學評量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24360" y="4868640"/>
                <a:ext cx="4608360" cy="1511640"/>
              </a:xfrm>
              <a:prstGeom prst="rect">
                <a:avLst/>
              </a:prstGeom>
              <a:solidFill>
                <a:srgbClr val="ccff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臺灣學生學習成就評量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ASA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教育部優良試題比賽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北市定期抽查學生紙筆評量試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848-74ED-41A1-994C-B3E4ECDA70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190440"/>
            <a:ext cx="7850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一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920" y="1905120"/>
            <a:ext cx="7491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記憶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Remembe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再認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Recogniz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在地圖上指出臺灣最長的河流是濁水溪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回憶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Recall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說出臺灣最長的河流是濁水溪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13E-F343-41F9-B4C5-14BB5735FD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90440"/>
            <a:ext cx="77770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二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了解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Understand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詮釋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說明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Interpret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雨量圖的判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舉例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Exemplify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舉出日治時期臺灣的重要抗日事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3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分類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Classify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將臺灣原住民分為高山族與平埔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4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摘要、 總結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Summariz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摘要說出霧社事件的經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5D6-D179-4B64-BB12-13C0AFBE2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（二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了解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Understan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5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推論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Interr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推測造成土石流的可能因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6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比較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Compar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劉銘傳跟沈葆楨對臺灣開發的貢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7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解釋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Explain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解釋颱風、地震發生的原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F76-9E6A-4F51-B698-159072F394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5640" y="190440"/>
            <a:ext cx="77770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三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應用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Appl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執行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Execut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運用閱讀地圖的知識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協助判斷實際景物及方位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實行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Implement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應用至雜貨店購物的經驗於量販店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369-F890-497E-B6D2-AF8C34B7FA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90440"/>
            <a:ext cx="81010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四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分析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Analyze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4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辨別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Differentiat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分辨丘陵和山地的差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4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組織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Organiz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整理有關鄭經的事蹟，說明鄭經的重要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4.3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歸因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Attribut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說明霧社事件的原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A05-118A-4C1B-9C91-5B27B43D3B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90440"/>
            <a:ext cx="79930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五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評鑑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Evaluate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5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檢查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Check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檢查河川地形的特徵與侵蝕、搬運、堆積的作用一致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5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評論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Critiqu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評論鄭成功與蔣介石對臺灣的貢獻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2BB-CD4F-450F-ABF0-C99F29507C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190440"/>
            <a:ext cx="7956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六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創造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Create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6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產生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Generat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根據人口統計的資料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提出人口結構的變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6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計畫、 規劃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Plann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撰寫一個社區改造的計畫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6.3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製作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produc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製作一齣環保短劇，宣導環境保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9B3-F873-4764-BC1D-A082009B92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（二）編制雙向細目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雙向細目表的相對比重之決定：（張郁雯，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7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教學時間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教材多寡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對未來學習的相對重要性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各概念間的重要關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17A-3CAB-46BD-A7AD-1E70876A2A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、試題指導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份測驗的指導語應該包括型指導語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＊整體指導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例如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試卷共幾張幾面？是否繳回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答案寫在哪裡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試卷包括幾大題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配分、總分為何？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5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何作答？是否倒扣？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6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何種筆、何種顏色作答？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7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試卷、答案紙是否可打草稿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8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其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＊各試題類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例如：一、選擇題：共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題，第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-1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題，每題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；第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5-3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題，每題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：第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1-4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題，每題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；共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88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117-FF5A-406A-A9E7-8899EE40F5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Calibri"/>
                <a:ea typeface="標楷體"/>
              </a:rPr>
              <a:t>二、一般命題原則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試題分佈依據雙向細目表，題目內容依據有代表性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避免使用曖昧不明和易使人混淆的言詞或語句架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敘述扼要、直接切入重點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使用字彙適合受試者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C69-8B1B-4B0A-AB8D-9184E53EB5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一、契合教學目標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％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試卷內容符合該學習階段教學的能力指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試卷內容能有效呈現單元之教學目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問題設計可激發學生發揮批判、想像、創造、推理、統整等能力的形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試題題型多元化，且以活用概念的方式來評量學生所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C80-2B73-4540-8421-F395254E90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6920" y="1905120"/>
            <a:ext cx="734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二、一般命題原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試題答案必須是公認的正確答案，避免爭議性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表達清楚，讓學生易於了解其任務或工作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每個試題概念必須獨立存在，內容不宜相互重疊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不要提供正確答案的線索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4EF-1795-40BC-B2DC-80D3693F9C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、選擇題編製原則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試題應測量重要的學習結果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試題題意應完整、清晰界定問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試題題幹應僅提出一個明確概念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以簡短、清晰用詞陳述試題題幹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儘可能以正面、肯定字詞來敘述試題題幹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題幹避免使用否定句，若需採用宜強調否定字詞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E65-FE48-4E34-B96F-2069C0EDDC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Calibri"/>
                <a:ea typeface="標楷體"/>
              </a:rPr>
              <a:t>三、選擇題編製原則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所有選項語法應力求一致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每個試題題幹不應中斷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盡可能將各選項共同字詞放在題幹中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標準答案必須是正確或最佳的答案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避免提供選擇正確答案或刪除不正確答案之線索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提高誘答似真性與吸引力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5FE-434A-4DE8-BD49-FF6E5837F6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Calibri"/>
                <a:ea typeface="標楷體"/>
              </a:rPr>
              <a:t>三、選擇題編製原則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選項長度接近以減少解題線索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謹慎使用「以上皆是」或「以上皆非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正確答案宜隨機排列，出現次數儘量相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以改變試題題幹或選項來調整難度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測驗中每個試題需彼此獨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謹慎使用多重選擇題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若其他試題類型更適合時，不要用選擇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4E9-5F53-48C8-A2A8-B6ED94736A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四、是非題編製原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每題僅包括一個重要概念，避免出現兩個以上概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敘述力求簡潔、明確，避免使用複雜的句型結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儘量少用否定敘述，尤其要避免雙重否定敘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答案應避免引起爭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試題敘述避免含混不確定的文字、數量語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試題文句需重新組織，避免直接抄錄課本的文句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意見敘述必須指出來源或根據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避免使用含有暗示作答的線索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兩種答案的題數應有適當比例，且採隨機方式排列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D85-7543-4BFF-ABF5-ABB2609B3E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五、配合題編製原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每道配合題中各個題幹或選項必須具同質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選項數目應多於題幹，且指出選項被選次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題幹與選項應盡量簡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選項宜依邏輯順序排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作答指導語必須明確規定和說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題幹與選項序號不應相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配合題一個完整試題應印在同一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配對題目以不超過十項為原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編擬後檢核試題提高品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EE1-91C1-4132-88D3-65682F75DF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六、填充題編製原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試題答案應簡潔、具體、明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填充式答案以一個為原則，空格不可太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問題不應直接抄自教科書或參考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編寫試題「直接問句」較「不完全敘述句」優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答案必須問題是重要概念，而非零碎知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答案空格應一致，且盡量將空格留在句子末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答案若是數字應指出要求之精確程度和單位名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編擬後檢核試題提高品質。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854-102C-4570-B35A-28EDBFBA38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Calibri"/>
                <a:ea typeface="標楷體"/>
              </a:rPr>
              <a:t>七、簡答題命題要點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每一個試題僅涉及一個主要的因素或觀念，避免性質廣泛的問題，如已列舉、批評為句首的問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不要出根據背頌課文即可回答的問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各題的範圍大致相等，不要有的太大、有的太小，難以給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27A-28B4-4AE1-AC47-13B5603A93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試卷編輯實務分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以仁愛國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學年度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學期期末評量為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教材：翰林版四下第四、五、六單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雙向細目表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試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1DF-AADB-41A0-ABD9-A63D8B29D9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換你做做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康軒六上第二單元「社會規範」包含「認識規範」及「法律與生活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康軒六上第三單元「權利與義務」包含「基本權利」及「國民義務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3CD-8533-4F84-B0E0-588612F75D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二、試卷結構合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％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概念認知的深淺層次分配得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重要概念（或教材單元）的評量分數分配得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若是記憶性的試題，須是重要的資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題目的份量要給學生有充份的思考時間，份量要適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95A-0F33-47FF-96BB-982EE6F1F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未來展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生活處處有試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收集命題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命題光碟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諜對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好題共欣賞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教師專業社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建立個人題庫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題到用時方恨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BF5-B0A5-40D1-9189-FB58695394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三、符合命題原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％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題目中安排的情境要合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供的資料及條件要充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題意簡要、明確，陳述流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評量計分說明要明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其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74D-17DC-4F17-871E-D56358922C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四、試卷說明分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％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能說明試卷命題的核心精神或理念、試卷設計構想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質化或量化分析能說明學生實際評量後的成效評估、發現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能引發教師教學省思、啟示等，作為改進教學之依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AE7-4190-4622-B0E7-E8E7E4A78A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四、試卷說明分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％：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試後分析呈現能「鼓舞學習慢的學生繼續學習的勇氣和信心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」及使「學習快的學生有成就感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其他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4D3-C18A-4D5F-9D2E-184D0CC93A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9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教師命題自我檢核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全學年成績統計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試卷審閱印製流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雙項細目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907920"/>
            <a:ext cx="82184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  <a:ea typeface="標楷體"/>
              </a:rPr>
              <a:t>臺北市政府教育局定期抽查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Calibri"/>
                <a:ea typeface="標楷體"/>
              </a:rPr>
              <a:t>國民小學學生紙筆評量試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9FE-A38A-4FDD-A0DD-8CB6E210C0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1125360"/>
          <a:ext cx="8072280" cy="5262840"/>
        </p:xfrm>
        <a:graphic>
          <a:graphicData uri="http://schemas.openxmlformats.org/drawingml/2006/table">
            <a:tbl>
              <a:tblPr/>
              <a:tblGrid>
                <a:gridCol w="503280"/>
                <a:gridCol w="6230880"/>
                <a:gridCol w="682560"/>
                <a:gridCol w="655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卷命題檢核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的設計是否依據教材內容及其知識結構來制定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取材是否依教材份量適當分配，且具有教材內容的代表性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是否注重重要概念或原理原則的理解與應用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同一主題之題組是否已避免有過多的子題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內容是否直接引用坊間測驗卷、參考書、歷屆考古題、命題光碟等？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填答「是」者，請繼續回答第六題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此試卷直接引用的百分比為？（       ）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各試題是否彼此獨立，沒有包含其他試題正確答案之線索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是否顧及難易度之合理性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是否依教學目標做適當配置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F38-7A01-483C-A489-98EFAE20A9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5:23:12Z</dcterms:created>
  <dc:creator>chen</dc:creator>
  <dc:description/>
  <dc:language>en-US</dc:language>
  <cp:lastModifiedBy>cyc</cp:lastModifiedBy>
  <dcterms:modified xsi:type="dcterms:W3CDTF">2010-10-25T01:03:03Z</dcterms:modified>
  <cp:revision>35</cp:revision>
  <dc:subject/>
  <dc:title>投影片 1</dc:title>
</cp:coreProperties>
</file>