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02E3-1C9D-4CA8-9DEE-F2B99BACBAB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A94E-E38D-4698-AA9D-0098FA11C70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8D5-4E16-4729-A8F2-DF2E4091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583-D40C-4EEF-9536-B86F971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C1E-5B3D-4F50-86CB-073F0F46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6E8-4E5E-427A-A698-37D07CCF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842-2DF6-4B93-9B43-E286B98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A3D-8485-4821-8272-9F4C42DE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459-882B-4CD7-91DE-DCE8BF3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7E9-1E92-497F-A78D-6DB35223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507-5809-410F-905A-BE1038A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A45-C55B-45EE-BF70-450DCAE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9E4-E20F-4162-8A7C-B1053FA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B6A-F6EA-49AE-A433-E770171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171-A452-4880-9F26-C9DF95E00B8E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B58-0E43-4026-8E98-06BA5AA5E7F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mailto:hair0123@ms21.hinet.net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006__99&#24180;&#21488;&#21271;&#24066;&#31038;&#26371;&#35430;&#21367;&#25277;&#26597;/991020&#36763;&#20133;&#22283;&#23567;&#31038;&#26371;&#38936;&#22495;&#35430;&#21367;&#32232;&#36655;&#23526;&#21209;&#20998;&#20139;/&#31038;&#26371;&#32771;&#21367;&#38617;&#21521;&#32048;&#30446;&#34920;.doc" TargetMode="External"/><Relationship Id="rId3" Type="http://schemas.openxmlformats.org/officeDocument/2006/relationships/hyperlink" Target="file:///../006__99&#24180;&#21488;&#21271;&#24066;&#31038;&#26371;&#35430;&#21367;&#25277;&#26597;/991020&#36763;&#20133;&#22283;&#23567;&#31038;&#26371;&#38936;&#22495;&#35430;&#21367;&#32232;&#36655;&#23526;&#21209;&#20998;&#20139;/&#20061;&#21313;&#20843;&#23416;&#24180;&#24230;&#31532;&#20108;&#23416;&#26399;&#31038;&#26371;&#38936;&#22495;&#31532;&#20108;&#27425;&#23450;&#26399;&#35413;&#37327;&#31572;&#26696;&#21367;.doc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392112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040"/>
                </a:solidFill>
                <a:latin typeface="標楷體"/>
                <a:ea typeface="標楷體"/>
              </a:rPr>
              <a:t>社會領域輔導團輔導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040"/>
                </a:solidFill>
                <a:latin typeface="標楷體"/>
                <a:ea typeface="標楷體"/>
              </a:rPr>
              <a:t>臺北市泉源國小教務主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4" descr="IMG_0091_1"/>
          <p:cNvPicPr/>
          <p:nvPr/>
        </p:nvPicPr>
        <p:blipFill>
          <a:blip r:embed="rId2"/>
          <a:stretch/>
        </p:blipFill>
        <p:spPr>
          <a:xfrm>
            <a:off x="7812000" y="260280"/>
            <a:ext cx="106848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G_0883"/>
          <p:cNvPicPr/>
          <p:nvPr/>
        </p:nvPicPr>
        <p:blipFill>
          <a:blip r:embed="rId3"/>
          <a:stretch/>
        </p:blipFill>
        <p:spPr>
          <a:xfrm>
            <a:off x="3301920" y="644400"/>
            <a:ext cx="101124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6" descr="IMG_0881"/>
          <p:cNvPicPr/>
          <p:nvPr/>
        </p:nvPicPr>
        <p:blipFill>
          <a:blip r:embed="rId4"/>
          <a:stretch/>
        </p:blipFill>
        <p:spPr>
          <a:xfrm>
            <a:off x="6684840" y="642960"/>
            <a:ext cx="101448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7" descr="IMG_0095"/>
          <p:cNvPicPr/>
          <p:nvPr/>
        </p:nvPicPr>
        <p:blipFill>
          <a:blip r:embed="rId5"/>
          <a:stretch/>
        </p:blipFill>
        <p:spPr>
          <a:xfrm>
            <a:off x="1143000" y="644400"/>
            <a:ext cx="92088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59" descr="0"/>
          <p:cNvPicPr/>
          <p:nvPr/>
        </p:nvPicPr>
        <p:blipFill>
          <a:blip r:embed="rId6"/>
          <a:stretch/>
        </p:blipFill>
        <p:spPr>
          <a:xfrm>
            <a:off x="214200" y="5929200"/>
            <a:ext cx="4929480" cy="78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8" descr=""/>
          <p:cNvPicPr/>
          <p:nvPr/>
        </p:nvPicPr>
        <p:blipFill>
          <a:blip r:embed="rId7"/>
          <a:stretch/>
        </p:blipFill>
        <p:spPr>
          <a:xfrm>
            <a:off x="4424400" y="635040"/>
            <a:ext cx="1023840" cy="76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3" descr="IMG_3402_調整大小"/>
          <p:cNvPicPr/>
          <p:nvPr/>
        </p:nvPicPr>
        <p:blipFill>
          <a:blip r:embed="rId8"/>
          <a:stretch/>
        </p:blipFill>
        <p:spPr>
          <a:xfrm>
            <a:off x="5559480" y="642960"/>
            <a:ext cx="1012680" cy="76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G_1516_調整大小"/>
          <p:cNvPicPr/>
          <p:nvPr/>
        </p:nvPicPr>
        <p:blipFill>
          <a:blip r:embed="rId9"/>
          <a:stretch/>
        </p:blipFill>
        <p:spPr>
          <a:xfrm>
            <a:off x="2176560" y="642960"/>
            <a:ext cx="1012680" cy="760320"/>
          </a:xfrm>
          <a:prstGeom prst="rect">
            <a:avLst/>
          </a:prstGeom>
          <a:ln w="0">
            <a:noFill/>
          </a:ln>
        </p:spPr>
      </p:pic>
      <p:sp>
        <p:nvSpPr>
          <p:cNvPr id="57" name="標題 1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社會領域試卷編製與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221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游鴻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66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5157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air0123@ms21.hinet.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09393542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761-9B46-4A13-8727-1D8A33588D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全年級成績統計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2349360"/>
          <a:ext cx="7558200" cy="3743640"/>
        </p:xfrm>
        <a:graphic>
          <a:graphicData uri="http://schemas.openxmlformats.org/drawingml/2006/table">
            <a:tbl>
              <a:tblPr/>
              <a:tblGrid>
                <a:gridCol w="1295280"/>
                <a:gridCol w="1014480"/>
                <a:gridCol w="874800"/>
                <a:gridCol w="874800"/>
                <a:gridCol w="874440"/>
                <a:gridCol w="874800"/>
                <a:gridCol w="874800"/>
                <a:gridCol w="874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應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             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績（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7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8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0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8E8-3C08-4EF5-AC9F-C52B4F471F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試卷審閱印製流程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9640" y="1628640"/>
            <a:ext cx="8353440" cy="4535640"/>
            <a:chOff x="539640" y="1628640"/>
            <a:chExt cx="8353440" cy="4535640"/>
          </a:xfrm>
        </p:grpSpPr>
        <p:sp>
          <p:nvSpPr>
            <p:cNvPr id="92" name=""/>
            <p:cNvSpPr/>
            <p:nvPr/>
          </p:nvSpPr>
          <p:spPr>
            <a:xfrm>
              <a:off x="2926080" y="2384280"/>
              <a:ext cx="17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80200" y="2384280"/>
              <a:ext cx="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39640" y="1628640"/>
              <a:ext cx="8353440" cy="4535640"/>
              <a:chOff x="539640" y="1628640"/>
              <a:chExt cx="8353440" cy="4535640"/>
            </a:xfrm>
          </p:grpSpPr>
          <p:sp>
            <p:nvSpPr>
              <p:cNvPr id="95" name=""/>
              <p:cNvSpPr/>
              <p:nvPr/>
            </p:nvSpPr>
            <p:spPr>
              <a:xfrm>
                <a:off x="3437640" y="5787000"/>
                <a:ext cx="34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925720" y="5787000"/>
                <a:ext cx="34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80200" y="4274640"/>
                <a:ext cx="0" cy="151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539640" y="1628640"/>
                <a:ext cx="8353440" cy="4535640"/>
                <a:chOff x="539640" y="1628640"/>
                <a:chExt cx="8353440" cy="4535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964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命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18848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發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14260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印製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1948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複閱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85160" y="3518640"/>
                  <a:ext cx="11930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繳交試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5952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審題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96720" y="2006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修正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22148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4424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77856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80132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82444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460400" y="2383920"/>
                  <a:ext cx="0" cy="11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778560" y="2384280"/>
                  <a:ext cx="681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26080" y="2384280"/>
                  <a:ext cx="0" cy="11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1124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收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76920" y="5408280"/>
                  <a:ext cx="681840" cy="75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閱卷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32680" y="5408280"/>
                  <a:ext cx="1193040" cy="75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補救教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78560" y="5408280"/>
                  <a:ext cx="2045520" cy="7560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成績統計及分數應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67360" y="5786640"/>
                  <a:ext cx="170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847200" y="3896280"/>
                  <a:ext cx="34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70320" y="3896280"/>
                  <a:ext cx="34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552160" y="4274640"/>
                  <a:ext cx="0" cy="151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5824080" y="5786640"/>
                  <a:ext cx="85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80200" y="5786640"/>
                  <a:ext cx="85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39640" y="162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教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0200" y="2762280"/>
                  <a:ext cx="0" cy="75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65360" y="3518640"/>
                  <a:ext cx="681840" cy="75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管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7358760" y="5786640"/>
                  <a:ext cx="119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394-BA89-46AC-A366-7CAB745BD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試卷審閱印製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726080"/>
        </p:xfrm>
        <a:graphic>
          <a:graphicData uri="http://schemas.openxmlformats.org/drawingml/2006/table">
            <a:tbl>
              <a:tblPr/>
              <a:tblGrid>
                <a:gridCol w="4253040"/>
                <a:gridCol w="397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流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實施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命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審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繳交試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修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複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印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績統計及分數應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5C8-3BB7-44F7-BFD0-CD6CF06B44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雙項細目表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300560"/>
        </p:xfrm>
        <a:graphic>
          <a:graphicData uri="http://schemas.openxmlformats.org/drawingml/2006/table">
            <a:tbl>
              <a:tblPr/>
              <a:tblGrid>
                <a:gridCol w="2684520"/>
                <a:gridCol w="792000"/>
                <a:gridCol w="792360"/>
                <a:gridCol w="792000"/>
                <a:gridCol w="792360"/>
                <a:gridCol w="792000"/>
                <a:gridCol w="792360"/>
                <a:gridCol w="79200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、命題教師：                   命題年級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、命題科目：                   版本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、考試範圍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四、審題教師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認知層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單元名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82D-B21D-42AB-AB72-C6718DFCB4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、一般性優點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命題範圍，未超過定期評量的教材內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受試者可在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分鐘的評量時間內完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試卷標題、題型及標號清楚、並且妥善註記各類題型計分方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A32-B787-4FD7-BDF9-E9A415E562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建議事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試卷編制計畫階段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雙向細目表認知層次的內涵，可再釐清其差異，以求精準掌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議依照授課時間、教材份量、教材重要性等，綜合規劃題目分布與配分情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0DD-8CB4-48DA-8E5B-37CA5F195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命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要掌握能力指標與教學目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評量範圍須結合「居住地方」範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題目需掌握重要概念，去除瑣碎知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依照各類題型命題原則進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命題需教師精心設計，勿過度直接引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試卷內容要能引發正向學習效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CC4-597A-4C04-A089-64D78E010A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審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試題審閱機制並充裕作業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強化試卷審視的專業與經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46D-1041-40E9-BFD5-77ED8B0CD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分析結果（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試後階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整理評量結果，進行「難度」及「鑑別度」及「題目誘答性分析」分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定期評量試題分析的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回饋給學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回饋給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提供改進課程的依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增進教師命題的技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＊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建立題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7AE-DC92-4975-A42C-4009C7DD55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紙筆評量測驗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（一）確立評量的目的和目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確立評量目的：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學習領域評量、總結性評量、紙筆評量方式、教師命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學目標與評量目標的結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認知目標的歷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知識、理解、應用、分析、綜合、評鑑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m et al,1956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記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emember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了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nderstand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應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pply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分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alyze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評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valuate)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、創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reate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erson   Krathwohl ,2001</a:t>
            </a:r>
            <a:r>
              <a:rPr b="0" lang="zh-TW" sz="15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1BF-1758-4974-B686-4C01823B7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教育改革的焦點轉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11280" y="1268280"/>
            <a:ext cx="7921440" cy="5184720"/>
            <a:chOff x="611280" y="1268280"/>
            <a:chExt cx="7921440" cy="5184720"/>
          </a:xfrm>
        </p:grpSpPr>
        <p:sp>
          <p:nvSpPr>
            <p:cNvPr id="63" name=""/>
            <p:cNvSpPr/>
            <p:nvPr/>
          </p:nvSpPr>
          <p:spPr>
            <a:xfrm>
              <a:off x="2124000" y="256392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24000" y="450828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11280" y="1268280"/>
              <a:ext cx="7921440" cy="1584360"/>
              <a:chOff x="611280" y="1268280"/>
              <a:chExt cx="7921440" cy="1584360"/>
            </a:xfrm>
          </p:grpSpPr>
          <p:sp>
            <p:nvSpPr>
              <p:cNvPr id="66" name=""/>
              <p:cNvSpPr/>
              <p:nvPr/>
            </p:nvSpPr>
            <p:spPr>
              <a:xfrm>
                <a:off x="611280" y="1339920"/>
                <a:ext cx="3024000" cy="122400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課程與教材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24360" y="1268280"/>
                <a:ext cx="4608360" cy="158436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九年一貫課程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科書編輯一綱多本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校本課程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師自編教材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11280" y="3068640"/>
              <a:ext cx="7921440" cy="1512720"/>
              <a:chOff x="611280" y="3068640"/>
              <a:chExt cx="7921440" cy="1512720"/>
            </a:xfrm>
          </p:grpSpPr>
          <p:sp>
            <p:nvSpPr>
              <p:cNvPr id="69" name=""/>
              <p:cNvSpPr/>
              <p:nvPr/>
            </p:nvSpPr>
            <p:spPr>
              <a:xfrm>
                <a:off x="611280" y="3284640"/>
                <a:ext cx="3024000" cy="122364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教學策略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24360" y="3068640"/>
                <a:ext cx="4608360" cy="151272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精進教室課堂教學計畫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創意教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有效教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行動研究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11280" y="4868640"/>
              <a:ext cx="7921440" cy="1584360"/>
              <a:chOff x="611280" y="4868640"/>
              <a:chExt cx="7921440" cy="1584360"/>
            </a:xfrm>
          </p:grpSpPr>
          <p:sp>
            <p:nvSpPr>
              <p:cNvPr id="72" name=""/>
              <p:cNvSpPr/>
              <p:nvPr/>
            </p:nvSpPr>
            <p:spPr>
              <a:xfrm>
                <a:off x="611280" y="5229000"/>
                <a:ext cx="3024000" cy="1224000"/>
              </a:xfrm>
              <a:prstGeom prst="ellipse">
                <a:avLst/>
              </a:prstGeom>
              <a:solidFill>
                <a:srgbClr val="ffff00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200" spc="-1" strike="noStrike">
                    <a:solidFill>
                      <a:srgbClr val="000000"/>
                    </a:solidFill>
                    <a:latin typeface="Arial"/>
                  </a:rPr>
                  <a:t>教學評量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24360" y="4868640"/>
                <a:ext cx="4608360" cy="1511640"/>
              </a:xfrm>
              <a:prstGeom prst="rect">
                <a:avLst/>
              </a:prstGeom>
              <a:solidFill>
                <a:srgbClr val="ccffff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臺灣學生學習成就評量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ASA</a:t>
                </a:r>
                <a:r>
                  <a:rPr b="0" lang="zh-TW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教育部優良試題比賽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Arial"/>
                  </a:rPr>
                  <a:t>北市定期抽查學生紙筆評量試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2D3-0899-499E-88DD-4D68E250B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90440"/>
            <a:ext cx="7850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一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記憶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Remembe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再認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Recogniz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在地圖上指出臺灣最長的河流是濁水溪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回憶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Recall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說出臺灣最長的河流是濁水溪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DA2-4D43-49DB-9679-8365715C6E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90440"/>
            <a:ext cx="7777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二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了解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Understand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詮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說明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nterpret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雨量圖的判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舉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emplify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舉出日治時期臺灣的重要抗日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分類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lassify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將臺灣原住民分為高山族與平埔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4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摘要、 總結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Summariz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摘要說出霧社事件的經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F88-CB25-4511-9243-69392AB81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（二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了解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Understan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5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推論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nterr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推測造成土石流的可能因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6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比較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ompar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劉銘傳跟沈葆楨對臺灣開發的貢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7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解釋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plain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解釋颱風、地震發生的原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8BA-2B95-427B-99CE-C958955626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5640" y="190440"/>
            <a:ext cx="7777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三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用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Appl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執行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Execu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運用閱讀地圖的知識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協助判斷實際景物及方位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實行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Implemen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應用至雜貨店購物的經驗於量販店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F13-794E-4A7F-80DB-3A3F2E808A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90440"/>
            <a:ext cx="8101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四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分析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Analyz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辨別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Differentia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分辨丘陵和山地的差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組織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Organiz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整理有關鄭經的事蹟，說明鄭經的重要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4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歸因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Attribu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說明霧社事件的原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654-9FA1-41F8-9926-EE814F517A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90440"/>
            <a:ext cx="79930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五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評鑑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Evaluat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5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檢查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heck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檢查河川地形的特徵與侵蝕、搬運、堆積的作用一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5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評論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Critiquing)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評論鄭成功與蔣介石對臺灣的貢獻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448-3907-46A2-9EC9-09B9409F6E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190440"/>
            <a:ext cx="7956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修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教育目標分類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（六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創造</a:t>
            </a:r>
            <a:r>
              <a:rPr b="1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(Create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1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產生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Generat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根據人口統計的資料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提出人口結構的變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2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計畫、 規劃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Plannin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撰寫一個社區改造的計畫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6.3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製作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produc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如製作一齣環保短劇，宣導環境保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EBA-5489-494D-9492-4C215A8E11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（二）編制雙向細目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雙向細目表的相對比重之決定：（張郁雯，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7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學時間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教材多寡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對未來學習的相對重要性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各概念間的重要關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AFE-4ADA-4140-BD4C-6C1B529894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試題指導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份測驗的指導語應該包括型指導語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＊整體指導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如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共幾張幾面？是否繳回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答案寫在哪裡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包括幾大題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配分、總分為何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5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何作答？是否倒扣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6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何種筆、何種顏色作答？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7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試卷、答案紙是否可打草稿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8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＊各試題類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如：一、選擇題：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-1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；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5-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：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1-4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題，每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；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D07-98AB-4AD8-8DD7-E1B256C1C1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二、一般命題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試題分佈依據雙向細目表，題目內容依據有代表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避免使用曖昧不明和易使人混淆的言詞或語句架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敘述扼要、直接切入重點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使用字彙適合受試者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9AC-B30E-4A24-AF4E-0DA7561513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一、契合教學目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卷內容符合該學習階段教學的能力指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卷內容能有效呈現單元之教學目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問題設計可激發學生發揮批判、想像、創造、推理、統整等能力的形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題題型多元化，且以活用概念的方式來評量學生所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F90-9614-4A5A-8B07-6692D2C58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二、一般命題原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試題答案必須是公認的正確答案，避免爭議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表達清楚，讓學生易於了解其任務或工作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每個試題概念必須獨立存在，內容不宜相互重疊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不要提供正確答案的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049-5AFC-4CAE-9771-B1A9A62E12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選擇題編製原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應測量重要的學習結果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題意應完整、清晰界定問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試題題幹應僅提出一個明確概念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以簡短、清晰用詞陳述試題題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儘可能以正面、肯定字詞來敘述試題題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題幹避免使用否定句，若需採用宜強調否定字詞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BD7-3D3A-4E88-989A-65305C250B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三、選擇題編製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所有選項語法應力求一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每個試題題幹不應中斷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盡可能將各選項共同字詞放在題幹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標準答案必須是正確或最佳的答案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避免提供選擇正確答案或刪除不正確答案之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提高誘答似真性與吸引力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531-3C17-41A5-92D7-FCD6878C99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三、選擇題編製原則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選項長度接近以減少解題線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謹慎使用「以上皆是」或「以上皆非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正確答案宜隨機排列，出現次數儘量相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以改變試題題幹或選項來調整難度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測驗中每個試題需彼此獨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謹慎使用多重選擇題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若其他試題類型更適合時，不要用選擇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AAC-1403-47DB-AC43-BADE567FBC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四、是非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每題僅包括一個重要概念，避免出現兩個以上概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敘述力求簡潔、明確，避免使用複雜的句型結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儘量少用否定敘述，尤其要避免雙重否定敘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答案應避免引起爭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試題敘述避免含混不確定的文字、數量語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試題文句需重新組織，避免直接抄錄課本的文句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意見敘述必須指出來源或根據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避免使用含有暗示作答的線索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  <a:ea typeface="標楷體"/>
              </a:rPr>
              <a:t>兩種答案的題數應有適當比例，且採隨機方式排列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AE6-7543-4FAA-A53A-B54965CDC7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標楷體"/>
              </a:rPr>
              <a:t>五、配合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每道配合題中各個題幹或選項必須具同質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選項數目應多於題幹，且指出選項被選次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題幹與選項應盡量簡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選項宜依邏輯順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作答指導語必須明確規定和說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題幹與選項序號不應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配合題一個完整試題應印在同一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配對題目以不超過十項為原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編擬後檢核試題提高品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6F4-8A48-4D37-825D-819F53B02D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六、填充題編製原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試題答案應簡潔、具體、明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填充式答案以一個為原則，空格不可太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問題不應直接抄自教科書或參考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編寫試題「直接問句」較「不完全敘述句」優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必須問題是重要概念，而非零碎知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空格應一致，且盡量將空格留在句子末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答案若是數字應指出要求之精確程度和單位名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編擬後檢核試題提高品質。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72E-5736-45D5-8B97-4BF448E28A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紙筆測驗命題原則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Calibri"/>
                <a:ea typeface="標楷體"/>
              </a:rPr>
              <a:t>七、簡答題命題要點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每一個試題僅涉及一個主要的因素或觀念，避免性質廣泛的問題，如已列舉、批評為句首的問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不要出根據背頌課文即可回答的問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各題的範圍大致相等，不要有的太大、有的太小，難以給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3E7-06F0-494D-8854-E48E6C9D23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試卷編輯實務分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仁愛國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學年度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學期期末評量為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教材：翰林版四下第四、五、六單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雙向細目表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試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C3E-4B1D-49B5-872E-7FCA968E7D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換你做做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康軒六上第二單元「社會規範」包含「認識規範」及「法律與生活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康軒六上第三單元「權利與義務」包含「基本權利」及「國民義務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2CA-F1C7-4FDB-8C7D-0E64ED7C32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二、試卷結構合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概念認知的深淺層次分配得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重要概念（或教材單元）的評量分數分配得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若是記憶性的試題，須是重要的資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目的份量要給學生有充份的思考時間，份量要適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668-C250-40C9-91EF-39F4D09DC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未來展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生活處處有試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收集命題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命題光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諜對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好題共欣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教師專業社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建立個人題庫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標楷體"/>
              </a:rPr>
              <a:t>題到用時方恨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987-2A59-417F-9854-219A880BD7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三、符合命題原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目中安排的情境要合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供的資料及條件要充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題意簡要、明確，陳述流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評量計分說明要明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D11-2549-42C0-8703-C099807B9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四、試卷說明分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％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能說明試卷命題的核心精神或理念、試卷設計構想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質化或量化分析能說明學生實際評量後的成效評估、發現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能引發教師教學省思、啟示等，作為改進教學之依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06E-B12D-42FE-8E7C-A3FE739EC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教育部國小組優良試卷評量標準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四、試卷說明分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％：（續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試後分析呈現能「鼓舞學習慢的學生繼續學習的勇氣和信心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」及使「學習快的學生有成就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其他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967-1243-4E46-AD87-7F783457F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9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教師命題自我檢核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全學年成績統計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試卷審閱印製流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雙項細目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907920"/>
            <a:ext cx="82184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臺北市政府教育局定期抽查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標楷體"/>
              </a:rPr>
              <a:t>國民小學學生紙筆評量試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F65-9DD3-4C9C-80B7-DFBF42FE5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1125360"/>
          <a:ext cx="8072280" cy="5262840"/>
        </p:xfrm>
        <a:graphic>
          <a:graphicData uri="http://schemas.openxmlformats.org/drawingml/2006/table">
            <a:tbl>
              <a:tblPr/>
              <a:tblGrid>
                <a:gridCol w="503280"/>
                <a:gridCol w="6230880"/>
                <a:gridCol w="682560"/>
                <a:gridCol w="655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卷命題檢核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自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的設計是否依據教材內容及其知識結構來制定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取材是否依教材份量適當分配，且具有教材內容的代表性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注重重要概念或原理原則的理解與應用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同一主題之題組是否已避免有過多的子題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內容是否直接引用坊間測驗卷、參考書、歷屆考古題、命題光碟等？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填答「是」者，請繼續回答第六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此試卷直接引用的百分比為？（       ）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試題是否彼此獨立，沒有包含其他試題正確答案之線索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顧及難易度之合理性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試題是否依教學目標做適當配置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6EA-ED2D-4437-93BE-3D3F52467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23:12Z</dcterms:created>
  <dc:creator>chen</dc:creator>
  <dc:description/>
  <dc:language>en-US</dc:language>
  <cp:lastModifiedBy>cyc</cp:lastModifiedBy>
  <dcterms:modified xsi:type="dcterms:W3CDTF">2010-10-25T01:03:03Z</dcterms:modified>
  <cp:revision>35</cp:revision>
  <dc:subject/>
  <dc:title>投影片 1</dc:title>
</cp:coreProperties>
</file>